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932-0B24-4F7C-A0D3-939B96D2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861-D782-4DA2-858B-664B5A0F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3C3-F54C-4A8A-9715-3A8B4203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9D3-8D58-4104-8705-612F7586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BCCE-A60A-44AF-A789-9E6E7677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66AA-3FED-404C-A58F-8746640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D7F-547C-4082-8122-F15E20F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6DC1-5D85-41F6-B79B-7D3F4B9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C6C-C3AF-49ED-8DAB-FEBFAD35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C588-B702-47A3-9C6D-D95CFCA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A782-3233-455F-BC95-F943895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F92-8AFF-4246-980C-E73C99CD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EB14-3F6D-4036-A632-3DC420C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9194-8D2A-4A2A-9B7C-7908463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DC1-0709-468A-9327-18DAC8A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2F6-24A7-45E4-A621-974F9565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BDA-B455-427F-A122-D22006AA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6CD-167A-4840-8265-9C9B4FC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C37-5176-430E-841A-5783FEF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7A4-49BC-40AD-95A5-A61BDC4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6B9-D400-457B-B359-4D5D4C00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11A-3006-41D6-AD7A-910E128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11B-3AC0-4B78-A71D-CC62164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F0A-1741-4B38-8479-6E58ACA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B028-9CB8-4C1E-81AB-0805AE02C1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9C8-08BB-43AF-A978-8C104C0EF1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ЕНЬ ИМЕНИННИ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ЛЕТНИХ И ОСЕННИХ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70930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ЗДРАВЛЯЕМ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убичеву Арин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убичеву Таис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орчажникову Полин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иненко Валер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Хайруллаеву Гул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Шивцову Соф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Юрчик Ксен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ерда Валер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03640" y="3711600"/>
            <a:ext cx="4140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ЗДРАВЛЯЕМ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фанасьева Ива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узина Дании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лимчук Дим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Емелина Игор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арвенко Иль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Тузова Заха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788000" y="3728880"/>
            <a:ext cx="43560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877080" y="5661000"/>
            <a:ext cx="1008000" cy="792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8:55:10Z</dcterms:created>
  <dc:creator>Alpha</dc:creator>
  <dc:description/>
  <dc:language>en-US</dc:language>
  <cp:lastModifiedBy>Alpha</cp:lastModifiedBy>
  <dcterms:modified xsi:type="dcterms:W3CDTF">2004-01-22T19:13:21Z</dcterms:modified>
  <cp:revision>2</cp:revision>
  <dc:subject/>
  <dc:title>ДЕНЬ ИМЕНИННИКОВ</dc:title>
</cp:coreProperties>
</file>