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4.jpeg" ContentType="image/jpeg"/>
  <Override PartName="/ppt/media/image28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2.png" ContentType="image/png"/>
  <Override PartName="/ppt/media/image7.jpeg" ContentType="image/jpeg"/>
  <Override PartName="/ppt/media/image38.jpeg" ContentType="image/jpeg"/>
  <Override PartName="/ppt/media/image40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2052-9BB0-44F6-BE06-8AE3CDD4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699D-D148-48C9-82AF-906EED08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EEE2-8BAD-4D7D-999F-9A06ABC9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6C8A-6BB4-4ADB-8DF5-6C4785EF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5D4E-F1E8-4801-9D9E-59ECC3AB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E08C-9FB0-4C05-900E-3EE96477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9190-CE9A-4E08-A233-390D0E59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0FA2-D59E-4C4E-8A93-9C42DBC0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40B3-E83E-437D-A943-5C681313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34E2-E288-4704-8380-DE23ED70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86A5-3AE3-4BFC-8A39-99B021A4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D7DA-35AF-45D3-8099-3DD10108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1A46-DF3E-4609-BC80-C424EA57D7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ГБОУ СОШ №3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читель физкультуры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асюкевич Марта Эрик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615960" y="1262160"/>
            <a:ext cx="80834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ужские гимнастические снаряды и виды упражнений (всего 6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395280" y="1773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ьное упражнение у мужчин, как и у женщин проходит на помо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5076720" y="170028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орный стол для опорного прыжка у мужч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www.agf.az/i/gymnastics/men/img4.jpg"/>
          <p:cNvPicPr/>
          <p:nvPr/>
        </p:nvPicPr>
        <p:blipFill>
          <a:blip r:embed="rId1"/>
          <a:stretch/>
        </p:blipFill>
        <p:spPr>
          <a:xfrm>
            <a:off x="5940360" y="2565360"/>
            <a:ext cx="2943360" cy="2943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://gorod.tomsk.ru/i/u/19559/30820225_Anton_Golocuckov.jpg"/>
          <p:cNvPicPr/>
          <p:nvPr/>
        </p:nvPicPr>
        <p:blipFill>
          <a:blip r:embed="rId2"/>
          <a:stretch/>
        </p:blipFill>
        <p:spPr>
          <a:xfrm>
            <a:off x="2556000" y="4437000"/>
            <a:ext cx="3340080" cy="2160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http://www.sports.ru/images/object_90.1344180667.87189.jpg"/>
          <p:cNvPicPr/>
          <p:nvPr/>
        </p:nvPicPr>
        <p:blipFill>
          <a:blip r:embed="rId3"/>
          <a:stretch/>
        </p:blipFill>
        <p:spPr>
          <a:xfrm>
            <a:off x="179280" y="3284640"/>
            <a:ext cx="2192400" cy="2992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http://sportgymrus.ru/wp-content/gallery/finaly-v-otdel-ny-h-vidah-1-den-foto-e-mihajlova/IMG_6596.JPG"/>
          <p:cNvPicPr/>
          <p:nvPr/>
        </p:nvPicPr>
        <p:blipFill>
          <a:blip r:embed="rId4"/>
          <a:stretch/>
        </p:blipFill>
        <p:spPr>
          <a:xfrm>
            <a:off x="2627280" y="2565360"/>
            <a:ext cx="21574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684360" y="26028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имнастический ко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5508720" y="333360"/>
            <a:ext cx="30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имнастические коль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http://rio.ua/files/images/items/662/662716v06f45b7d.jpg"/>
          <p:cNvPicPr/>
          <p:nvPr/>
        </p:nvPicPr>
        <p:blipFill>
          <a:blip r:embed="rId1"/>
          <a:stretch/>
        </p:blipFill>
        <p:spPr>
          <a:xfrm>
            <a:off x="611280" y="1413000"/>
            <a:ext cx="2017800" cy="2303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http://usport.uz/images/news/gimnastic_002.jpg"/>
          <p:cNvPicPr/>
          <p:nvPr/>
        </p:nvPicPr>
        <p:blipFill>
          <a:blip r:embed="rId2"/>
          <a:stretch/>
        </p:blipFill>
        <p:spPr>
          <a:xfrm>
            <a:off x="755640" y="3860640"/>
            <a:ext cx="3887640" cy="2592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ttp://rk.karelia.ru/wp-content/uploads/2014/06/Grigorij-Klementiev-620x407.jpg"/>
          <p:cNvPicPr/>
          <p:nvPr/>
        </p:nvPicPr>
        <p:blipFill>
          <a:blip r:embed="rId3"/>
          <a:stretch/>
        </p:blipFill>
        <p:spPr>
          <a:xfrm>
            <a:off x="4284720" y="1413000"/>
            <a:ext cx="3529080" cy="2315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ttp://7plustv.ru/Media/Default/1-images/2015/11/sport161164.jpg"/>
          <p:cNvPicPr/>
          <p:nvPr/>
        </p:nvPicPr>
        <p:blipFill>
          <a:blip r:embed="rId4"/>
          <a:stretch/>
        </p:blipFill>
        <p:spPr>
          <a:xfrm>
            <a:off x="5580000" y="4076640"/>
            <a:ext cx="321624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694080" y="476280"/>
            <a:ext cx="30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раллельные брус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6237720" y="47628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кла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http://image.made-in-china.com/2f0j00feNQuSDnbopL/Parallel-Bars-TSOTC001A3-.jpg"/>
          <p:cNvPicPr/>
          <p:nvPr/>
        </p:nvPicPr>
        <p:blipFill>
          <a:blip r:embed="rId1"/>
          <a:stretch/>
        </p:blipFill>
        <p:spPr>
          <a:xfrm>
            <a:off x="324000" y="1268280"/>
            <a:ext cx="2976480" cy="1944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http://cdn02.cdn.justjared.com/wp-content/uploads/2012/08/leyva-bar/danell-leyva-jonathan-horton-horizontal-bar-results-13.jpg"/>
          <p:cNvPicPr/>
          <p:nvPr/>
        </p:nvPicPr>
        <p:blipFill>
          <a:blip r:embed="rId2"/>
          <a:stretch/>
        </p:blipFill>
        <p:spPr>
          <a:xfrm>
            <a:off x="4859280" y="1268280"/>
            <a:ext cx="3951360" cy="2641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http://ru6.anyfad.com/items/t2@f452bfe5-e8cc-49e3-9baf-e5ef120219f1/Gimnasticheskiy-turnik.jpg"/>
          <p:cNvPicPr/>
          <p:nvPr/>
        </p:nvPicPr>
        <p:blipFill>
          <a:blip r:embed="rId3"/>
          <a:stretch/>
        </p:blipFill>
        <p:spPr>
          <a:xfrm>
            <a:off x="6084720" y="4149720"/>
            <a:ext cx="1866960" cy="2338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http://penzavzglyad.ru/images/uploads/796f97f8c97eb8f4351219c15f677af6.jpg"/>
          <p:cNvPicPr/>
          <p:nvPr/>
        </p:nvPicPr>
        <p:blipFill>
          <a:blip r:embed="rId4"/>
          <a:stretch/>
        </p:blipFill>
        <p:spPr>
          <a:xfrm>
            <a:off x="324000" y="3716280"/>
            <a:ext cx="4008240" cy="267192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Художественная гимнас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539640" y="981000"/>
            <a:ext cx="80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д спорта, заключающийся в выполнении под музыку различных гимнастических и танцевальных упражнений без предмета, а также с предметом (скакалка, обруч, мяч, булавы, лен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539640" y="2565360"/>
            <a:ext cx="3745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оследнее время выступления без предмета не проводятся на соревнованиях мирового класса. В групповых выступлениях используются или один предмет (например, пять мячей, пять пар булав), или одновременно два вида предметов (например, обручи и мячи). Победители определяются в многоборье, в отдельных видах и групповых упражн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files.vm.ru/photo/vecherka/2012/08/file665hdzwrgky20pak2hj_800_480.jpg"/>
          <p:cNvPicPr/>
          <p:nvPr/>
        </p:nvPicPr>
        <p:blipFill>
          <a:blip r:embed="rId1"/>
          <a:stretch/>
        </p:blipFill>
        <p:spPr>
          <a:xfrm>
            <a:off x="4572000" y="2276640"/>
            <a:ext cx="3168720" cy="2079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new.hilineinc.com/services/rhythmic-gymnastics-olympics-2012-i10.jpg"/>
          <p:cNvPicPr/>
          <p:nvPr/>
        </p:nvPicPr>
        <p:blipFill>
          <a:blip r:embed="rId2"/>
          <a:stretch/>
        </p:blipFill>
        <p:spPr>
          <a:xfrm>
            <a:off x="5003640" y="4486320"/>
            <a:ext cx="362916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дметы в художественной гимнастике (всего 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900000" y="148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акал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7239960" y="1484280"/>
            <a:ext cx="9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у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://sdushor4-rzn.ru/img/images/hud_gim/17032016_1.jpg"/>
          <p:cNvPicPr/>
          <p:nvPr/>
        </p:nvPicPr>
        <p:blipFill>
          <a:blip r:embed="rId1"/>
          <a:stretch/>
        </p:blipFill>
        <p:spPr>
          <a:xfrm>
            <a:off x="250920" y="2060640"/>
            <a:ext cx="4681440" cy="2490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sportvsem48.ru/images/sport/skakalka_dlja_hudozhestvennoj_gimnastiki_cvet_raduga.jpg"/>
          <p:cNvPicPr/>
          <p:nvPr/>
        </p:nvPicPr>
        <p:blipFill>
          <a:blip r:embed="rId2"/>
          <a:stretch/>
        </p:blipFill>
        <p:spPr>
          <a:xfrm>
            <a:off x="468360" y="4869000"/>
            <a:ext cx="1922400" cy="1773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http://b.img22.rian.ru/images/44098/01/440980178.jpg"/>
          <p:cNvPicPr/>
          <p:nvPr/>
        </p:nvPicPr>
        <p:blipFill>
          <a:blip r:embed="rId3"/>
          <a:stretch/>
        </p:blipFill>
        <p:spPr>
          <a:xfrm>
            <a:off x="6372360" y="2133720"/>
            <a:ext cx="2568600" cy="3598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http://tangelos.ru/published/publicdata/H54145TANGELO/attachments/SC/products_pictures/310100_enl.jpg"/>
          <p:cNvPicPr/>
          <p:nvPr/>
        </p:nvPicPr>
        <p:blipFill>
          <a:blip r:embed="rId4"/>
          <a:stretch/>
        </p:blipFill>
        <p:spPr>
          <a:xfrm>
            <a:off x="3995640" y="4599000"/>
            <a:ext cx="225900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688320" y="141300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я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"/>
          <p:cNvSpPr/>
          <p:nvPr/>
        </p:nvSpPr>
        <p:spPr>
          <a:xfrm>
            <a:off x="3780000" y="620640"/>
            <a:ext cx="11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ла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7530480" y="177336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http://4put.ru/pictures/max/633/1944862.jpg"/>
          <p:cNvPicPr/>
          <p:nvPr/>
        </p:nvPicPr>
        <p:blipFill>
          <a:blip r:embed="rId1"/>
          <a:stretch/>
        </p:blipFill>
        <p:spPr>
          <a:xfrm>
            <a:off x="395280" y="2133720"/>
            <a:ext cx="2889360" cy="4346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http://azertag.az/files/galleryphoto/2015/2/143262422730929183.jpg"/>
          <p:cNvPicPr/>
          <p:nvPr/>
        </p:nvPicPr>
        <p:blipFill>
          <a:blip r:embed="rId2"/>
          <a:stretch/>
        </p:blipFill>
        <p:spPr>
          <a:xfrm>
            <a:off x="3492360" y="1125360"/>
            <a:ext cx="2735280" cy="4104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http://image.hotdog.hu/user/_tekiLLa./kepek_illusztraciok/thiais08_08115.jpg"/>
          <p:cNvPicPr/>
          <p:nvPr/>
        </p:nvPicPr>
        <p:blipFill>
          <a:blip r:embed="rId3"/>
          <a:stretch/>
        </p:blipFill>
        <p:spPr>
          <a:xfrm>
            <a:off x="6516720" y="2637000"/>
            <a:ext cx="233352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нимайся физкультурой и будь здоров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Дополнительная литерату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Академический школьный учебник Физическая культура А. П. Матве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324000" y="1557360"/>
            <a:ext cx="48243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имнасти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 греч. gymnastikḗ, от gymnázō — упражняю, тренирую) — система физических упражнений, направленных на укрепление здоровья и развитие гармоничного физическ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395280" y="189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любом виде спорта есть элементы гимнастики. Само название и чёткую структуру гимнастика получила в Древней Гре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324000" y="5445000"/>
            <a:ext cx="69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а помогала приобрести силу, развить гибкость, ловкость, вынослив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2"/>
          <p:cNvSpPr/>
          <p:nvPr/>
        </p:nvSpPr>
        <p:spPr>
          <a:xfrm>
            <a:off x="539640" y="18900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йчас гимнастику выделяют как отдельный вид спорта. Гимнастика является важнейшим направлением физической культуре, с помощью которой возможно развитие всех физических кач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50920" y="4941720"/>
            <a:ext cx="76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здоровительные виды гимнастики предусматривает выполнение упражнений в виде утренней гимнастики, физкультуры и физкультмину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www.clinic-motor.zp.ua/upload/files/869_5fe83d0d.png"/>
          <p:cNvPicPr/>
          <p:nvPr/>
        </p:nvPicPr>
        <p:blipFill>
          <a:blip r:embed="rId1"/>
          <a:stretch/>
        </p:blipFill>
        <p:spPr>
          <a:xfrm>
            <a:off x="5076720" y="2060640"/>
            <a:ext cx="3610080" cy="2504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profilib.com/reader/50/43/b64350/025.jpg"/>
          <p:cNvPicPr/>
          <p:nvPr/>
        </p:nvPicPr>
        <p:blipFill>
          <a:blip r:embed="rId2"/>
          <a:stretch/>
        </p:blipFill>
        <p:spPr>
          <a:xfrm>
            <a:off x="324000" y="1916280"/>
            <a:ext cx="4476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4"/>
          <p:cNvSpPr/>
          <p:nvPr/>
        </p:nvSpPr>
        <p:spPr>
          <a:xfrm>
            <a:off x="250920" y="981000"/>
            <a:ext cx="54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тренняя гимнасти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это комплекс физических упражнений, выполняемых после пробуждения, утренняя за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250920" y="3500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рядка помогает скорее проснуться вашему сознанию и всему организ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6"/>
          <p:cNvSpPr/>
          <p:nvPr/>
        </p:nvSpPr>
        <p:spPr>
          <a:xfrm>
            <a:off x="4572000" y="4653000"/>
            <a:ext cx="43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мимо специфического влияния, облегчающего процесс перехода от состояния покоя к состоянию активного бодрствования, выполнение упражнений утренней гимнастики увеличивает уровень общей физической активност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top-bal.ru/pars_docs/refs/59/58772/58772_html_329a38e6.jpg"/>
          <p:cNvPicPr/>
          <p:nvPr/>
        </p:nvPicPr>
        <p:blipFill>
          <a:blip r:embed="rId1"/>
          <a:stretch/>
        </p:blipFill>
        <p:spPr>
          <a:xfrm>
            <a:off x="5580000" y="333360"/>
            <a:ext cx="3368880" cy="4178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la-viva.ru/upload/2%2C2%281%29.jpg"/>
          <p:cNvPicPr/>
          <p:nvPr/>
        </p:nvPicPr>
        <p:blipFill>
          <a:blip r:embed="rId2"/>
          <a:stretch/>
        </p:blipFill>
        <p:spPr>
          <a:xfrm>
            <a:off x="468360" y="4292640"/>
            <a:ext cx="3754440" cy="237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tisyachasovetov.ru/wp-content/uploads/2015/03/%D0%BC%D1%83%D0%B6%D1%87%D0%B8%D0%BD%D0%B0%D0%BC1.jpg"/>
          <p:cNvPicPr/>
          <p:nvPr/>
        </p:nvPicPr>
        <p:blipFill>
          <a:blip r:embed="rId3"/>
          <a:stretch/>
        </p:blipFill>
        <p:spPr>
          <a:xfrm>
            <a:off x="0" y="1989000"/>
            <a:ext cx="5467320" cy="15843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250920" y="333360"/>
            <a:ext cx="71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им из мероприятий, оказывающим благоприятное воздействие на здоровье организма, являетс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тренняя гимнасти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 спортивным видам гимнастики относят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ртивная гимнаст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удожественная гимнаст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ртивная акробат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стетическая гимнастика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250920" y="5229360"/>
            <a:ext cx="87138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http://byaki.net/uploads/posts/2015-09/1441564391_06.jpg"/>
          <p:cNvPicPr/>
          <p:nvPr/>
        </p:nvPicPr>
        <p:blipFill>
          <a:blip r:embed="rId1"/>
          <a:stretch/>
        </p:blipFill>
        <p:spPr>
          <a:xfrm>
            <a:off x="5940360" y="907920"/>
            <a:ext cx="2638440" cy="1652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http://deti-kurkino.ucoz.ru/_fr/31/9084183.jpg"/>
          <p:cNvPicPr/>
          <p:nvPr/>
        </p:nvPicPr>
        <p:blipFill>
          <a:blip r:embed="rId2"/>
          <a:stretch/>
        </p:blipFill>
        <p:spPr>
          <a:xfrm>
            <a:off x="5508720" y="2708280"/>
            <a:ext cx="3419280" cy="2281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http://farm3.static.flickr.com/2387/2292193184_5647aaf666_b.jpg"/>
          <p:cNvPicPr/>
          <p:nvPr/>
        </p:nvPicPr>
        <p:blipFill>
          <a:blip r:embed="rId3"/>
          <a:stretch/>
        </p:blipFill>
        <p:spPr>
          <a:xfrm>
            <a:off x="3348000" y="4724280"/>
            <a:ext cx="2952720" cy="197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http://womanadvice.ru/sites/default/files/imagecache/width_250/esteticheskaya_gimnastika_0.jpg"/>
          <p:cNvPicPr/>
          <p:nvPr/>
        </p:nvPicPr>
        <p:blipFill>
          <a:blip r:embed="rId4"/>
          <a:stretch/>
        </p:blipFill>
        <p:spPr>
          <a:xfrm>
            <a:off x="539640" y="4149720"/>
            <a:ext cx="26845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хема 2" descr=""/>
          <p:cNvPicPr/>
          <p:nvPr/>
        </p:nvPicPr>
        <p:blipFill>
          <a:blip r:embed="rId1"/>
          <a:stretch/>
        </p:blipFill>
        <p:spPr>
          <a:xfrm>
            <a:off x="523800" y="1481040"/>
            <a:ext cx="6658200" cy="49071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468360" y="260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имнастика относится к летним олимпийским видам спорта (спортивная, художественн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www.capdel.ru/assets/images/Olumpic-Rings.jpg"/>
          <p:cNvPicPr/>
          <p:nvPr/>
        </p:nvPicPr>
        <p:blipFill>
          <a:blip r:embed="rId2"/>
          <a:stretch/>
        </p:blipFill>
        <p:spPr>
          <a:xfrm>
            <a:off x="5219640" y="1197000"/>
            <a:ext cx="373212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324000" y="260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ортивная гимнасти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д спорта, включающий соревнования на гимнастических снарядах, в вольных упражнениях и в опорных прыж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250920" y="5013360"/>
            <a:ext cx="82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овременной программе гимнастического многоборья: для женщин на брусьях разной высоты, бревне, в опорных прыжках, вольных упражнениях; для мужчин в вольных упражнениях, опорных прыжках, на коне, кольцах, параллельных брусьях и переклад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324000" y="1557360"/>
            <a:ext cx="842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настоящее время на международных турнирах гимнасты разыгрывают 14 комплектов наград: два в командном зачёте (мужчины и женщины), два в абсолютном индивидуальном первенстве (мужчины и женщины) и десять в отдельных видах многоборья (4 у женщин, 6 у мужчин). В программе олимпийских игр с 1896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yamskoyepole.ru/upload/resize_cache/iblock/234/300_0_1/23408e397bdde3948f23810ceb1aadc8.jpg"/>
          <p:cNvPicPr/>
          <p:nvPr/>
        </p:nvPicPr>
        <p:blipFill>
          <a:blip r:embed="rId1"/>
          <a:stretch/>
        </p:blipFill>
        <p:spPr>
          <a:xfrm>
            <a:off x="5508720" y="2997360"/>
            <a:ext cx="2843280" cy="1895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pnzreg.ru/files/penza.ru/news/1kapiton4.jpg"/>
          <p:cNvPicPr/>
          <p:nvPr/>
        </p:nvPicPr>
        <p:blipFill>
          <a:blip r:embed="rId2"/>
          <a:stretch/>
        </p:blipFill>
        <p:spPr>
          <a:xfrm>
            <a:off x="971640" y="3284640"/>
            <a:ext cx="294300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енские гимнастические снаряды и виды упражнений (всего 4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st-gdefon.gallery.world/wallpapers_medium/412517_gallery.world.jpg"/>
          <p:cNvPicPr/>
          <p:nvPr/>
        </p:nvPicPr>
        <p:blipFill>
          <a:blip r:embed="rId1"/>
          <a:stretch/>
        </p:blipFill>
        <p:spPr>
          <a:xfrm>
            <a:off x="395280" y="4508640"/>
            <a:ext cx="3225960" cy="201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bvt.by/image/cache/data/dinamo/brusya_wom-700x700.jpg"/>
          <p:cNvPicPr/>
          <p:nvPr/>
        </p:nvPicPr>
        <p:blipFill>
          <a:blip r:embed="rId2"/>
          <a:stretch/>
        </p:blipFill>
        <p:spPr>
          <a:xfrm>
            <a:off x="250920" y="2349360"/>
            <a:ext cx="2017440" cy="201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http://inter-pix.com/db/technic_and_sport/sport/sport_and_fitness/b-722037.jpg"/>
          <p:cNvPicPr/>
          <p:nvPr/>
        </p:nvPicPr>
        <p:blipFill>
          <a:blip r:embed="rId3"/>
          <a:stretch/>
        </p:blipFill>
        <p:spPr>
          <a:xfrm>
            <a:off x="6516720" y="3068640"/>
            <a:ext cx="2340000" cy="3510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8"/>
          <p:cNvSpPr/>
          <p:nvPr/>
        </p:nvSpPr>
        <p:spPr>
          <a:xfrm>
            <a:off x="6086520" y="1844640"/>
            <a:ext cx="27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имнастическое бре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http://img.bosscdn.com/photo/upload/100/242/2442595328.jpg"/>
          <p:cNvPicPr/>
          <p:nvPr/>
        </p:nvPicPr>
        <p:blipFill>
          <a:blip r:embed="rId4"/>
          <a:stretch/>
        </p:blipFill>
        <p:spPr>
          <a:xfrm>
            <a:off x="3276720" y="2276640"/>
            <a:ext cx="3141720" cy="20890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684360" y="170028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русья разной высоты (разновысотные брусь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vignette2.wikia.nocookie.net/inthegym/images/f/fd/Women_gymnastics_olympics_2012_sandra_izbasa_01.jpg/revision/latest?cb%5Cu003d20140216161154"/>
          <p:cNvPicPr/>
          <p:nvPr/>
        </p:nvPicPr>
        <p:blipFill>
          <a:blip r:embed="rId1"/>
          <a:stretch/>
        </p:blipFill>
        <p:spPr>
          <a:xfrm>
            <a:off x="3780000" y="2492280"/>
            <a:ext cx="5162400" cy="34578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2"/>
          <p:cNvSpPr/>
          <p:nvPr/>
        </p:nvSpPr>
        <p:spPr>
          <a:xfrm>
            <a:off x="539640" y="54936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орный прыжок выполняется с помощью опорного ст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5148360" y="90792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ьное упражнение проходит на помосте со специальным покрыт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http://i.ytimg.com/vi/_V67vxWELPs/maxresdefault.jpg"/>
          <p:cNvPicPr/>
          <p:nvPr/>
        </p:nvPicPr>
        <p:blipFill>
          <a:blip r:embed="rId2"/>
          <a:stretch/>
        </p:blipFill>
        <p:spPr>
          <a:xfrm>
            <a:off x="324000" y="4365720"/>
            <a:ext cx="3195360" cy="2193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www.sportoboz.ru/uploads/fotos/img/50704a448bce8.jpg"/>
          <p:cNvPicPr/>
          <p:nvPr/>
        </p:nvPicPr>
        <p:blipFill>
          <a:blip r:embed="rId3"/>
          <a:stretch/>
        </p:blipFill>
        <p:spPr>
          <a:xfrm>
            <a:off x="539640" y="1628640"/>
            <a:ext cx="3106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17:13:45Z</dcterms:created>
  <dc:creator>Марта</dc:creator>
  <dc:description/>
  <dc:language>en-US</dc:language>
  <cp:lastModifiedBy>Эрик</cp:lastModifiedBy>
  <dcterms:modified xsi:type="dcterms:W3CDTF">2017-12-22T16:11:10Z</dcterms:modified>
  <cp:revision>27</cp:revision>
  <dc:subject/>
  <dc:title>ГИМНАСТИКА</dc:title>
</cp:coreProperties>
</file>