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72DB-A2C4-401F-B9A9-1A32463B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1DC3-4AC4-425F-9697-5C71741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B6A8-36AB-4A38-AF45-55557E8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0421-F4D4-47B6-A5F3-11892AE2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CED6-05DD-4541-BC55-8F1EC07D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F152-8CF0-423C-BE92-80005F7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2F7-53EC-4A0D-B088-6C80497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3F1-4EE0-455A-8233-70992F0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FE4E-1B70-4B59-B766-6978D83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4F5-B290-422E-AEFC-0364652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C048-8B23-41F0-BC75-156053C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7450-9BA1-413C-BB43-AD0EDCE4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EB39-FE8F-43AC-9CFE-279B19F0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234-1301-41E0-91CA-4B2D8D4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5945-0B5F-4526-9DDF-22D19BB9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A094-5FDB-456E-916F-BE575EA9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DA42-6EA7-4513-B1F1-E267F646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F647-5164-4379-B86D-B73BF19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0889-EF76-4193-BF40-4CB1EB7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3FDF-F7E8-4AFE-A9ED-878153F2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04DE-577D-4E5D-AB0C-1361622D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8111-0FD3-432B-AA1A-4316A10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E1E3-D62A-4D89-BF72-F89C4C2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6212-764D-41F3-BC17-72599C4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B3BD-50B2-48C9-A65C-7A3905719196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809-DBB2-4FC2-9E55-90F56EAF4B8F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66"/>
                </a:solidFill>
                <a:latin typeface="Arial"/>
              </a:rPr>
              <a:t>УРОК</a:t>
            </a:r>
            <a:br>
              <a:rPr sz="4600"/>
            </a:br>
            <a:r>
              <a:rPr b="1" lang="ru-RU" sz="4600" spc="-1" strike="noStrike">
                <a:solidFill>
                  <a:srgbClr val="ff9966"/>
                </a:solidFill>
                <a:latin typeface="Arial"/>
              </a:rPr>
              <a:t> «Питание и здоровье</a:t>
            </a:r>
            <a:r>
              <a:rPr b="1" lang="ru-RU" sz="4500" spc="-1" strike="noStrike">
                <a:solidFill>
                  <a:srgbClr val="ff9966"/>
                </a:solidFill>
                <a:latin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417640" y="4597200"/>
            <a:ext cx="357372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24360" y="260280"/>
            <a:ext cx="5040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ВИЗ ЖИЗНИ:«ПРЕЖДЕ ЧЕМ ЗА СТОЛ МНЕ СЕСТЬ,   Я ПОДУМАЮ, ЧТО ЕСТЬ!!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Рисунок1"/>
          <p:cNvPicPr/>
          <p:nvPr/>
        </p:nvPicPr>
        <p:blipFill>
          <a:blip r:embed="rId1"/>
          <a:stretch/>
        </p:blipFill>
        <p:spPr>
          <a:xfrm>
            <a:off x="900000" y="4508640"/>
            <a:ext cx="22320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Можно ли считать свободной от микробов воду, простоявшую ночь в чайн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Всегда ли полезно жевать жевательную резинку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ЕЗУЛЬТАТЕ ЗАНЯТ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Влияние питания на здоровье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не откры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самых важных понятия:……………………………………………………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самых важных действия……………………………………………………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самых важных чувства……………………………………………………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971640" y="0"/>
            <a:ext cx="734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99ff"/>
                  </a:solidFill>
                  <a:miter/>
                </a:ln>
                <a:solidFill>
                  <a:srgbClr val="ffff66"/>
                </a:solidFill>
                <a:effectLst>
                  <a:outerShdw dist="125751" dir="18900000" blurRad="0" rotWithShape="0">
                    <a:srgbClr val="046866"/>
                  </a:outerShdw>
                </a:effectLst>
                <a:latin typeface="Impact"/>
              </a:rPr>
              <a:t>Спасибо Всем за работу!</a:t>
            </a:r>
            <a:endParaRPr b="0" lang="en-US" sz="1800" spc="1" strike="noStrike">
              <a:ln w="12600">
                <a:solidFill>
                  <a:srgbClr val="9999ff"/>
                </a:solidFill>
                <a:miter/>
              </a:ln>
              <a:solidFill>
                <a:srgbClr val="ffff66"/>
              </a:solidFill>
              <a:effectLst>
                <a:outerShdw dist="125751" dir="18900000" blurRad="0" rotWithShape="0">
                  <a:srgbClr val="0468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00360" y="1773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Будьте здоро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4643280" y="2421000"/>
            <a:ext cx="4500720" cy="2160360"/>
          </a:xfrm>
          <a:prstGeom prst="cloudCallout">
            <a:avLst>
              <a:gd name="adj1" fmla="val -68694"/>
              <a:gd name="adj2" fmla="val 9011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сегда помните о том, что ваше здоровье главнее всег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Пожалуйста,  берегите ег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C:\Documents and Settings\User\Мои документы\Мои рисунки\лпглг.bmp"/>
          <p:cNvPicPr/>
          <p:nvPr/>
        </p:nvPicPr>
        <p:blipFill>
          <a:blip r:embed="rId1"/>
          <a:stretch/>
        </p:blipFill>
        <p:spPr>
          <a:xfrm>
            <a:off x="0" y="4437000"/>
            <a:ext cx="3419640" cy="2421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апы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начала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к усвоению нов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культмину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дение итогов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80264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 уроке необходимо им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87520"/>
          <p:cNvPicPr/>
          <p:nvPr/>
        </p:nvPicPr>
        <p:blipFill>
          <a:blip r:embed="rId1"/>
          <a:stretch/>
        </p:blipFill>
        <p:spPr>
          <a:xfrm>
            <a:off x="1835280" y="2060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287535"/>
          <p:cNvPicPr/>
          <p:nvPr/>
        </p:nvPicPr>
        <p:blipFill>
          <a:blip r:embed="rId2"/>
          <a:stretch/>
        </p:blipFill>
        <p:spPr>
          <a:xfrm>
            <a:off x="1763640" y="3645000"/>
            <a:ext cx="1336680" cy="1655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717800" y="2276640"/>
            <a:ext cx="263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нев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сьм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адл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3640" y="573408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ь наличие этих предметов у себя на пар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20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урока: ?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2205000"/>
            <a:ext cx="70102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дска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долго жуёт, тот долго жи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жора роет себе могилу собственными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зва желудка – это не 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айся – правильно питай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«Влияние питания на здоров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79280" y="1557360"/>
            <a:ext cx="4176720" cy="64764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рность приёма пи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5013360"/>
            <a:ext cx="4176720" cy="57636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е за сто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219640" y="5157720"/>
            <a:ext cx="3600360" cy="64764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щевые предпоч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76720" y="1413000"/>
            <a:ext cx="3527640" cy="72072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999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 пищи по приё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9999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ечении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340000" y="2924280"/>
            <a:ext cx="3095640" cy="936360"/>
          </a:xfrm>
          <a:prstGeom prst="ellips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«Культура пит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5651640" y="242064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1476000" y="2420640"/>
            <a:ext cx="11509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932360" y="3933720"/>
            <a:ext cx="144000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2195280" y="407664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57200"/>
            <a:ext cx="74278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00"/>
                </a:solidFill>
                <a:latin typeface="Arial"/>
              </a:rPr>
              <a:t>Сформулируйте правила питания анализируя поговорки и изр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учше 7 раз поесть, чем 1 раз наес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Завтрак съешь сам,обедом поделись с другом, а ужин отдай вра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жора роет себе могилу собственными зубам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ища, которая не переваривается, съедает того, кто её ест» (Абуль –Фаорад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Хорошо прожуёшь – сладко проглотиш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то долго жуёт, тот долго живё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Заполнить таблицу пользуясь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628640"/>
          <a:ext cx="8424720" cy="5048280"/>
        </p:xfrm>
        <a:graphic>
          <a:graphicData uri="http://schemas.openxmlformats.org/drawingml/2006/table">
            <a:tbl>
              <a:tblPr/>
              <a:tblGrid>
                <a:gridCol w="3860640"/>
                <a:gridCol w="4564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Правила гигиен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Физиологическое об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7d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ворческий проект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полезные и вред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или не есть? А 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G_1540"/>
          <p:cNvPicPr/>
          <p:nvPr/>
        </p:nvPicPr>
        <p:blipFill>
          <a:blip r:embed="rId1"/>
          <a:stretch/>
        </p:blipFill>
        <p:spPr>
          <a:xfrm>
            <a:off x="2987640" y="3789360"/>
            <a:ext cx="3168720" cy="222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__ emNa __\Мои документы\Файлы Mail.Ru Агента\emil_guenter@mail.ru\lyamonadik@mail.ru\hjgsdjh27102008-07.jpg"/>
          <p:cNvPicPr/>
          <p:nvPr/>
        </p:nvPicPr>
        <p:blipFill>
          <a:blip r:embed="rId2"/>
          <a:stretch/>
        </p:blipFill>
        <p:spPr>
          <a:xfrm>
            <a:off x="468360" y="4221000"/>
            <a:ext cx="2766960" cy="207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Documents and Settings\__ emNa __\Рабочий стол\vegetables1.jpg"/>
          <p:cNvPicPr/>
          <p:nvPr/>
        </p:nvPicPr>
        <p:blipFill>
          <a:blip r:embed="rId3"/>
          <a:stretch/>
        </p:blipFill>
        <p:spPr>
          <a:xfrm>
            <a:off x="5940360" y="3573360"/>
            <a:ext cx="2881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итание .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5:11:53Z</dcterms:created>
  <dc:creator>Катя</dc:creator>
  <dc:description/>
  <dc:language>en-US</dc:language>
  <cp:lastModifiedBy>Luneva</cp:lastModifiedBy>
  <dcterms:modified xsi:type="dcterms:W3CDTF">2017-11-28T09:38:28Z</dcterms:modified>
  <cp:revision>13</cp:revision>
  <dc:subject/>
  <dc:title>Слайд 1</dc:title>
</cp:coreProperties>
</file>