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FC2-F593-4A11-8C2B-CD76AC9CC5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B3B1-E140-425E-8072-E79289DF7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FA6-F23B-4E1D-95D5-E6E8E853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057-A58F-437B-B222-9DB53EAB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7A4-F859-4456-A313-A51618FA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CFA-3CB5-4689-8D31-7DA5D892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126B-7524-4FC5-BCA5-D04E06F7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07B7-3C8B-4F28-B270-174DD2ED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99C5-8DB5-4C92-A981-4D3CF5C5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5A68-D0C8-4B58-9395-50522FC9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54A6-8E27-4983-90D4-DFDD6E99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653C-E90C-4A7A-A942-FF95374D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1C04-C5C5-4EF2-969D-E25A693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5FD-8396-4216-BCDC-4F3A4F88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D426-B34C-49D7-A434-0E15705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B3AA-17B0-4F86-9420-4DAD2AC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D459-30F5-41FE-BACA-B719F6DC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CFE8-9144-4662-8FD4-E1C8D568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59B-F006-4367-A351-84B8D7BD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5490-F072-4A2F-8356-A6833099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B120-4DA0-4F9E-8263-73EC09C4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18C8-8A7B-49DA-B390-78C24870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E555-12D8-4AF0-A4F8-2A51EE1E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14A7-4CB5-4F63-BAB2-CFA9F495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E12-34C3-4B45-9C88-BD9320D5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DBC1-34D7-4874-B760-3CEDC38E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F566-7796-4B68-8DAF-CBE431B0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9521-8C3D-4296-B4D7-095C709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A5F2-CE03-4AB9-BCF9-098615AC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CCD3-3E95-47A0-A62E-4CBF678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3B8DD-D45D-40D3-A011-5C2F85D4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8815-6DEA-4BA1-9EF6-D209686E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EC54-7A77-41ED-B45D-7AE1AF3D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FA63-9C7B-450F-A425-E4EAEA1B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208B4-490C-46D3-986F-C046F4C5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4C3-1D5A-44AF-AD67-BB95A50E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9C85-63B2-4DF8-A565-79D49D00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AC3D-14C2-4B13-B652-74DEEC46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431A-558B-4699-A4D7-56AFD052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8040D-6BC7-4D6F-98D9-FBD49D04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77FE-1844-4BE8-8FAA-BE0B09A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53EB-6BEF-40F5-9E91-C5E1DB2D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CE04-E55E-4F81-984F-01CF64FC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C859B-57CC-4DA8-92AA-C1A58882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788F-34B9-405E-9371-36BCC9DA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E1F-888D-4EE4-8EAB-58E3F7E8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AB9-22C5-4F7C-AC5F-B37B0BB4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43A-3294-4834-AB29-A2A52340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97B-BD5F-4238-B1B3-86DBEAB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EC2-96DA-428A-B61F-61FB67DE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AB9C-F424-4159-AA1B-0739425C2EB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0C89-4227-44D4-97BF-FF80C1C2AA5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0E0D-D82C-478B-8214-6B362FE542F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33D9-8A1C-4923-8E98-49D50D094F6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geroj-nashego-vremeni.ru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nstantia"/>
              </a:rPr>
              <a:t>Женские образы в лирике Н.А.Некрасова, А.А.Фета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3" descr="C:\Users\Рамдис\Desktop\i.jpg"/>
          <p:cNvPicPr/>
          <p:nvPr/>
        </p:nvPicPr>
        <p:blipFill>
          <a:blip r:embed="rId1"/>
          <a:stretch/>
        </p:blipFill>
        <p:spPr>
          <a:xfrm>
            <a:off x="785880" y="171468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Рамдис\Desktop\i.jpg"/>
          <p:cNvPicPr/>
          <p:nvPr/>
        </p:nvPicPr>
        <p:blipFill>
          <a:blip r:embed="rId2"/>
          <a:stretch/>
        </p:blipFill>
        <p:spPr>
          <a:xfrm>
            <a:off x="6429240" y="17859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Рамдис\Desktop\i.jpg"/>
          <p:cNvPicPr/>
          <p:nvPr/>
        </p:nvPicPr>
        <p:blipFill>
          <a:blip r:embed="rId3"/>
          <a:stretch/>
        </p:blipFill>
        <p:spPr>
          <a:xfrm>
            <a:off x="785880" y="4071960"/>
            <a:ext cx="1714320" cy="214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Рамдис\Desktop\i.jpg"/>
          <p:cNvPicPr/>
          <p:nvPr/>
        </p:nvPicPr>
        <p:blipFill>
          <a:blip r:embed="rId4"/>
          <a:stretch/>
        </p:blipFill>
        <p:spPr>
          <a:xfrm>
            <a:off x="6715080" y="3992400"/>
            <a:ext cx="1500120" cy="1857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Users\Рамдис\Desktop\i.jpg"/>
          <p:cNvPicPr/>
          <p:nvPr/>
        </p:nvPicPr>
        <p:blipFill>
          <a:blip r:embed="rId5"/>
          <a:stretch/>
        </p:blipFill>
        <p:spPr>
          <a:xfrm>
            <a:off x="3000240" y="2643120"/>
            <a:ext cx="3214800" cy="27147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2700360" y="560880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учитель русского языка и литературы МОБУ СОШ с. Ермекеево Загирова Г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Образ возлюбленной в лирике Фе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C:\Users\Рамдис\Desktop\i.jpg"/>
          <p:cNvPicPr/>
          <p:nvPr/>
        </p:nvPicPr>
        <p:blipFill>
          <a:blip r:embed="rId1"/>
          <a:stretch/>
        </p:blipFill>
        <p:spPr>
          <a:xfrm>
            <a:off x="1214280" y="1714680"/>
            <a:ext cx="2928960" cy="3786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0" y="1642680"/>
            <a:ext cx="40384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80000"/>
              </a:lnSpc>
              <a:spcBef>
                <a:spcPts val="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о конца своих дней Фет не смог забыть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Марию Лазич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жизненная драма, как ключ, питала его лирик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1143000" y="5715000"/>
            <a:ext cx="3143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 flipV="1">
            <a:off x="1000080" y="5714280"/>
            <a:ext cx="328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1143000" y="5786280"/>
            <a:ext cx="328608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1295280" y="5938920"/>
            <a:ext cx="24908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1214280" y="5643720"/>
            <a:ext cx="3000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Мария Лаз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Розы и рояль"/>
          <p:cNvPicPr/>
          <p:nvPr/>
        </p:nvPicPr>
        <p:blipFill>
          <a:blip r:embed="rId1"/>
          <a:stretch/>
        </p:blipFill>
        <p:spPr>
          <a:xfrm>
            <a:off x="6737400" y="1000080"/>
            <a:ext cx="2192400" cy="3357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785880" y="1643040"/>
            <a:ext cx="585792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В долгие ночи …» 18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Неотразимый образ …» 1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В благословенный день …» 18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Старые письма» 18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В тиши и мраке таинственной ночи …» 18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lter ego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» 1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Ты отстрадала, я еще страдаю …» 187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Страницы милые опять персты раскрыли …» 18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Солнца луч промеж лип …» 18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 Нет, я не изменил …» 18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457200" y="5410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762120" y="6000840"/>
            <a:ext cx="78483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nstantia"/>
              </a:rPr>
              <a:t>Проследите, как меняется образ лирической герои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nstantia"/>
              </a:rPr>
              <a:t>Что переживает лирический ге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0880" y="785880"/>
            <a:ext cx="62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тихи, посвящённые Марии Лаз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Импрессионизм в лирике Фе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3571920" y="1428840"/>
            <a:ext cx="4929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429000" y="-844560"/>
            <a:ext cx="52149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2"/>
          <p:cNvSpPr/>
          <p:nvPr/>
        </p:nvSpPr>
        <p:spPr>
          <a:xfrm>
            <a:off x="571680" y="3786120"/>
            <a:ext cx="3786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Ярким солнцем в лесу пламенеет кост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И, сжимаясь, трещит можжевель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Точно пьяных гигантов столпившийся хо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Раскрасневшись, шатается ельник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3"/>
          <p:cNvSpPr/>
          <p:nvPr/>
        </p:nvSpPr>
        <p:spPr>
          <a:xfrm>
            <a:off x="4572000" y="3786120"/>
            <a:ext cx="3786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эт широко использ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олицетворен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ef0f7"/>
                </a:solidFill>
                <a:latin typeface="Georgia"/>
              </a:rPr>
              <a:t>Цветы глядят с то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ef0f7"/>
                </a:solidFill>
                <a:latin typeface="Georgia"/>
              </a:rPr>
              <a:t>влюб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ef0f7"/>
                </a:solidFill>
                <a:latin typeface="Georgia"/>
              </a:rPr>
              <a:t>Безгрешно чисты, к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ef0f7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5ef0f7"/>
                </a:solidFill>
                <a:latin typeface="Georgia"/>
              </a:rPr>
              <a:t>весна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н не столько уподобля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роду человеку, ско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аполняет ее человеческ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эмо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Заголовок 1"/>
          <p:cNvSpPr/>
          <p:nvPr/>
        </p:nvSpPr>
        <p:spPr>
          <a:xfrm>
            <a:off x="42876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571680" y="21430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Заголовок 1"/>
          <p:cNvSpPr/>
          <p:nvPr/>
        </p:nvSpPr>
        <p:spPr>
          <a:xfrm>
            <a:off x="581040" y="228600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8"/>
          <p:cNvSpPr/>
          <p:nvPr/>
        </p:nvSpPr>
        <p:spPr>
          <a:xfrm>
            <a:off x="642960" y="171468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ермин </a:t>
            </a:r>
            <a:r>
              <a:rPr b="0" i="1" lang="ru-RU" sz="1800" spc="-1" strike="noStrike">
                <a:solidFill>
                  <a:srgbClr val="c00000"/>
                </a:solidFill>
                <a:latin typeface="Georgia"/>
              </a:rPr>
              <a:t>«импрессионизм»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 от француз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лова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mpression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что означает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впечат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роизведение не предмета, а впечатления о 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первые появилось в лирике Фета. Живописце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ботающих в этой манере называют </a:t>
            </a:r>
            <a:r>
              <a:rPr b="0" lang="ru-RU" sz="1800" spc="-1" strike="noStrike">
                <a:solidFill>
                  <a:srgbClr val="c00000"/>
                </a:solidFill>
                <a:latin typeface="Georgia"/>
              </a:rPr>
              <a:t>импрессион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                           </a:t>
            </a: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Вывод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Заголовок 1"/>
          <p:cNvSpPr/>
          <p:nvPr/>
        </p:nvSpPr>
        <p:spPr>
          <a:xfrm>
            <a:off x="3571920" y="1428840"/>
            <a:ext cx="4929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429000" y="-844560"/>
            <a:ext cx="52149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7"/>
          <p:cNvSpPr/>
          <p:nvPr/>
        </p:nvSpPr>
        <p:spPr>
          <a:xfrm>
            <a:off x="928800" y="2286000"/>
            <a:ext cx="335736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Некрасов – поэт, призванный воспеть страдания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У Некрасова – неласковая и нелюбимая женщина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У Некрасова – чрез бездны темные насилия и зла вела поэта женский 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Некрасовские метаф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оказывают женщину крестьянкой, скорбящей, несчастной, утомленной трудом, униженной, поющей тоскливые песни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8"/>
          <p:cNvSpPr/>
          <p:nvPr/>
        </p:nvSpPr>
        <p:spPr>
          <a:xfrm>
            <a:off x="5072040" y="2286000"/>
            <a:ext cx="30718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Муза Фета воспевает чистое и прекрасное, далекое от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У Фета - ласковая, добрая му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У Фета – небесная муза, призыв нежным именем труд благослови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Метафоры, которые использует Ф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создают образ божественной, прекрасной, неземной де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Заголовок 1"/>
          <p:cNvSpPr/>
          <p:nvPr/>
        </p:nvSpPr>
        <p:spPr>
          <a:xfrm>
            <a:off x="609480" y="142884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ru-RU" sz="3700" spc="-1" strike="noStrike">
                <a:solidFill>
                  <a:srgbClr val="c00000"/>
                </a:solidFill>
                <a:latin typeface="Cambria"/>
              </a:rPr>
              <a:t>Н.А.Некрасов              А.А.  Фе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6" descr="C:\Users\Рамдис\Desktop\i.jpg"/>
          <p:cNvPicPr/>
          <p:nvPr/>
        </p:nvPicPr>
        <p:blipFill>
          <a:blip r:embed="rId1"/>
          <a:stretch/>
        </p:blipFill>
        <p:spPr>
          <a:xfrm>
            <a:off x="928800" y="3429000"/>
            <a:ext cx="1857240" cy="264312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6"/>
          <p:cNvSpPr/>
          <p:nvPr/>
        </p:nvSpPr>
        <p:spPr>
          <a:xfrm>
            <a:off x="2000160" y="0"/>
            <a:ext cx="5929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сские поэты Н.А.Некрасов и А.А.Фет стремились выявить в женских образах лучшие черты, свойственные нашему народу. Ни в одной литературе мира мы не встретим таких прекрасных и чистых женщин, отличающихся верным и любящим сердцем, а также своей неповторимой душевной красотой. Только в русской литературе обращается так много внимания на изображение внутреннего мира и сложных переживаний женской души. Начиная с XII века, через всю нашу литературу проходит образ русской женщины-героини, с большим сердцем, пламенной душой и готовностью на великие незабываемые подви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714240" y="-304920"/>
            <a:ext cx="7858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alibri"/>
              </a:rPr>
              <a:t>Русские поэты Н.А.Некрасов и А.А.Фет стремились выявить в женских образах лучшие черты, свойственные нашему народу. Ни в одной литературе мира мы не встретим таких прекрасных и чистых женщин, отличающихся верным и любящим сердцем, а также своей неповторимой душевной красотой. Только в русской литературе обращается так много внимания на изображение внутреннего мира и сложных переживаний женской души. Начиная с XII века, через всю нашу литературу проходит образ русской женщины-героини, с большим сердцем, пламенной душой и готовностью на великие незабываемые подв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C:\Users\Рамдис\Desktop\i.jpg"/>
          <p:cNvPicPr/>
          <p:nvPr/>
        </p:nvPicPr>
        <p:blipFill>
          <a:blip r:embed="rId2"/>
          <a:stretch/>
        </p:blipFill>
        <p:spPr>
          <a:xfrm>
            <a:off x="7143840" y="3429000"/>
            <a:ext cx="1500120" cy="2714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" descr="C:\Users\Рамдис\Desktop\7.jpg"/>
          <p:cNvPicPr/>
          <p:nvPr/>
        </p:nvPicPr>
        <p:blipFill>
          <a:blip r:embed="rId3"/>
          <a:stretch/>
        </p:blipFill>
        <p:spPr>
          <a:xfrm>
            <a:off x="5214960" y="3429000"/>
            <a:ext cx="1785960" cy="2643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C:\Users\Рамдис\Desktop\i.jpg"/>
          <p:cNvPicPr/>
          <p:nvPr/>
        </p:nvPicPr>
        <p:blipFill>
          <a:blip r:embed="rId4"/>
          <a:stretch/>
        </p:blipFill>
        <p:spPr>
          <a:xfrm>
            <a:off x="3071880" y="3357720"/>
            <a:ext cx="192888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714240" y="928800"/>
            <a:ext cx="80726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История русской литературы XIX в. Библиографический указатель, М.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.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атов Н.Н.  Лирика А.А. Фета (истоки, метод, эволюция). – М., 197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 Н. Некрасов. Стихотворения. Поэмы. - М.: АСТ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зеров Л., А.А. Фет. О мастерстве поэта, М.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.  Л.А. Розанова. О творчестве Н.А. Некрасова - М.,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6.   Н.Н. Скатов. «Я лиру посвятил народу своему» - М.,198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      Н.И. Якушин. Тропа к Некрасову - М.,198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8. Н.А.Некрасов. Избранное – М., 198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2827080" y="90360"/>
            <a:ext cx="34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зеров Л., А.А. Фет. О мастерстве поэта,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827080" y="90360"/>
            <a:ext cx="34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зеров Л., А.А. Фет. О мастерстве поэта,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2827080" y="90360"/>
            <a:ext cx="34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зеров Л., А.А. Фет. О мастерстве поэта,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500040" y="17859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428760" y="714240"/>
            <a:ext cx="821520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0" lang="ru-RU" sz="4800" spc="-1" strike="noStrike">
                <a:solidFill>
                  <a:srgbClr val="c00000"/>
                </a:solidFill>
                <a:latin typeface="Constantia"/>
              </a:rPr>
              <a:t>Интернет </a:t>
            </a:r>
            <a:r>
              <a:rPr b="0" lang="ru-RU" sz="48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–</a:t>
            </a:r>
            <a:r>
              <a:rPr b="0" lang="ru-RU" sz="4800" spc="-1" strike="noStrike">
                <a:solidFill>
                  <a:srgbClr val="c00000"/>
                </a:solidFill>
                <a:latin typeface="Constantia"/>
              </a:rPr>
              <a:t> ресур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пользованы материалы с сайта http://www.referat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1"/>
          <p:cNvSpPr/>
          <p:nvPr/>
        </p:nvSpPr>
        <p:spPr>
          <a:xfrm>
            <a:off x="500040" y="1143000"/>
            <a:ext cx="807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втор работы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гирова  Галия  Фарих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/>
          <p:cNvSpPr/>
          <p:nvPr/>
        </p:nvSpPr>
        <p:spPr>
          <a:xfrm>
            <a:off x="500040" y="1785960"/>
            <a:ext cx="8072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Constantia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2"/>
          <a:stretch/>
        </p:blipFill>
        <p:spPr>
          <a:xfrm>
            <a:off x="3681360" y="4516560"/>
            <a:ext cx="4913280" cy="1682640"/>
          </a:xfrm>
          <a:prstGeom prst="rect">
            <a:avLst/>
          </a:prstGeom>
          <a:ln w="0">
            <a:noFill/>
          </a:ln>
        </p:spPr>
      </p:pic>
      <p:sp>
        <p:nvSpPr>
          <p:cNvPr id="210" name="Picture 4"/>
          <p:cNvSpPr/>
          <p:nvPr/>
        </p:nvSpPr>
        <p:spPr>
          <a:xfrm>
            <a:off x="785880" y="285840"/>
            <a:ext cx="31194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icture 5"/>
          <p:cNvSpPr/>
          <p:nvPr/>
        </p:nvSpPr>
        <p:spPr>
          <a:xfrm>
            <a:off x="5072040" y="285840"/>
            <a:ext cx="33195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5000760"/>
            <a:ext cx="45626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иколай Алексеевич Некра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1821-187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G:\курсовая 2013 литер\N-R0007-022-portrait-of-the-poet-afanasy-fet.jpg"/>
          <p:cNvPicPr/>
          <p:nvPr/>
        </p:nvPicPr>
        <p:blipFill>
          <a:blip r:embed="rId3"/>
          <a:stretch/>
        </p:blipFill>
        <p:spPr>
          <a:xfrm>
            <a:off x="5292720" y="981000"/>
            <a:ext cx="3166920" cy="427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G:\курсовая 2013 литер\1329120340_portret-nekrasova.jpg"/>
          <p:cNvPicPr/>
          <p:nvPr/>
        </p:nvPicPr>
        <p:blipFill>
          <a:blip r:embed="rId4"/>
          <a:stretch/>
        </p:blipFill>
        <p:spPr>
          <a:xfrm>
            <a:off x="395280" y="981000"/>
            <a:ext cx="3313080" cy="42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Н.А.Некрасов              А.А.  Фе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3571920" y="1428840"/>
            <a:ext cx="4929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429000" y="-844560"/>
            <a:ext cx="52149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857160" y="2550960"/>
            <a:ext cx="314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красов - демократ, революционер, общественный деятель, «отечества достойный сын»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1"/>
          <p:cNvSpPr/>
          <p:nvPr/>
        </p:nvSpPr>
        <p:spPr>
          <a:xfrm>
            <a:off x="5000760" y="2550960"/>
            <a:ext cx="3143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ет же, поэт «чистого искусства», «эстетствующий реакционер»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ыл убежден, что «искусство - средство бегства от всяких житейских скорбей, в том числе и граждански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Н.А.Некрасов                    А.А.  Ф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3571920" y="1428840"/>
            <a:ext cx="4929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429000" y="869760"/>
            <a:ext cx="52149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57160" y="100008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785880" y="2428920"/>
            <a:ext cx="378612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красов «музы ласково поющей  не помнил над собой». Над ним «рано отяготели узы неласковой и нелюбимой музы», «печальной спутницы печальных бедняков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за провела поэта «чрез бездны темные Насилия и Зла, Труда и Голода», муза Некрасова «свету возвестить о них благословил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0"/>
          <p:cNvSpPr/>
          <p:nvPr/>
        </p:nvSpPr>
        <p:spPr>
          <a:xfrm>
            <a:off x="5214960" y="2428920"/>
            <a:ext cx="350028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та вдохновляла «в венце из звезд нетленная богиня, с задумчивой улыбкой на челе», являющаяся для него «заветной святыней», открывавшая ему тайны прекрасного, музыку сф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ту муза внушала «стих ласкательный», умиротворяющий и успокаивающий, воплотивший «вечный идеал красоты», гармонию, блаже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428760" y="9288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Искус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Н.А.Некрасов                    А.А.  Ф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5280" y="2356920"/>
            <a:ext cx="4038480" cy="40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о мнению поэта, «в мире нет, прочней, прекраснее союза», нежели союз его музы, «народной сестры», и страдальцев, «чей рок оплакивать», кому служить вечно будет муза. Некрасов «лиру посвятил народу своему», возбуждал к его бедствиям «вниманье сильных мира»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3571920" y="1428840"/>
            <a:ext cx="4929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429000" y="869760"/>
            <a:ext cx="52149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857160" y="100008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428760" y="9288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Образ Муз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609480" y="2857680"/>
            <a:ext cx="410544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4617b"/>
                </a:solidFill>
                <a:latin typeface="Calibri"/>
              </a:rPr>
              <a:t>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609480" y="3286080"/>
            <a:ext cx="82296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4617b"/>
                </a:solidFill>
                <a:latin typeface="Calibri"/>
              </a:rPr>
              <a:t>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357280"/>
            <a:ext cx="40388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Лира Фета  «не труба погрома».Его произведения воплощают «не бурю страстную, не вызовы к борьбе, а исцеление от муки». Фет «непосвященных к музе не звал» и «рабскому их буйству в угоду ее речей не осквернял»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Н.А.Некрасов                    А.А.  Ф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356920"/>
            <a:ext cx="4038480" cy="40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о мнению поэта, «в мире нет, прочней, прекраснее союза», нежели союз его музы, «народной сестры», и страдальцев, «чей рок оплакивать», кому служить вечно будет муза. Некрасов «лиру посвятил народу своему», возбуждал к его бедствиям «вниманье сильных мира»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3571920" y="1428840"/>
            <a:ext cx="4929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429000" y="869760"/>
            <a:ext cx="52149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9"/>
          <p:cNvSpPr/>
          <p:nvPr/>
        </p:nvSpPr>
        <p:spPr>
          <a:xfrm>
            <a:off x="857160" y="100008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428760" y="9288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Предназначение Муз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609480" y="2857680"/>
            <a:ext cx="410544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4617b"/>
                </a:solidFill>
                <a:latin typeface="Calibri"/>
              </a:rPr>
              <a:t>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609480" y="3286080"/>
            <a:ext cx="82296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4617b"/>
                </a:solidFill>
                <a:latin typeface="Calibri"/>
              </a:rPr>
              <a:t>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4643280" y="2357280"/>
            <a:ext cx="40388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Лира Фета  «не труба погрома».Его произведения воплощают «не бурю страстную, не вызовы к борьбе, а исцеление от муки». Фет «непосвященных к музе не звал» и «рабскому их буйству в угоду ее речей не осквернял»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Образ возлюбленной в лирике Некрас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573120" y="1785960"/>
            <a:ext cx="3071880" cy="4286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786120" y="1785960"/>
            <a:ext cx="485784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юбовь безумную, страстную, всесжигающую, воплощением которой в жизни Некрасова стала непревзойденная, томная и знающая себе цену, 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Авдотья Панаев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которой он посвятил целый цикл своих стихотворени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785880" y="5857920"/>
            <a:ext cx="2928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Авдотья Пан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«О мать моя, подвигнут я тобою! Во мне спасла живую душу ты!»</a:t>
            </a: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                                            Н.А.Некрасов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Рисунок 3" descr=""/>
          <p:cNvPicPr/>
          <p:nvPr/>
        </p:nvPicPr>
        <p:blipFill>
          <a:blip r:embed="rId1"/>
          <a:stretch/>
        </p:blipFill>
        <p:spPr>
          <a:xfrm>
            <a:off x="1073160" y="1859040"/>
            <a:ext cx="2352600" cy="2925720"/>
          </a:xfrm>
          <a:prstGeom prst="rect">
            <a:avLst/>
          </a:prstGeom>
          <a:ln w="0">
            <a:noFill/>
          </a:ln>
        </p:spPr>
      </p:pic>
      <p:sp>
        <p:nvSpPr>
          <p:cNvPr id="251" name="Заголовок 1"/>
          <p:cNvSpPr/>
          <p:nvPr/>
        </p:nvSpPr>
        <p:spPr>
          <a:xfrm>
            <a:off x="3571920" y="2071800"/>
            <a:ext cx="492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 flipV="1">
            <a:off x="3429000" y="2483640"/>
            <a:ext cx="52149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3" descr=""/>
          <p:cNvPicPr/>
          <p:nvPr/>
        </p:nvPicPr>
        <p:blipFill>
          <a:blip r:embed="rId2"/>
          <a:stretch/>
        </p:blipFill>
        <p:spPr>
          <a:xfrm>
            <a:off x="1212840" y="4932360"/>
            <a:ext cx="1785960" cy="163980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7"/>
          <p:cNvSpPr/>
          <p:nvPr/>
        </p:nvSpPr>
        <p:spPr>
          <a:xfrm>
            <a:off x="4071960" y="2000160"/>
            <a:ext cx="45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красова связывало с матерью чувство глубокой привязанности и любви. Он сочувствовал ее страдальческой доле, ее тяжелой жизни с суровым мужем и всегда вспоминал о ней с большой теплотой и нежностью. В произведениях Некрасова нашли отражение образы многих женщин-матерей, находящихся на разных ступенях социальной лестн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Образ крестьянки в лирике Некрас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00360" y="1357200"/>
            <a:ext cx="4071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образе русской крестьянки Некрасов показал человека высоких нравственных качеств. Поэт воспевает ее стойкость в жизненных испытаниях, гордость, достоинство, заботу о семье, детя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ороз – Красный нос», «Кому на Руси жить хорошо», «Русские женщины»,, «Женщины в русских селениях»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10" descr="C:\Users\Рамдис\Desktop\i.jpg"/>
          <p:cNvPicPr/>
          <p:nvPr/>
        </p:nvPicPr>
        <p:blipFill>
          <a:blip r:embed="rId1"/>
          <a:stretch/>
        </p:blipFill>
        <p:spPr>
          <a:xfrm>
            <a:off x="857160" y="1785960"/>
            <a:ext cx="3500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3:34:14Z</dcterms:created>
  <dc:creator>Компьютер</dc:creator>
  <dc:description/>
  <dc:language>en-US</dc:language>
  <cp:lastModifiedBy>Загирова Галия</cp:lastModifiedBy>
  <dcterms:modified xsi:type="dcterms:W3CDTF">2017-12-22T16:14:17Z</dcterms:modified>
  <cp:revision>64</cp:revision>
  <dc:subject/>
  <dc:title>Может,во внуках наших Некрасов и Фет помирятся:«Муза»  Некрасова и «Муза» Фета.</dc:title>
</cp:coreProperties>
</file>