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F37-4378-4E3F-B042-1558911C4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9BEB-BEFF-43EE-9D3A-89C308076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1FB-C092-4FA6-A847-0D01DCB8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D90-F10F-4FDD-B382-D371AA5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CDA-5B29-427B-9180-A5452CFF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369-FD1E-444B-8495-5CD4D424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50E-E865-4704-A3B0-E88904A7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491-3980-4780-9CB9-35753A86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9C6-FC1E-4746-B60D-52C6022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A233-B672-4696-9CC9-A3E597A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921-5B7A-4AC0-9CEB-218FCDFB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D5B-179D-4D7E-B5D6-8D5C999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A8CA-2C6A-408E-AA75-8A666B1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0B0-7A0C-457C-A0A4-8EEDF87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A195-3A77-4DD9-A14F-DB5B21A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8AFC-7517-4000-8025-33B50B7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CE56-23FF-469D-A95D-682708E1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6B19-4B6B-4CB5-AD2C-BDBA038C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336-894C-4792-9F67-518C1C4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2FC2-49D5-4508-9F2D-FD067894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9651-D6D8-4572-A9AD-3445E10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10C5-1441-48CA-B8DF-895E459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E0B6-5327-40BC-9D2E-8192283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5E80-BDAE-44B4-8510-44F2A2D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3D5-287C-4BE4-8BF0-7297E71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36F6-CBE7-4D35-AF21-3840BC2A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003C-2AD1-4F6F-8C97-D99C78E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6DC3-6285-4224-8119-E207D15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6D44-EEFD-441D-ADAD-38D4624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DCAC-73AE-439E-B7FA-30E52863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352B-116C-4D18-8282-5F7914F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6512-F834-4776-AD00-7657B720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2E2F-BA17-44FB-8BEB-3ABEFD47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1B431-48BC-4D64-A452-39AF426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B6EA-0EC3-4379-9B62-521BB32C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10D-BE02-41AB-BD41-B589D01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50C3-AD30-42C4-AC52-ECAFD4AB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5D82-2D05-44F0-B806-46DEE30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13AC-8BD3-4180-A133-A99A1EF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E202-5384-4A2F-8FA6-B40E865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9155-02D1-49EF-A3D9-A18C0BA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EA76-4A7E-4190-BECB-E0A75FD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2189-D53E-40CA-944C-6A7ABCC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D9F0-DD89-4EBB-8403-EE905032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C78D-9F6B-48F7-A5CB-C838CB1D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B7A-F267-4966-826D-AE5C0D5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6FB-10E5-4EB4-B0DF-8D592D0C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79-0842-439D-BB55-39835B3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470-7866-4847-ACC4-F426E99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679-B666-41BD-A96C-5EFE51D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2C4A-6990-4FAD-83BA-76D1682B25F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39A-7D01-42EE-9CFE-BD48F82D3E3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2DFA-DCCF-44CE-97FA-BE8E8F4D1A4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5E25-523D-4227-A3D4-DB9FC60DA9F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Объект 3" descr="C:\Users\reut\Desktop\для Юлии Игоревны\20170116_065040.jpg"/>
          <p:cNvPicPr/>
          <p:nvPr/>
        </p:nvPicPr>
        <p:blipFill>
          <a:blip r:embed="rId1"/>
          <a:stretch/>
        </p:blipFill>
        <p:spPr>
          <a:xfrm>
            <a:off x="-541440" y="0"/>
            <a:ext cx="10153800" cy="7316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1243080" y="189000"/>
            <a:ext cx="73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рганизация внеуроч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5488560" y="494172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БОУ СОШ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.Ф. Жер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060080" y="5925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. Реу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сновные  задачи  современной школы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Раскрытие способностей каждого учен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Воспитание порядочного и патриотического челове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Достижение личностных и предметных результатов, где ребенок должен не только узнать, но и научиться действовать и принимать реш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Цель   внеурочной деятельнос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07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Создание условий для проявления и развития ребенком своих интересов на основе свободного выб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Постижение духовно-нравственных ценностей и культурных традиц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213" name="preview-image" descr="http://sch1989uv.mskobr.ru/images/96499763.png"/>
          <p:cNvPicPr/>
          <p:nvPr/>
        </p:nvPicPr>
        <p:blipFill>
          <a:blip r:embed="rId3"/>
          <a:stretch/>
        </p:blipFill>
        <p:spPr>
          <a:xfrm>
            <a:off x="3571920" y="4286160"/>
            <a:ext cx="557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дачи внеурочной деятельнос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Выявление интересов , способностей детей к различным видам деяте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Формирование системы знаний, умений и навыков в избранном направлении деяте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4" descr="https://go1.imgsmail.ru/imgpreview?key=3f99dc9c0e02ccb3&amp;mb=imgdb_preview_347"/>
          <p:cNvPicPr/>
          <p:nvPr/>
        </p:nvPicPr>
        <p:blipFill>
          <a:blip r:embed="rId1"/>
          <a:stretch/>
        </p:blipFill>
        <p:spPr>
          <a:xfrm>
            <a:off x="4071960" y="4143240"/>
            <a:ext cx="40003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500040" y="1000080"/>
          <a:ext cx="8381880" cy="555156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658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8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ртивно- 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итмика и тан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ртивны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р шах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ники и ум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85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роки нравств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р вокруг и внутри н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75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атр и 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мотрю на мир глазами худож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58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я безопас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8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жидаемые результа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Увеличение числа детей, охваченных организованным досуг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Воспитание уважительного отношения к своей школе, стра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Формирование здорового образа жиз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Реализация плана внеурочной деятельности- достижение обучающимися  необходимого для жизни в обществе социального опыт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3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731880" y="1206360"/>
            <a:ext cx="7961400" cy="20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523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08:53Z</dcterms:created>
  <dc:creator>USER</dc:creator>
  <dc:description/>
  <dc:language>en-US</dc:language>
  <cp:lastModifiedBy>рыбка</cp:lastModifiedBy>
  <dcterms:modified xsi:type="dcterms:W3CDTF">2017-11-21T17:57:13Z</dcterms:modified>
  <cp:revision>86</cp:revision>
  <dc:subject/>
  <dc:title>Слайд 1</dc:title>
</cp:coreProperties>
</file>