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29.jpeg" ContentType="image/jpeg"/>
  <Override PartName="/ppt/media/image5.jpeg" ContentType="image/jpeg"/>
  <Override PartName="/ppt/media/image4.png" ContentType="image/png"/>
  <Override PartName="/ppt/media/image27.png" ContentType="image/png"/>
  <Override PartName="/ppt/media/image23.png" ContentType="image/png"/>
  <Override PartName="/ppt/media/image22.jpeg" ContentType="image/jpeg"/>
  <Override PartName="/ppt/media/image14.png" ContentType="image/png"/>
  <Override PartName="/ppt/media/image3.png" ContentType="image/png"/>
  <Override PartName="/ppt/media/image26.png" ContentType="image/png"/>
  <Override PartName="/ppt/media/image17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5.jpeg" ContentType="image/jpeg"/>
  <Override PartName="/ppt/media/image24.png" ContentType="image/png"/>
  <Override PartName="/ppt/media/image1.png" ContentType="image/png"/>
  <Override PartName="/ppt/media/image25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0EBC-3501-44D7-8AB2-C30DF94A4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3261-F751-4763-B24B-08D656264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F24B-9AEC-4BA5-A63E-5A7AA7BB3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93CD-A500-4302-9381-8FD08A2C8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ACD79-4DEA-4E73-A59C-4AD6A0095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0097B-37A7-4873-87CA-2B4C1FB44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A65D3-DBD2-4130-A756-4F3725C26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CD12A-E1C3-470D-9C0B-7B6E17B3D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B0E82-FA63-4408-A8B6-30A351D0B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756DC-813F-4F29-B314-2946C4B19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21151-2B63-4CB9-89B3-A2BD1570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ED5D-1EAF-4FE0-928D-53AFE1379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B04BD-EBAE-4BC9-86E4-CC11A200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1BA04-E777-4D18-A7AF-0419303A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D232E-0829-4CDE-9E4A-C35F38D6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BC89B-CAE3-469B-AC75-5D9F7F408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4C6F0-25C3-4B58-92FE-A46D41C61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609E6-9EEB-48B6-BFF5-A6484A2AC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EEA66-9BCF-47CF-980B-BF831A2D0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12273-BDD9-4AFC-8D46-85BE588C9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9BD12-6CB6-4B67-A84C-516DF3A6A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0D2F6-10FC-4E86-9148-406A30A6C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6406-576E-4881-8E1F-5CC872A61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BFD9F-12D1-425A-BC3C-A1C19DA11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1A034-AF13-4EC2-BC6A-B47CEF56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34C8C-3F91-48C1-92AF-513359D1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468D2-D368-411D-A9B0-C3524D3E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CE91F-F6A9-4AF1-A38F-4E6C05563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34F22-1D3D-4539-9B3D-89AA25E8B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F5456-8DF6-43D9-A59B-20EC44932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286B6-1B90-4AD8-AA59-4DC649353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6CA78-608A-4792-9498-1FD41B4D8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7ADCE-E476-4737-B652-41B59921D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3C67-AE8F-4593-BF7F-758B8FBE1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E604F-07AA-4414-ADBF-B9F36DBD1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55CF1-A4C5-4705-9FA3-F905A9EA8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34BEE-A354-471E-9625-41B592C10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80CDB-D22D-4DA3-8355-AA262F1F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FA801-FEF4-4127-928E-874370B3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D8F8B-44F9-4747-8010-8793294D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CBFAE-4BF1-4345-A973-7714618A7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3FBF8-D89E-4669-98FA-FBACEC8FD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599A0-3DD4-4B5B-831B-70F434EFD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7B36D-D4CA-4C45-95CB-F03BE5122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A768-7B77-4EB2-9A0C-467414C60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C2DB6-380F-4407-9379-A69851DB5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6035F-54A8-4928-BFE8-93C47C0DE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3E78F-600C-4F9C-AB6A-0ED64BC17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AF808-6538-4E56-87D6-8364C1067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5642E-0D3E-4419-874D-E7D4F8217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5AA3E-49AD-40C4-A247-A8717051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908B8-ABA9-4E6C-BDBB-E572417E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95A4D-F01A-4F0A-9839-B817C06F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2558B-BF5D-40B0-B13B-0E293F901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4F8F3-9B8F-495B-A9C6-A7D855855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40EF-389D-4C38-8043-5BC52E7A4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300AE-06B1-493F-9E81-1053B8282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5E155-F238-443A-8B6D-58872C4F0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970D57-99CC-460C-9D56-55C963A8D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DDEC5-3956-44BF-97EB-1884ADCB2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1614C-3300-4D5C-BFD7-8AFDE4C2A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4B7EA-C46F-453E-80D3-735E4FA55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DBDDE0-B85D-45AE-90FB-D1EB12F44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7330E7-2E75-4BBE-B8D9-ECD8FBAB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14FBB-E59A-4D3C-87B2-0EA76671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229C55-E6E6-48A1-B1C6-4CD6CEB7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18EB-C6A0-48CA-B697-C2B50790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F6364-56A4-4118-8CAD-4ED329CFD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DCD9A5-3994-4206-8C38-9A866A3A1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20707-4583-4275-8E4C-63F8188F3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07C011-96D9-477E-BF39-F61BBD29E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CBF87-B1BC-4AF1-9EEE-08152AABE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74EBE-F932-4959-980A-BF86C54C6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4933D-B9F1-4310-92BE-5805A491D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D486D-3276-4906-ADE4-35FE87B54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9060B-5254-4C10-A4E1-7B5FA2581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8D359-EB62-41DF-AC6C-E2850561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4937-BAAF-4C10-9254-5C10FB7B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4A58E9-5931-4EDA-BACA-C128F2D7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4CE4B-3E3F-4040-B785-BB84C7D2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D4E7DE-7267-4298-8622-F3FD3F658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63BED4-0EB3-4A5B-A3F2-0C5DF7F3F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0D851-7314-4A48-B6B3-ADE12C481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C4E5C4-765C-4D72-88B4-709B02B69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8D03D2-DD62-4385-9159-E8B9B9799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E812D6-3F20-4001-857A-5948E0AC2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04B5D5-B29F-4C79-BD79-48F0FEBEC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D3C6A2-6E15-4689-8B2B-E35246A48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413A-7632-4F51-B63E-98B8537F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2B1774-E32B-425A-8628-7C1483D52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520F27-0DFC-4EF3-A373-FF27E895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98A2AB-0850-4436-B4D1-D03BAD0B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A418FE-0253-446C-829E-2C04FDDE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F6A466-8759-4C3C-A346-73F3947E6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AF8D6D-5229-4319-8302-3708FAC82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10F07-6370-41C1-AC71-89C574D0B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DE845-FAC9-4938-81C8-8BD40D06703D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5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8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C414D-381C-4C59-8415-03642904E70B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23AF0-E5AB-45ED-9A48-68F8C7A9FED1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736F1-0963-47EA-826A-6D983D18A56D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98D84-E602-43D2-9F65-852A8B605B94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0E846-5D0C-43D0-A1D8-2322C13011A5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B9A8C-3DBD-4C87-ADAC-6984AF1B6B7F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5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D4B34-7C74-408F-9795-2E8D99BE7D75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Жестокое обращение с детьми.avi" descr=""/>
          <p:cNvPicPr/>
          <p:nvPr/>
        </p:nvPicPr>
        <p:blipFill>
          <a:blip r:embed="rId1"/>
          <a:stretch/>
        </p:blipFill>
        <p:spPr>
          <a:xfrm>
            <a:off x="395280" y="0"/>
            <a:ext cx="83376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6840" y="1481040"/>
            <a:ext cx="8543880" cy="53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ытайтесь сделать из ребёнка самого-самого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равнивайте вслух ребёнка с другими детьми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егайте свидетелей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станьте шантажировать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Заголовок 1" descr=""/>
          <p:cNvPicPr/>
          <p:nvPr/>
        </p:nvPicPr>
        <p:blipFill>
          <a:blip r:embed="rId1"/>
          <a:stretch/>
        </p:blipFill>
        <p:spPr>
          <a:xfrm>
            <a:off x="450720" y="55440"/>
            <a:ext cx="8242560" cy="1449360"/>
          </a:xfrm>
          <a:prstGeom prst="rect">
            <a:avLst/>
          </a:prstGeom>
          <a:ln w="0">
            <a:noFill/>
          </a:ln>
        </p:spPr>
      </p:pic>
      <p:pic>
        <p:nvPicPr>
          <p:cNvPr id="396" name="Рисунок 4" descr="http://old.zdorovie29.ru/assets/images/novosti%202013/1/zgestok3.jpg"/>
          <p:cNvPicPr/>
          <p:nvPr/>
        </p:nvPicPr>
        <p:blipFill>
          <a:blip r:embed="rId2"/>
          <a:stretch/>
        </p:blipFill>
        <p:spPr>
          <a:xfrm>
            <a:off x="5435640" y="3789360"/>
            <a:ext cx="34290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24000" y="36720"/>
            <a:ext cx="8391240" cy="58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амятка родителям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еред тем,  как взяться за ремень или нанести ребенку оскорбл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новитесь и проанализируйт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го ваш ребенок ведет себя та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ам не хочется. Не действуй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горяча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умайте, не требуете ли вы о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ка слишком мног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умайте: может быть, поступок ребенка, за который вы его наказываете, - это сигнал тревоги, говорящий, что ребенок попал в трудную ситуац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ните, что вы можете помочь своему ребенку, поддержать его, не прибегая к физическому наказ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Рисунок 2" descr="http://www.pionnier.gorod.tomsk.ru/uploads/579/1275982086/o_pogodina.jpg"/>
          <p:cNvPicPr/>
          <p:nvPr/>
        </p:nvPicPr>
        <p:blipFill>
          <a:blip r:embed="rId1"/>
          <a:stretch/>
        </p:blipFill>
        <p:spPr>
          <a:xfrm>
            <a:off x="5867280" y="981000"/>
            <a:ext cx="2557440" cy="24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250920" y="2410920"/>
            <a:ext cx="7345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венция ООН о правах ребёнка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итуция РФ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жданский кодекс РФ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овный кодекс РФ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йный кодекс РФ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РФ «Об образовании»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закон « Об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х системы профилактики безнадзорности и правонарушений несовершеннолетних»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521920" cy="21160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4" descr=""/>
          <p:cNvPicPr/>
          <p:nvPr/>
        </p:nvPicPr>
        <p:blipFill>
          <a:blip r:embed="rId2"/>
          <a:stretch/>
        </p:blipFill>
        <p:spPr>
          <a:xfrm>
            <a:off x="7335720" y="3938760"/>
            <a:ext cx="1629000" cy="23619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5" descr=""/>
          <p:cNvPicPr/>
          <p:nvPr/>
        </p:nvPicPr>
        <p:blipFill>
          <a:blip r:embed="rId3"/>
          <a:stretch/>
        </p:blipFill>
        <p:spPr>
          <a:xfrm>
            <a:off x="7286760" y="1357200"/>
            <a:ext cx="1609560" cy="23767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6" descr=""/>
          <p:cNvPicPr/>
          <p:nvPr/>
        </p:nvPicPr>
        <p:blipFill>
          <a:blip r:embed="rId4"/>
          <a:stretch/>
        </p:blipFill>
        <p:spPr>
          <a:xfrm>
            <a:off x="5867280" y="2997360"/>
            <a:ext cx="1619280" cy="23335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7" descr=""/>
          <p:cNvPicPr/>
          <p:nvPr/>
        </p:nvPicPr>
        <p:blipFill>
          <a:blip r:embed="rId5"/>
          <a:stretch/>
        </p:blipFill>
        <p:spPr>
          <a:xfrm>
            <a:off x="179280" y="260280"/>
            <a:ext cx="16480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5"/>
          <p:cNvSpPr/>
          <p:nvPr/>
        </p:nvSpPr>
        <p:spPr>
          <a:xfrm>
            <a:off x="250920" y="462240"/>
            <a:ext cx="871380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пособы открыт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ебёнку свою любов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Сло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йте ребёнка ласковы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ами, придумывайте домашние прозвища, рассказывайте сказки, пойте колыбельные, и пусть в вашем голосе звучит нежность, нежность и только нежнос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рикоснов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гда достаточно взять ребёнка за руку, погладить по волосам, поцеловать, чтобы он перестал плакать и капризнича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Взгля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разговаривайте с ребёнком, стоя к нему спиной или вполоборота, не кричите ему из соседней комнаты. Подойдите, посмотрите ему в глаза и скажите то, что хотит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Рисунок 3" descr="Эксперты предложили ввести психологическое тестирование родителей"/>
          <p:cNvPicPr/>
          <p:nvPr/>
        </p:nvPicPr>
        <p:blipFill>
          <a:blip r:embed="rId1"/>
          <a:srcRect l="0" t="0" r="-280" b="0"/>
          <a:stretch/>
        </p:blipFill>
        <p:spPr>
          <a:xfrm>
            <a:off x="5429160" y="285840"/>
            <a:ext cx="33577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3708360" y="115560"/>
            <a:ext cx="532944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– главный подарок для мира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ними чудесней земная картин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ё понимают, берутся за всё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шее с ними людское житьё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енько слабы, неумелы их руки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некогда думать ребятам о скуке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виженьях, заботах их время проходит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ача к усердным с годами приходит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тские годы мечты расцветают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часто об этом не знают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о детишкам права объяснить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му надо их обучить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 станет лучше на нашей планете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счастливыми будут все дети!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тор Павлов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Рисунок 4" descr="Обои - Мыльные пузыри и кроха, красивые картинки, фото, заставки и обои на рабочий стол"/>
          <p:cNvPicPr/>
          <p:nvPr/>
        </p:nvPicPr>
        <p:blipFill>
          <a:blip r:embed="rId1"/>
          <a:stretch/>
        </p:blipFill>
        <p:spPr>
          <a:xfrm>
            <a:off x="142920" y="1500120"/>
            <a:ext cx="385776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323640" y="1052280"/>
            <a:ext cx="8569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Упоминания о жестокостях к детям в различных литературных источниках встречаются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до II в. н.э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buClr>
                <a:srgbClr val="0000ff"/>
              </a:buClr>
              <a:buSzPct val="68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й убивали в ритуальных целях: считалось, что убитый ребенок может помочь бесплодным женщинам справиться с болезнями, обеспечить здоровье и молодость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buClr>
                <a:srgbClr val="0000ff"/>
              </a:buClr>
              <a:buSzPct val="68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buClr>
                <a:srgbClr val="0000ff"/>
              </a:buClr>
              <a:buSzPct val="68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 хоронили под фундаментом здания, чтобы сделать его прочнее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buClr>
                <a:srgbClr val="0000ff"/>
              </a:buClr>
              <a:buSzPct val="68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buClr>
                <a:srgbClr val="0000ff"/>
              </a:buClr>
              <a:buSzPct val="68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й продавали и покупали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Rectangle 2" descr=""/>
          <p:cNvPicPr/>
          <p:nvPr/>
        </p:nvPicPr>
        <p:blipFill>
          <a:blip r:embed="rId1"/>
          <a:stretch/>
        </p:blipFill>
        <p:spPr>
          <a:xfrm>
            <a:off x="450720" y="109440"/>
            <a:ext cx="8242560" cy="8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642960" y="333000"/>
            <a:ext cx="83217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ериканский врач С. Кемп и его сотрудники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62 г. описали </a:t>
            </a:r>
            <a:r>
              <a:rPr b="1" i="1" lang="ru-RU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«синдром избиваемого ребенка»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66ff33"/>
              </a:buClr>
              <a:buSzPct val="68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манные кости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66ff33"/>
              </a:buClr>
              <a:buSzPct val="68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вотечения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66ff33"/>
              </a:buClr>
              <a:buSzPct val="68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садины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66ff33"/>
              </a:buClr>
              <a:buSzPct val="68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яки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Picture 5" descr="http://d1.dvinainform.ru/data/files/ca/58/000058ca.jpg"/>
          <p:cNvPicPr/>
          <p:nvPr/>
        </p:nvPicPr>
        <p:blipFill>
          <a:blip r:embed="rId1"/>
          <a:stretch/>
        </p:blipFill>
        <p:spPr>
          <a:xfrm>
            <a:off x="3780000" y="2349360"/>
            <a:ext cx="419076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108000" y="260280"/>
            <a:ext cx="46800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Georgia"/>
              </a:rPr>
              <a:t>Научными исследованиями установлено, что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асилие в той или иной форме совершается в каждой четвертой российской семье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ежегодно около 2 млн. детей в возрасте до 14 лет избиваются родителями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для 10% этих детей исходом становится смерть, а для 2 тыс.- самоубийство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более 50 тыс. детей в течение года уходят из дома, спасаясь от собственных родителей, а 25 тыс. несовершеннолетних находятся в розыске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Picture 4" descr="41934889_bit"/>
          <p:cNvPicPr/>
          <p:nvPr/>
        </p:nvPicPr>
        <p:blipFill>
          <a:blip r:embed="rId1"/>
          <a:stretch/>
        </p:blipFill>
        <p:spPr>
          <a:xfrm>
            <a:off x="4932360" y="476280"/>
            <a:ext cx="41083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Рисунок 10" descr="https://encrypted-tbn3.gstatic.com/images?q=tbn:ANd9GcRWP_NWiHz2cudBz_61OzZ2PSpLWnhaLw04KaONqVevmtnEc6Cbag"/>
          <p:cNvPicPr/>
          <p:nvPr/>
        </p:nvPicPr>
        <p:blipFill>
          <a:blip r:embed="rId1"/>
          <a:stretch/>
        </p:blipFill>
        <p:spPr>
          <a:xfrm>
            <a:off x="4572000" y="2133720"/>
            <a:ext cx="4176720" cy="3720960"/>
          </a:xfrm>
          <a:prstGeom prst="rect">
            <a:avLst/>
          </a:prstGeom>
          <a:ln w="0">
            <a:noFill/>
          </a:ln>
        </p:spPr>
      </p:pic>
      <p:pic>
        <p:nvPicPr>
          <p:cNvPr id="378" name="Заголовок 3" descr=""/>
          <p:cNvPicPr/>
          <p:nvPr/>
        </p:nvPicPr>
        <p:blipFill>
          <a:blip r:embed="rId2"/>
          <a:stretch/>
        </p:blipFill>
        <p:spPr>
          <a:xfrm>
            <a:off x="311040" y="208080"/>
            <a:ext cx="8382240" cy="178596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 txBox="1"/>
          <p:nvPr/>
        </p:nvSpPr>
        <p:spPr>
          <a:xfrm>
            <a:off x="285840" y="1844640"/>
            <a:ext cx="4292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Lucida Sans Unicode"/>
              </a:rPr>
              <a:t>Жестокое обращение с детьми</a:t>
            </a:r>
            <a:r>
              <a:rPr b="0" lang="ru-RU" sz="2600" spc="-1" strike="noStrike">
                <a:solidFill>
                  <a:srgbClr val="ffffff"/>
                </a:solidFill>
                <a:latin typeface="Lucida Sans Unicode"/>
              </a:rPr>
              <a:t> (насилие) - это любое поведение по отношении к ребёнку, которое нарушает его физическое или психическое благополучие, ставя под угрозу состояние его здоровья и развития.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Заголовок 4" descr=""/>
          <p:cNvPicPr/>
          <p:nvPr/>
        </p:nvPicPr>
        <p:blipFill>
          <a:blip r:embed="rId1"/>
          <a:stretch/>
        </p:blipFill>
        <p:spPr>
          <a:xfrm>
            <a:off x="536400" y="255600"/>
            <a:ext cx="8339400" cy="18972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 txBox="1"/>
          <p:nvPr/>
        </p:nvSpPr>
        <p:spPr>
          <a:xfrm>
            <a:off x="539280" y="2500200"/>
            <a:ext cx="814716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Эмоциональное (психологическое) насилие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Физическое насилие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ексуальное насилие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енебрежение основными нуждами ребенк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285480" y="928440"/>
            <a:ext cx="4429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моциональным (психологическим) насилие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вляется однократное или хроническое  психическое  воздействие на ребенка или его отвержение со стороны  родителей  и  других  взрослых,  вследствие  чего  у  ребенка нарушаются   эмоциональное   развитие,   поведение   и  способность  к социализации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Rectangle 2" descr=""/>
          <p:cNvPicPr/>
          <p:nvPr/>
        </p:nvPicPr>
        <p:blipFill>
          <a:blip r:embed="rId1"/>
          <a:stretch/>
        </p:blipFill>
        <p:spPr>
          <a:xfrm>
            <a:off x="450720" y="73080"/>
            <a:ext cx="8242560" cy="8413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6" descr="Дневник Diffio - BabyBlog.ru - Babyblog.ru"/>
          <p:cNvPicPr/>
          <p:nvPr/>
        </p:nvPicPr>
        <p:blipFill>
          <a:blip r:embed="rId2"/>
          <a:stretch/>
        </p:blipFill>
        <p:spPr>
          <a:xfrm>
            <a:off x="4643280" y="1785960"/>
            <a:ext cx="438156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-360" y="1285560"/>
            <a:ext cx="892980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тое неприятие и постоянная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ика ребенка;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розы в адрес ребенка в открытой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е;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чания, высказанные в оскорбительной форме, унижающие достоинство ребенка;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намеренное ограничение общения ребенка со сверстниками или другими значимыми взрослыми;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жь и невыполнения взрослыми своих обещаний;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кратное грубое психическое воздействие, вызывающее у ребенка психическую травму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Rectangle 2" descr=""/>
          <p:cNvPicPr/>
          <p:nvPr/>
        </p:nvPicPr>
        <p:blipFill>
          <a:blip r:embed="rId1"/>
          <a:stretch/>
        </p:blipFill>
        <p:spPr>
          <a:xfrm>
            <a:off x="450720" y="-158760"/>
            <a:ext cx="8242560" cy="1451160"/>
          </a:xfrm>
          <a:prstGeom prst="rect">
            <a:avLst/>
          </a:prstGeom>
          <a:ln w="0">
            <a:noFill/>
          </a:ln>
        </p:spPr>
      </p:pic>
      <p:pic>
        <p:nvPicPr>
          <p:cNvPr id="390" name="Рисунок 4" descr="Жестокое обращение с детьми. Масштаб проблемы. В каком возрасте дети чаще подвергаются жестокому обращению. Виды насилия."/>
          <p:cNvPicPr/>
          <p:nvPr/>
        </p:nvPicPr>
        <p:blipFill>
          <a:blip r:embed="rId2"/>
          <a:stretch/>
        </p:blipFill>
        <p:spPr>
          <a:xfrm>
            <a:off x="6072120" y="571680"/>
            <a:ext cx="281952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-181080" y="1052280"/>
            <a:ext cx="5113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енебреже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новными нуждами ребенка (моральная жестокость)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это   отсутствие   со   стороны  родителей  или  лиц,  их  заменяющих, элементарной   заботы  о  нем,  а  также  недобросовестное  выполнение обязанностей  по  воспитанию ребенка, в результате чего его здоровье и развитие нарушаются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Rectangle 2" descr=""/>
          <p:cNvPicPr/>
          <p:nvPr/>
        </p:nvPicPr>
        <p:blipFill>
          <a:blip r:embed="rId1"/>
          <a:stretch/>
        </p:blipFill>
        <p:spPr>
          <a:xfrm>
            <a:off x="450720" y="73080"/>
            <a:ext cx="8242560" cy="8413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4" descr="plach_1"/>
          <p:cNvPicPr/>
          <p:nvPr/>
        </p:nvPicPr>
        <p:blipFill>
          <a:blip r:embed="rId2"/>
          <a:stretch/>
        </p:blipFill>
        <p:spPr>
          <a:xfrm>
            <a:off x="5164200" y="1628640"/>
            <a:ext cx="3728880" cy="37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6T06:04:31Z</dcterms:created>
  <dc:creator>Дом</dc:creator>
  <dc:description/>
  <dc:language>en-US</dc:language>
  <cp:lastModifiedBy>User</cp:lastModifiedBy>
  <dcterms:modified xsi:type="dcterms:W3CDTF">2017-03-11T01:20:17Z</dcterms:modified>
  <cp:revision>131</cp:revision>
  <dc:subject/>
  <dc:title>Слайд 1</dc:title>
</cp:coreProperties>
</file>