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wmf" ContentType="image/x-wmf"/>
  <Override PartName="/ppt/media/image27.gif" ContentType="image/gif"/>
  <Override PartName="/ppt/media/image20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8.png" ContentType="image/png"/>
  <Override PartName="/ppt/media/image25.gif" ContentType="image/gif"/>
  <Override PartName="/ppt/media/image28.gif" ContentType="image/gif"/>
  <Override PartName="/ppt/media/image12.wmf" ContentType="image/x-wmf"/>
  <Override PartName="/ppt/media/image30.wmf" ContentType="image/x-wmf"/>
  <Override PartName="/ppt/media/image33.jpeg" ContentType="image/jpeg"/>
  <Override PartName="/ppt/media/image8.png" ContentType="image/png"/>
  <Override PartName="/ppt/media/image39.jpeg" ContentType="image/jpeg"/>
  <Override PartName="/ppt/media/image4.wmf" ContentType="image/x-wmf"/>
  <Override PartName="/ppt/media/image9.png" ContentType="image/png"/>
  <Override PartName="/ppt/media/image38.jpeg" ContentType="image/jpeg"/>
  <Override PartName="/ppt/media/image40.jpeg" ContentType="image/jpeg"/>
  <Override PartName="/ppt/media/image13.wmf" ContentType="image/x-wmf"/>
  <Override PartName="/ppt/media/image31.jpeg" ContentType="image/jpeg"/>
  <Override PartName="/ppt/media/image2.png" ContentType="image/png"/>
  <Override PartName="/ppt/media/image22.gif" ContentType="image/gif"/>
  <Override PartName="/ppt/media/image36.jpeg" ContentType="image/jpeg"/>
  <Override PartName="/ppt/media/image37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26.gif" ContentType="image/gif"/>
  <Override PartName="/ppt/media/image11.wmf" ContentType="image/x-wmf"/>
  <Override PartName="/ppt/media/image5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image3.wmf" ContentType="image/x-wmf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97F-746E-469B-98AF-382E52F6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C62-7E22-4110-983F-50FC4E2C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2D6-F049-48B0-9D18-FAEAE8A3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809-A559-49A7-9B3B-97FCF838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22B-C508-4EB5-81F6-4C0929CF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96C-67A6-4386-A696-B0C3D4FE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C63-74AB-4457-B03F-DB53D857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B08-E5F9-4E0F-899A-ECB0037A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FF4-3F3D-4164-A00A-332095F8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90B-2E5D-4F6B-9FDE-0725DC87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86C-8681-4E29-B7EA-9662862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0A0-6116-4604-800C-4FD01ECB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1D7D-06D9-4F99-B2C0-6F0A7B5AB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wm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3.wmf"/><Relationship Id="rId5" Type="http://schemas.openxmlformats.org/officeDocument/2006/relationships/image" Target="../media/image30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80360" cy="5292720"/>
          </a:xfrm>
          <a:prstGeom prst="rect">
            <a:avLst/>
          </a:prstGeom>
          <a:noFill/>
          <a:ln w="38088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Житков 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Борис Степано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652640"/>
            <a:ext cx="6183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житков"/>
          <p:cNvPicPr/>
          <p:nvPr/>
        </p:nvPicPr>
        <p:blipFill>
          <a:blip r:embed="rId1"/>
          <a:stretch/>
        </p:blipFill>
        <p:spPr>
          <a:xfrm>
            <a:off x="3348000" y="765000"/>
            <a:ext cx="2195640" cy="2519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4447440" y="5041800"/>
            <a:ext cx="43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 ученик 4 класса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СШ № 85 г. Ульянов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пполонов Е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оследние годы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124000" y="5408640"/>
            <a:ext cx="52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Умер 19 октября 1938 в Моск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Похоронен на Ваганьковском кладб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68360" y="1665360"/>
            <a:ext cx="828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1934 году Борис Степанович переехал из Ленинграда в Москву. Он сотрудничал почти во всех тогдашних детских журналах: в «Еже», «Чиже», «Пионере», «Юном натуралисте», «Костре», «Сверчке»... Успел написать энциклопедическую книгу для маленьких «Почемучка» («Что я видел»),  которая вышла  уже после смерти  писа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79280" y="152280"/>
            <a:ext cx="8785440" cy="6553440"/>
          </a:xfrm>
          <a:prstGeom prst="rect">
            <a:avLst/>
          </a:prstGeom>
          <a:noFill/>
          <a:ln w="1015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403280" y="2421000"/>
            <a:ext cx="653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79280" y="152280"/>
            <a:ext cx="8785440" cy="6553440"/>
          </a:xfrm>
          <a:prstGeom prst="rect">
            <a:avLst/>
          </a:prstGeom>
          <a:noFill/>
          <a:ln w="1015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981000"/>
            <a:ext cx="8748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Борис Степанович Житков </a:t>
            </a:r>
            <a:br>
              <a:rPr sz="3600"/>
            </a:b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(1882 - 1938)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русский советский писатель,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автор многочисленных книг для дет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303640" y="3176640"/>
            <a:ext cx="2252520" cy="3249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8" name="Picture 5" descr="j0346763"/>
          <p:cNvPicPr/>
          <p:nvPr/>
        </p:nvPicPr>
        <p:blipFill>
          <a:blip r:embed="rId2"/>
          <a:stretch/>
        </p:blipFill>
        <p:spPr>
          <a:xfrm>
            <a:off x="6877080" y="3968640"/>
            <a:ext cx="154764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j0345612"/>
          <p:cNvPicPr/>
          <p:nvPr/>
        </p:nvPicPr>
        <p:blipFill>
          <a:blip r:embed="rId3"/>
          <a:srcRect l="10514" t="15694" r="0" b="0"/>
          <a:stretch/>
        </p:blipFill>
        <p:spPr>
          <a:xfrm>
            <a:off x="684360" y="4005360"/>
            <a:ext cx="1225440" cy="15476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50" name="Picture 7" descr="Жтков"/>
          <p:cNvPicPr/>
          <p:nvPr/>
        </p:nvPicPr>
        <p:blipFill>
          <a:blip r:embed="rId4"/>
          <a:stretch/>
        </p:blipFill>
        <p:spPr>
          <a:xfrm>
            <a:off x="5003640" y="3897360"/>
            <a:ext cx="1500480" cy="2266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Дет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Новгород"/>
          <p:cNvPicPr/>
          <p:nvPr/>
        </p:nvPicPr>
        <p:blipFill>
          <a:blip r:embed="rId1"/>
          <a:stretch/>
        </p:blipFill>
        <p:spPr>
          <a:xfrm>
            <a:off x="503280" y="3213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324000" y="19890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одился Борис Житков 30 августа (11 сентября н.с.) в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вгоро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семье преподавателя матема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лучил прекрасное домашнее образ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етство провел в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нкт - Петербурге, Риге, Одесс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Одесса"/>
          <p:cNvPicPr/>
          <p:nvPr/>
        </p:nvPicPr>
        <p:blipFill>
          <a:blip r:embed="rId2"/>
          <a:stretch/>
        </p:blipFill>
        <p:spPr>
          <a:xfrm>
            <a:off x="6840360" y="432900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СПб"/>
          <p:cNvPicPr/>
          <p:nvPr/>
        </p:nvPicPr>
        <p:blipFill>
          <a:blip r:embed="rId3"/>
          <a:stretch/>
        </p:blipFill>
        <p:spPr>
          <a:xfrm>
            <a:off x="2556000" y="4329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Рига"/>
          <p:cNvPicPr/>
          <p:nvPr/>
        </p:nvPicPr>
        <p:blipFill>
          <a:blip r:embed="rId4"/>
          <a:stretch/>
        </p:blipFill>
        <p:spPr>
          <a:xfrm>
            <a:off x="4788000" y="324972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431640" y="5192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804000" y="3968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Од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680000" y="5229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Ри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484360" y="3897360"/>
            <a:ext cx="19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С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11"/>
          <p:cNvPicPr/>
          <p:nvPr/>
        </p:nvPicPr>
        <p:blipFill>
          <a:blip r:embed="rId5"/>
          <a:stretch/>
        </p:blipFill>
        <p:spPr>
          <a:xfrm>
            <a:off x="1079640" y="297000"/>
            <a:ext cx="1269720" cy="1619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3"/>
          <p:cNvSpPr/>
          <p:nvPr/>
        </p:nvSpPr>
        <p:spPr>
          <a:xfrm>
            <a:off x="179280" y="152280"/>
            <a:ext cx="8785440" cy="6553440"/>
          </a:xfrm>
          <a:prstGeom prst="rect">
            <a:avLst/>
          </a:prstGeom>
          <a:noFill/>
          <a:ln w="1015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441000"/>
            <a:ext cx="65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Увлечения гимназиста Бори Житк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j0252333"/>
          <p:cNvPicPr/>
          <p:nvPr/>
        </p:nvPicPr>
        <p:blipFill>
          <a:blip r:embed="rId1"/>
          <a:stretch/>
        </p:blipFill>
        <p:spPr>
          <a:xfrm>
            <a:off x="503280" y="1736640"/>
            <a:ext cx="2665440" cy="1522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792000" y="314172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j0237848"/>
          <p:cNvPicPr/>
          <p:nvPr/>
        </p:nvPicPr>
        <p:blipFill>
          <a:blip r:embed="rId2"/>
          <a:stretch/>
        </p:blipFill>
        <p:spPr>
          <a:xfrm>
            <a:off x="719280" y="3465360"/>
            <a:ext cx="2808000" cy="2127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971640" y="57340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j0237846"/>
          <p:cNvPicPr/>
          <p:nvPr/>
        </p:nvPicPr>
        <p:blipFill>
          <a:blip r:embed="rId3"/>
          <a:stretch/>
        </p:blipFill>
        <p:spPr>
          <a:xfrm>
            <a:off x="6480000" y="1881360"/>
            <a:ext cx="2306880" cy="270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6372360" y="472428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743280" y="497664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ьван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4"/>
          <a:stretch/>
        </p:blipFill>
        <p:spPr>
          <a:xfrm>
            <a:off x="7740720" y="225360"/>
            <a:ext cx="1100160" cy="1476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179280" y="152280"/>
            <a:ext cx="8785440" cy="6553440"/>
          </a:xfrm>
          <a:prstGeom prst="rect">
            <a:avLst/>
          </a:prstGeom>
          <a:noFill/>
          <a:ln w="1015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3887640" y="2060640"/>
            <a:ext cx="17971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reeform 2"/>
          <p:cNvSpPr/>
          <p:nvPr/>
        </p:nvSpPr>
        <p:spPr>
          <a:xfrm>
            <a:off x="71280" y="5487840"/>
            <a:ext cx="9001440" cy="1254240"/>
          </a:xfrm>
          <a:custGeom>
            <a:avLst/>
            <a:gdLst/>
            <a:ahLst/>
            <a:rect l="l" t="t" r="r" b="b"/>
            <a:pathLst>
              <a:path w="5670" h="790">
                <a:moveTo>
                  <a:pt x="30" y="464"/>
                </a:moveTo>
                <a:cubicBezTo>
                  <a:pt x="42" y="418"/>
                  <a:pt x="27" y="372"/>
                  <a:pt x="70" y="344"/>
                </a:cubicBezTo>
                <a:cubicBezTo>
                  <a:pt x="83" y="347"/>
                  <a:pt x="98" y="345"/>
                  <a:pt x="110" y="352"/>
                </a:cubicBezTo>
                <a:cubicBezTo>
                  <a:pt x="118" y="357"/>
                  <a:pt x="119" y="369"/>
                  <a:pt x="126" y="376"/>
                </a:cubicBezTo>
                <a:cubicBezTo>
                  <a:pt x="136" y="386"/>
                  <a:pt x="185" y="414"/>
                  <a:pt x="198" y="416"/>
                </a:cubicBezTo>
                <a:cubicBezTo>
                  <a:pt x="243" y="423"/>
                  <a:pt x="289" y="421"/>
                  <a:pt x="334" y="424"/>
                </a:cubicBezTo>
                <a:cubicBezTo>
                  <a:pt x="471" y="444"/>
                  <a:pt x="603" y="465"/>
                  <a:pt x="742" y="472"/>
                </a:cubicBezTo>
                <a:cubicBezTo>
                  <a:pt x="802" y="484"/>
                  <a:pt x="860" y="501"/>
                  <a:pt x="918" y="520"/>
                </a:cubicBezTo>
                <a:cubicBezTo>
                  <a:pt x="1017" y="517"/>
                  <a:pt x="1116" y="519"/>
                  <a:pt x="1214" y="512"/>
                </a:cubicBezTo>
                <a:cubicBezTo>
                  <a:pt x="1239" y="510"/>
                  <a:pt x="1272" y="482"/>
                  <a:pt x="1294" y="472"/>
                </a:cubicBezTo>
                <a:cubicBezTo>
                  <a:pt x="1335" y="455"/>
                  <a:pt x="1379" y="438"/>
                  <a:pt x="1422" y="424"/>
                </a:cubicBezTo>
                <a:cubicBezTo>
                  <a:pt x="1456" y="399"/>
                  <a:pt x="1485" y="386"/>
                  <a:pt x="1526" y="376"/>
                </a:cubicBezTo>
                <a:cubicBezTo>
                  <a:pt x="1553" y="358"/>
                  <a:pt x="1574" y="352"/>
                  <a:pt x="1606" y="344"/>
                </a:cubicBezTo>
                <a:cubicBezTo>
                  <a:pt x="1631" y="306"/>
                  <a:pt x="1676" y="295"/>
                  <a:pt x="1710" y="264"/>
                </a:cubicBezTo>
                <a:cubicBezTo>
                  <a:pt x="1744" y="233"/>
                  <a:pt x="1776" y="195"/>
                  <a:pt x="1814" y="168"/>
                </a:cubicBezTo>
                <a:cubicBezTo>
                  <a:pt x="1824" y="161"/>
                  <a:pt x="1836" y="159"/>
                  <a:pt x="1846" y="152"/>
                </a:cubicBezTo>
                <a:cubicBezTo>
                  <a:pt x="1877" y="130"/>
                  <a:pt x="1899" y="106"/>
                  <a:pt x="1934" y="88"/>
                </a:cubicBezTo>
                <a:cubicBezTo>
                  <a:pt x="1967" y="39"/>
                  <a:pt x="1930" y="87"/>
                  <a:pt x="1974" y="48"/>
                </a:cubicBezTo>
                <a:cubicBezTo>
                  <a:pt x="1991" y="33"/>
                  <a:pt x="2022" y="0"/>
                  <a:pt x="2022" y="0"/>
                </a:cubicBezTo>
                <a:cubicBezTo>
                  <a:pt x="2007" y="161"/>
                  <a:pt x="2005" y="257"/>
                  <a:pt x="2014" y="440"/>
                </a:cubicBezTo>
                <a:cubicBezTo>
                  <a:pt x="2015" y="454"/>
                  <a:pt x="2010" y="473"/>
                  <a:pt x="2022" y="480"/>
                </a:cubicBezTo>
                <a:cubicBezTo>
                  <a:pt x="2043" y="492"/>
                  <a:pt x="2070" y="485"/>
                  <a:pt x="2094" y="488"/>
                </a:cubicBezTo>
                <a:cubicBezTo>
                  <a:pt x="2116" y="577"/>
                  <a:pt x="2236" y="556"/>
                  <a:pt x="2310" y="560"/>
                </a:cubicBezTo>
                <a:cubicBezTo>
                  <a:pt x="2370" y="580"/>
                  <a:pt x="2298" y="551"/>
                  <a:pt x="2350" y="592"/>
                </a:cubicBezTo>
                <a:cubicBezTo>
                  <a:pt x="2366" y="605"/>
                  <a:pt x="2390" y="603"/>
                  <a:pt x="2406" y="616"/>
                </a:cubicBezTo>
                <a:cubicBezTo>
                  <a:pt x="2424" y="630"/>
                  <a:pt x="2454" y="664"/>
                  <a:pt x="2454" y="664"/>
                </a:cubicBezTo>
                <a:cubicBezTo>
                  <a:pt x="2516" y="658"/>
                  <a:pt x="2581" y="664"/>
                  <a:pt x="2638" y="640"/>
                </a:cubicBezTo>
                <a:cubicBezTo>
                  <a:pt x="2715" y="607"/>
                  <a:pt x="2602" y="639"/>
                  <a:pt x="2694" y="616"/>
                </a:cubicBezTo>
                <a:cubicBezTo>
                  <a:pt x="2731" y="591"/>
                  <a:pt x="2766" y="560"/>
                  <a:pt x="2798" y="528"/>
                </a:cubicBezTo>
                <a:cubicBezTo>
                  <a:pt x="2824" y="450"/>
                  <a:pt x="2886" y="400"/>
                  <a:pt x="2934" y="336"/>
                </a:cubicBezTo>
                <a:cubicBezTo>
                  <a:pt x="2944" y="306"/>
                  <a:pt x="2940" y="308"/>
                  <a:pt x="2966" y="280"/>
                </a:cubicBezTo>
                <a:cubicBezTo>
                  <a:pt x="2981" y="263"/>
                  <a:pt x="3014" y="232"/>
                  <a:pt x="3014" y="232"/>
                </a:cubicBezTo>
                <a:cubicBezTo>
                  <a:pt x="3023" y="206"/>
                  <a:pt x="3037" y="186"/>
                  <a:pt x="3046" y="160"/>
                </a:cubicBezTo>
                <a:cubicBezTo>
                  <a:pt x="3049" y="205"/>
                  <a:pt x="3045" y="251"/>
                  <a:pt x="3054" y="296"/>
                </a:cubicBezTo>
                <a:cubicBezTo>
                  <a:pt x="3056" y="307"/>
                  <a:pt x="3071" y="311"/>
                  <a:pt x="3078" y="320"/>
                </a:cubicBezTo>
                <a:cubicBezTo>
                  <a:pt x="3090" y="335"/>
                  <a:pt x="3099" y="352"/>
                  <a:pt x="3110" y="368"/>
                </a:cubicBezTo>
                <a:cubicBezTo>
                  <a:pt x="3182" y="476"/>
                  <a:pt x="3195" y="477"/>
                  <a:pt x="3326" y="488"/>
                </a:cubicBezTo>
                <a:cubicBezTo>
                  <a:pt x="3396" y="482"/>
                  <a:pt x="3454" y="477"/>
                  <a:pt x="3510" y="432"/>
                </a:cubicBezTo>
                <a:cubicBezTo>
                  <a:pt x="3547" y="402"/>
                  <a:pt x="3594" y="360"/>
                  <a:pt x="3630" y="328"/>
                </a:cubicBezTo>
                <a:cubicBezTo>
                  <a:pt x="3695" y="270"/>
                  <a:pt x="3653" y="288"/>
                  <a:pt x="3702" y="272"/>
                </a:cubicBezTo>
                <a:cubicBezTo>
                  <a:pt x="3724" y="240"/>
                  <a:pt x="3758" y="214"/>
                  <a:pt x="3790" y="192"/>
                </a:cubicBezTo>
                <a:cubicBezTo>
                  <a:pt x="3796" y="174"/>
                  <a:pt x="3801" y="144"/>
                  <a:pt x="3830" y="144"/>
                </a:cubicBezTo>
                <a:cubicBezTo>
                  <a:pt x="3840" y="144"/>
                  <a:pt x="3842" y="159"/>
                  <a:pt x="3846" y="168"/>
                </a:cubicBezTo>
                <a:cubicBezTo>
                  <a:pt x="3867" y="215"/>
                  <a:pt x="3873" y="277"/>
                  <a:pt x="3902" y="320"/>
                </a:cubicBezTo>
                <a:cubicBezTo>
                  <a:pt x="3954" y="398"/>
                  <a:pt x="4035" y="454"/>
                  <a:pt x="4126" y="472"/>
                </a:cubicBezTo>
                <a:cubicBezTo>
                  <a:pt x="4213" y="467"/>
                  <a:pt x="4243" y="479"/>
                  <a:pt x="4302" y="440"/>
                </a:cubicBezTo>
                <a:cubicBezTo>
                  <a:pt x="4331" y="397"/>
                  <a:pt x="4311" y="423"/>
                  <a:pt x="4366" y="368"/>
                </a:cubicBezTo>
                <a:cubicBezTo>
                  <a:pt x="4374" y="360"/>
                  <a:pt x="4375" y="346"/>
                  <a:pt x="4382" y="336"/>
                </a:cubicBezTo>
                <a:cubicBezTo>
                  <a:pt x="4389" y="327"/>
                  <a:pt x="4399" y="321"/>
                  <a:pt x="4406" y="312"/>
                </a:cubicBezTo>
                <a:cubicBezTo>
                  <a:pt x="4412" y="305"/>
                  <a:pt x="4417" y="296"/>
                  <a:pt x="4422" y="288"/>
                </a:cubicBezTo>
                <a:cubicBezTo>
                  <a:pt x="4425" y="277"/>
                  <a:pt x="4425" y="266"/>
                  <a:pt x="4430" y="256"/>
                </a:cubicBezTo>
                <a:cubicBezTo>
                  <a:pt x="4443" y="233"/>
                  <a:pt x="4530" y="174"/>
                  <a:pt x="4558" y="160"/>
                </a:cubicBezTo>
                <a:cubicBezTo>
                  <a:pt x="4563" y="152"/>
                  <a:pt x="4567" y="142"/>
                  <a:pt x="4574" y="136"/>
                </a:cubicBezTo>
                <a:cubicBezTo>
                  <a:pt x="4588" y="123"/>
                  <a:pt x="4622" y="104"/>
                  <a:pt x="4622" y="104"/>
                </a:cubicBezTo>
                <a:cubicBezTo>
                  <a:pt x="4674" y="182"/>
                  <a:pt x="4593" y="61"/>
                  <a:pt x="4662" y="160"/>
                </a:cubicBezTo>
                <a:cubicBezTo>
                  <a:pt x="4673" y="176"/>
                  <a:pt x="4694" y="208"/>
                  <a:pt x="4694" y="208"/>
                </a:cubicBezTo>
                <a:cubicBezTo>
                  <a:pt x="4710" y="290"/>
                  <a:pt x="4686" y="209"/>
                  <a:pt x="4734" y="280"/>
                </a:cubicBezTo>
                <a:cubicBezTo>
                  <a:pt x="4742" y="292"/>
                  <a:pt x="4742" y="308"/>
                  <a:pt x="4750" y="320"/>
                </a:cubicBezTo>
                <a:cubicBezTo>
                  <a:pt x="4766" y="346"/>
                  <a:pt x="4806" y="392"/>
                  <a:pt x="4806" y="392"/>
                </a:cubicBezTo>
                <a:cubicBezTo>
                  <a:pt x="4820" y="447"/>
                  <a:pt x="4855" y="486"/>
                  <a:pt x="4910" y="504"/>
                </a:cubicBezTo>
                <a:cubicBezTo>
                  <a:pt x="4950" y="501"/>
                  <a:pt x="4990" y="502"/>
                  <a:pt x="5030" y="496"/>
                </a:cubicBezTo>
                <a:cubicBezTo>
                  <a:pt x="5072" y="490"/>
                  <a:pt x="5110" y="461"/>
                  <a:pt x="5150" y="448"/>
                </a:cubicBezTo>
                <a:cubicBezTo>
                  <a:pt x="5193" y="434"/>
                  <a:pt x="5235" y="427"/>
                  <a:pt x="5278" y="416"/>
                </a:cubicBezTo>
                <a:cubicBezTo>
                  <a:pt x="5333" y="401"/>
                  <a:pt x="5369" y="378"/>
                  <a:pt x="5422" y="360"/>
                </a:cubicBezTo>
                <a:cubicBezTo>
                  <a:pt x="5458" y="333"/>
                  <a:pt x="5482" y="329"/>
                  <a:pt x="5526" y="320"/>
                </a:cubicBezTo>
                <a:cubicBezTo>
                  <a:pt x="5528" y="319"/>
                  <a:pt x="5566" y="290"/>
                  <a:pt x="5574" y="296"/>
                </a:cubicBezTo>
                <a:cubicBezTo>
                  <a:pt x="5583" y="303"/>
                  <a:pt x="5580" y="317"/>
                  <a:pt x="5582" y="328"/>
                </a:cubicBezTo>
                <a:cubicBezTo>
                  <a:pt x="5588" y="355"/>
                  <a:pt x="5594" y="381"/>
                  <a:pt x="5598" y="408"/>
                </a:cubicBezTo>
                <a:cubicBezTo>
                  <a:pt x="5602" y="435"/>
                  <a:pt x="5598" y="462"/>
                  <a:pt x="5606" y="488"/>
                </a:cubicBezTo>
                <a:cubicBezTo>
                  <a:pt x="5612" y="508"/>
                  <a:pt x="5637" y="517"/>
                  <a:pt x="5646" y="536"/>
                </a:cubicBezTo>
                <a:cubicBezTo>
                  <a:pt x="5665" y="575"/>
                  <a:pt x="5666" y="632"/>
                  <a:pt x="5670" y="672"/>
                </a:cubicBezTo>
                <a:cubicBezTo>
                  <a:pt x="5656" y="727"/>
                  <a:pt x="5607" y="719"/>
                  <a:pt x="5550" y="720"/>
                </a:cubicBezTo>
                <a:cubicBezTo>
                  <a:pt x="5353" y="725"/>
                  <a:pt x="5155" y="725"/>
                  <a:pt x="4958" y="728"/>
                </a:cubicBezTo>
                <a:cubicBezTo>
                  <a:pt x="4526" y="790"/>
                  <a:pt x="5201" y="741"/>
                  <a:pt x="3854" y="752"/>
                </a:cubicBezTo>
                <a:cubicBezTo>
                  <a:pt x="3779" y="764"/>
                  <a:pt x="3727" y="771"/>
                  <a:pt x="3646" y="776"/>
                </a:cubicBezTo>
                <a:cubicBezTo>
                  <a:pt x="3032" y="761"/>
                  <a:pt x="2420" y="743"/>
                  <a:pt x="1806" y="752"/>
                </a:cubicBezTo>
                <a:cubicBezTo>
                  <a:pt x="1610" y="741"/>
                  <a:pt x="1431" y="713"/>
                  <a:pt x="1238" y="696"/>
                </a:cubicBezTo>
                <a:cubicBezTo>
                  <a:pt x="963" y="672"/>
                  <a:pt x="827" y="674"/>
                  <a:pt x="510" y="664"/>
                </a:cubicBezTo>
                <a:cubicBezTo>
                  <a:pt x="489" y="659"/>
                  <a:pt x="468" y="652"/>
                  <a:pt x="446" y="648"/>
                </a:cubicBezTo>
                <a:cubicBezTo>
                  <a:pt x="414" y="642"/>
                  <a:pt x="350" y="632"/>
                  <a:pt x="350" y="632"/>
                </a:cubicBezTo>
                <a:cubicBezTo>
                  <a:pt x="283" y="598"/>
                  <a:pt x="359" y="632"/>
                  <a:pt x="262" y="608"/>
                </a:cubicBezTo>
                <a:cubicBezTo>
                  <a:pt x="179" y="587"/>
                  <a:pt x="91" y="550"/>
                  <a:pt x="14" y="512"/>
                </a:cubicBezTo>
                <a:cubicBezTo>
                  <a:pt x="2" y="477"/>
                  <a:pt x="0" y="494"/>
                  <a:pt x="30" y="4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"/>
          <p:cNvSpPr/>
          <p:nvPr/>
        </p:nvSpPr>
        <p:spPr>
          <a:xfrm>
            <a:off x="503280" y="765000"/>
            <a:ext cx="936720" cy="490680"/>
          </a:xfrm>
          <a:custGeom>
            <a:avLst/>
            <a:gdLst>
              <a:gd name="textAreaLeft" fmla="*/ 128880 w 936720"/>
              <a:gd name="textAreaRight" fmla="*/ 741240 w 936720"/>
              <a:gd name="textAreaTop" fmla="*/ 73800 h 490680"/>
              <a:gd name="textAreaBottom" fmla="*/ 393840 h 4906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4"/>
          <p:cNvSpPr/>
          <p:nvPr/>
        </p:nvSpPr>
        <p:spPr>
          <a:xfrm>
            <a:off x="-73080" y="5877000"/>
            <a:ext cx="9325080" cy="1081080"/>
          </a:xfrm>
          <a:custGeom>
            <a:avLst/>
            <a:gdLst/>
            <a:ahLst/>
            <a:rect l="l" t="t" r="r" b="b"/>
            <a:pathLst>
              <a:path w="5827" h="1416">
                <a:moveTo>
                  <a:pt x="56" y="408"/>
                </a:moveTo>
                <a:cubicBezTo>
                  <a:pt x="160" y="477"/>
                  <a:pt x="85" y="441"/>
                  <a:pt x="304" y="432"/>
                </a:cubicBezTo>
                <a:cubicBezTo>
                  <a:pt x="331" y="423"/>
                  <a:pt x="336" y="424"/>
                  <a:pt x="360" y="400"/>
                </a:cubicBezTo>
                <a:cubicBezTo>
                  <a:pt x="367" y="393"/>
                  <a:pt x="368" y="381"/>
                  <a:pt x="376" y="376"/>
                </a:cubicBezTo>
                <a:cubicBezTo>
                  <a:pt x="390" y="367"/>
                  <a:pt x="408" y="365"/>
                  <a:pt x="424" y="360"/>
                </a:cubicBezTo>
                <a:cubicBezTo>
                  <a:pt x="444" y="353"/>
                  <a:pt x="462" y="340"/>
                  <a:pt x="480" y="328"/>
                </a:cubicBezTo>
                <a:cubicBezTo>
                  <a:pt x="498" y="300"/>
                  <a:pt x="516" y="282"/>
                  <a:pt x="544" y="264"/>
                </a:cubicBezTo>
                <a:cubicBezTo>
                  <a:pt x="547" y="256"/>
                  <a:pt x="546" y="246"/>
                  <a:pt x="552" y="240"/>
                </a:cubicBezTo>
                <a:cubicBezTo>
                  <a:pt x="558" y="234"/>
                  <a:pt x="569" y="237"/>
                  <a:pt x="576" y="232"/>
                </a:cubicBezTo>
                <a:cubicBezTo>
                  <a:pt x="596" y="218"/>
                  <a:pt x="615" y="201"/>
                  <a:pt x="632" y="184"/>
                </a:cubicBezTo>
                <a:cubicBezTo>
                  <a:pt x="639" y="177"/>
                  <a:pt x="641" y="166"/>
                  <a:pt x="648" y="160"/>
                </a:cubicBezTo>
                <a:cubicBezTo>
                  <a:pt x="657" y="152"/>
                  <a:pt x="670" y="150"/>
                  <a:pt x="680" y="144"/>
                </a:cubicBezTo>
                <a:cubicBezTo>
                  <a:pt x="688" y="139"/>
                  <a:pt x="697" y="134"/>
                  <a:pt x="704" y="128"/>
                </a:cubicBezTo>
                <a:cubicBezTo>
                  <a:pt x="786" y="55"/>
                  <a:pt x="722" y="100"/>
                  <a:pt x="776" y="64"/>
                </a:cubicBezTo>
                <a:cubicBezTo>
                  <a:pt x="797" y="128"/>
                  <a:pt x="785" y="84"/>
                  <a:pt x="792" y="216"/>
                </a:cubicBezTo>
                <a:cubicBezTo>
                  <a:pt x="795" y="272"/>
                  <a:pt x="795" y="328"/>
                  <a:pt x="800" y="384"/>
                </a:cubicBezTo>
                <a:cubicBezTo>
                  <a:pt x="803" y="424"/>
                  <a:pt x="835" y="438"/>
                  <a:pt x="864" y="456"/>
                </a:cubicBezTo>
                <a:cubicBezTo>
                  <a:pt x="864" y="456"/>
                  <a:pt x="913" y="494"/>
                  <a:pt x="920" y="496"/>
                </a:cubicBezTo>
                <a:cubicBezTo>
                  <a:pt x="946" y="504"/>
                  <a:pt x="974" y="503"/>
                  <a:pt x="1000" y="512"/>
                </a:cubicBezTo>
                <a:cubicBezTo>
                  <a:pt x="1008" y="515"/>
                  <a:pt x="1016" y="517"/>
                  <a:pt x="1024" y="520"/>
                </a:cubicBezTo>
                <a:cubicBezTo>
                  <a:pt x="1088" y="517"/>
                  <a:pt x="1152" y="519"/>
                  <a:pt x="1216" y="512"/>
                </a:cubicBezTo>
                <a:cubicBezTo>
                  <a:pt x="1234" y="510"/>
                  <a:pt x="1271" y="481"/>
                  <a:pt x="1288" y="472"/>
                </a:cubicBezTo>
                <a:cubicBezTo>
                  <a:pt x="1398" y="417"/>
                  <a:pt x="1249" y="503"/>
                  <a:pt x="1376" y="432"/>
                </a:cubicBezTo>
                <a:cubicBezTo>
                  <a:pt x="1405" y="416"/>
                  <a:pt x="1424" y="395"/>
                  <a:pt x="1456" y="384"/>
                </a:cubicBezTo>
                <a:cubicBezTo>
                  <a:pt x="1486" y="361"/>
                  <a:pt x="1508" y="332"/>
                  <a:pt x="1544" y="320"/>
                </a:cubicBezTo>
                <a:cubicBezTo>
                  <a:pt x="1564" y="290"/>
                  <a:pt x="1589" y="278"/>
                  <a:pt x="1616" y="256"/>
                </a:cubicBezTo>
                <a:cubicBezTo>
                  <a:pt x="1673" y="209"/>
                  <a:pt x="1731" y="169"/>
                  <a:pt x="1792" y="128"/>
                </a:cubicBezTo>
                <a:cubicBezTo>
                  <a:pt x="1856" y="85"/>
                  <a:pt x="1858" y="78"/>
                  <a:pt x="1912" y="24"/>
                </a:cubicBezTo>
                <a:cubicBezTo>
                  <a:pt x="1920" y="16"/>
                  <a:pt x="1936" y="0"/>
                  <a:pt x="1936" y="0"/>
                </a:cubicBezTo>
                <a:cubicBezTo>
                  <a:pt x="1939" y="109"/>
                  <a:pt x="1938" y="219"/>
                  <a:pt x="1944" y="328"/>
                </a:cubicBezTo>
                <a:cubicBezTo>
                  <a:pt x="1946" y="355"/>
                  <a:pt x="1945" y="385"/>
                  <a:pt x="1960" y="408"/>
                </a:cubicBezTo>
                <a:cubicBezTo>
                  <a:pt x="2048" y="540"/>
                  <a:pt x="2152" y="704"/>
                  <a:pt x="2320" y="728"/>
                </a:cubicBezTo>
                <a:cubicBezTo>
                  <a:pt x="2408" y="725"/>
                  <a:pt x="2496" y="727"/>
                  <a:pt x="2584" y="720"/>
                </a:cubicBezTo>
                <a:cubicBezTo>
                  <a:pt x="2594" y="719"/>
                  <a:pt x="2600" y="710"/>
                  <a:pt x="2608" y="704"/>
                </a:cubicBezTo>
                <a:cubicBezTo>
                  <a:pt x="2640" y="680"/>
                  <a:pt x="2682" y="665"/>
                  <a:pt x="2704" y="632"/>
                </a:cubicBezTo>
                <a:cubicBezTo>
                  <a:pt x="2716" y="614"/>
                  <a:pt x="2722" y="593"/>
                  <a:pt x="2736" y="576"/>
                </a:cubicBezTo>
                <a:cubicBezTo>
                  <a:pt x="2765" y="542"/>
                  <a:pt x="2812" y="517"/>
                  <a:pt x="2840" y="480"/>
                </a:cubicBezTo>
                <a:cubicBezTo>
                  <a:pt x="2890" y="414"/>
                  <a:pt x="2934" y="346"/>
                  <a:pt x="2992" y="288"/>
                </a:cubicBezTo>
                <a:cubicBezTo>
                  <a:pt x="3012" y="228"/>
                  <a:pt x="2983" y="300"/>
                  <a:pt x="3024" y="248"/>
                </a:cubicBezTo>
                <a:cubicBezTo>
                  <a:pt x="3035" y="234"/>
                  <a:pt x="3038" y="215"/>
                  <a:pt x="3048" y="200"/>
                </a:cubicBezTo>
                <a:cubicBezTo>
                  <a:pt x="3146" y="220"/>
                  <a:pt x="3053" y="189"/>
                  <a:pt x="3096" y="232"/>
                </a:cubicBezTo>
                <a:cubicBezTo>
                  <a:pt x="3114" y="250"/>
                  <a:pt x="3141" y="256"/>
                  <a:pt x="3160" y="272"/>
                </a:cubicBezTo>
                <a:cubicBezTo>
                  <a:pt x="3176" y="286"/>
                  <a:pt x="3181" y="311"/>
                  <a:pt x="3200" y="320"/>
                </a:cubicBezTo>
                <a:cubicBezTo>
                  <a:pt x="3220" y="330"/>
                  <a:pt x="3264" y="336"/>
                  <a:pt x="3264" y="336"/>
                </a:cubicBezTo>
                <a:cubicBezTo>
                  <a:pt x="3317" y="371"/>
                  <a:pt x="3349" y="370"/>
                  <a:pt x="3416" y="376"/>
                </a:cubicBezTo>
                <a:cubicBezTo>
                  <a:pt x="3459" y="373"/>
                  <a:pt x="3502" y="375"/>
                  <a:pt x="3544" y="368"/>
                </a:cubicBezTo>
                <a:cubicBezTo>
                  <a:pt x="3553" y="367"/>
                  <a:pt x="3559" y="356"/>
                  <a:pt x="3568" y="352"/>
                </a:cubicBezTo>
                <a:cubicBezTo>
                  <a:pt x="3603" y="334"/>
                  <a:pt x="3611" y="335"/>
                  <a:pt x="3648" y="328"/>
                </a:cubicBezTo>
                <a:cubicBezTo>
                  <a:pt x="3691" y="299"/>
                  <a:pt x="3725" y="261"/>
                  <a:pt x="3768" y="232"/>
                </a:cubicBezTo>
                <a:cubicBezTo>
                  <a:pt x="3777" y="206"/>
                  <a:pt x="3791" y="186"/>
                  <a:pt x="3800" y="160"/>
                </a:cubicBezTo>
                <a:cubicBezTo>
                  <a:pt x="3842" y="202"/>
                  <a:pt x="3872" y="270"/>
                  <a:pt x="3920" y="304"/>
                </a:cubicBezTo>
                <a:cubicBezTo>
                  <a:pt x="3946" y="322"/>
                  <a:pt x="3976" y="332"/>
                  <a:pt x="4000" y="352"/>
                </a:cubicBezTo>
                <a:cubicBezTo>
                  <a:pt x="4054" y="397"/>
                  <a:pt x="4028" y="385"/>
                  <a:pt x="4072" y="400"/>
                </a:cubicBezTo>
                <a:cubicBezTo>
                  <a:pt x="4179" y="385"/>
                  <a:pt x="4278" y="378"/>
                  <a:pt x="4376" y="336"/>
                </a:cubicBezTo>
                <a:cubicBezTo>
                  <a:pt x="4430" y="313"/>
                  <a:pt x="4463" y="281"/>
                  <a:pt x="4504" y="240"/>
                </a:cubicBezTo>
                <a:cubicBezTo>
                  <a:pt x="4512" y="232"/>
                  <a:pt x="4526" y="230"/>
                  <a:pt x="4536" y="224"/>
                </a:cubicBezTo>
                <a:cubicBezTo>
                  <a:pt x="4568" y="206"/>
                  <a:pt x="4594" y="180"/>
                  <a:pt x="4624" y="160"/>
                </a:cubicBezTo>
                <a:cubicBezTo>
                  <a:pt x="4701" y="276"/>
                  <a:pt x="4718" y="406"/>
                  <a:pt x="4864" y="464"/>
                </a:cubicBezTo>
                <a:cubicBezTo>
                  <a:pt x="4903" y="503"/>
                  <a:pt x="4940" y="499"/>
                  <a:pt x="4992" y="512"/>
                </a:cubicBezTo>
                <a:cubicBezTo>
                  <a:pt x="5109" y="541"/>
                  <a:pt x="4966" y="517"/>
                  <a:pt x="5096" y="536"/>
                </a:cubicBezTo>
                <a:cubicBezTo>
                  <a:pt x="5189" y="528"/>
                  <a:pt x="5284" y="528"/>
                  <a:pt x="5376" y="512"/>
                </a:cubicBezTo>
                <a:cubicBezTo>
                  <a:pt x="5395" y="509"/>
                  <a:pt x="5424" y="480"/>
                  <a:pt x="5424" y="480"/>
                </a:cubicBezTo>
                <a:cubicBezTo>
                  <a:pt x="5472" y="409"/>
                  <a:pt x="5429" y="462"/>
                  <a:pt x="5448" y="616"/>
                </a:cubicBezTo>
                <a:cubicBezTo>
                  <a:pt x="5449" y="628"/>
                  <a:pt x="5458" y="638"/>
                  <a:pt x="5464" y="648"/>
                </a:cubicBezTo>
                <a:cubicBezTo>
                  <a:pt x="5511" y="724"/>
                  <a:pt x="5550" y="766"/>
                  <a:pt x="5640" y="784"/>
                </a:cubicBezTo>
                <a:cubicBezTo>
                  <a:pt x="5699" y="781"/>
                  <a:pt x="5758" y="768"/>
                  <a:pt x="5816" y="776"/>
                </a:cubicBezTo>
                <a:cubicBezTo>
                  <a:pt x="5827" y="778"/>
                  <a:pt x="5812" y="798"/>
                  <a:pt x="5808" y="808"/>
                </a:cubicBezTo>
                <a:cubicBezTo>
                  <a:pt x="5798" y="835"/>
                  <a:pt x="5784" y="864"/>
                  <a:pt x="5768" y="888"/>
                </a:cubicBezTo>
                <a:cubicBezTo>
                  <a:pt x="5741" y="1021"/>
                  <a:pt x="5816" y="1176"/>
                  <a:pt x="5752" y="1296"/>
                </a:cubicBezTo>
                <a:cubicBezTo>
                  <a:pt x="5722" y="1353"/>
                  <a:pt x="5624" y="1303"/>
                  <a:pt x="5560" y="1304"/>
                </a:cubicBezTo>
                <a:cubicBezTo>
                  <a:pt x="5277" y="1310"/>
                  <a:pt x="4365" y="1318"/>
                  <a:pt x="4144" y="1320"/>
                </a:cubicBezTo>
                <a:cubicBezTo>
                  <a:pt x="3379" y="1416"/>
                  <a:pt x="2603" y="1323"/>
                  <a:pt x="1832" y="1312"/>
                </a:cubicBezTo>
                <a:cubicBezTo>
                  <a:pt x="1794" y="1311"/>
                  <a:pt x="1758" y="1293"/>
                  <a:pt x="1720" y="1288"/>
                </a:cubicBezTo>
                <a:cubicBezTo>
                  <a:pt x="1677" y="1282"/>
                  <a:pt x="1592" y="1272"/>
                  <a:pt x="1592" y="1272"/>
                </a:cubicBezTo>
                <a:cubicBezTo>
                  <a:pt x="1508" y="1244"/>
                  <a:pt x="1420" y="1228"/>
                  <a:pt x="1336" y="1200"/>
                </a:cubicBezTo>
                <a:cubicBezTo>
                  <a:pt x="1240" y="1203"/>
                  <a:pt x="1144" y="1203"/>
                  <a:pt x="1048" y="1208"/>
                </a:cubicBezTo>
                <a:cubicBezTo>
                  <a:pt x="934" y="1214"/>
                  <a:pt x="819" y="1246"/>
                  <a:pt x="704" y="1256"/>
                </a:cubicBezTo>
                <a:cubicBezTo>
                  <a:pt x="520" y="1302"/>
                  <a:pt x="319" y="1267"/>
                  <a:pt x="136" y="1264"/>
                </a:cubicBezTo>
                <a:cubicBezTo>
                  <a:pt x="91" y="1151"/>
                  <a:pt x="80" y="1030"/>
                  <a:pt x="56" y="912"/>
                </a:cubicBezTo>
                <a:cubicBezTo>
                  <a:pt x="43" y="847"/>
                  <a:pt x="21" y="790"/>
                  <a:pt x="0" y="728"/>
                </a:cubicBezTo>
                <a:cubicBezTo>
                  <a:pt x="3" y="653"/>
                  <a:pt x="1" y="578"/>
                  <a:pt x="8" y="504"/>
                </a:cubicBezTo>
                <a:cubicBezTo>
                  <a:pt x="12" y="460"/>
                  <a:pt x="33" y="498"/>
                  <a:pt x="48" y="464"/>
                </a:cubicBezTo>
                <a:cubicBezTo>
                  <a:pt x="56" y="447"/>
                  <a:pt x="53" y="427"/>
                  <a:pt x="56" y="40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Ю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/>
          <p:cNvSpPr/>
          <p:nvPr/>
        </p:nvSpPr>
        <p:spPr>
          <a:xfrm>
            <a:off x="8244000" y="260280"/>
            <a:ext cx="504720" cy="504720"/>
          </a:xfrm>
          <a:prstGeom prst="ellipse">
            <a:avLst/>
          </a:prstGeom>
          <a:solidFill>
            <a:srgbClr val="fee950"/>
          </a:solidFill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 rot="16936800">
            <a:off x="7715160" y="69840"/>
            <a:ext cx="193680" cy="720720"/>
          </a:xfrm>
          <a:custGeom>
            <a:avLst/>
            <a:gdLst>
              <a:gd name="textAreaLeft" fmla="*/ 40320 w 193680"/>
              <a:gd name="textAreaRight" fmla="*/ 153360 w 193680"/>
              <a:gd name="textAreaTop" fmla="*/ 150120 h 720720"/>
              <a:gd name="textAreaBottom" fmla="*/ 5706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ee950"/>
          </a:solidFill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4778000">
            <a:off x="7716600" y="436320"/>
            <a:ext cx="216000" cy="720720"/>
          </a:xfrm>
          <a:custGeom>
            <a:avLst/>
            <a:gdLst>
              <a:gd name="textAreaLeft" fmla="*/ 45000 w 216000"/>
              <a:gd name="textAreaRight" fmla="*/ 171000 w 216000"/>
              <a:gd name="textAreaTop" fmla="*/ 150120 h 720720"/>
              <a:gd name="textAreaBottom" fmla="*/ 5706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ee950"/>
          </a:solidFill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 rot="13360800">
            <a:off x="7945200" y="715680"/>
            <a:ext cx="214200" cy="720720"/>
          </a:xfrm>
          <a:custGeom>
            <a:avLst/>
            <a:gdLst>
              <a:gd name="textAreaLeft" fmla="*/ 44640 w 214200"/>
              <a:gd name="textAreaRight" fmla="*/ 169560 w 214200"/>
              <a:gd name="textAreaTop" fmla="*/ 150120 h 720720"/>
              <a:gd name="textAreaBottom" fmla="*/ 5706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ee950"/>
          </a:solidFill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 rot="11122800">
            <a:off x="8316720" y="907920"/>
            <a:ext cx="215640" cy="720720"/>
          </a:xfrm>
          <a:custGeom>
            <a:avLst/>
            <a:gdLst>
              <a:gd name="textAreaLeft" fmla="*/ 45000 w 215640"/>
              <a:gd name="textAreaRight" fmla="*/ 171000 w 215640"/>
              <a:gd name="textAreaTop" fmla="*/ 150120 h 720720"/>
              <a:gd name="textAreaBottom" fmla="*/ 5706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ee950"/>
          </a:solidFill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 rot="9272400">
            <a:off x="8748000" y="836640"/>
            <a:ext cx="214200" cy="720720"/>
          </a:xfrm>
          <a:custGeom>
            <a:avLst/>
            <a:gdLst>
              <a:gd name="textAreaLeft" fmla="*/ 44640 w 214200"/>
              <a:gd name="textAreaRight" fmla="*/ 169560 w 214200"/>
              <a:gd name="textAreaTop" fmla="*/ 150120 h 720720"/>
              <a:gd name="textAreaBottom" fmla="*/ 5706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ee950"/>
          </a:solidFill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287280" y="3284280"/>
            <a:ext cx="2232000" cy="3263760"/>
            <a:chOff x="287280" y="3284280"/>
            <a:chExt cx="2232000" cy="3263760"/>
          </a:xfrm>
        </p:grpSpPr>
        <p:sp>
          <p:nvSpPr>
            <p:cNvPr id="85" name="AutoShape 13"/>
            <p:cNvSpPr/>
            <p:nvPr/>
          </p:nvSpPr>
          <p:spPr>
            <a:xfrm>
              <a:off x="287280" y="6202080"/>
              <a:ext cx="2232000" cy="345960"/>
            </a:xfrm>
            <a:custGeom>
              <a:avLst/>
              <a:gdLst>
                <a:gd name="textAreaLeft" fmla="*/ 465120 w 2232000"/>
                <a:gd name="textAreaRight" fmla="*/ 1766880 w 2232000"/>
                <a:gd name="textAreaTop" fmla="*/ 71280 h 345960"/>
                <a:gd name="textAreaBottom" fmla="*/ 27468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4"/>
            <p:cNvSpPr/>
            <p:nvPr/>
          </p:nvSpPr>
          <p:spPr>
            <a:xfrm rot="824400">
              <a:off x="862920" y="3357360"/>
              <a:ext cx="951120" cy="2768400"/>
            </a:xfrm>
            <a:prstGeom prst="rtTriangle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1878000"/>
            </a:gra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5"/>
          <p:cNvSpPr/>
          <p:nvPr/>
        </p:nvSpPr>
        <p:spPr>
          <a:xfrm>
            <a:off x="250920" y="1521000"/>
            <a:ext cx="84978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сле окончания гимназии Б. Житков поступил на естественное отделение Новороссийского университ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кончил университет в 190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лавал матросом и штурманом на парусниках по Черному, Средиземному и Красному морям, участвовал в экспедиции по Енисею, успев закончить мореходное училище и получить звание штурмана дальнего пла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1911-16 г. учился в Петербургском политехническом институте на кораблестроительном отделен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7559640" y="1305000"/>
            <a:ext cx="1332000" cy="698400"/>
          </a:xfrm>
          <a:custGeom>
            <a:avLst/>
            <a:gdLst>
              <a:gd name="textAreaLeft" fmla="*/ 183600 w 1332000"/>
              <a:gd name="textAreaRight" fmla="*/ 1053720 w 1332000"/>
              <a:gd name="textAreaTop" fmla="*/ 105480 h 698400"/>
              <a:gd name="textAreaBottom" fmla="*/ 560520 h 6984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179280" y="152280"/>
            <a:ext cx="8785440" cy="6553440"/>
          </a:xfrm>
          <a:prstGeom prst="rect">
            <a:avLst/>
          </a:prstGeom>
          <a:noFill/>
          <a:ln w="1015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7847 L 0.1151 0.06829 L 0.11736 0.11204 L 0.22691 0.10209 L 0.22917 0.14699 L 0.33854 0.13704 L 0.34097 0.18195 L 0.45087 0.17176 L 0.4533 0.2169 L 0.56163 0.20695 L 0.56441 0.25324 L 0.67448 0.24167 L 0.67639 0.28727 L 0.78663 0.27709 L 0.78924 0.32269 E">
                                      <p:cBhvr>
                                        <p:cTn id="30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208 -0.13287 L -0.68403 -0.14815 L -0.68212 -0.12245 L -0.56337 -0.13773 L -0.56146 -0.11134 L -0.44236 -0.12685 L -0.44028 -0.1 L -0.32205 -0.11551 L -0.32014 -0.08889 L -0.20156 -0.1044 L -0.19931 -0.07755 L -0.08073 -0.09282 L -0.07882 -0.0662 L 0.03976 -0.08171 L 0.04236 -0.05486 E">
                                      <p:cBhvr>
                                        <p:cTn id="33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C 1.66667E-006 -0.01621 0.01406 -0.02848 0.03125 -0.02848 C 0.04913 -0.02848 0.06319 -0.01621 0.06319 4.81481E-006 C 0.06319 0.01597 0.07726 0.02847 0.09514 0.02847 C 0.1125 0.02847 0.12691 0.01597 0.12691 4.81481E-006 E">
                                      <p:cBhvr>
                                        <p:cTn id="36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91 -4.81481E-006 C 0.12691 -0.01527 0.13993 -0.02685 0.1559 -0.02685 C 0.17257 -0.02685 0.18559 -0.01527 0.18559 -4.81481E-006 C 0.18559 0.01528 0.19878 0.02709 0.21528 0.02709 C 0.23125 0.02709 0.24479 0.01528 0.24479 -4.81481E-006 E">
                                      <p:cBhvr>
                                        <p:cTn id="39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479 -3.7037E-007 C 0.24479 -0.01806 0.25886 -0.03148 0.27604 -0.03148 C 0.29392 -0.03148 0.30799 -0.01806 0.30799 -3.7037E-007 C 0.30799 0.01759 0.32205 0.03148 0.33993 0.03148 C 0.35729 0.03148 0.3717 0.01759 0.3717 -3.7037E-007 E">
                                      <p:cBhvr>
                                        <p:cTn id="42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17 -3.7037E-007 C 0.3717 -0.01806 0.38472 -0.03148 0.40069 -0.03148 C 0.41753 -0.03148 0.43055 -0.01806 0.43055 -3.7037E-007 C 0.43055 0.01782 0.44392 0.03194 0.46076 0.03194 C 0.47673 0.03194 0.49028 0.01782 0.49028 -3.7037E-007 E">
                                      <p:cBhvr>
                                        <p:cTn id="45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028 -3.7037E-007 C 0.49028 -0.01806 0.5033 -0.03148 0.51927 -0.03148 C 0.53611 -0.03148 0.54913 -0.01806 0.54913 -3.7037E-007 C 0.54913 0.01782 0.56232 0.03194 0.57917 0.03194 C 0.59514 0.03194 0.60868 0.01782 0.60868 -3.7037E-007 E">
                                      <p:cBhvr>
                                        <p:cTn id="48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50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868 -3.7037E-007 C 0.60868 -0.01806 0.62101 -0.03148 0.63663 -0.03148 C 0.6526 -0.03148 0.66545 -0.01806 0.66545 -3.7037E-007 C 0.66545 0.01782 0.67847 0.03194 0.69444 0.03194 C 0.70989 0.03194 0.72292 0.01782 0.72292 -3.7037E-007 E">
                                      <p:cBhvr>
                                        <p:cTn id="51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рофесс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31640" y="2637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н поменял множество профессий: ихтиолог, штурман парусника, рабочий-металлист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морской офицер и инженер, капитан научно-исследовательского судна, преподаватель физики и черчения, руководитель технического училищ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223759"/>
          <p:cNvPicPr/>
          <p:nvPr/>
        </p:nvPicPr>
        <p:blipFill>
          <a:blip r:embed="rId1"/>
          <a:stretch/>
        </p:blipFill>
        <p:spPr>
          <a:xfrm>
            <a:off x="7201080" y="549360"/>
            <a:ext cx="1247760" cy="1171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23787"/>
          <p:cNvPicPr/>
          <p:nvPr/>
        </p:nvPicPr>
        <p:blipFill>
          <a:blip r:embed="rId2"/>
          <a:stretch/>
        </p:blipFill>
        <p:spPr>
          <a:xfrm>
            <a:off x="647640" y="657360"/>
            <a:ext cx="1190520" cy="65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54462"/>
          <p:cNvPicPr/>
          <p:nvPr/>
        </p:nvPicPr>
        <p:blipFill>
          <a:blip r:embed="rId3"/>
          <a:stretch/>
        </p:blipFill>
        <p:spPr>
          <a:xfrm>
            <a:off x="4788000" y="5121360"/>
            <a:ext cx="1511280" cy="128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336922"/>
          <p:cNvPicPr/>
          <p:nvPr/>
        </p:nvPicPr>
        <p:blipFill>
          <a:blip r:embed="rId4"/>
          <a:stretch/>
        </p:blipFill>
        <p:spPr>
          <a:xfrm>
            <a:off x="611280" y="5373720"/>
            <a:ext cx="1728720" cy="91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199361"/>
          <p:cNvPicPr/>
          <p:nvPr/>
        </p:nvPicPr>
        <p:blipFill>
          <a:blip r:embed="rId5"/>
          <a:stretch/>
        </p:blipFill>
        <p:spPr>
          <a:xfrm>
            <a:off x="6659640" y="5192640"/>
            <a:ext cx="476280" cy="105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13532"/>
          <p:cNvPicPr/>
          <p:nvPr/>
        </p:nvPicPr>
        <p:blipFill>
          <a:blip r:embed="rId6"/>
          <a:stretch/>
        </p:blipFill>
        <p:spPr>
          <a:xfrm>
            <a:off x="7524720" y="5121360"/>
            <a:ext cx="1257480" cy="1190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336920"/>
          <p:cNvPicPr/>
          <p:nvPr/>
        </p:nvPicPr>
        <p:blipFill>
          <a:blip r:embed="rId7"/>
          <a:stretch/>
        </p:blipFill>
        <p:spPr>
          <a:xfrm>
            <a:off x="7740720" y="2060640"/>
            <a:ext cx="1028520" cy="71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282885"/>
          <p:cNvPicPr/>
          <p:nvPr/>
        </p:nvPicPr>
        <p:blipFill>
          <a:blip r:embed="rId8"/>
          <a:stretch/>
        </p:blipFill>
        <p:spPr>
          <a:xfrm>
            <a:off x="3132000" y="5337000"/>
            <a:ext cx="108108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431640" y="170028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179280" y="152280"/>
            <a:ext cx="8785440" cy="6553440"/>
          </a:xfrm>
          <a:prstGeom prst="rect">
            <a:avLst/>
          </a:prstGeom>
          <a:noFill/>
          <a:ln w="1015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Литератур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68360" y="1665360"/>
            <a:ext cx="828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ереехав в Петроград, занялся литературной деятельность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 1924г. он печатался в сборнике рассказов «Злое море», сотрудничал также в журнале «Воробей», в сборниках «Советские ребят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ыл членом Союза Пис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76360" y="4689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ские пов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j0283705"/>
          <p:cNvPicPr/>
          <p:nvPr/>
        </p:nvPicPr>
        <p:blipFill>
          <a:blip r:embed="rId1"/>
          <a:stretch/>
        </p:blipFill>
        <p:spPr>
          <a:xfrm>
            <a:off x="1187280" y="5337000"/>
            <a:ext cx="562320" cy="64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j0254432"/>
          <p:cNvPicPr/>
          <p:nvPr/>
        </p:nvPicPr>
        <p:blipFill>
          <a:blip r:embed="rId2"/>
          <a:stretch/>
        </p:blipFill>
        <p:spPr>
          <a:xfrm>
            <a:off x="826920" y="3645000"/>
            <a:ext cx="1224000" cy="1096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2556000" y="3789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очные пове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j0232332"/>
          <p:cNvPicPr/>
          <p:nvPr/>
        </p:nvPicPr>
        <p:blipFill>
          <a:blip r:embed="rId3"/>
          <a:stretch/>
        </p:blipFill>
        <p:spPr>
          <a:xfrm>
            <a:off x="2843280" y="4437000"/>
            <a:ext cx="1314360" cy="1465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4464000" y="5265720"/>
            <a:ext cx="20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-художественные кни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346763"/>
          <p:cNvPicPr/>
          <p:nvPr/>
        </p:nvPicPr>
        <p:blipFill>
          <a:blip r:embed="rId4"/>
          <a:stretch/>
        </p:blipFill>
        <p:spPr>
          <a:xfrm>
            <a:off x="4643280" y="3429000"/>
            <a:ext cx="1548000" cy="180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j0343297"/>
          <p:cNvPicPr/>
          <p:nvPr/>
        </p:nvPicPr>
        <p:blipFill>
          <a:blip r:embed="rId5"/>
          <a:stretch/>
        </p:blipFill>
        <p:spPr>
          <a:xfrm>
            <a:off x="6840360" y="4724280"/>
            <a:ext cx="1608480" cy="1625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6877080" y="38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роизведения для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79280" y="152280"/>
            <a:ext cx="8785440" cy="6553440"/>
          </a:xfrm>
          <a:prstGeom prst="rect">
            <a:avLst/>
          </a:prstGeom>
          <a:noFill/>
          <a:ln w="1015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Книги Бориса Житкова </a:t>
            </a: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в школьной библиот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8"/>
          <p:cNvPicPr/>
          <p:nvPr/>
        </p:nvPicPr>
        <p:blipFill>
          <a:blip r:embed="rId1"/>
          <a:stretch/>
        </p:blipFill>
        <p:spPr>
          <a:xfrm rot="20289000">
            <a:off x="1295280" y="4292280"/>
            <a:ext cx="1511280" cy="20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9"/>
          <p:cNvPicPr/>
          <p:nvPr/>
        </p:nvPicPr>
        <p:blipFill>
          <a:blip r:embed="rId2"/>
          <a:stretch/>
        </p:blipFill>
        <p:spPr>
          <a:xfrm>
            <a:off x="3780000" y="4257720"/>
            <a:ext cx="1503360" cy="2135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6"/>
          <p:cNvPicPr/>
          <p:nvPr/>
        </p:nvPicPr>
        <p:blipFill>
          <a:blip r:embed="rId3"/>
          <a:stretch/>
        </p:blipFill>
        <p:spPr>
          <a:xfrm rot="1672200">
            <a:off x="6119280" y="4365360"/>
            <a:ext cx="1497240" cy="21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7"/>
          <p:cNvPicPr/>
          <p:nvPr/>
        </p:nvPicPr>
        <p:blipFill>
          <a:blip r:embed="rId4"/>
          <a:stretch/>
        </p:blipFill>
        <p:spPr>
          <a:xfrm rot="1392600">
            <a:off x="6659640" y="1665360"/>
            <a:ext cx="1789200" cy="23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"/>
          <p:cNvPicPr/>
          <p:nvPr/>
        </p:nvPicPr>
        <p:blipFill>
          <a:blip r:embed="rId5"/>
          <a:stretch/>
        </p:blipFill>
        <p:spPr>
          <a:xfrm rot="20319000">
            <a:off x="574200" y="1628280"/>
            <a:ext cx="173196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1"/>
          <p:cNvPicPr/>
          <p:nvPr/>
        </p:nvPicPr>
        <p:blipFill>
          <a:blip r:embed="rId6"/>
          <a:stretch/>
        </p:blipFill>
        <p:spPr>
          <a:xfrm>
            <a:off x="2771640" y="1484280"/>
            <a:ext cx="1621080" cy="234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7"/>
          <a:stretch/>
        </p:blipFill>
        <p:spPr>
          <a:xfrm>
            <a:off x="4535640" y="1484280"/>
            <a:ext cx="1558800" cy="2347920"/>
          </a:xfrm>
          <a:prstGeom prst="rect">
            <a:avLst/>
          </a:prstGeom>
          <a:ln w="19080">
            <a:solidFill>
              <a:srgbClr val="dddddd"/>
            </a:solidFill>
            <a:miter/>
          </a:ln>
        </p:spPr>
      </p:pic>
      <p:sp>
        <p:nvSpPr>
          <p:cNvPr id="122" name="Rectangle 10"/>
          <p:cNvSpPr/>
          <p:nvPr/>
        </p:nvSpPr>
        <p:spPr>
          <a:xfrm>
            <a:off x="179280" y="152280"/>
            <a:ext cx="8785440" cy="6553440"/>
          </a:xfrm>
          <a:prstGeom prst="rect">
            <a:avLst/>
          </a:prstGeom>
          <a:noFill/>
          <a:ln w="1015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Книги Бориса Житкова </a:t>
            </a: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в школьной библиот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4"/>
          <p:cNvPicPr/>
          <p:nvPr/>
        </p:nvPicPr>
        <p:blipFill>
          <a:blip r:embed="rId1"/>
          <a:stretch/>
        </p:blipFill>
        <p:spPr>
          <a:xfrm rot="20943600">
            <a:off x="576000" y="2708280"/>
            <a:ext cx="1863720" cy="287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10"/>
          <p:cNvPicPr/>
          <p:nvPr/>
        </p:nvPicPr>
        <p:blipFill>
          <a:blip r:embed="rId2"/>
          <a:stretch/>
        </p:blipFill>
        <p:spPr>
          <a:xfrm rot="21169200">
            <a:off x="2518920" y="2023920"/>
            <a:ext cx="1874880" cy="287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3"/>
          <p:cNvPicPr/>
          <p:nvPr/>
        </p:nvPicPr>
        <p:blipFill>
          <a:blip r:embed="rId3"/>
          <a:stretch/>
        </p:blipFill>
        <p:spPr>
          <a:xfrm rot="415800">
            <a:off x="4716360" y="1989000"/>
            <a:ext cx="1882800" cy="2880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5"/>
          <p:cNvPicPr/>
          <p:nvPr/>
        </p:nvPicPr>
        <p:blipFill>
          <a:blip r:embed="rId4"/>
          <a:stretch/>
        </p:blipFill>
        <p:spPr>
          <a:xfrm rot="635400">
            <a:off x="6696000" y="2707920"/>
            <a:ext cx="1882800" cy="28764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179280" y="152280"/>
            <a:ext cx="8785440" cy="6553440"/>
          </a:xfrm>
          <a:prstGeom prst="rect">
            <a:avLst/>
          </a:prstGeom>
          <a:noFill/>
          <a:ln w="1015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1:16:52Z</dcterms:created>
  <dc:creator>Administrator</dc:creator>
  <dc:description/>
  <dc:language>en-US</dc:language>
  <cp:lastModifiedBy>User</cp:lastModifiedBy>
  <dcterms:modified xsi:type="dcterms:W3CDTF">2017-12-23T16:58:38Z</dcterms:modified>
  <cp:revision>15</cp:revision>
  <dc:subject/>
  <dc:title>Житков  Борис Степанович</dc:title>
</cp:coreProperties>
</file>