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3AA0-83DA-4397-B717-0FF3002A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77880" y="1387800"/>
            <a:ext cx="9036000" cy="17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4F3A-C640-4989-857C-E0E41793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77880" y="1387800"/>
            <a:ext cx="9036000" cy="17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8DC-19A4-4B25-BAF9-755E550C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77880" y="1387800"/>
            <a:ext cx="9036000" cy="17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E9B-AB3C-46F8-824C-2DB63C95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C59E-DD54-4C15-AC76-55C2206C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77880" y="1387800"/>
            <a:ext cx="9036000" cy="17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698B-D7F9-47DC-8CBB-F0123D18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77880" y="1387800"/>
            <a:ext cx="9036000" cy="17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A679-D6B9-40DA-B1C7-7249B5B5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77880" y="1387800"/>
            <a:ext cx="9036000" cy="17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72E8-79CF-4D04-8968-C0BCD9E5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77880" y="1387800"/>
            <a:ext cx="9036000" cy="17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224C-3CC6-45BB-B49C-9F24D46E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577880" y="1387800"/>
            <a:ext cx="9036000" cy="80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4136-A7C5-4530-97C8-3D5F4E38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77880" y="1387800"/>
            <a:ext cx="9036000" cy="17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1023-6828-485F-9933-A5FB5BC1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77880" y="1387800"/>
            <a:ext cx="9036000" cy="17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7E2-F8DC-45FA-952F-3611596A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77880" y="1387800"/>
            <a:ext cx="9036000" cy="17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542D-6636-428D-AEE3-282399DB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77880" y="1387800"/>
            <a:ext cx="9036000" cy="17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23D5-72A7-4150-948F-879386C9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77880" y="1387800"/>
            <a:ext cx="9036000" cy="17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C7D0-511A-4B3C-AB18-65D2CB5B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77880" y="1387800"/>
            <a:ext cx="9036000" cy="17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173A-7856-4093-87E1-FF782398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77880" y="1387800"/>
            <a:ext cx="9036000" cy="17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368B-F7F6-45E5-B261-7FA96419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77880" y="1387800"/>
            <a:ext cx="9036000" cy="17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309-A6F3-4E8E-AA4B-EAFF3827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77880" y="1387800"/>
            <a:ext cx="9036000" cy="17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3BE-3362-4F93-B107-FF681E8B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77880" y="1387800"/>
            <a:ext cx="9036000" cy="17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498-9702-46EF-8CA4-F33A8C69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77880" y="1387800"/>
            <a:ext cx="9036000" cy="80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181-6C16-4B60-9984-E0D74B91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77880" y="1387800"/>
            <a:ext cx="9036000" cy="17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DF0-DD2C-4B37-88F9-347F1678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77880" y="1387800"/>
            <a:ext cx="9036000" cy="17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93D-F5C3-4FCB-901B-A9BB1FCB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77880" y="1387800"/>
            <a:ext cx="9036000" cy="17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063-B335-45F7-AF25-8096E98F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gradFill rotWithShape="0">
            <a:gsLst>
              <a:gs pos="0">
                <a:srgbClr val="000000">
                  <a:alpha val="11372"/>
                </a:srgbClr>
              </a:gs>
              <a:gs pos="100000">
                <a:srgbClr val="674616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pic>
        <p:nvPicPr>
          <p:cNvPr id="1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80600" y="616140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ece9c6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ece9c6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4165560" y="616140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852400" y="616140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ece9c6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39E43F-1499-4383-98DC-6A28758AA275}" type="slidenum">
              <a:rPr b="0" lang="ru-RU" sz="1200" spc="-1" strike="noStrike">
                <a:solidFill>
                  <a:srgbClr val="ece9c6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91920" y="2887560"/>
            <a:ext cx="9038880" cy="912600"/>
            <a:chOff x="1591920" y="2887560"/>
            <a:chExt cx="9038880" cy="912600"/>
          </a:xfrm>
        </p:grpSpPr>
        <p:sp>
          <p:nvSpPr>
            <p:cNvPr id="6" name="TextBox 8"/>
            <p:cNvSpPr/>
            <p:nvPr/>
          </p:nvSpPr>
          <p:spPr>
            <a:xfrm>
              <a:off x="5700240" y="2887560"/>
              <a:ext cx="592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e1dca5"/>
                  </a:solidFill>
                  <a:latin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" name="Straight Connector 9"/>
            <p:cNvCxnSpPr/>
            <p:nvPr/>
          </p:nvCxnSpPr>
          <p:spPr>
            <a:xfrm flipH="1" flipV="1">
              <a:off x="1591920" y="3431520"/>
              <a:ext cx="4160160" cy="1800"/>
            </a:xfrm>
            <a:prstGeom prst="straightConnector1">
              <a:avLst/>
            </a:prstGeom>
            <a:ln>
              <a:solidFill>
                <a:srgbClr val="ece9c6">
                  <a:lumMod val="90000"/>
                </a:srgbClr>
              </a:solidFill>
              <a:round/>
            </a:ln>
          </p:spPr>
        </p:cxnSp>
        <p:cxnSp>
          <p:nvCxnSpPr>
            <p:cNvPr id="8" name="Straight Connector 10"/>
            <p:cNvCxnSpPr/>
            <p:nvPr/>
          </p:nvCxnSpPr>
          <p:spPr>
            <a:xfrm flipH="1" flipV="1">
              <a:off x="6471000" y="3429000"/>
              <a:ext cx="4160160" cy="1800"/>
            </a:xfrm>
            <a:prstGeom prst="straightConnector1">
              <a:avLst/>
            </a:prstGeom>
            <a:ln>
              <a:solidFill>
                <a:srgbClr val="ece9c6">
                  <a:lumMod val="90000"/>
                </a:srgbClr>
              </a:solidFill>
              <a:round/>
            </a:ln>
          </p:spPr>
        </p:cxn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1577880" y="1387800"/>
            <a:ext cx="9036000" cy="173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ln>
                  <a:solidFill>
                    <a:srgbClr val="ffffff">
                      <a:alpha val="65000"/>
                    </a:srgbClr>
                  </a:solidFill>
                </a:ln>
                <a:solidFill>
                  <a:srgbClr val="ffffff"/>
                </a:solidFill>
                <a:latin typeface="Book Antiqua"/>
              </a:rPr>
              <a:t>Образец заголовка</a:t>
            </a:r>
            <a:endParaRPr b="0" lang="ru-RU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9964" sy="59964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11372"/>
                </a:srgbClr>
              </a:gs>
              <a:gs pos="100000">
                <a:srgbClr val="d1ca75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32400" y="2248200"/>
            <a:ext cx="10326960" cy="38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760" indent="-365760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400" spc="-1" strike="noStrike">
                <a:solidFill>
                  <a:srgbClr val="262626"/>
                </a:solidFill>
                <a:latin typeface="Book Antiqua"/>
              </a:rPr>
              <a:t>Образец текста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7240" indent="-365760">
              <a:lnSpc>
                <a:spcPct val="100000"/>
              </a:lnSpc>
              <a:spcBef>
                <a:spcPts val="439"/>
              </a:spcBef>
              <a:buClr>
                <a:srgbClr val="873624"/>
              </a:buClr>
              <a:buFont typeface="Wingdings" charset="2"/>
              <a:buChar char=""/>
            </a:pPr>
            <a:r>
              <a:rPr b="0" lang="ru-RU" sz="2200" spc="-1" strike="noStrike">
                <a:solidFill>
                  <a:srgbClr val="262626"/>
                </a:solidFill>
                <a:latin typeface="Book Antiqua"/>
              </a:rPr>
              <a:t>Второй уровень</a:t>
            </a:r>
            <a:endParaRPr b="0" lang="ru-RU" sz="22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760">
              <a:lnSpc>
                <a:spcPct val="10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Третий уровень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lvl="3" marL="1508760" indent="-320040">
              <a:lnSpc>
                <a:spcPct val="100000"/>
              </a:lnSpc>
              <a:spcBef>
                <a:spcPts val="36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800" spc="-1" strike="noStrike">
                <a:solidFill>
                  <a:srgbClr val="262626"/>
                </a:solidFill>
                <a:latin typeface="Book Antiqua"/>
              </a:rPr>
              <a:t>Четвертый уровень</a:t>
            </a:r>
            <a:endParaRPr b="0" lang="ru-RU" sz="18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20040">
              <a:lnSpc>
                <a:spcPct val="100000"/>
              </a:lnSpc>
              <a:spcBef>
                <a:spcPts val="32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600" spc="-1" strike="noStrike">
                <a:solidFill>
                  <a:srgbClr val="262626"/>
                </a:solidFill>
                <a:latin typeface="Book Antiqua"/>
              </a:rPr>
              <a:t>Пятый уровень</a:t>
            </a:r>
            <a:endParaRPr b="0" lang="ru-RU" sz="1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80600" y="616140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95d1d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95d1d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4165560" y="616140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852400" y="616140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5d1d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EDFB01-2257-4E16-B08F-13A9D20DE101}" type="slidenum">
              <a:rPr b="0" lang="ru-RU" sz="1200" spc="-1" strike="noStrike">
                <a:solidFill>
                  <a:srgbClr val="895d1d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918000" y="570240"/>
            <a:ext cx="1034136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895d1d"/>
                </a:solidFill>
                <a:latin typeface="Book Antiqua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1563120" y="1392120"/>
            <a:ext cx="9038880" cy="912600"/>
            <a:chOff x="1563120" y="1392120"/>
            <a:chExt cx="9038880" cy="912600"/>
          </a:xfrm>
        </p:grpSpPr>
        <p:sp>
          <p:nvSpPr>
            <p:cNvPr id="54" name="TextBox 12"/>
            <p:cNvSpPr/>
            <p:nvPr/>
          </p:nvSpPr>
          <p:spPr>
            <a:xfrm>
              <a:off x="5671800" y="1392120"/>
              <a:ext cx="592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Straight Connector 13"/>
            <p:cNvCxnSpPr/>
            <p:nvPr/>
          </p:nvCxnSpPr>
          <p:spPr>
            <a:xfrm flipH="1" flipV="1">
              <a:off x="1563120" y="1936080"/>
              <a:ext cx="4160160" cy="216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  <p:cxnSp>
          <p:nvCxnSpPr>
            <p:cNvPr id="56" name="Straight Connector 14"/>
            <p:cNvCxnSpPr/>
            <p:nvPr/>
          </p:nvCxnSpPr>
          <p:spPr>
            <a:xfrm flipH="1" flipV="1">
              <a:off x="6442560" y="1933200"/>
              <a:ext cx="4159800" cy="180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4680" y="1124640"/>
            <a:ext cx="11761560" cy="55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 Antiqua"/>
              </a:rPr>
              <a:t>Презентация  </a:t>
            </a:r>
            <a:r>
              <a:rPr b="1" i="1" lang="ru-RU" sz="3200" spc="-1" strike="noStrike">
                <a:solidFill>
                  <a:srgbClr val="ffff00"/>
                </a:solidFill>
                <a:latin typeface="Book Antiqua"/>
              </a:rPr>
              <a:t>«Что я знаю о себе?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 Antiqua"/>
              </a:rPr>
              <a:t>для детей среднего  дошкольного возрас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0"/>
              </a:spcBef>
              <a:tabLst>
                <a:tab algn="l" pos="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Book Antiqua"/>
              </a:rPr>
              <a:t>Подготовила воспитатель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0"/>
              </a:spcBef>
              <a:tabLst>
                <a:tab algn="l" pos="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1" lang="ru-RU" sz="1900" spc="-1" strike="noStrike">
                <a:solidFill>
                  <a:srgbClr val="ffff00"/>
                </a:solidFill>
                <a:latin typeface="Book Antiqua"/>
              </a:rPr>
              <a:t>Замышляева  А.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0"/>
              </a:spcBef>
              <a:tabLst>
                <a:tab algn="l" pos="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Book Antiqua"/>
              </a:rPr>
              <a:t>МБДОУ № 17 «Колокольчик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0"/>
              </a:spcBef>
              <a:tabLst>
                <a:tab algn="l" pos="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Book Antiqua"/>
              </a:rPr>
              <a:t>пос. Малороссийског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0"/>
              </a:spcBef>
              <a:tabLst>
                <a:tab algn="l" pos="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Book Antiqua"/>
              </a:rPr>
              <a:t>2016 г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Program Files\Microsoft Office\MEDIA\CAGCAT10\j0216724.wmf"/>
          <p:cNvPicPr/>
          <p:nvPr/>
        </p:nvPicPr>
        <p:blipFill>
          <a:blip r:embed="rId1"/>
          <a:stretch/>
        </p:blipFill>
        <p:spPr>
          <a:xfrm>
            <a:off x="94680" y="2637000"/>
            <a:ext cx="2952000" cy="40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692640"/>
            <a:ext cx="10515240" cy="61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760" indent="-365760" algn="ctr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1" i="1" lang="ru-RU" sz="2400" spc="-1" strike="noStrike">
                <a:solidFill>
                  <a:srgbClr val="262626"/>
                </a:solidFill>
                <a:latin typeface="Book Antiqua"/>
              </a:rPr>
              <a:t>Ты должен знать свое тело,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marL="365760" indent="-365760" algn="ctr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1" i="1" lang="ru-RU" sz="2400" spc="-1" strike="noStrike">
                <a:solidFill>
                  <a:srgbClr val="262626"/>
                </a:solidFill>
                <a:latin typeface="Book Antiqua"/>
              </a:rPr>
              <a:t>Знать и любить.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marL="365760" indent="-365760" algn="ctr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1" i="1" lang="ru-RU" sz="2400" spc="-1" strike="noStrike">
                <a:solidFill>
                  <a:srgbClr val="262626"/>
                </a:solidFill>
                <a:latin typeface="Book Antiqua"/>
              </a:rPr>
              <a:t>Самое первое дело –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marL="365760" indent="-365760" algn="ctr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1" i="1" lang="ru-RU" sz="2400" spc="-1" strike="noStrike">
                <a:solidFill>
                  <a:srgbClr val="262626"/>
                </a:solidFill>
                <a:latin typeface="Book Antiqua"/>
              </a:rPr>
              <a:t>В мире с ним жить.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marL="365760" indent="-365760" algn="ctr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1" i="1" lang="ru-RU" sz="2400" spc="-1" strike="noStrike">
                <a:solidFill>
                  <a:srgbClr val="262626"/>
                </a:solidFill>
                <a:latin typeface="Book Antiqua"/>
              </a:rPr>
              <a:t>Сделай его сильным,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marL="365760" indent="-365760" algn="ctr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1" i="1" lang="ru-RU" sz="2400" spc="-1" strike="noStrike">
                <a:solidFill>
                  <a:srgbClr val="262626"/>
                </a:solidFill>
                <a:latin typeface="Book Antiqua"/>
              </a:rPr>
              <a:t>Сделай его быстрым.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marL="365760" indent="-365760" algn="ctr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1" i="1" lang="ru-RU" sz="2400" spc="-1" strike="noStrike">
                <a:solidFill>
                  <a:srgbClr val="262626"/>
                </a:solidFill>
                <a:latin typeface="Book Antiqua"/>
              </a:rPr>
              <a:t>Сделай его, сделай его чистым.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marL="365760" indent="-365760" algn="ctr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1" i="1" lang="ru-RU" sz="2400" spc="-1" strike="noStrike">
                <a:solidFill>
                  <a:srgbClr val="262626"/>
                </a:solidFill>
                <a:latin typeface="Book Antiqua"/>
              </a:rPr>
              <a:t>Каждую клеточку тела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marL="365760" indent="-365760" algn="ctr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1" i="1" lang="ru-RU" sz="2400" spc="-1" strike="noStrike">
                <a:solidFill>
                  <a:srgbClr val="262626"/>
                </a:solidFill>
                <a:latin typeface="Book Antiqua"/>
              </a:rPr>
              <a:t>Нужно понять.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marL="365760" indent="-365760" algn="ctr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1" i="1" lang="ru-RU" sz="2400" spc="-1" strike="noStrike">
                <a:solidFill>
                  <a:srgbClr val="262626"/>
                </a:solidFill>
                <a:latin typeface="Book Antiqua"/>
              </a:rPr>
              <a:t>Пользоваться умело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marL="365760" indent="-365760" algn="ctr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1" i="1" lang="ru-RU" sz="2400" spc="-1" strike="noStrike">
                <a:solidFill>
                  <a:srgbClr val="262626"/>
                </a:solidFill>
                <a:latin typeface="Book Antiqua"/>
              </a:rPr>
              <a:t>И охранять.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marL="365760" indent="-365760" algn="ctr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1" i="1" lang="ru-RU" sz="2400" spc="-1" strike="noStrike">
                <a:solidFill>
                  <a:srgbClr val="262626"/>
                </a:solidFill>
                <a:latin typeface="Book Antiqua"/>
              </a:rPr>
              <a:t>Время промчится, ты станешь большим.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marL="365760" indent="-365760" algn="ctr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1" i="1" lang="ru-RU" sz="2400" spc="-1" strike="noStrike">
                <a:solidFill>
                  <a:srgbClr val="262626"/>
                </a:solidFill>
                <a:latin typeface="Book Antiqua"/>
              </a:rPr>
              <a:t>Будешь всегда стройным и молодым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marL="365760" indent="-365760" algn="ctr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1" i="1" lang="ru-RU" sz="2400" spc="-1" strike="noStrike">
                <a:solidFill>
                  <a:srgbClr val="262626"/>
                </a:solidFill>
                <a:latin typeface="Book Antiqua"/>
              </a:rPr>
              <a:t>И совершить сможешь жизни своей дело.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62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/>
                </a:solidFill>
                <a:latin typeface="Book Antiqua"/>
              </a:rPr>
              <a:t>             </a:t>
            </a:r>
            <a:r>
              <a:rPr b="1" lang="ru-RU" sz="3600" spc="-1" strike="noStrike">
                <a:solidFill>
                  <a:schemeClr val="accent1"/>
                </a:solidFill>
                <a:latin typeface="Book Antiqua"/>
              </a:rPr>
              <a:t>«Знай свое тело»  К. А. Пармз</a:t>
            </a:r>
            <a:endParaRPr b="0" lang="ru-RU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31520" y="188640"/>
            <a:ext cx="90360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1000"/>
          </a:bodyPr>
          <a:p>
            <a:pPr indent="0">
              <a:buNone/>
            </a:pPr>
            <a:endParaRPr b="0" lang="ru-RU" sz="5400" spc="-1" strike="noStrike">
              <a:ln>
                <a:solidFill>
                  <a:srgbClr val="ffffff">
                    <a:alpha val="65000"/>
                  </a:srgbClr>
                </a:solidFill>
              </a:ln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3880" y="1484640"/>
            <a:ext cx="9143640" cy="377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Picture 2" descr="C:\Users\user\Desktop\т10.png"/>
          <p:cNvPicPr/>
          <p:nvPr/>
        </p:nvPicPr>
        <p:blipFill>
          <a:blip r:embed="rId1"/>
          <a:stretch/>
        </p:blipFill>
        <p:spPr>
          <a:xfrm>
            <a:off x="783360" y="0"/>
            <a:ext cx="10008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03520" y="548640"/>
            <a:ext cx="891036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chemeClr val="accent1"/>
                </a:solidFill>
                <a:latin typeface="Book Antiqua"/>
              </a:rPr>
              <a:t>                                                     </a:t>
            </a:r>
            <a:r>
              <a:rPr b="1" i="1" lang="ru-RU" sz="5400" spc="-1" strike="noStrike">
                <a:solidFill>
                  <a:srgbClr val="ffff00"/>
                </a:solidFill>
                <a:latin typeface="Book Antiqua"/>
              </a:rPr>
              <a:t>Интернет ресурсы:</a:t>
            </a:r>
            <a:br>
              <a:rPr sz="5400"/>
            </a:br>
            <a:endParaRPr b="0" lang="ru-RU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828800" y="3767760"/>
            <a:ext cx="8534160" cy="24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Book Antiqua"/>
              </a:rPr>
              <a:t>В презентации использовались материалы и иллюстрации из тематического словаря в картинк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Book Antiqua"/>
              </a:rPr>
              <a:t>« Я и моё тело. Тело человека (части тела)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Book Antiqua"/>
              </a:rPr>
              <a:t>Учебно-методическое издание под редакцией С.А Козло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31880" y="0"/>
            <a:ext cx="6840360" cy="134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такое наше тело?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оно умеет делать?</a:t>
            </a:r>
            <a:br>
              <a:rPr sz="3200"/>
            </a:br>
            <a:endParaRPr b="0" lang="ru-RU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23880" y="1628640"/>
            <a:ext cx="9143640" cy="46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Picture 2" descr="C:\Users\user\Desktop\т2.png"/>
          <p:cNvPicPr/>
          <p:nvPr/>
        </p:nvPicPr>
        <p:blipFill>
          <a:blip r:embed="rId1"/>
          <a:stretch/>
        </p:blipFill>
        <p:spPr>
          <a:xfrm>
            <a:off x="1487520" y="1052640"/>
            <a:ext cx="9144720" cy="56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63880" y="0"/>
            <a:ext cx="6336360" cy="112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лыбаться и смеяться,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ыгать, бегать, баловаться…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3880" y="1989000"/>
            <a:ext cx="766800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2" descr="C:\Users\user\Desktop\т3.png"/>
          <p:cNvPicPr/>
          <p:nvPr/>
        </p:nvPicPr>
        <p:blipFill>
          <a:blip r:embed="rId1"/>
          <a:stretch/>
        </p:blipFill>
        <p:spPr>
          <a:xfrm>
            <a:off x="479520" y="1340640"/>
            <a:ext cx="8928720" cy="5301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Program Files\Microsoft Office\MEDIA\CAGCAT10\j0216724.wmf"/>
          <p:cNvPicPr/>
          <p:nvPr/>
        </p:nvPicPr>
        <p:blipFill>
          <a:blip r:embed="rId2"/>
          <a:stretch/>
        </p:blipFill>
        <p:spPr>
          <a:xfrm>
            <a:off x="5370840" y="2517480"/>
            <a:ext cx="1449720" cy="18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9160" y="0"/>
            <a:ext cx="5544360" cy="191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rgbClr val="ffff00"/>
                </a:solidFill>
                <a:latin typeface="Book Antiqua"/>
              </a:rPr>
              <a:t>Наши ушки звуки слышат.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Book Antiqua"/>
              </a:rPr>
              <a:t>Воздухом наш носик дышит.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Book Antiqua"/>
              </a:rPr>
              <a:t>Ротик может рассказать.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Book Antiqua"/>
              </a:rPr>
              <a:t>Глазки могут увидать.</a:t>
            </a:r>
            <a:br>
              <a:rPr sz="2800"/>
            </a:b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647880" y="1845000"/>
            <a:ext cx="7020000" cy="50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Picture 2" descr="C:\Users\user\Desktop\т4.png"/>
          <p:cNvPicPr/>
          <p:nvPr/>
        </p:nvPicPr>
        <p:blipFill>
          <a:blip r:embed="rId1"/>
          <a:stretch/>
        </p:blipFill>
        <p:spPr>
          <a:xfrm>
            <a:off x="3359520" y="1543680"/>
            <a:ext cx="8424720" cy="509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1952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rgbClr val="ffff00"/>
                </a:solidFill>
                <a:latin typeface="Book Antiqua"/>
              </a:rPr>
              <a:t>Ножки могут быстро бегать.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Book Antiqua"/>
              </a:rPr>
              <a:t>Ручки все умеют делать.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Book Antiqua"/>
              </a:rPr>
              <a:t>Пальчики хватают цепко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Book Antiqua"/>
              </a:rPr>
              <a:t>И сжимают крепко-крепко…</a:t>
            </a:r>
            <a:br>
              <a:rPr sz="2800"/>
            </a:b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719880" y="1917000"/>
            <a:ext cx="7920360" cy="48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2" descr="C:\Users\user\Desktop\т5.png"/>
          <p:cNvPicPr/>
          <p:nvPr/>
        </p:nvPicPr>
        <p:blipFill>
          <a:blip r:embed="rId1"/>
          <a:stretch/>
        </p:blipFill>
        <p:spPr>
          <a:xfrm>
            <a:off x="3431880" y="1340640"/>
            <a:ext cx="835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67520" cy="24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Book Antiqua"/>
              </a:rPr>
              <a:t>На все способны наши ручки,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Book Antiqua"/>
              </a:rPr>
              <a:t>Обидчику ответят взбучкой,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Book Antiqua"/>
              </a:rPr>
              <a:t>Кораблик сделают из щепки,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Book Antiqua"/>
              </a:rPr>
              <a:t>В лесу шалаш поставят крепкий…</a:t>
            </a:r>
            <a:br>
              <a:rPr sz="2800"/>
            </a:b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151880" y="1845000"/>
            <a:ext cx="7704360" cy="50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Picture 2" descr="C:\Users\user\Desktop\т6.png"/>
          <p:cNvPicPr/>
          <p:nvPr/>
        </p:nvPicPr>
        <p:blipFill>
          <a:blip r:embed="rId1"/>
          <a:stretch/>
        </p:blipFill>
        <p:spPr>
          <a:xfrm>
            <a:off x="1847520" y="2014200"/>
            <a:ext cx="9806400" cy="472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51520" y="692640"/>
            <a:ext cx="3816000" cy="12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br>
              <a:rPr sz="2800"/>
            </a:b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151880" y="2349000"/>
            <a:ext cx="717588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Picture 2" descr="C:\Users\user\Desktop\т7.png"/>
          <p:cNvPicPr/>
          <p:nvPr/>
        </p:nvPicPr>
        <p:blipFill>
          <a:blip r:embed="rId1"/>
          <a:stretch/>
        </p:blipFill>
        <p:spPr>
          <a:xfrm>
            <a:off x="2855520" y="1384200"/>
            <a:ext cx="9335880" cy="5277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4"/>
          <p:cNvSpPr/>
          <p:nvPr/>
        </p:nvSpPr>
        <p:spPr>
          <a:xfrm>
            <a:off x="0" y="260640"/>
            <a:ext cx="37195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ff00"/>
                </a:solidFill>
                <a:latin typeface="Book Antiqua"/>
              </a:rPr>
              <a:t>Ножками мы топн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ff00"/>
                </a:solidFill>
                <a:latin typeface="Book Antiqua"/>
              </a:rPr>
              <a:t>Да-да-да-да!                                                                                               Ножками попляшем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ff00"/>
                </a:solidFill>
                <a:latin typeface="Book Antiqua"/>
              </a:rPr>
              <a:t>Да-да-да-д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16640"/>
            <a:ext cx="9143640" cy="7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buNone/>
            </a:pPr>
            <a:endParaRPr b="0" lang="ru-RU" sz="5400" spc="-1" strike="noStrike">
              <a:ln>
                <a:solidFill>
                  <a:srgbClr val="ffffff">
                    <a:alpha val="65000"/>
                  </a:srgbClr>
                </a:solidFill>
              </a:ln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23880" y="1628640"/>
            <a:ext cx="914364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7" name="Picture 2" descr="C:\Users\user\Desktop\т8.png"/>
          <p:cNvPicPr/>
          <p:nvPr/>
        </p:nvPicPr>
        <p:blipFill>
          <a:blip r:embed="rId1"/>
          <a:stretch/>
        </p:blipFill>
        <p:spPr>
          <a:xfrm>
            <a:off x="1127520" y="0"/>
            <a:ext cx="9576720" cy="674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59520" y="0"/>
            <a:ext cx="91436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6000"/>
          </a:bodyPr>
          <a:p>
            <a:pPr indent="0">
              <a:buNone/>
            </a:pPr>
            <a:endParaRPr b="0" lang="ru-RU" sz="5400" spc="-1" strike="noStrike">
              <a:ln>
                <a:solidFill>
                  <a:srgbClr val="ffffff">
                    <a:alpha val="65000"/>
                  </a:srgbClr>
                </a:solidFill>
              </a:ln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3880" y="1196640"/>
            <a:ext cx="9143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0" name="Picture 2" descr="C:\Users\user\Desktop\т9.png"/>
          <p:cNvPicPr/>
          <p:nvPr/>
        </p:nvPicPr>
        <p:blipFill>
          <a:blip r:embed="rId1"/>
          <a:stretch/>
        </p:blipFill>
        <p:spPr>
          <a:xfrm>
            <a:off x="623520" y="0"/>
            <a:ext cx="10328760" cy="67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вердый переплет">
  <a:themeElements>
    <a:clrScheme name="Твердый переплет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вердый переплет">
  <a:themeElements>
    <a:clrScheme name="Твердый переплет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Hardcover</Template>
  <TotalTime>118</TotalTime>
  <Application>LibreOffice/7.4.7.2$Linux_X86_64 LibreOffice_project/40$Build-2</Application>
  <AppVersion>15.0000</AppVersion>
  <Words>160</Words>
  <Paragraphs>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Анна</cp:lastModifiedBy>
  <dcterms:modified xsi:type="dcterms:W3CDTF">2017-12-23T16:26:00Z</dcterms:modified>
  <cp:revision>13</cp:revision>
  <dc:subject/>
  <dc:title>Что я знаю о себе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2</vt:r8>
  </property>
</Properties>
</file>