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263-1F74-4E66-9B37-419BF59D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2FB-72F0-4603-9B2F-13D6B48B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254-9C9A-4D0D-96BB-C564AC20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6AF-31ED-40D4-B6E8-50780B23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5C52-87F8-43BC-BB2C-C64D9768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054B-2B40-4C4A-827A-8551FB0E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1733-2F0F-4DE0-8D09-C1000804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06CA-6B54-4D16-B7AE-274DD07A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F82E-9652-4130-B9D6-52AE84D9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FA01-61EB-406C-9C12-8EBA2ECC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C523-76C4-4716-ACEF-1968091E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940-9B85-4DEE-A4E3-8117F87B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E1F9-C441-47EE-8A2F-33DF5855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28F2-D13C-4333-B009-7462D62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0407-2149-44A2-B6FC-5540D97B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CB02-E4A6-4F5A-85C0-E70FFFEF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8A39-0669-45CA-8069-1C8598FA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E5D-7156-4D2E-936E-F69C1E2B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D80-771E-431C-8169-4A95F7AE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46C-A86F-4242-A563-F94F91ED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018-750D-4610-97F8-04A975EE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356-6C00-44AC-B104-249B5B8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99E-6EB6-44A8-A3ED-93A522F3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45F-0336-4FF3-BBEB-C86C6813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621D-E2A4-4C4A-B740-2D413F726B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5A6A-9A5C-40E2-9217-A6BA308DE8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ГУ «Рулихинская осш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русского языка и литературы Богатырева Е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016 го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Деепричаст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таксическая размин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предложения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Африка – одно и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любопытнейших мест планет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озьмите подлежащее, употребив его в форме родительного падежа, единственного числ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нтаксическая размин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ыпишите обстоятельство образа действия, выраженное существительным с предлогом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з предложения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Алексей с терпением ухаживал за щен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нтаксическая размин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предложения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Он с трудом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продвигался вперед, изучая все новы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 новые мест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озьмите деепричаст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интаксическая разминка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Из предложения 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Её жизни ничто н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угрожал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ыпишите личное местоиме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6127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оверь себя!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ымов ежегодно ездил по различным интересным частям Африки, с терпением изучая её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м осложнено это простое предложени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ясните постановку знаков препин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тно произведите морфологический разбор деепричаст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первых букв каждого слова составьте новое слов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Цифровой диктант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еепричастие – неизменяемая форма глагол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олько тогда, когда деепричастный оборот стоит после определяемого слова, он выделяется запяты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еепричастия бывают совершенного и несовершенного вид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 с деепричастиями всегда пишется раздельн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еепричастия совершенного вида отвечают на вопрос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что сделав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ффиксы  -А(-Я) характерны для деепричастий несовершенного вид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еепричастие – особая форма глагола, которая имеет признаки глагола и прилагательног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340160" y="3139920"/>
            <a:ext cx="46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1010110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Деепричастие -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Это особая форма глагола, которая обозначает добавочное действие и имеет признаки глагола и наречи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еепричастие отвечает на вопросы 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что делая? что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сделав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861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lvl="1" marL="861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lvl="1" marL="861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lvl="1" marL="861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lvl="1" marL="86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изнаки глагола у деепричаст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6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д – совершенный и несовершенный (читая, прочитав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звратность – невозвратно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возвращаясь – возвращая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Переходность – непереходно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ожидая подругу – гуляя по парку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изнаки наречия у деепричаст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изменяем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редложении в основном является обстоятельство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9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ид деепричасти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еепричастия совершенного ви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вечают на вопрос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что сделав?,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разуются от основы неопределенной формы глагола с помощь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ффиксов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-в,  -вши, -ш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улыбнуться – улыбнувшись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Деепричастия несовершенного ви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вечают на вопрос что делая?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разуются от основ  глаголов настоящего времени с помощью суффиксов –а,  -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спешат – спеш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Цели урока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бщение и систематизация сведений о деепричастии и деепричастном оборо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итие быстроты реакции, внимания, памяти, мышления, реч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ание интереса к русскому язы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Деепричастный оборот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уют деепричастия с зависимыми от него словами (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лнце садилось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, уходя за далекие горы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чные деепричастия и деепричастные обороты выделяются на письме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апятым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меясь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, она протянула мне руку.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Весело смеясь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, она протянула мне руку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е выделяются запятыми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епричастия, которые близки по значению к наречиям (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Мать посмотрел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люб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Фразеологические сочетания, представляющие собой деепричастный оборот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Работа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не покладая рук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е отделяются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уг от друга запятой два деепричастных оборота, соединенных союзом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Данко бросился вперед,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ысоко держа горящее сердце и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освещая им путь людям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деепричастный оборот стоит после союза а, то запятая между ними не ставится (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Девочка побежала за мячом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зяв ег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вернулась на корт. Девочка побежала з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ячом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и,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зяв ег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вернулась на кор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Частица НЕ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еепричастиями, как и с глаголами, пишется раздельно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 не слуша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лючение составляют деепричастия, не употребляющиеся без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е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ненавид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Задание: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ишите текст, 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сставив знаки препинания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коре я увидел как из-за крайних дворов хутора вышел на дорогу мужчина. Он вел за руку маленького мальчика судя по росту лет пяти-шести, не больше. Они устало брели по направлению к переправе но поравнявшись с машиной повернули ко мне. Высокий, сутуловатый мужчина подойдя вплотную сказал приглушенным баском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Здорово браток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осчитайте количество пропущенных запяты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я увидел, как из-за крайних дворов хутора вышел на дорогу мужчина. Он вел за руку маленького мальчика,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удя по росту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лет пяти-шести, не больше. Они устало брели по направлению к переправе, но,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равнявшись с машин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повернули ко мне. Высокий, сутуловатый мужчина,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дойдя вплотную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сказал приглушенным баском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Здорово, браток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340000" y="119700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обсуждения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какого произведения этот отрывок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автор этого произведения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зовите тип речи данного отрыв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ов стиль данного текста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зовите персонажей данного отрыв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каких основных действиях говорится здесь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ую роль выполняют деепричастия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ова основная функция деепричастий в реч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сновная функция деепричастий в речи – дописывать, дорисовывать основное действи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Задание: из каждой строчки выберите    лишь те буквы, которые не повторяются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АЕУЮБАИКВ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ЭЭНЕЖФГОДИУФЯ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ЙЕДУЗВИГЙАЯЗСЬ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МУСАТОЯА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ЮЕВЗСИЮРАПП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слова у вас получились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деепричастия  пишутся с НЕ слитно, а какие раздельно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АЕУЮБАИКВЮ – не уби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ЭЭНЕЖФГОДИУФЯИ - негоду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ЙЕДУЗВИГЙАЯЗСЬУ – не двигаяс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МУСАТОЯАВ – не устоя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ЮЕВЗСИЮРАППЯ - невзир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Эпиграф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Verdana"/>
              </a:rPr>
              <a:t>Человек нашел слова для всего, что обнаружено им во Вселенной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Verdana"/>
              </a:rPr>
              <a:t>С.Марша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 отрывке из «Сказки о попе и о работнике его Балде» А.С.Пушкина сбежали деепричастия. Верните беглецов на место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устились бесенок и зайк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есенок по берегу морскому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 зайка в лесок до дом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т, море кругом  …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язык, мордку …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бежал бесенок, …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есь мокрешенек, лапкой …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ысля: дело с Балдою слади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ядь, а Балда братца гладит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:  «Братец мой любимый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стал, бедняжка, отдохни, родимый!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лова для справок: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высунув, обежавши, задыхаясь, поднявши, утираясь, приговарива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рочитайте выразительно восстановленный текст.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устились бесенок и зайк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сенок по берегу морскому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 зайка в лесок до дом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т море кругом обежавш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сунув язык, мордку поднявш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бежал бесенок, задыхаяс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есь мокрешенек, лапкой утираяс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ысля: дело с Балдою слади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лядь, а Балда братца глади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говаривая: «Братец мой любимый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стал, бедняжка! Отдохни, родимый!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8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8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деепричаст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исследов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реше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всколыхну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раздумыв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4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Найти деепричастие с устаревшим суффиксом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сним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гляд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буду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списа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4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1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6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Указать деепричастие совершенного вид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посоветова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потягиваяс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разбрасыв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затягив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9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3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0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ест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 Указать деепричастие несовершенного вид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перебежа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запираяс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вымывшис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огляде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6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6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 Указать возвратное деепричаст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переписыв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разбрасыв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затягив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потягиваяс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2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7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 Указать деепричастие, образованное от переходного глагол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прикрыв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занимаяс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подскочи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присе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9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6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 В каком случае НЕ пишется слитно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(не)доумев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(не)подготови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(не)освети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(не)дум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6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0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 На месте каких цифр должны стоять запятые в предложени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Орел (1) растопырив (2) крылья (з) взлетел (4) со скал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1,2,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1,2,3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1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1,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6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3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0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7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4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1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нтаксическая размин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оставьте предложение, выполнив ряд действи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- Из предложения 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Дымов был любителем приключений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возьмите подлежаще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 Сосчитать количество знаков препина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ыпав тропы и тропин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ирая свежие сле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тихие снежин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жатся блестками слю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4      б) 3      в) 1      г)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7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2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7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2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считать количество знаков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пина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жась от свежего ветер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ть посинев крепыши-масля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шись за руки как ребя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ают греясь вокруг пень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3      б) 5      в) 6      г) 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8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8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3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8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7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8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0  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4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4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9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4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9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4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9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интаксическая разминка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бавьте обстоятельство времени, выраженное наречием, из предлож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Фестиваль юных талантов проводится ежегодн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нтаксическая размин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те глагол в начальной форме из предложения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Он любил ездить п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свету., употребив его в форме 3 лица, единственного числа прошедшего врем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нтаксическая размин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Из предложения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Целый день я скитаюс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по пустым полям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ыпишите предлог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нтаксическая размин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азличные и очень интересные насекомые копошились вокру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– возьмите два прилагательных, употребив их в форме множественного числа, дательного падеж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нтаксическая размин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Добавьте дополнение, выраженное существительным в форме множественного числа дательного падежа из предложения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Каким-то частям его души не хватало чего-то высокого, светлог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9:11:13Z</dcterms:created>
  <dc:creator>User</dc:creator>
  <dc:description/>
  <dc:language>en-US</dc:language>
  <cp:lastModifiedBy>----</cp:lastModifiedBy>
  <dcterms:modified xsi:type="dcterms:W3CDTF">2017-11-26T09:01:18Z</dcterms:modified>
  <cp:revision>11</cp:revision>
  <dc:subject/>
  <dc:title>Деепричастие</dc:title>
</cp:coreProperties>
</file>