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7C0-C6CD-49F0-ADA6-FBD2B37D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17A-317E-4197-B591-96BDE115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34B-4E5B-4AA0-9284-4602D31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4F5-588D-42BA-8F2C-F3B56CD8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236-68A6-476D-AF73-2BCCC96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D58-CD11-48AB-9EEC-0B0FD98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7A2-0222-4110-A276-FEE5F248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F38-22F0-4FAD-852A-E662B86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940-3C31-4201-8DAE-FFC9AC2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12A-391A-4F32-809E-4FB731E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B2F-4A52-4DCA-A2A0-0798145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B6F-A4C0-4B37-902A-9262949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5BC-5717-4920-8D33-ED1548AF7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Музыкальный зал ГБДОУ  №6  Калининского района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Музыкальный руководитель Харламова О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1-2 P1010795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438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то лучше всех готов к зиме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0 Белочка с орешком"/>
          <p:cNvPicPr/>
          <p:nvPr/>
        </p:nvPicPr>
        <p:blipFill>
          <a:blip r:embed="rId1"/>
          <a:stretch/>
        </p:blipFill>
        <p:spPr>
          <a:xfrm>
            <a:off x="0" y="836640"/>
            <a:ext cx="4500720" cy="33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11 Ёжик"/>
          <p:cNvPicPr/>
          <p:nvPr/>
        </p:nvPicPr>
        <p:blipFill>
          <a:blip r:embed="rId2"/>
          <a:stretch/>
        </p:blipFill>
        <p:spPr>
          <a:xfrm>
            <a:off x="4470480" y="836640"/>
            <a:ext cx="4673520" cy="337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12 Мышка"/>
          <p:cNvPicPr/>
          <p:nvPr/>
        </p:nvPicPr>
        <p:blipFill>
          <a:blip r:embed="rId3"/>
          <a:stretch/>
        </p:blipFill>
        <p:spPr>
          <a:xfrm>
            <a:off x="0" y="4157640"/>
            <a:ext cx="4500720" cy="27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3 Сорока"/>
          <p:cNvPicPr/>
          <p:nvPr/>
        </p:nvPicPr>
        <p:blipFill>
          <a:blip r:embed="rId4"/>
          <a:stretch/>
        </p:blipFill>
        <p:spPr>
          <a:xfrm>
            <a:off x="4500720" y="4149720"/>
            <a:ext cx="4643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Не только художнику краски нужны</a:t>
            </a:r>
            <a:br>
              <a:rPr sz="2000"/>
            </a:b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Природа украшена цветом </a:t>
            </a:r>
            <a:br>
              <a:rPr sz="2000"/>
            </a:b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Рисует она на просторах страны </a:t>
            </a:r>
            <a:br>
              <a:rPr sz="2000"/>
            </a:br>
            <a:r>
              <a:rPr b="1" i="1" lang="ru-RU" sz="2000" spc="-1" strike="noStrike">
                <a:solidFill>
                  <a:srgbClr val="ff9966"/>
                </a:solidFill>
                <a:latin typeface="Arial"/>
              </a:rPr>
              <a:t>И радует ярким бук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Экологический досуг  «Осенняя выстав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-22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4751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смотрите, детво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сень выставку откры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ак художница,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Яркой краской всё покры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3 Осень"/>
          <p:cNvPicPr/>
          <p:nvPr/>
        </p:nvPicPr>
        <p:blipFill>
          <a:blip r:embed="rId1"/>
          <a:stretch/>
        </p:blipFill>
        <p:spPr>
          <a:xfrm>
            <a:off x="0" y="1844640"/>
            <a:ext cx="9139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564000" y="0"/>
            <a:ext cx="2674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Улетают журав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 небе тают журав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За поля и за лу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За высокие стог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Знают все: бывает осень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Хмурый день и ветер зл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Знают все: бывает осень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Капли бьют по мост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 когда листочки жёлт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 тихом танце закруж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Значит снова начин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 нашем парке листопа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1500120" y="2367000"/>
            <a:ext cx="6230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298764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Если видишь на карти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Чашку кофе на сто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Или морс в большом графин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Или розу в хруста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Или бронзовую ваз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Или грушу, или т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Или все предметы сра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Знай, что это</a:t>
            </a: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«натюрмор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2843280" y="836640"/>
            <a:ext cx="6300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ртрет ле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7 4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Бал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2852280"/>
            <a:ext cx="14763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Порт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ос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6"/>
          <p:cNvPicPr/>
          <p:nvPr/>
        </p:nvPicPr>
        <p:blipFill>
          <a:blip r:embed="rId1"/>
          <a:stretch/>
        </p:blipFill>
        <p:spPr>
          <a:xfrm>
            <a:off x="1517760" y="0"/>
            <a:ext cx="762624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7T14:18:29Z</dcterms:created>
  <dc:creator>Alexey</dc:creator>
  <dc:description/>
  <dc:language>en-US</dc:language>
  <cp:lastModifiedBy>Ольга</cp:lastModifiedBy>
  <dcterms:modified xsi:type="dcterms:W3CDTF">2017-12-23T13:21:24Z</dcterms:modified>
  <cp:revision>10</cp:revision>
  <dc:subject/>
  <dc:title>Слайд 1</dc:title>
</cp:coreProperties>
</file>