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783-7B18-4FB2-8227-66C5B695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2CF-13BE-48F0-B1B3-A45C1AB8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3E10B-03E4-4008-A09B-6A000726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BD19C-8DED-46E0-B779-2EBE53BD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19C59-8256-4DE8-9703-75F6E233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6B0F9-F8BC-4586-B660-0923B139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7B8E6-12AC-4293-898E-DE355BD8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B15BD-4B6D-4AF1-A937-F00BD615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76F8F-CC39-4854-9915-F34057EB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AF64C-D529-4EE8-89F7-A67C8AE0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7CBB5-DF10-410B-8CBD-7C899D69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DA991-5E37-45E8-9D7F-E2AF8EAC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59C-6FAC-4CAD-95AF-19DE89E5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3EB81-662C-4144-A339-B49D3661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C9C29-D8EA-4BB5-B5FD-81749705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3BE7E-CA84-4C8A-AE90-90BE09B2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C751C-F903-48D9-B1AE-33CEE628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E74B4-B2E6-4DC7-9D88-1AB17AC2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826B7-2CEA-400C-A0E1-A5F6FF7D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1BF70-6064-41BF-8BC1-95CCFF91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B9039-8FB8-41A0-A46E-4A97442F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754AF-5839-44DC-8CA0-7F233887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425F2-07B5-4F9D-B693-FD119941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485-C5A4-4003-BC9D-45453E0B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53FAF-D9C8-4028-B038-5FEEC3D0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EE817-8610-4816-846D-A3CEE3EA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AFA26-241A-4C60-B9F5-BA69B565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F7907-7786-4162-8720-A63B0B7C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4243C-B939-464E-879F-2309BE04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DC2B2-4BCC-40D9-B3D7-9AA21785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B7647-4031-4D85-8919-7DFF77DA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4CCA3-A263-4FED-B5EB-A5B54349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F4D35-6A79-4EF0-8B2E-FA588A55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06819-D8A9-4227-97F3-2E610EDB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7E28-56CC-40A3-9608-083A9601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9C35F-15FC-443C-ADBC-7FADEF72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384CF-81B1-4DB9-AC71-259D6D3D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4CF62-3BB9-4939-B0BE-C0C1EF95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34C46-4701-4030-99D8-4B62F8B9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96D55-F6E9-4CD2-92E0-43E89068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9AA9A-10E0-434D-9EC0-D1BF8F86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0D73D-B092-4E8D-97C0-76362511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5A7F5-4688-439C-A6EA-F6719A82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51B38-DEE5-4910-A4A2-84EC89CF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F22B8-6BD2-45EE-B25A-4D8751A2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9C13-C64D-4222-8F39-1A97CFF4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21634-E809-4E21-801F-E562D045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9C9E8-77D9-449C-82CC-560D8064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C3FE4-2E09-4709-BBD0-32821690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EECC0-7FBA-4393-8A93-E3E44951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63EF5-E827-4FCE-A54A-09E0D60F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C6E43-4340-4C48-8D20-56B24596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EE9A4-DCC2-4735-A2C0-505D3F81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9542A-7478-4217-8B21-3A96227F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3D93D-5AA3-4475-A954-4EBD0056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0DA00-AFA6-4E2F-947A-ED00C4F3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B496-7DFB-44BE-AD29-82FF0FA8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3F637-CDA9-4096-8B84-D0F86C4D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EE087-A2F1-4E3B-9D86-3CB76977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8E25E-1CB2-465F-8762-2E56EE39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C7208-8674-42B9-9117-8B1CF6DA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5A436-63ED-47EC-B2F2-1B79CA0C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153CF-38AB-47EA-8206-FB0D98E2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7A1CE-9274-41F8-A666-3AA276DA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62066-9F9F-4E4C-B6D1-84B48486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8A12F-6CDA-4CD3-BFB8-3A66B1A6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D7F24-3568-4295-8BF1-63C46507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9D68-7A48-4841-969F-C5063EEF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B90A7-607F-44C2-BFAF-D6503952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080C4-569E-42C9-BFD0-C25F9795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581A9-BB65-4F55-9A53-957B3D81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8A480-E380-4171-B4B0-F5A0EE19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67840-EC9C-4E2E-8B71-F1398EAF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1BFB3-8B48-43DF-BC6C-3B24DED9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6338C-4B4D-41E8-AFCC-BE5DA0DC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8164E-E8C4-4B76-AE53-CCA44A20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C4E83-18F9-4B0E-889B-8C618EA9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32B3A-0189-4D50-BE89-02D8CD98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68FA-33EC-4438-B4F9-711639A4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23EFE-29D5-4174-8CF4-1EA6174F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3D691-EDAE-4E4B-AB60-709B2967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4D17F-4E35-4D4E-A398-3A736FD0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7E6FF-D817-447A-AE74-A20A711F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46B04-0C91-4C21-8D19-56A5663C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57EF8-0019-4468-A17F-AF82F23A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ED66B-23FF-4007-96B5-330329CA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1640BB-3280-48FB-A6C4-CA755847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60EB7-D06C-4B01-B569-7E7F6E97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96597B-C895-4153-A87C-DF1A8CD6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7AC6-002D-459C-B5BF-1FFBE6D7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93271-BE88-445C-BD01-2F07FA00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374F2-44E7-4F29-8512-1A0784D3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8889C6-A677-4C7B-9DC4-30AB4D4C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B625F-7971-4D3E-93A9-D3BB4D5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E17AD9-1198-4641-8679-9FE0CA83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4143C-E6B6-4361-AFAE-D0BA8632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E88FCF-0D2F-44B2-AA46-C140B720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C55E22-2BDD-44DC-8384-C9647676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93FAB6-8068-4DE1-9EA6-CB2499A2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4C556-C2D7-400C-B01A-3E9DEE90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6C9E-872A-42C2-9448-1F1540C0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EC305F-9968-4CA0-AFE6-B4CA8F25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4236C9-15DF-4B6F-9B76-DC844EF7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AF3E3-521B-4E61-A33A-AC78511A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76DE26-F064-4408-81ED-EDE53B36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5B703-5DEC-44A4-AF36-F6152952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FF8DB-7B1D-47A2-A15E-399E4F60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0C6C2-A6D3-4A76-BD69-CB88339C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738752-701D-4014-88FE-E8F2BA0B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49C54B-1501-4D2B-9CDC-29947555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F381F-1AB2-41DA-9399-83D524EE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58F-6CA6-4CF2-A858-9DA8F38D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701C-2C60-4DA0-B234-5A4CD9B0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560E5-2F9D-47A0-84B0-0AF73FEA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D9504C-3FBE-4E59-B73D-550D3C1E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47CCD-E8A1-4358-BBA1-728EF497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AD856-7E61-45D2-87F8-8CD9E1E8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2586EE-658C-47E0-9352-E942D1BB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4CAC-6A81-436A-A0A9-61120A16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3396-F92F-41B4-B744-6CD0486D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757E-0F0D-4200-B0CD-1BBADCA0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9622-9588-4B6B-A544-829320FD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90D9E-88C2-4D38-AE71-28160AD9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D766-8E6A-4544-9816-329F774F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2A227-8176-4EF8-8C65-42ABA8ED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B0B1-45E3-422C-9CA0-68587000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DD1B-25FF-49D6-ABC8-33A3F38E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5D4-24CF-4905-9AB7-0BB3BD1D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9E75-CE0D-400E-9AA5-CC9E64A5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12D93-9815-47A5-9DF6-FDBBF7B8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892D-7248-4407-B914-F991F7F8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009F-96C5-40A9-AF01-0B5574A9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3BE6-3F53-464F-8DAC-D313622F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E189-109C-438D-9115-CF706AF9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139E6-8074-4136-BE72-BF6C88CC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2209-9CD7-4609-8AB7-71FAB427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B420B-1752-4B20-91AD-C82405AD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E15C3-82A3-4536-95B6-B3977F1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23E-C3BF-4274-AE9F-1EBB9538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3818A-AA53-49E2-92C9-97EEA002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C275-F609-4D89-B8B5-341339E8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811BE-1343-453C-A178-CFFFD3D7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C2150-B03C-40E7-BB43-8E4A4DE6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060E9-A3FB-415F-8EF9-F19AE598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411E-9B31-40B1-98CA-AEC4ED97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18A03-4BC7-4113-8505-C335A745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3F04E-1818-4B9E-BF45-DD2D9391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6272F-151F-476E-ADD6-8472FBC1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6E12E-E5D8-491A-8B12-1A0B8EF8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AD4-8544-41CC-A238-A46907A8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020F0-DD48-4773-A30F-ED43C45B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8755D-FC17-426E-82D8-6274D7BA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684D2-FA6C-4E70-8D90-D2DFFB2A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61069-03C1-4500-8F7D-5ECABA07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315E6-4183-4B79-88FA-6833A7E2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C0EF3-A7BB-4901-A022-07701B05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1F127-D8E5-46A1-94B7-2D9F952F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942E1-8101-4ED6-8A4D-7A822F9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07994-6818-489B-8F02-C350F3DA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D6660-2E13-4D9F-81E7-9737578D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DF1-8676-4B1C-B015-937A2B3C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52D43-B381-4F2B-BEC6-4CF9BD9C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A79AB-2A2F-4717-82A9-F735C5CE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BB57F-4CAD-40D1-A199-0881E7FD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A1217-AA08-4742-AC42-706F42DB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0B156-698B-4381-BACA-C7659282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85990-7435-4229-A87B-0510A853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0B58-BB28-421C-9BE5-450706CD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1AFE9-7A1E-427B-B963-5F1799B3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23464-464D-4EF3-B5A7-DC74E988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F3D27-56AE-4284-B34D-9D021972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681-65B2-4162-88C4-82C79B32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326D1-2227-47FD-98A0-0215E4F4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B90ED-EAD2-435C-BD6B-246F1B80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6D7A0-54A9-447D-A8D6-95329E0F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2622A-826E-4555-AAB8-214875E5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310CE-DCB6-428F-9ECF-D868D3E3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40667-82A9-4A91-AABA-6FC3C5C8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2F8F4-37F2-4EE2-9F17-6CF2DF79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45758-52F3-416E-A54A-7EF362F8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2DAEC-BE7D-4246-A79D-66DC98F2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70206-37C5-425C-9C73-F6E91D67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4E8-9EBB-4FEA-87FA-0BCF89CC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8FA46-355F-4373-B4CF-2C3B0C35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026B9-11B6-4160-80E8-7EB051FF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50BFA-7754-4E5E-BD14-E5BC6ADB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C3D8C-BF61-458F-9114-ADD5E7B8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B268F-D331-4E95-B615-BA9050B7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4C3C3-165F-4062-9AFD-83077281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26625-866F-447B-908D-CDF8E312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E7332-6B54-464A-A279-37527719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34EB0-8ECA-4755-AE2D-298742BA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51B49-C783-4976-A0F1-7BE35A00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52E-C88F-4897-B5CD-FE795F63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6474F-4E63-4214-AAA4-E4DE2DCD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9FD27-11D9-4581-AF7D-B50B8A3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F945C-E533-4655-AB78-0A270796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8DB68-DBBD-4BEE-9937-5C762172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71D6F-1989-480E-9D87-8C3B4A2E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58820-CC19-4BFA-9751-B797A1B5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0148C-BE08-4B27-B2E1-FF75A6BF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12E35-A6E9-4CD9-8195-6B97A7EF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21362-27B7-42C4-84A4-C5B92FBA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8742A-F754-437C-8587-DA0AF399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7A00-AF4A-4C56-968A-D85EA39554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9F47-5D6B-4B9A-AA7E-96871354D9F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99AB-B6E0-4A53-9B35-464FD37FCAD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ED8E-0B5F-4518-ADB8-EB33CE8B610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6D9D-FA86-4CB6-9615-F40CA0D788C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B754-974A-4B22-9BF5-709D3EE130F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5EC4-9DCB-40DD-AE17-0D9023E3F8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92A9-4521-4D18-91FD-F795A1E9ACD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384C-DD9C-4941-9799-3108101ADB2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202D-F152-41F3-8483-D628566CE7E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F89F-AD2E-4A64-BD6C-A23D0ABCA77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D4B5-98EE-44D4-BFE8-75DFE44400A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08FF-112C-4A19-9175-7916E57082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7B60-6FE4-41DC-9C2D-997E39EF647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2CFF-F1D7-4C01-B602-307D93EAD06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5658-9748-40A9-BEB0-B8C8998FC48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6776-9143-47B1-A775-279C0CEBB5A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image" Target="../media/image14.png"/><Relationship Id="rId8" Type="http://schemas.openxmlformats.org/officeDocument/2006/relationships/image" Target="../media/image3.png"/><Relationship Id="rId9" Type="http://schemas.openxmlformats.org/officeDocument/2006/relationships/image" Target="../media/image12.png"/><Relationship Id="rId10" Type="http://schemas.openxmlformats.org/officeDocument/2006/relationships/image" Target="../media/image15.png"/><Relationship Id="rId11" Type="http://schemas.openxmlformats.org/officeDocument/2006/relationships/image" Target="../media/image3.png"/><Relationship Id="rId12" Type="http://schemas.openxmlformats.org/officeDocument/2006/relationships/image" Target="../media/image16.png"/><Relationship Id="rId13" Type="http://schemas.openxmlformats.org/officeDocument/2006/relationships/image" Target="../media/image11.png"/><Relationship Id="rId14" Type="http://schemas.openxmlformats.org/officeDocument/2006/relationships/image" Target="../media/image3.png"/><Relationship Id="rId15" Type="http://schemas.openxmlformats.org/officeDocument/2006/relationships/image" Target="../media/image14.png"/><Relationship Id="rId16" Type="http://schemas.openxmlformats.org/officeDocument/2006/relationships/image" Target="../media/image11.png"/><Relationship Id="rId17" Type="http://schemas.openxmlformats.org/officeDocument/2006/relationships/image" Target="../media/image3.png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688176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423b2"/>
                </a:solidFill>
                <a:latin typeface="Times New Roman"/>
              </a:rPr>
              <a:t>«Основа слова»</a:t>
            </a:r>
            <a:br>
              <a:rPr sz="3600"/>
            </a:br>
            <a:r>
              <a:rPr b="0" lang="ru-RU" sz="3600" spc="-1" strike="noStrike">
                <a:solidFill>
                  <a:srgbClr val="1423b2"/>
                </a:solidFill>
                <a:latin typeface="Times New Roman"/>
              </a:rPr>
              <a:t>урок русского языка,3класс,</a:t>
            </a:r>
            <a:br>
              <a:rPr sz="3600"/>
            </a:br>
            <a:r>
              <a:rPr b="0" lang="ru-RU" sz="3600" spc="-1" strike="noStrike">
                <a:solidFill>
                  <a:srgbClr val="1423b2"/>
                </a:solidFill>
                <a:latin typeface="Times New Roman"/>
              </a:rPr>
              <a:t>УМК «Школа России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Text Box 8"/>
          <p:cNvSpPr/>
          <p:nvPr/>
        </p:nvSpPr>
        <p:spPr>
          <a:xfrm>
            <a:off x="3995640" y="4149720"/>
            <a:ext cx="39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23b2"/>
                </a:solidFill>
                <a:latin typeface="Century Gothic"/>
              </a:rPr>
              <a:t>Автор: Сигурк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23b2"/>
                </a:solidFill>
                <a:latin typeface="Century Gothic"/>
              </a:rPr>
              <a:t>Татьяна Юрьевна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23b2"/>
                </a:solidFill>
                <a:latin typeface="Century Gothic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23b2"/>
                </a:solidFill>
                <a:latin typeface="Century Gothic"/>
              </a:rPr>
              <a:t>МБОУ «Школа № 19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23b2"/>
                </a:solidFill>
                <a:latin typeface="Century Gothic"/>
              </a:rPr>
              <a:t>г. Балаших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423b2"/>
                </a:solidFill>
                <a:latin typeface="Times New Roman"/>
                <a:ea typeface="Times New Roman"/>
              </a:rPr>
              <a:t>ТЕС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1042920" y="2323800"/>
            <a:ext cx="7416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Окончание - это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изменяемая часть слова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неизменяемая часть слова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423b2"/>
                </a:solidFill>
                <a:latin typeface="Times New Roman"/>
                <a:ea typeface="Times New Roman"/>
              </a:rPr>
              <a:t>ТЕС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042920" y="2323800"/>
            <a:ext cx="7416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Суффикс служит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7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7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для образования новых слов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7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для образования формы слова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423b2"/>
                </a:solidFill>
                <a:latin typeface="Times New Roman"/>
                <a:ea typeface="Times New Roman"/>
              </a:rPr>
              <a:t>ТЕС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042920" y="2323800"/>
            <a:ext cx="7416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Приставка стоит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после корня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перед корнем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423b2"/>
                </a:solidFill>
                <a:latin typeface="Times New Roman"/>
                <a:ea typeface="Times New Roman"/>
              </a:rPr>
              <a:t>ТЕС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042920" y="2323800"/>
            <a:ext cx="7416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. Приставка, корень, суффикс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образуют основу слова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не образуют основу слова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-360" y="102672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423b2"/>
                </a:solidFill>
                <a:latin typeface="Times New Roman"/>
                <a:ea typeface="Times New Roman"/>
              </a:rPr>
              <a:t>ТЕС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258920" y="2205000"/>
            <a:ext cx="74167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7.  Приставка служит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для образования новых слов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для образования формы слова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1619280" y="83628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ЦЫ !</a:t>
            </a:r>
            <a:endParaRPr b="0" lang="en-US" sz="8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6" name="Рисунок 1" descr=""/>
          <p:cNvPicPr/>
          <p:nvPr/>
        </p:nvPicPr>
        <p:blipFill>
          <a:blip r:embed="rId1"/>
          <a:stretch/>
        </p:blipFill>
        <p:spPr>
          <a:xfrm>
            <a:off x="4859280" y="2852640"/>
            <a:ext cx="3438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8208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423b2"/>
                </a:solidFill>
                <a:latin typeface="Times New Roman"/>
                <a:ea typeface="Times New Roman"/>
              </a:rPr>
              <a:t>СПАСИБО ЗА РАБОТУ!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042920" y="1052280"/>
            <a:ext cx="1152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Text Box 11"/>
          <p:cNvSpPr/>
          <p:nvPr/>
        </p:nvSpPr>
        <p:spPr>
          <a:xfrm>
            <a:off x="557280" y="1287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школа                                      школьниц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школе                                      школьны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 школе                                   школьники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0" name="Text Box 12"/>
          <p:cNvSpPr/>
          <p:nvPr/>
        </p:nvSpPr>
        <p:spPr>
          <a:xfrm>
            <a:off x="544320" y="34704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4a18"/>
                </a:solidFill>
                <a:latin typeface="Times New Roman"/>
                <a:ea typeface="Arial"/>
              </a:rPr>
              <a:t>форма слов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Text Box 13"/>
          <p:cNvSpPr/>
          <p:nvPr/>
        </p:nvSpPr>
        <p:spPr>
          <a:xfrm>
            <a:off x="5804640" y="344808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4a18"/>
                </a:solidFill>
                <a:latin typeface="Times New Roman"/>
                <a:ea typeface="Times New Roman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2" name="Text Box 14"/>
          <p:cNvSpPr/>
          <p:nvPr/>
        </p:nvSpPr>
        <p:spPr>
          <a:xfrm>
            <a:off x="755640" y="45277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школьница , школьный 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3" name="Picture 3" descr=""/>
          <p:cNvPicPr/>
          <p:nvPr/>
        </p:nvPicPr>
        <p:blipFill>
          <a:blip r:embed="rId1"/>
          <a:stretch/>
        </p:blipFill>
        <p:spPr>
          <a:xfrm>
            <a:off x="3605040" y="4714920"/>
            <a:ext cx="506520" cy="52056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3" descr=""/>
          <p:cNvPicPr/>
          <p:nvPr/>
        </p:nvPicPr>
        <p:blipFill>
          <a:blip r:embed="rId2"/>
          <a:stretch/>
        </p:blipFill>
        <p:spPr>
          <a:xfrm>
            <a:off x="6529320" y="4653000"/>
            <a:ext cx="863640" cy="60480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2" descr=""/>
          <p:cNvPicPr/>
          <p:nvPr/>
        </p:nvPicPr>
        <p:blipFill>
          <a:blip r:embed="rId3"/>
          <a:stretch/>
        </p:blipFill>
        <p:spPr>
          <a:xfrm>
            <a:off x="4484520" y="4341960"/>
            <a:ext cx="1766880" cy="47628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2" descr=""/>
          <p:cNvPicPr/>
          <p:nvPr/>
        </p:nvPicPr>
        <p:blipFill>
          <a:blip r:embed="rId4"/>
          <a:stretch/>
        </p:blipFill>
        <p:spPr>
          <a:xfrm>
            <a:off x="861840" y="4390920"/>
            <a:ext cx="1737000" cy="4320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4" descr=""/>
          <p:cNvPicPr/>
          <p:nvPr/>
        </p:nvPicPr>
        <p:blipFill>
          <a:blip r:embed="rId5"/>
          <a:stretch/>
        </p:blipFill>
        <p:spPr>
          <a:xfrm>
            <a:off x="2639880" y="4346640"/>
            <a:ext cx="960480" cy="4698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4" descr=""/>
          <p:cNvPicPr/>
          <p:nvPr/>
        </p:nvPicPr>
        <p:blipFill>
          <a:blip r:embed="rId6"/>
          <a:stretch/>
        </p:blipFill>
        <p:spPr>
          <a:xfrm>
            <a:off x="6251400" y="4335480"/>
            <a:ext cx="277920" cy="469800"/>
          </a:xfrm>
          <a:prstGeom prst="rect">
            <a:avLst/>
          </a:prstGeom>
          <a:ln w="0">
            <a:noFill/>
          </a:ln>
        </p:spPr>
      </p:pic>
      <p:pic>
        <p:nvPicPr>
          <p:cNvPr id="1189" name="Рисунок 6" descr=""/>
          <p:cNvPicPr/>
          <p:nvPr/>
        </p:nvPicPr>
        <p:blipFill>
          <a:blip r:embed="rId7"/>
          <a:stretch/>
        </p:blipFill>
        <p:spPr>
          <a:xfrm>
            <a:off x="2460600" y="703440"/>
            <a:ext cx="341640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Прямоугольник 3"/>
          <p:cNvSpPr/>
          <p:nvPr/>
        </p:nvSpPr>
        <p:spPr>
          <a:xfrm>
            <a:off x="539640" y="21798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6f54"/>
                </a:solidFill>
                <a:latin typeface="Arial Unicode MS"/>
                <a:ea typeface="Times New Roman"/>
              </a:rPr>
              <a:t>ПРИСТАВ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2" name="Прямоугольник 4"/>
          <p:cNvSpPr/>
          <p:nvPr/>
        </p:nvSpPr>
        <p:spPr>
          <a:xfrm>
            <a:off x="5796000" y="429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3" name="Прямоугольник 6"/>
          <p:cNvSpPr/>
          <p:nvPr/>
        </p:nvSpPr>
        <p:spPr>
          <a:xfrm>
            <a:off x="2771640" y="281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Прямоугольник 7"/>
          <p:cNvSpPr/>
          <p:nvPr/>
        </p:nvSpPr>
        <p:spPr>
          <a:xfrm>
            <a:off x="4427640" y="3573360"/>
            <a:ext cx="234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5" name="Рисунок 1" descr=""/>
          <p:cNvPicPr/>
          <p:nvPr/>
        </p:nvPicPr>
        <p:blipFill>
          <a:blip r:embed="rId1"/>
          <a:stretch/>
        </p:blipFill>
        <p:spPr>
          <a:xfrm>
            <a:off x="452520" y="144360"/>
            <a:ext cx="8205840" cy="1725840"/>
          </a:xfrm>
          <a:prstGeom prst="rect">
            <a:avLst/>
          </a:prstGeom>
          <a:ln w="0">
            <a:noFill/>
          </a:ln>
        </p:spPr>
      </p:pic>
      <p:pic>
        <p:nvPicPr>
          <p:cNvPr id="1196" name="Рисунок 3" descr=""/>
          <p:cNvPicPr/>
          <p:nvPr/>
        </p:nvPicPr>
        <p:blipFill>
          <a:blip r:embed="rId2"/>
          <a:stretch/>
        </p:blipFill>
        <p:spPr>
          <a:xfrm>
            <a:off x="2076480" y="5342040"/>
            <a:ext cx="5699160" cy="1111320"/>
          </a:xfrm>
          <a:prstGeom prst="rect">
            <a:avLst/>
          </a:prstGeom>
          <a:ln w="0">
            <a:noFill/>
          </a:ln>
        </p:spPr>
      </p:pic>
      <p:pic>
        <p:nvPicPr>
          <p:cNvPr id="1197" name="Рисунок 4" descr=""/>
          <p:cNvPicPr/>
          <p:nvPr/>
        </p:nvPicPr>
        <p:blipFill>
          <a:blip r:embed="rId3"/>
          <a:stretch/>
        </p:blipFill>
        <p:spPr>
          <a:xfrm>
            <a:off x="1695600" y="4200480"/>
            <a:ext cx="1736640" cy="432000"/>
          </a:xfrm>
          <a:prstGeom prst="rect">
            <a:avLst/>
          </a:prstGeom>
          <a:ln w="0">
            <a:noFill/>
          </a:ln>
        </p:spPr>
      </p:pic>
      <p:pic>
        <p:nvPicPr>
          <p:cNvPr id="1198" name="Рисунок 6" descr=""/>
          <p:cNvPicPr/>
          <p:nvPr/>
        </p:nvPicPr>
        <p:blipFill>
          <a:blip r:embed="rId4"/>
          <a:stretch/>
        </p:blipFill>
        <p:spPr>
          <a:xfrm>
            <a:off x="6800760" y="2811600"/>
            <a:ext cx="1738440" cy="433080"/>
          </a:xfrm>
          <a:prstGeom prst="rect">
            <a:avLst/>
          </a:prstGeom>
          <a:ln w="0">
            <a:noFill/>
          </a:ln>
        </p:spPr>
      </p:pic>
      <p:pic>
        <p:nvPicPr>
          <p:cNvPr id="1199" name="Рисунок 7" descr=""/>
          <p:cNvPicPr/>
          <p:nvPr/>
        </p:nvPicPr>
        <p:blipFill>
          <a:blip r:embed="rId5"/>
          <a:stretch/>
        </p:blipFill>
        <p:spPr>
          <a:xfrm>
            <a:off x="4211640" y="2130480"/>
            <a:ext cx="237168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352520" y="549360"/>
            <a:ext cx="410688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а слова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1" name="Picture 2" descr=""/>
          <p:cNvPicPr/>
          <p:nvPr/>
        </p:nvPicPr>
        <p:blipFill>
          <a:blip r:embed="rId1"/>
          <a:stretch/>
        </p:blipFill>
        <p:spPr>
          <a:xfrm>
            <a:off x="5764320" y="658800"/>
            <a:ext cx="2520720" cy="1170000"/>
          </a:xfrm>
          <a:prstGeom prst="rect">
            <a:avLst/>
          </a:prstGeom>
          <a:ln w="0">
            <a:noFill/>
          </a:ln>
        </p:spPr>
      </p:pic>
      <p:sp>
        <p:nvSpPr>
          <p:cNvPr id="1202" name="Rectangle 5"/>
          <p:cNvSpPr/>
          <p:nvPr/>
        </p:nvSpPr>
        <p:spPr>
          <a:xfrm>
            <a:off x="1127160" y="2503440"/>
            <a:ext cx="68896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школьница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школьный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пришкольный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3" name="Picture 2" descr=""/>
          <p:cNvPicPr/>
          <p:nvPr/>
        </p:nvPicPr>
        <p:blipFill>
          <a:blip r:embed="rId2"/>
          <a:stretch/>
        </p:blipFill>
        <p:spPr>
          <a:xfrm>
            <a:off x="1258920" y="2381400"/>
            <a:ext cx="1490760" cy="43164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4" descr=""/>
          <p:cNvPicPr/>
          <p:nvPr/>
        </p:nvPicPr>
        <p:blipFill>
          <a:blip r:embed="rId3"/>
          <a:stretch/>
        </p:blipFill>
        <p:spPr>
          <a:xfrm>
            <a:off x="2808360" y="2320920"/>
            <a:ext cx="900000" cy="46980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3" descr=""/>
          <p:cNvPicPr/>
          <p:nvPr/>
        </p:nvPicPr>
        <p:blipFill>
          <a:blip r:embed="rId4"/>
          <a:stretch/>
        </p:blipFill>
        <p:spPr>
          <a:xfrm>
            <a:off x="3708360" y="2625840"/>
            <a:ext cx="480960" cy="5760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2" descr=""/>
          <p:cNvPicPr/>
          <p:nvPr/>
        </p:nvPicPr>
        <p:blipFill>
          <a:blip r:embed="rId5"/>
          <a:stretch/>
        </p:blipFill>
        <p:spPr>
          <a:xfrm>
            <a:off x="1198440" y="3483000"/>
            <a:ext cx="1551240" cy="43164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4" descr=""/>
          <p:cNvPicPr/>
          <p:nvPr/>
        </p:nvPicPr>
        <p:blipFill>
          <a:blip r:embed="rId6"/>
          <a:stretch/>
        </p:blipFill>
        <p:spPr>
          <a:xfrm>
            <a:off x="2798640" y="3432240"/>
            <a:ext cx="287640" cy="469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3" descr=""/>
          <p:cNvPicPr/>
          <p:nvPr/>
        </p:nvPicPr>
        <p:blipFill>
          <a:blip r:embed="rId7"/>
          <a:stretch/>
        </p:blipFill>
        <p:spPr>
          <a:xfrm>
            <a:off x="3086280" y="3765600"/>
            <a:ext cx="885600" cy="6192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2" descr=""/>
          <p:cNvPicPr/>
          <p:nvPr/>
        </p:nvPicPr>
        <p:blipFill>
          <a:blip r:embed="rId8"/>
          <a:stretch/>
        </p:blipFill>
        <p:spPr>
          <a:xfrm>
            <a:off x="2165400" y="465300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4" descr=""/>
          <p:cNvPicPr/>
          <p:nvPr/>
        </p:nvPicPr>
        <p:blipFill>
          <a:blip r:embed="rId9"/>
          <a:stretch/>
        </p:blipFill>
        <p:spPr>
          <a:xfrm>
            <a:off x="3780000" y="4681440"/>
            <a:ext cx="287280" cy="47016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3" descr=""/>
          <p:cNvPicPr/>
          <p:nvPr/>
        </p:nvPicPr>
        <p:blipFill>
          <a:blip r:embed="rId10"/>
          <a:stretch/>
        </p:blipFill>
        <p:spPr>
          <a:xfrm>
            <a:off x="4067280" y="4946760"/>
            <a:ext cx="779400" cy="69516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2" descr=""/>
          <p:cNvPicPr/>
          <p:nvPr/>
        </p:nvPicPr>
        <p:blipFill>
          <a:blip r:embed="rId11"/>
          <a:stretch/>
        </p:blipFill>
        <p:spPr>
          <a:xfrm>
            <a:off x="1177920" y="3092400"/>
            <a:ext cx="2602080" cy="1699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2" descr=""/>
          <p:cNvPicPr/>
          <p:nvPr/>
        </p:nvPicPr>
        <p:blipFill>
          <a:blip r:embed="rId12"/>
          <a:stretch/>
        </p:blipFill>
        <p:spPr>
          <a:xfrm>
            <a:off x="1227240" y="5448240"/>
            <a:ext cx="2890800" cy="1890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2" descr=""/>
          <p:cNvPicPr/>
          <p:nvPr/>
        </p:nvPicPr>
        <p:blipFill>
          <a:blip r:embed="rId13"/>
          <a:stretch/>
        </p:blipFill>
        <p:spPr>
          <a:xfrm>
            <a:off x="1198440" y="4309920"/>
            <a:ext cx="2005200" cy="130320"/>
          </a:xfrm>
          <a:prstGeom prst="rect">
            <a:avLst/>
          </a:prstGeom>
          <a:ln w="0">
            <a:noFill/>
          </a:ln>
        </p:spPr>
      </p:pic>
      <p:pic>
        <p:nvPicPr>
          <p:cNvPr id="1215" name="Рисунок 1" descr=""/>
          <p:cNvPicPr/>
          <p:nvPr/>
        </p:nvPicPr>
        <p:blipFill>
          <a:blip r:embed="rId14"/>
          <a:stretch/>
        </p:blipFill>
        <p:spPr>
          <a:xfrm>
            <a:off x="1227240" y="4772160"/>
            <a:ext cx="9745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763280" y="692280"/>
            <a:ext cx="475452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1423b2"/>
                </a:solidFill>
                <a:latin typeface="Times New Roman"/>
                <a:ea typeface="Times New Roman"/>
              </a:rPr>
              <a:t>ПРАВИЛО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556000" y="2060280"/>
            <a:ext cx="648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асть слова 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 окончания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ывается 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ой слова</a:t>
            </a: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423b2"/>
                </a:solidFill>
                <a:latin typeface="Times New Roman"/>
                <a:ea typeface="Times New Roman"/>
              </a:rPr>
              <a:t>ЧАСТИ ОСНОВЫ</a:t>
            </a:r>
            <a:r>
              <a:rPr b="0" lang="ru-RU" sz="32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1042560" y="1413000"/>
            <a:ext cx="6777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1. 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2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3.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4. 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                             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                                      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grpSp>
        <p:nvGrpSpPr>
          <p:cNvPr id="1220" name="Группа 5"/>
          <p:cNvGrpSpPr/>
          <p:nvPr/>
        </p:nvGrpSpPr>
        <p:grpSpPr>
          <a:xfrm>
            <a:off x="2395440" y="2232000"/>
            <a:ext cx="3616560" cy="669960"/>
            <a:chOff x="2395440" y="2232000"/>
            <a:chExt cx="3616560" cy="669960"/>
          </a:xfrm>
        </p:grpSpPr>
        <p:pic>
          <p:nvPicPr>
            <p:cNvPr id="1221" name="Picture 2" descr=""/>
            <p:cNvPicPr/>
            <p:nvPr/>
          </p:nvPicPr>
          <p:blipFill>
            <a:blip r:embed="rId1"/>
            <a:stretch/>
          </p:blipFill>
          <p:spPr>
            <a:xfrm>
              <a:off x="2588400" y="2327400"/>
              <a:ext cx="774720" cy="4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Picture 3" descr=""/>
            <p:cNvPicPr/>
            <p:nvPr/>
          </p:nvPicPr>
          <p:blipFill>
            <a:blip r:embed="rId2"/>
            <a:stretch/>
          </p:blipFill>
          <p:spPr>
            <a:xfrm>
              <a:off x="3461400" y="2232000"/>
              <a:ext cx="1109520" cy="47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Picture 4" descr=""/>
            <p:cNvPicPr/>
            <p:nvPr/>
          </p:nvPicPr>
          <p:blipFill>
            <a:blip r:embed="rId3"/>
            <a:stretch/>
          </p:blipFill>
          <p:spPr>
            <a:xfrm>
              <a:off x="4749480" y="2267280"/>
              <a:ext cx="1090440" cy="4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Picture 10" descr=""/>
            <p:cNvPicPr/>
            <p:nvPr/>
          </p:nvPicPr>
          <p:blipFill>
            <a:blip r:embed="rId4"/>
            <a:stretch/>
          </p:blipFill>
          <p:spPr>
            <a:xfrm>
              <a:off x="2395440" y="2706120"/>
              <a:ext cx="3616560" cy="19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5" name="Группа 6"/>
          <p:cNvGrpSpPr/>
          <p:nvPr/>
        </p:nvGrpSpPr>
        <p:grpSpPr>
          <a:xfrm>
            <a:off x="2411280" y="3213000"/>
            <a:ext cx="2376720" cy="527040"/>
            <a:chOff x="2411280" y="3213000"/>
            <a:chExt cx="2376720" cy="527040"/>
          </a:xfrm>
        </p:grpSpPr>
        <p:pic>
          <p:nvPicPr>
            <p:cNvPr id="1226" name="Picture 5" descr=""/>
            <p:cNvPicPr/>
            <p:nvPr/>
          </p:nvPicPr>
          <p:blipFill>
            <a:blip r:embed="rId5"/>
            <a:stretch/>
          </p:blipFill>
          <p:spPr>
            <a:xfrm>
              <a:off x="2604600" y="3315240"/>
              <a:ext cx="77472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Picture 6" descr=""/>
            <p:cNvPicPr/>
            <p:nvPr/>
          </p:nvPicPr>
          <p:blipFill>
            <a:blip r:embed="rId6"/>
            <a:stretch/>
          </p:blipFill>
          <p:spPr>
            <a:xfrm>
              <a:off x="3492720" y="3213000"/>
              <a:ext cx="11098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Picture 11" descr=""/>
            <p:cNvPicPr/>
            <p:nvPr/>
          </p:nvPicPr>
          <p:blipFill>
            <a:blip r:embed="rId7"/>
            <a:stretch/>
          </p:blipFill>
          <p:spPr>
            <a:xfrm>
              <a:off x="2411280" y="3611880"/>
              <a:ext cx="2376720" cy="12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Группа 7"/>
          <p:cNvGrpSpPr/>
          <p:nvPr/>
        </p:nvGrpSpPr>
        <p:grpSpPr>
          <a:xfrm>
            <a:off x="2387520" y="4087800"/>
            <a:ext cx="2648160" cy="623880"/>
            <a:chOff x="2387520" y="4087800"/>
            <a:chExt cx="2648160" cy="623880"/>
          </a:xfrm>
        </p:grpSpPr>
        <p:pic>
          <p:nvPicPr>
            <p:cNvPr id="1230" name="Picture 7" descr=""/>
            <p:cNvPicPr/>
            <p:nvPr/>
          </p:nvPicPr>
          <p:blipFill>
            <a:blip r:embed="rId8"/>
            <a:stretch/>
          </p:blipFill>
          <p:spPr>
            <a:xfrm>
              <a:off x="2535120" y="4087800"/>
              <a:ext cx="110952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Picture 8" descr=""/>
            <p:cNvPicPr/>
            <p:nvPr/>
          </p:nvPicPr>
          <p:blipFill>
            <a:blip r:embed="rId9"/>
            <a:stretch/>
          </p:blipFill>
          <p:spPr>
            <a:xfrm>
              <a:off x="3918240" y="4119480"/>
              <a:ext cx="109044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Picture 12" descr=""/>
            <p:cNvPicPr/>
            <p:nvPr/>
          </p:nvPicPr>
          <p:blipFill>
            <a:blip r:embed="rId10"/>
            <a:stretch/>
          </p:blipFill>
          <p:spPr>
            <a:xfrm>
              <a:off x="2387520" y="4455720"/>
              <a:ext cx="2648160" cy="25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3" name="Группа 8"/>
          <p:cNvGrpSpPr/>
          <p:nvPr/>
        </p:nvGrpSpPr>
        <p:grpSpPr>
          <a:xfrm>
            <a:off x="2484360" y="5079960"/>
            <a:ext cx="1532160" cy="704880"/>
            <a:chOff x="2484360" y="5079960"/>
            <a:chExt cx="1532160" cy="704880"/>
          </a:xfrm>
        </p:grpSpPr>
        <p:pic>
          <p:nvPicPr>
            <p:cNvPr id="1234" name="Picture 9" descr=""/>
            <p:cNvPicPr/>
            <p:nvPr/>
          </p:nvPicPr>
          <p:blipFill>
            <a:blip r:embed="rId11"/>
            <a:stretch/>
          </p:blipFill>
          <p:spPr>
            <a:xfrm>
              <a:off x="2729880" y="5079960"/>
              <a:ext cx="1110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Picture 13" descr=""/>
            <p:cNvPicPr/>
            <p:nvPr/>
          </p:nvPicPr>
          <p:blipFill>
            <a:blip r:embed="rId12"/>
            <a:stretch/>
          </p:blipFill>
          <p:spPr>
            <a:xfrm>
              <a:off x="2484360" y="5636880"/>
              <a:ext cx="1532160" cy="14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6" name="Группа 6"/>
          <p:cNvGrpSpPr/>
          <p:nvPr/>
        </p:nvGrpSpPr>
        <p:grpSpPr>
          <a:xfrm>
            <a:off x="2408400" y="3213000"/>
            <a:ext cx="2376360" cy="527040"/>
            <a:chOff x="2408400" y="3213000"/>
            <a:chExt cx="2376360" cy="527040"/>
          </a:xfrm>
        </p:grpSpPr>
        <p:pic>
          <p:nvPicPr>
            <p:cNvPr id="1237" name="Picture 5" descr=""/>
            <p:cNvPicPr/>
            <p:nvPr/>
          </p:nvPicPr>
          <p:blipFill>
            <a:blip r:embed="rId13"/>
            <a:stretch/>
          </p:blipFill>
          <p:spPr>
            <a:xfrm>
              <a:off x="2601720" y="3315240"/>
              <a:ext cx="77472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Picture 6" descr=""/>
            <p:cNvPicPr/>
            <p:nvPr/>
          </p:nvPicPr>
          <p:blipFill>
            <a:blip r:embed="rId14"/>
            <a:stretch/>
          </p:blipFill>
          <p:spPr>
            <a:xfrm>
              <a:off x="3489480" y="3213000"/>
              <a:ext cx="11095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Picture 11" descr=""/>
            <p:cNvPicPr/>
            <p:nvPr/>
          </p:nvPicPr>
          <p:blipFill>
            <a:blip r:embed="rId15"/>
            <a:stretch/>
          </p:blipFill>
          <p:spPr>
            <a:xfrm>
              <a:off x="2408400" y="3611880"/>
              <a:ext cx="2376360" cy="12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0" name="Группа 6"/>
          <p:cNvGrpSpPr/>
          <p:nvPr/>
        </p:nvGrpSpPr>
        <p:grpSpPr>
          <a:xfrm>
            <a:off x="2405160" y="3220920"/>
            <a:ext cx="2376360" cy="527040"/>
            <a:chOff x="2405160" y="3220920"/>
            <a:chExt cx="2376360" cy="527040"/>
          </a:xfrm>
        </p:grpSpPr>
        <p:pic>
          <p:nvPicPr>
            <p:cNvPr id="1241" name="Picture 5" descr=""/>
            <p:cNvPicPr/>
            <p:nvPr/>
          </p:nvPicPr>
          <p:blipFill>
            <a:blip r:embed="rId16"/>
            <a:stretch/>
          </p:blipFill>
          <p:spPr>
            <a:xfrm>
              <a:off x="2598480" y="3323160"/>
              <a:ext cx="77472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Picture 6" descr=""/>
            <p:cNvPicPr/>
            <p:nvPr/>
          </p:nvPicPr>
          <p:blipFill>
            <a:blip r:embed="rId17"/>
            <a:stretch/>
          </p:blipFill>
          <p:spPr>
            <a:xfrm>
              <a:off x="3486240" y="3220920"/>
              <a:ext cx="11095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Picture 11" descr=""/>
            <p:cNvPicPr/>
            <p:nvPr/>
          </p:nvPicPr>
          <p:blipFill>
            <a:blip r:embed="rId18"/>
            <a:stretch/>
          </p:blipFill>
          <p:spPr>
            <a:xfrm>
              <a:off x="2405160" y="3619800"/>
              <a:ext cx="2376360" cy="12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Text Box 3"/>
          <p:cNvSpPr/>
          <p:nvPr/>
        </p:nvSpPr>
        <p:spPr>
          <a:xfrm>
            <a:off x="1152720" y="1268280"/>
            <a:ext cx="25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23b2"/>
                </a:solidFill>
                <a:latin typeface="Century Gothic"/>
                <a:ea typeface="Arial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6" name="Text Box 4"/>
          <p:cNvSpPr/>
          <p:nvPr/>
        </p:nvSpPr>
        <p:spPr>
          <a:xfrm>
            <a:off x="755640" y="335772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Зима, поход, дом, вылетел, домик, пришёл, книга, школ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7" name="Picture 2" descr=""/>
          <p:cNvPicPr/>
          <p:nvPr/>
        </p:nvPicPr>
        <p:blipFill>
          <a:blip r:embed="rId1"/>
          <a:stretch/>
        </p:blipFill>
        <p:spPr>
          <a:xfrm>
            <a:off x="1398600" y="1928880"/>
            <a:ext cx="1584360" cy="67932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3" descr=""/>
          <p:cNvPicPr/>
          <p:nvPr/>
        </p:nvPicPr>
        <p:blipFill>
          <a:blip r:embed="rId2"/>
          <a:stretch/>
        </p:blipFill>
        <p:spPr>
          <a:xfrm>
            <a:off x="3046320" y="2384280"/>
            <a:ext cx="804960" cy="70668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2" descr=""/>
          <p:cNvPicPr/>
          <p:nvPr/>
        </p:nvPicPr>
        <p:blipFill>
          <a:blip r:embed="rId3"/>
          <a:stretch/>
        </p:blipFill>
        <p:spPr>
          <a:xfrm>
            <a:off x="1332000" y="2927520"/>
            <a:ext cx="1719000" cy="11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423b2"/>
                </a:solidFill>
                <a:latin typeface="Times New Roman"/>
                <a:ea typeface="Times New Roman"/>
              </a:rPr>
              <a:t>ТЕС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1186920" y="2349360"/>
            <a:ext cx="7417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Часть слова без окончания называется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корень слова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основа слова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423b2"/>
                </a:solidFill>
                <a:latin typeface="Times New Roman"/>
                <a:ea typeface="Times New Roman"/>
              </a:rPr>
              <a:t>ТЕС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1042920" y="2323800"/>
            <a:ext cx="7416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Чтобы найти корень надо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7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7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изменить форму слова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67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подобрать однокоренные слова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08:46:04Z</dcterms:created>
  <dc:creator>Валентина</dc:creator>
  <dc:description/>
  <dc:language>en-US</dc:language>
  <cp:lastModifiedBy>Сигурко</cp:lastModifiedBy>
  <dcterms:modified xsi:type="dcterms:W3CDTF">2017-12-23T17:47:02Z</dcterms:modified>
  <cp:revision>48</cp:revision>
  <dc:subject/>
  <dc:title>Урок русского языка   3класс   Тема  «Основа слова».</dc:title>
</cp:coreProperties>
</file>