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gif" ContentType="image/gif"/>
  <Override PartName="/ppt/media/image5.wmf" ContentType="image/x-wmf"/>
  <Override PartName="/ppt/media/image3.png" ContentType="image/png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5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63.xml.rels" ContentType="application/vnd.openxmlformats-package.relationships+xml"/>
  <Override PartName="/ppt/slides/_rels/slide5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25E5F-25EA-4FE0-984C-8791838754C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66437-4FAA-4AB9-A2B9-546746CBBAB3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7E0B0-8AEC-4600-B609-CA737006D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94709-AF54-43AB-8592-139577CFC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27A74-EE71-4E46-AB99-755228F2C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3EF39-AFD4-4680-9EAF-FD05E973A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5BA37-7354-4AE2-B19E-9C1AA73ED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1B73B-026E-494F-A421-2E9A8936E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2C5E4-925B-464B-A8C6-2983AB102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52CE1-0427-44BE-9CEA-E5B07A651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97E5F-9F33-489B-B83D-53B452F59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1B224-138C-4E4D-8141-0F7C3BE79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09323-ECB6-483A-A753-985F9D8DB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5A471-E3F9-45E2-882B-6FB3136A3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14E05-5316-4197-A05C-3B4A5E5D4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14B25-6280-40DD-A1AB-E6C50DA27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74EB6-DA43-4B53-BDF9-BFF9C6562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1786B-29F5-41F4-8229-8DDB05947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73C30-271A-4DBB-AC94-475D6013A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73244-7F9C-41A3-9191-739F1D8A0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0ADC6-949D-44F7-A3A5-174ED67A5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17615-D7B8-41F8-B7F5-763150A91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E2806-5FF4-406C-9F12-354FC5A09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30D18-23A8-480E-89C6-702461CB2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BB2C8-0F88-409E-AB66-57EA53007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ADCEA-8B3A-4DCD-99F3-C80A47C7A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6B1BA-9BB1-4EE4-91AA-E2F12D34276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ffffc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c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293DB-45B2-477A-BF7F-722A01B423FE}" type="slidenum">
              <a:rPr b="0" lang="ru-RU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png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2478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ГОУ СПО ТО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«Сельскохозяйственный колледж «Богородицкий» имени И.А.Стебута»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Тема: «Самоанализ учебного занятия»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755640" y="4005360"/>
            <a:ext cx="7345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Преподаватель общественных дисциплин Телегина Н.И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4"/>
          <p:cNvSpPr/>
          <p:nvPr/>
        </p:nvSpPr>
        <p:spPr>
          <a:xfrm>
            <a:off x="684360" y="2565360"/>
            <a:ext cx="7704000" cy="29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MV Boli"/>
              </a:rPr>
              <a:t>Оценка содержания деятельности преподавателя и обучающихся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6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Научность, доступность и посильность изучаемого материала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6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Актуальность и связь с жизнью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6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Степень новизны, проблемности и привлекательности учебной информации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6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Оптимальность объема предложенного для усвоения нового материала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7" name="Picture 5" descr="index_01"/>
          <p:cNvPicPr/>
          <p:nvPr/>
        </p:nvPicPr>
        <p:blipFill>
          <a:blip r:embed="rId1"/>
          <a:stretch/>
        </p:blipFill>
        <p:spPr>
          <a:xfrm>
            <a:off x="4067280" y="169920"/>
            <a:ext cx="4876560" cy="157464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5"/>
          <p:cNvSpPr/>
          <p:nvPr/>
        </p:nvSpPr>
        <p:spPr>
          <a:xfrm>
            <a:off x="684360" y="692280"/>
            <a:ext cx="3382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Системный анализ урок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5" descr="index_01"/>
          <p:cNvPicPr/>
          <p:nvPr/>
        </p:nvPicPr>
        <p:blipFill>
          <a:blip r:embed="rId1"/>
          <a:stretch/>
        </p:blipFill>
        <p:spPr>
          <a:xfrm>
            <a:off x="4140360" y="189000"/>
            <a:ext cx="4803480" cy="1574640"/>
          </a:xfrm>
          <a:prstGeom prst="rect">
            <a:avLst/>
          </a:prstGeom>
          <a:ln w="0">
            <a:noFill/>
          </a:ln>
        </p:spPr>
      </p:pic>
      <p:sp>
        <p:nvSpPr>
          <p:cNvPr id="140" name="TextBox 4"/>
          <p:cNvSpPr/>
          <p:nvPr/>
        </p:nvSpPr>
        <p:spPr>
          <a:xfrm>
            <a:off x="611280" y="1768320"/>
            <a:ext cx="8281800" cy="50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MV Boli"/>
              </a:rPr>
              <a:t>Оценка эффективности способов деятельности преподавателя и</a:t>
            </a:r>
            <a:r>
              <a:rPr b="0" i="1" lang="ru-RU" sz="2400" spc="-1" strike="noStrike">
                <a:solidFill>
                  <a:srgbClr val="000000"/>
                </a:solidFill>
                <a:latin typeface="MV Boli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MV Boli"/>
              </a:rPr>
              <a:t>учащихся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6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Рациональность и эффективность использования времени урока, оптимальность темпа, а также чередование и смены видов деятельности в ходе урока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6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Степень целесообразности и эффективности использования наглядности и ТСО на уроке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6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Степень рациональности и эффективности использования методов и организационных форм работы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6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Уровень обратной связи со всеми учащимися в ходе урока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6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Эффективность контроля за работой учащихся и уровень требований, на котором проводилась оценка их знаний, умений и навыков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6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Степень эстетического воздействия урока на учащихся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6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Степень соблюдения правил охраны труда и техники безопасности преподавателем и учащимися в ходе урока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5"/>
          <p:cNvSpPr/>
          <p:nvPr/>
        </p:nvSpPr>
        <p:spPr>
          <a:xfrm>
            <a:off x="900000" y="692280"/>
            <a:ext cx="338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Системный анализ урок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4"/>
          <p:cNvSpPr/>
          <p:nvPr/>
        </p:nvSpPr>
        <p:spPr>
          <a:xfrm>
            <a:off x="684360" y="2133720"/>
            <a:ext cx="8208720" cy="39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MV Boli"/>
              </a:rPr>
              <a:t>Оценка цели и результатов проведенного урока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6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Степень конкретности, четкости и лаконичности формулировки цели урока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6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Реальность, целесообразность, сложность и достижимость цели одновременно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6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Степень обучающего воздействия проведенного урока на учащихся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6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Степень воспитательного воздействия (что и в какой степени способствует воспитанию учащихся в ходе урока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6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Степень воздействия урока на развитие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учающихся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(что и в какой степени способствовало их развитию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Picture 5" descr="index_01"/>
          <p:cNvPicPr/>
          <p:nvPr/>
        </p:nvPicPr>
        <p:blipFill>
          <a:blip r:embed="rId1"/>
          <a:stretch/>
        </p:blipFill>
        <p:spPr>
          <a:xfrm>
            <a:off x="4067280" y="169920"/>
            <a:ext cx="4876560" cy="157464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5"/>
          <p:cNvSpPr/>
          <p:nvPr/>
        </p:nvSpPr>
        <p:spPr>
          <a:xfrm>
            <a:off x="684360" y="692280"/>
            <a:ext cx="3382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Системный анализ урок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4" descr="index_01"/>
          <p:cNvPicPr/>
          <p:nvPr/>
        </p:nvPicPr>
        <p:blipFill>
          <a:blip r:embed="rId1"/>
          <a:stretch/>
        </p:blipFill>
        <p:spPr>
          <a:xfrm>
            <a:off x="4067280" y="169920"/>
            <a:ext cx="4876560" cy="157464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5"/>
          <p:cNvSpPr/>
          <p:nvPr/>
        </p:nvSpPr>
        <p:spPr>
          <a:xfrm>
            <a:off x="826920" y="2492280"/>
            <a:ext cx="7850520" cy="25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I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Tahoma"/>
              </a:rPr>
              <a:t>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 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MV Boli"/>
              </a:rPr>
              <a:t>этап: организационный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Trebuchet MS"/>
              </a:rPr>
              <a:t>Задача этапа: 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подготовить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удентов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 к работе на уроке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Trebuchet MS"/>
              </a:rPr>
              <a:t>Результаты: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 кратковременность оргмомента, полная готовность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руппы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 к работе. Быстрое включение учащихся в деловой ритм и организации внимания у всех учащихся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Trebuchet MS"/>
              </a:rPr>
              <a:t>Рекомендации: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 систематичность оргмомента, последовательность проявления требований, собранность, сдержанность, требовательность самого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еподавателя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TextBox 4"/>
          <p:cNvSpPr/>
          <p:nvPr/>
        </p:nvSpPr>
        <p:spPr>
          <a:xfrm>
            <a:off x="826920" y="692280"/>
            <a:ext cx="324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СТРУКТУРНЫЙ САМОАНАЛИЗ УРОК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4" descr="index_01"/>
          <p:cNvPicPr/>
          <p:nvPr/>
        </p:nvPicPr>
        <p:blipFill>
          <a:blip r:embed="rId1"/>
          <a:stretch/>
        </p:blipFill>
        <p:spPr>
          <a:xfrm>
            <a:off x="4572000" y="352440"/>
            <a:ext cx="4371840" cy="1411200"/>
          </a:xfrm>
          <a:prstGeom prst="rect">
            <a:avLst/>
          </a:prstGeom>
          <a:ln w="0">
            <a:noFill/>
          </a:ln>
        </p:spPr>
      </p:pic>
      <p:sp>
        <p:nvSpPr>
          <p:cNvPr id="149" name="TextBox 3"/>
          <p:cNvSpPr/>
          <p:nvPr/>
        </p:nvSpPr>
        <p:spPr>
          <a:xfrm>
            <a:off x="755640" y="2421000"/>
            <a:ext cx="7993080" cy="32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II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Tahoma"/>
              </a:rPr>
              <a:t>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 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MV Boli"/>
              </a:rPr>
              <a:t>этап: проверка д/з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Trebuchet MS"/>
              </a:rPr>
              <a:t>Задача: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 установить правильность и осознанность выполнения д/з всеми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удентами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Trebuchet MS"/>
              </a:rPr>
              <a:t>Результаты: 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возможность учителя за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сколько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 мин. установить уровень знаний у большинства учащихся. Возможность в ходе проверки д/з скорректировать опорные понятия и ликвидировать обнаруженные недостатки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Trebuchet MS"/>
              </a:rPr>
              <a:t>Рекомендации: 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использование системы приемов которые позволяют опросить возможность выполнения д/з большинством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удентов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, оперативность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еподавателя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TextBox 4"/>
          <p:cNvSpPr/>
          <p:nvPr/>
        </p:nvSpPr>
        <p:spPr>
          <a:xfrm>
            <a:off x="900000" y="620640"/>
            <a:ext cx="374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СТРУКТУРНЫЙ САМОАНАЛИЗ УРОК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5"/>
          <p:cNvSpPr/>
          <p:nvPr/>
        </p:nvSpPr>
        <p:spPr>
          <a:xfrm>
            <a:off x="611280" y="1989000"/>
            <a:ext cx="8353440" cy="50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III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Tahoma"/>
              </a:rPr>
              <a:t>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 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MV Boli"/>
              </a:rPr>
              <a:t>этап: всесторонняя проверка знаний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Trebuchet MS"/>
              </a:rPr>
              <a:t>Задачи: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 глубоко проверить знания отдельных учащихся. Стимулировать опрашиваемых и в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ю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руппу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 к овладен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ю 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рациональными приемами учения и самообразования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Trebuchet MS"/>
              </a:rPr>
              <a:t>Результат: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 проверка учителем не только объема и правильности знаний, но и их глубины, осознанности. Умение использовать их на практике, рецензирование ответов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удентов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, направленных на выявление положительных и отрицательных сторон в знаниях, умениях и навыках. Активная деятельность всего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ллектива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 в ходе проверки знаний отдельных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удентов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Trebuchet MS"/>
              </a:rPr>
              <a:t>Рекомендации: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 использование самых различных методов проверки знаний(фронтальная беседа, тестовая проверка) постановка дополнительных вопросов, которые проверяли бы прочность знаний, создание при опросе нестандартных ситуаций (пусть звучит вопрос "Почему?"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Picture 4" descr="index_01"/>
          <p:cNvPicPr/>
          <p:nvPr/>
        </p:nvPicPr>
        <p:blipFill>
          <a:blip r:embed="rId1"/>
          <a:stretch/>
        </p:blipFill>
        <p:spPr>
          <a:xfrm>
            <a:off x="4572000" y="352440"/>
            <a:ext cx="4371840" cy="1411200"/>
          </a:xfrm>
          <a:prstGeom prst="rect">
            <a:avLst/>
          </a:prstGeom>
          <a:ln w="0">
            <a:noFill/>
          </a:ln>
        </p:spPr>
      </p:pic>
      <p:sp>
        <p:nvSpPr>
          <p:cNvPr id="153" name="TextBox 3"/>
          <p:cNvSpPr/>
          <p:nvPr/>
        </p:nvSpPr>
        <p:spPr>
          <a:xfrm>
            <a:off x="900000" y="692280"/>
            <a:ext cx="36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СТРУКТУРНЫЙ САМОАНАЛИЗ УРОК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4"/>
          <p:cNvSpPr/>
          <p:nvPr/>
        </p:nvSpPr>
        <p:spPr>
          <a:xfrm>
            <a:off x="684360" y="2133720"/>
            <a:ext cx="8137440" cy="32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IV 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MV Boli"/>
              </a:rPr>
              <a:t>этап: подготовка студентов к активному и сознательному усвоения нового материал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Tahoma"/>
              </a:rPr>
              <a:t>Задача: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организовать и направить к цели познавательную деятельность учащихся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Tahoma"/>
              </a:rPr>
              <a:t>Результат: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активная познавательная деятельность на следующем этапе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Tahoma"/>
              </a:rPr>
              <a:t>Рекомендации: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оценка значимости для учащихся нового материала, умение показать чему учащихся должны научиться в ходе урока, умение четко однозначно определить образ. Цель урока, фиксацию этого в поурочном плане.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Picture 5" descr="index_01"/>
          <p:cNvPicPr/>
          <p:nvPr/>
        </p:nvPicPr>
        <p:blipFill>
          <a:blip r:embed="rId1"/>
          <a:stretch/>
        </p:blipFill>
        <p:spPr>
          <a:xfrm>
            <a:off x="4067280" y="169920"/>
            <a:ext cx="4876560" cy="1574640"/>
          </a:xfrm>
          <a:prstGeom prst="rect">
            <a:avLst/>
          </a:prstGeom>
          <a:ln w="0">
            <a:noFill/>
          </a:ln>
        </p:spPr>
      </p:pic>
      <p:sp>
        <p:nvSpPr>
          <p:cNvPr id="156" name="TextBox 3"/>
          <p:cNvSpPr/>
          <p:nvPr/>
        </p:nvSpPr>
        <p:spPr>
          <a:xfrm>
            <a:off x="826920" y="692280"/>
            <a:ext cx="324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СТРУКТУРНЫЙ САМОАНАЛИЗ УРОК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Box 1"/>
          <p:cNvSpPr/>
          <p:nvPr/>
        </p:nvSpPr>
        <p:spPr>
          <a:xfrm>
            <a:off x="0" y="1773360"/>
            <a:ext cx="9144000" cy="52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 u="sng">
                <a:solidFill>
                  <a:srgbClr val="000000"/>
                </a:solidFill>
                <a:uFillTx/>
                <a:latin typeface="Trebuchet MS"/>
              </a:rPr>
              <a:t>Задачи:</a:t>
            </a:r>
            <a:r>
              <a:rPr b="0" lang="ru-RU" sz="1700" spc="-1" strike="noStrike">
                <a:solidFill>
                  <a:srgbClr val="000000"/>
                </a:solidFill>
                <a:latin typeface="Trebuchet MS"/>
              </a:rPr>
              <a:t> дать учащимся конкретное представление об изучаемом, основной идеи изучаемого вопроса добиться от них осознания. Первичного обобщения и систематизация новых знаний, усвоения учащихся способов, путей и средств, которые привели к данному обобщению. На основе приобретаемых знаний вырабатывать соответствующие умения и навыки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 u="sng">
                <a:solidFill>
                  <a:srgbClr val="000000"/>
                </a:solidFill>
                <a:uFillTx/>
                <a:latin typeface="Trebuchet MS"/>
              </a:rPr>
              <a:t>Результат: </a:t>
            </a:r>
            <a:r>
              <a:rPr b="0" lang="ru-RU" sz="1700" spc="-1" strike="noStrike">
                <a:solidFill>
                  <a:srgbClr val="000000"/>
                </a:solidFill>
                <a:latin typeface="Trebuchet MS"/>
              </a:rPr>
              <a:t>при использовании метода эвристической беседы, самостоятельные работы учащихся в сочетании с беседой, использование компьютерной техники, показателем эффективности усвоения учащихся является правильность ответов, действий в процессе беседы, активное участие всего класса в подведении итогов работы, а также качество знаний учащихся на последних этапах обучения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 u="sng">
                <a:solidFill>
                  <a:srgbClr val="000000"/>
                </a:solidFill>
                <a:uFillTx/>
                <a:latin typeface="Trebuchet MS"/>
              </a:rPr>
              <a:t>Рекомендации:</a:t>
            </a:r>
            <a:r>
              <a:rPr b="0" lang="ru-RU" sz="1700" spc="-1" strike="noStrike">
                <a:solidFill>
                  <a:srgbClr val="000000"/>
                </a:solidFill>
                <a:latin typeface="Trebuchet MS"/>
              </a:rPr>
              <a:t>использование приемов, усиливающих восприятие существенных сторон изучаемого материала, восприятие отличительных признаков; вычленение в изучаемом наиболее существенных признаков и фиксация на них внимания учащихся, запись в тетрадях формулировок опорных пунктов плана, тезисов конспекта, использование приемов мышления, самостоятельная работа с книгой, использование наглядности, анализа, синтеза, сравнения, абстрагирования, обобщения, конкретизации; постановка перед учащихся учебной проблемы, создание проблемной ситуации; постановка эвристических вопросов, составление таблиц первичного обобщения материала, актуализация личного опыта и опорных знаний учащихся, словарная работа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Picture 5" descr="index_01"/>
          <p:cNvPicPr/>
          <p:nvPr/>
        </p:nvPicPr>
        <p:blipFill>
          <a:blip r:embed="rId1"/>
          <a:stretch/>
        </p:blipFill>
        <p:spPr>
          <a:xfrm>
            <a:off x="4067280" y="169920"/>
            <a:ext cx="4876560" cy="1574640"/>
          </a:xfrm>
          <a:prstGeom prst="rect">
            <a:avLst/>
          </a:prstGeom>
          <a:ln w="0">
            <a:noFill/>
          </a:ln>
        </p:spPr>
      </p:pic>
      <p:sp>
        <p:nvSpPr>
          <p:cNvPr id="159" name="TextBox 3"/>
          <p:cNvSpPr/>
          <p:nvPr/>
        </p:nvSpPr>
        <p:spPr>
          <a:xfrm>
            <a:off x="1116000" y="1052640"/>
            <a:ext cx="295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V 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MV Boli"/>
              </a:rPr>
              <a:t>этап: усвоение новых знаний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TextBox 4"/>
          <p:cNvSpPr/>
          <p:nvPr/>
        </p:nvSpPr>
        <p:spPr>
          <a:xfrm>
            <a:off x="324000" y="189000"/>
            <a:ext cx="374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СТРУКТУРНЫЙ САМОАНАЛИЗ УРОК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1"/>
          <p:cNvSpPr/>
          <p:nvPr/>
        </p:nvSpPr>
        <p:spPr>
          <a:xfrm>
            <a:off x="684360" y="2060640"/>
            <a:ext cx="8064360" cy="44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VI 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MV Boli"/>
              </a:rPr>
              <a:t>этап: проверка понимания студентами нового материал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Trebuchet MS"/>
              </a:rPr>
              <a:t>Задачи: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установить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 усвоили или нет учащиеся связь между фактами, содержание новых понятий, устранить обнаруженные пробелы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Trebuchet MS"/>
              </a:rPr>
              <a:t>Результат: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основной критерий результативности - уровень осознанности нового материала большинством средних и слабых учащихся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Trebuchet MS"/>
              </a:rPr>
              <a:t>Рекомендации: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постановки вопросов, требующих активной мыслительной деятельности учащихся, создание нестандартных ситуац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й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, обращение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еподавателя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 к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руппе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 с требованием дополнить, уточнить, исправить, найти другое решение. Учет дополнительных вопросов со стороны учащихся для выяснения пробелов в знаниях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2" name="Picture 5" descr="index_01"/>
          <p:cNvPicPr/>
          <p:nvPr/>
        </p:nvPicPr>
        <p:blipFill>
          <a:blip r:embed="rId1"/>
          <a:stretch/>
        </p:blipFill>
        <p:spPr>
          <a:xfrm>
            <a:off x="4067280" y="169920"/>
            <a:ext cx="4876560" cy="1574640"/>
          </a:xfrm>
          <a:prstGeom prst="rect">
            <a:avLst/>
          </a:prstGeom>
          <a:ln w="0">
            <a:noFill/>
          </a:ln>
        </p:spPr>
      </p:pic>
      <p:sp>
        <p:nvSpPr>
          <p:cNvPr id="163" name="TextBox 3"/>
          <p:cNvSpPr/>
          <p:nvPr/>
        </p:nvSpPr>
        <p:spPr>
          <a:xfrm>
            <a:off x="684360" y="692280"/>
            <a:ext cx="3382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СТРУКТУРНЫЙ САМОАНАЛИЗ УРОК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5" descr="index_01"/>
          <p:cNvPicPr/>
          <p:nvPr/>
        </p:nvPicPr>
        <p:blipFill>
          <a:blip r:embed="rId1"/>
          <a:stretch/>
        </p:blipFill>
        <p:spPr>
          <a:xfrm>
            <a:off x="4067280" y="169920"/>
            <a:ext cx="4876560" cy="1574640"/>
          </a:xfrm>
          <a:prstGeom prst="rect">
            <a:avLst/>
          </a:prstGeom>
          <a:ln w="0">
            <a:noFill/>
          </a:ln>
        </p:spPr>
      </p:pic>
      <p:sp>
        <p:nvSpPr>
          <p:cNvPr id="165" name="TextBox 2"/>
          <p:cNvSpPr/>
          <p:nvPr/>
        </p:nvSpPr>
        <p:spPr>
          <a:xfrm>
            <a:off x="826920" y="2205000"/>
            <a:ext cx="7345440" cy="32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VII 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MV Boli"/>
              </a:rPr>
              <a:t>этап: закрепление нового материал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Trebuchet MS"/>
              </a:rPr>
              <a:t>Задача: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закрепить те знания и умения, которые необходимы для самостоятельной работы по новому материалу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Trebuchet MS"/>
              </a:rPr>
              <a:t>Результат: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умение учащихся соотносить между собой факты, умение выделять существенные признаки, ведущих понятий, конкретизировать их, активность учащихся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Trebuchet MS"/>
              </a:rPr>
              <a:t>Рекомендации: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овладение рациональными методами и приемами контроля за знаниями, умениями, учащихся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TextBox 3"/>
          <p:cNvSpPr/>
          <p:nvPr/>
        </p:nvSpPr>
        <p:spPr>
          <a:xfrm>
            <a:off x="826920" y="692280"/>
            <a:ext cx="324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СТРУКТУРНЫЙ САМОАНАЛИЗ УРОК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5" descr="index_01"/>
          <p:cNvPicPr/>
          <p:nvPr/>
        </p:nvPicPr>
        <p:blipFill>
          <a:blip r:embed="rId1"/>
          <a:stretch/>
        </p:blipFill>
        <p:spPr>
          <a:xfrm>
            <a:off x="250920" y="189000"/>
            <a:ext cx="6253200" cy="2160360"/>
          </a:xfrm>
          <a:prstGeom prst="rect">
            <a:avLst/>
          </a:prstGeom>
          <a:ln w="0">
            <a:noFill/>
          </a:ln>
        </p:spPr>
      </p:pic>
      <p:sp>
        <p:nvSpPr>
          <p:cNvPr id="109" name="TextBox 3"/>
          <p:cNvSpPr/>
          <p:nvPr/>
        </p:nvSpPr>
        <p:spPr>
          <a:xfrm>
            <a:off x="971640" y="3284640"/>
            <a:ext cx="460836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Monotype Corsiva"/>
              </a:rPr>
              <a:t>Самоанализ 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Monotype Corsiva"/>
              </a:rPr>
              <a:t>современного урока истории и обществознания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0" name="Picture 4" descr="09"/>
          <p:cNvPicPr/>
          <p:nvPr/>
        </p:nvPicPr>
        <p:blipFill>
          <a:blip r:embed="rId2"/>
          <a:stretch/>
        </p:blipFill>
        <p:spPr>
          <a:xfrm>
            <a:off x="6621480" y="189000"/>
            <a:ext cx="2522520" cy="22143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7" descr="j0195384"/>
          <p:cNvPicPr/>
          <p:nvPr/>
        </p:nvPicPr>
        <p:blipFill>
          <a:blip r:embed="rId3"/>
          <a:stretch/>
        </p:blipFill>
        <p:spPr>
          <a:xfrm>
            <a:off x="6300720" y="3573360"/>
            <a:ext cx="2500560" cy="25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Box 1"/>
          <p:cNvSpPr/>
          <p:nvPr/>
        </p:nvSpPr>
        <p:spPr>
          <a:xfrm>
            <a:off x="826920" y="2349360"/>
            <a:ext cx="7993080" cy="26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VIII 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MV Boli"/>
              </a:rPr>
              <a:t>этап: информация о д/з, инструктаж по его выполнению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Tahoma"/>
              </a:rPr>
              <a:t>Задачи: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ообщить о д/з, разъяснить методику его выполнения и подвести итоги урока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Tahoma"/>
              </a:rPr>
              <a:t>Результат: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равильное выполнение д/з всеми студентами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Tahoma"/>
              </a:rPr>
              <a:t>Рекомендации: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роводить этап в границах урока, включать в состав д/з познавательные задачи, вопросы; дифференцировать подход к отбору материала для д/з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8" name="Picture 5" descr="index_01"/>
          <p:cNvPicPr/>
          <p:nvPr/>
        </p:nvPicPr>
        <p:blipFill>
          <a:blip r:embed="rId1"/>
          <a:stretch/>
        </p:blipFill>
        <p:spPr>
          <a:xfrm>
            <a:off x="4067280" y="169920"/>
            <a:ext cx="4876560" cy="1574640"/>
          </a:xfrm>
          <a:prstGeom prst="rect">
            <a:avLst/>
          </a:prstGeom>
          <a:ln w="0">
            <a:noFill/>
          </a:ln>
        </p:spPr>
      </p:pic>
      <p:sp>
        <p:nvSpPr>
          <p:cNvPr id="169" name="TextBox 3"/>
          <p:cNvSpPr/>
          <p:nvPr/>
        </p:nvSpPr>
        <p:spPr>
          <a:xfrm>
            <a:off x="826920" y="692280"/>
            <a:ext cx="324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СТРУКТУРНЫЙ САМОАНАЛИЗ УРОК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468360" y="2133360"/>
            <a:ext cx="84247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1. </a:t>
            </a:r>
            <a:r>
              <a:rPr b="1" i="1" lang="ru-RU" sz="1600" spc="-1" strike="noStrike">
                <a:solidFill>
                  <a:srgbClr val="000000"/>
                </a:solidFill>
                <a:latin typeface="Trebuchet MS"/>
              </a:rPr>
              <a:t>Краткий (оценочный) анализ</a:t>
            </a: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 -  это общая оценка образовательно - воспитательной функции урока, характеризующая решение образовательной, воспитательной и развивающей задач и дающая оценку их реализации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2. </a:t>
            </a:r>
            <a:r>
              <a:rPr b="1" i="1" lang="ru-RU" sz="1600" spc="-1" strike="noStrike">
                <a:solidFill>
                  <a:srgbClr val="000000"/>
                </a:solidFill>
                <a:latin typeface="Trebuchet MS"/>
              </a:rPr>
              <a:t>Структурный (поэтапный) анализ</a:t>
            </a: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 - это выявление и оценка доминирующих структур (элементов) урока, их целесообразность, обеспечивающая развитие познавательных способностей обучающихся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3. </a:t>
            </a:r>
            <a:r>
              <a:rPr b="1" i="1" lang="ru-RU" sz="1600" spc="-1" strike="noStrike">
                <a:solidFill>
                  <a:srgbClr val="000000"/>
                </a:solidFill>
                <a:latin typeface="Trebuchet MS"/>
              </a:rPr>
              <a:t>Системный анализ</a:t>
            </a: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 – это рассмотрение урока как единой системы с точки зрения решения главной дидактической задачи и  одновременного решения развивающих задач урока, обеспечение формирования знаний, умений и навыков обучающихся, усвоение ими способов учения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4. </a:t>
            </a:r>
            <a:r>
              <a:rPr b="1" i="1" lang="ru-RU" sz="1600" spc="-1" strike="noStrike">
                <a:solidFill>
                  <a:srgbClr val="000000"/>
                </a:solidFill>
                <a:latin typeface="Trebuchet MS"/>
              </a:rPr>
              <a:t>Полный</a:t>
            </a: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 - это система аспектных анализов, включающих оценку реализации задач урока, содержание и виды учебной деятельности обучающихся по таким характеристикам, как уровни усвоения обучающимися  знаний и способов умственной деятельности, развитие студентов, реализация дидактических принципов и результативности урока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5. </a:t>
            </a:r>
            <a:r>
              <a:rPr b="1" i="1" lang="ru-RU" sz="1600" spc="-1" strike="noStrike">
                <a:solidFill>
                  <a:srgbClr val="000000"/>
                </a:solidFill>
                <a:latin typeface="Trebuchet MS"/>
              </a:rPr>
              <a:t>Структурно- временной анализ</a:t>
            </a: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 – это оценка использования времени урока по каждому его этапу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rebuchet MS"/>
              </a:rPr>
              <a:t>6. Комбинированный анализ</a:t>
            </a: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 - это оценка (одновременная) основной дидактической цели урока и структурных элементов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1" name="Picture 5" descr="index_01"/>
          <p:cNvPicPr/>
          <p:nvPr/>
        </p:nvPicPr>
        <p:blipFill>
          <a:blip r:embed="rId1"/>
          <a:stretch/>
        </p:blipFill>
        <p:spPr>
          <a:xfrm>
            <a:off x="4284720" y="189000"/>
            <a:ext cx="4730760" cy="152712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5"/>
          <p:cNvSpPr/>
          <p:nvPr/>
        </p:nvSpPr>
        <p:spPr>
          <a:xfrm>
            <a:off x="826920" y="396720"/>
            <a:ext cx="3384720" cy="5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ФОРМЫ АНАЛИЗА И САМОАНАЛИЗА УРОК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394920" y="2133720"/>
            <a:ext cx="855972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rebuchet MS"/>
              </a:rPr>
              <a:t>7. Психологический анализ</a:t>
            </a: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 – это изучение выполнения психологических требований к уроку (обеспечение познавательной деятельности обучающихся развивающего типа)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rebuchet MS"/>
              </a:rPr>
              <a:t>8. Дидактический анализ</a:t>
            </a: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 -  это анализ основных дидактических категорий (реализация принципов дидактики, отбор методов, приёмов и средств обучения и учения студентов, дидактическая обработка учебного материала урока, педагогическое руководство самостоятельной познавательной деятельностью обучающихся и т.п.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rebuchet MS"/>
              </a:rPr>
              <a:t>9. Аспектный анализ</a:t>
            </a: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 – это рассмотрение, детальное и всестороннее изучение и оценка под определенным углом зрения какой- либо стороны или отдельной цели урока во взаимосвязи с результатами деятельности обучающихся. Примеры аспектов урока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реализация учителем триединой задачи урока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использование развивающих методов на уроке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пути развития познавательного интереса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формирование общеучебных умений и навыков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проверка и оценка знаний, умений и навыков у школьников и т.п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rebuchet MS"/>
              </a:rPr>
              <a:t>10. </a:t>
            </a:r>
            <a:r>
              <a:rPr b="1" i="1" lang="ru-RU" sz="1600" spc="-1" strike="noStrike">
                <a:solidFill>
                  <a:srgbClr val="000000"/>
                </a:solidFill>
                <a:latin typeface="Trebuchet MS"/>
              </a:rPr>
              <a:t>Комплексный</a:t>
            </a:r>
            <a:r>
              <a:rPr b="0" i="1" lang="ru-RU" sz="1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i="1" lang="ru-RU" sz="1600" spc="-1" strike="noStrike">
                <a:solidFill>
                  <a:srgbClr val="000000"/>
                </a:solidFill>
                <a:latin typeface="Trebuchet MS"/>
              </a:rPr>
              <a:t>анализ</a:t>
            </a: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 - это одновременный анализ дидактических, психологических и других основ урока (чаще всего системы уроков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4" name="Picture 5" descr="index_01"/>
          <p:cNvPicPr/>
          <p:nvPr/>
        </p:nvPicPr>
        <p:blipFill>
          <a:blip r:embed="rId1"/>
          <a:stretch/>
        </p:blipFill>
        <p:spPr>
          <a:xfrm>
            <a:off x="4140360" y="115920"/>
            <a:ext cx="4875120" cy="1571760"/>
          </a:xfrm>
          <a:prstGeom prst="rect">
            <a:avLst/>
          </a:prstGeom>
          <a:ln w="0">
            <a:noFill/>
          </a:ln>
        </p:spPr>
      </p:pic>
      <p:sp>
        <p:nvSpPr>
          <p:cNvPr id="175" name="Rectangle 5"/>
          <p:cNvSpPr/>
          <p:nvPr/>
        </p:nvSpPr>
        <p:spPr>
          <a:xfrm>
            <a:off x="971640" y="404640"/>
            <a:ext cx="3024000" cy="5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ФОРМЫ АНАЛИЗА И САМОАНАЛИЗА УРОК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394920" y="2204640"/>
            <a:ext cx="8559720" cy="465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готовность преподавателя и обучающихся к уроку (внешняя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внутренняя, психологическая  готовность обучающихся к уроку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организационные действия учителя (при необходимости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планирование учителем и сообщение обучающимся образовательных, воспитательных и развивающих задач урока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актуализация знаний и способов деятельности студентов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какие методы проблемного обучения использовались учителем (поисковые, исследовательские, проблемное изложение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применение проблемных методов в учении студентов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соотношение деятельности учителя и деятельности обучающихся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объём и характер самостоятельных работ обучающихся и соотношение репродуктивных и продуктивных самостоятельных работ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учёт учителем уровней актуального развития обучающихся и зоны ближайшего их развития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подходы к повышению у студентов положительной мотивации учения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постановка учителем проблемных вопросов, создание проблемных ситуаций, показ их разрешения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владение учителем способами создания проблемных ситуаций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соблюдение правил постановки учебной проблемы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7" name="Picture 5" descr="index_01"/>
          <p:cNvPicPr/>
          <p:nvPr/>
        </p:nvPicPr>
        <p:blipFill>
          <a:blip r:embed="rId1"/>
          <a:stretch/>
        </p:blipFill>
        <p:spPr>
          <a:xfrm>
            <a:off x="4140360" y="115920"/>
            <a:ext cx="4875120" cy="1573200"/>
          </a:xfrm>
          <a:prstGeom prst="rect">
            <a:avLst/>
          </a:prstGeom>
          <a:ln w="0">
            <a:noFill/>
          </a:ln>
        </p:spPr>
      </p:pic>
      <p:sp>
        <p:nvSpPr>
          <p:cNvPr id="178" name="Rectangle 5"/>
          <p:cNvSpPr/>
          <p:nvPr/>
        </p:nvSpPr>
        <p:spPr>
          <a:xfrm>
            <a:off x="900000" y="252360"/>
            <a:ext cx="3241800" cy="14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ПРИМЕРНАЯ СХЕМА КОМПЛЕКСНОГО АНАЛИЗА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ПРОБЛЕМНО - РАЗВИВАЮЩЕГО УРОКА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539280" y="1916280"/>
            <a:ext cx="8209080" cy="465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использование учебника, соотношение репродуктивной и частично- поисковой работы с ним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соответствие подбора наглядных пособий требованию проблемного обучения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формирование специальных и общих учебных умений обучающихся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наличие у обучающихся познавательных умений, формулировка проблемы, выдвижение и обоснование гипотезы, нахождение путей доказательства (опровержения) гипотезы, проверка правильности её решения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умения обучающихся осуществлять логические операции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развитие познавательных способностей обучающихся на каждом этапе урока (что это доказывает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затруднения, возникшие у обучающихся всей группы, у отдельных студентов, их причины, как они были устранены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соблюдение требований проблемно - развивающего обучения к домашней работе обучающихся: какие задания были предложены (на продолжение исследования, начатого на уроке, решение новой, нетиповой задачи, на актуализацию опорных знаний и умений, на применение знаний и умений в новой ситуации, на самостоятельное теоретическое осмысление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учёт учителем индивидуальных особенностей, способностей и подготовленности обучающихся и предложение дифференцированных заданий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что дал урок для развития у обучающихся воли, интеллекта, эмоций, познавательных интересов, речи, памяти, самостоятельности мышления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общая результативность урока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0" name="Picture 5" descr="index_01"/>
          <p:cNvPicPr/>
          <p:nvPr/>
        </p:nvPicPr>
        <p:blipFill>
          <a:blip r:embed="rId1"/>
          <a:stretch/>
        </p:blipFill>
        <p:spPr>
          <a:xfrm>
            <a:off x="4211640" y="115920"/>
            <a:ext cx="4803840" cy="1549440"/>
          </a:xfrm>
          <a:prstGeom prst="rect">
            <a:avLst/>
          </a:prstGeom>
          <a:ln w="0">
            <a:noFill/>
          </a:ln>
        </p:spPr>
      </p:pic>
      <p:sp>
        <p:nvSpPr>
          <p:cNvPr id="181" name="Rectangle 5"/>
          <p:cNvSpPr/>
          <p:nvPr/>
        </p:nvSpPr>
        <p:spPr>
          <a:xfrm>
            <a:off x="900000" y="252360"/>
            <a:ext cx="3241800" cy="14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ПРИМЕРНАЯ СХЕМА КОМПЛЕКСНОГО АНАЛИЗА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ПРОБЛЕМНО - РАЗВИВАЮЩЕГО УРОКА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250920" y="2133360"/>
            <a:ext cx="87040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13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Общие сведения: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Колледж, группа, дата проведения урока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тема урока, задачи урока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13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Оборудование урока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какие средства обучения использовал преподаватель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подготовлены ли наглядные пособия и технические средства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как подготовлена классная доска к уроку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13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Содержание урока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соответствует ли содержание программе, задачам урока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проведена ли его дидактическая обработка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формированию каких знаний, умений и навыков он способствует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с каким материалом учащиеся работали впервые, какие знания, умения и навыки формировались и закрепились на уроке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как материал урока способствовал развитию творческих сил и способностей учащихся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какие общеучебные и специальные умения и навыки развивались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как осуществлялись межпредметные связи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соблюдались ли внутрипредметные связи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способствовало ли содержание урока развитию интереса к учению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3" name="Picture 5" descr="index_01"/>
          <p:cNvPicPr/>
          <p:nvPr/>
        </p:nvPicPr>
        <p:blipFill>
          <a:blip r:embed="rId1"/>
          <a:stretch/>
        </p:blipFill>
        <p:spPr>
          <a:xfrm>
            <a:off x="4211640" y="115920"/>
            <a:ext cx="4803840" cy="1549440"/>
          </a:xfrm>
          <a:prstGeom prst="rect">
            <a:avLst/>
          </a:prstGeom>
          <a:ln w="0">
            <a:noFill/>
          </a:ln>
        </p:spPr>
      </p:pic>
      <p:sp>
        <p:nvSpPr>
          <p:cNvPr id="184" name="Rectangle 5"/>
          <p:cNvSpPr/>
          <p:nvPr/>
        </p:nvSpPr>
        <p:spPr>
          <a:xfrm>
            <a:off x="1042920" y="333000"/>
            <a:ext cx="316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ЛИСТ НАБЛЮДЕНИЯ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(схема анализа и самоанализа урока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178920" y="1773000"/>
            <a:ext cx="877572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13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Тип и структура урока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какой тип урока избран, его целесообразность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место урока в системе уроков по данному разделу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как осуществлялась связь урока с предыдущими уроками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каковы этапы урока, их последовательность и логическая связь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соответствие структуры урока данному типу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как обеспечивалась целостность и завершённость урока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13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Реализация принципов обучения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принцип направленности обучения на комплексное решение задач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в чём выразилась научность обучения, связь с жизнью, с практикой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как реализовывался принцип доступности обучения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с какой целью использовался каждый вид наглядности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как соблюдался принцип систематичности и последовательности формирования знаний, умений, навыков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как достигалась сознательность, активность и самостоятельность учащихся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как осуществлялось руководство учением школьников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в какой мере осуществлялось развитие учащихся на уроке;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какой характер познавательной деятельности преобладал (репродуктивный, поисковый, творческий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как реализовывались индивидуализация и дифференциация обучения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как стимулировалось положительное отношение обучающихся к учению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6" name="Picture 5" descr="index_01"/>
          <p:cNvPicPr/>
          <p:nvPr/>
        </p:nvPicPr>
        <p:blipFill>
          <a:blip r:embed="rId1"/>
          <a:stretch/>
        </p:blipFill>
        <p:spPr>
          <a:xfrm>
            <a:off x="4211640" y="115920"/>
            <a:ext cx="4803840" cy="1549440"/>
          </a:xfrm>
          <a:prstGeom prst="rect">
            <a:avLst/>
          </a:prstGeom>
          <a:ln w="0">
            <a:noFill/>
          </a:ln>
        </p:spPr>
      </p:pic>
      <p:sp>
        <p:nvSpPr>
          <p:cNvPr id="187" name="Rectangle 5"/>
          <p:cNvSpPr/>
          <p:nvPr/>
        </p:nvSpPr>
        <p:spPr>
          <a:xfrm>
            <a:off x="971640" y="333000"/>
            <a:ext cx="316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ЛИСТ НАБЛЮДЕНИЯ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(схема анализа и самоанализа урока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323640" y="2133360"/>
            <a:ext cx="86310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13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Методы обучения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в какой мере применяемые методы соответствовали задачам урока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какой характер познавательной деятельности они обеспечивали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какие методы способствовали активизации учения студентов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как планировалась и проводилась самостоятельная работа и обеспечивала ли она развитие познавательной самостоятельности обучающихся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какова эффективность использованных методов и приёмов обучения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13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Организация учебной работы на уроке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как осуществлялась постановка учебных задач на каждом этапе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как сочетались разные формы: индивидуальная, групповая, классная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осуществлялось ли чередование разных видов деятельности обучающихся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как организовывался контроль за деятельностью обучающихся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правильно ли оценивались знания и умения студентов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как учитель осуществлял развитие обучающихся (развитие логического мышления, критичности мысли, умений сравнивать, делать выводы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какие приёмы использовал учитель для организации обучающихся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как подводил итоги этапов и всего урока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9" name="Picture 5" descr="index_01"/>
          <p:cNvPicPr/>
          <p:nvPr/>
        </p:nvPicPr>
        <p:blipFill>
          <a:blip r:embed="rId1"/>
          <a:stretch/>
        </p:blipFill>
        <p:spPr>
          <a:xfrm>
            <a:off x="4500720" y="189000"/>
            <a:ext cx="4514760" cy="1457280"/>
          </a:xfrm>
          <a:prstGeom prst="rect">
            <a:avLst/>
          </a:prstGeom>
          <a:ln w="0">
            <a:noFill/>
          </a:ln>
        </p:spPr>
      </p:pic>
      <p:sp>
        <p:nvSpPr>
          <p:cNvPr id="190" name="Rectangle 5"/>
          <p:cNvSpPr/>
          <p:nvPr/>
        </p:nvSpPr>
        <p:spPr>
          <a:xfrm>
            <a:off x="1116000" y="404280"/>
            <a:ext cx="316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ЛИСТ НАБЛЮДЕНИЯ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(схема анализа и самоанализа урока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250920" y="2017440"/>
            <a:ext cx="87040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13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Система работы преподавателя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умение общей организации работы на уроке, распределение времени, логика перехода от одного этапа к другому, управление учебной работой учащихся, владение группой, соблюдение дисциплины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оказ учащимся рациональных способов учебной работы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пределение объёма учебного материала на урок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оведение преподавателя на уроке: тон, такт, местонахождение, внешний вид, манеры, речь, эмоциональность, характер обучения (демократичный или авторитарный), объективность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роль учителя в создании нужного психологического микроклимата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13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Система работы обучающихся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рганизованность и активность на разных этапах урока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адекватность эмоционального отклика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методы и приёмы работы, уровень их сформированности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тношение к учителю, предмету, уроку, домашнему заданию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уровень усвоения основных знаний и умений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наличие умений творческого применения знаний, умений и навыков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2" name="Picture 5" descr="index_01"/>
          <p:cNvPicPr/>
          <p:nvPr/>
        </p:nvPicPr>
        <p:blipFill>
          <a:blip r:embed="rId1"/>
          <a:stretch/>
        </p:blipFill>
        <p:spPr>
          <a:xfrm>
            <a:off x="4427640" y="189000"/>
            <a:ext cx="4587840" cy="1479600"/>
          </a:xfrm>
          <a:prstGeom prst="rect">
            <a:avLst/>
          </a:prstGeom>
          <a:ln w="0">
            <a:noFill/>
          </a:ln>
        </p:spPr>
      </p:pic>
      <p:sp>
        <p:nvSpPr>
          <p:cNvPr id="193" name="Rectangle 5"/>
          <p:cNvSpPr/>
          <p:nvPr/>
        </p:nvSpPr>
        <p:spPr>
          <a:xfrm>
            <a:off x="971640" y="333000"/>
            <a:ext cx="316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ЛИСТ НАБЛЮДЕНИЯ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(схема анализа и самоанализа урока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611280" y="2205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13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Общие результаты урока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выполнение плана урока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мера реализации общеобразовательной, воспитывающей и развивающей задач урока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уровни усвоения знаний и способов деятельности обучающихся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1-й – усвоение на уроке восприятия, понимания, запоминания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2-й – применение в аналогичной и сходной ситуации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3-й – применение в новой ситуации, то есть творческое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общая оценка результатов и эффективности урока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рекомендации по улучшению качества урока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5" name="Picture 5" descr="index_01"/>
          <p:cNvPicPr/>
          <p:nvPr/>
        </p:nvPicPr>
        <p:blipFill>
          <a:blip r:embed="rId1"/>
          <a:stretch/>
        </p:blipFill>
        <p:spPr>
          <a:xfrm>
            <a:off x="4500720" y="189000"/>
            <a:ext cx="4514760" cy="1457280"/>
          </a:xfrm>
          <a:prstGeom prst="rect">
            <a:avLst/>
          </a:prstGeom>
          <a:ln w="0">
            <a:noFill/>
          </a:ln>
        </p:spPr>
      </p:pic>
      <p:sp>
        <p:nvSpPr>
          <p:cNvPr id="196" name="Rectangle 5"/>
          <p:cNvSpPr/>
          <p:nvPr/>
        </p:nvSpPr>
        <p:spPr>
          <a:xfrm>
            <a:off x="1042920" y="333000"/>
            <a:ext cx="316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ЛИСТ НАБЛЮДЕНИЯ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(схема анализа и самоанализа урока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Box 1"/>
          <p:cNvSpPr/>
          <p:nvPr/>
        </p:nvSpPr>
        <p:spPr>
          <a:xfrm>
            <a:off x="2268360" y="1916280"/>
            <a:ext cx="489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МЕТОДИЧЕСКИЕ РЕКОМЕНДАЦИИ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3" name="Picture 5" descr="index_01"/>
          <p:cNvPicPr/>
          <p:nvPr/>
        </p:nvPicPr>
        <p:blipFill>
          <a:blip r:embed="rId1"/>
          <a:stretch/>
        </p:blipFill>
        <p:spPr>
          <a:xfrm>
            <a:off x="4067280" y="169920"/>
            <a:ext cx="4876560" cy="1574640"/>
          </a:xfrm>
          <a:prstGeom prst="rect">
            <a:avLst/>
          </a:prstGeom>
          <a:ln w="0">
            <a:noFill/>
          </a:ln>
        </p:spPr>
      </p:pic>
      <p:sp>
        <p:nvSpPr>
          <p:cNvPr id="114" name="TextBox 3"/>
          <p:cNvSpPr/>
          <p:nvPr/>
        </p:nvSpPr>
        <p:spPr>
          <a:xfrm>
            <a:off x="1692360" y="2421000"/>
            <a:ext cx="633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MV Boli"/>
              </a:rPr>
              <a:t>Памятка преподавателю к самоанализу урок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TextBox 4"/>
          <p:cNvSpPr/>
          <p:nvPr/>
        </p:nvSpPr>
        <p:spPr>
          <a:xfrm>
            <a:off x="971640" y="2852640"/>
            <a:ext cx="777708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1. Какова целевая установка урока (цели, задачи)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2. Как данный урок связан с другими уроками темы 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3. Были ли отклонения от замысла и, если были, чем они вызваны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4. Достигнуты ли цели урока ? По каким признакам судит об этом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еподаватель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5. Что наиболее удалось на уроке 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6. В чем учитель видит недостатки урока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7. Какие выводы на будущее делает для себя 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323640" y="2133360"/>
            <a:ext cx="86310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13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rebuchet MS"/>
              </a:rPr>
              <a:t>Основа педагогической практики 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− проведение и анализ уроков и внеурочных воспитательных мероприятий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13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rebuchet MS"/>
              </a:rPr>
              <a:t>Основа системного анализа − 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это пять структурно-функциональных компонентов деятельного подхода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13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Оценка основных личностных качеств учителя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13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Оценка основных характеристик обучающихся данного класса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13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Оценка содержания совместной деятельности учителя и обучающихся в ходе урока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13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Оценка эффективности способов деятельности учителя и обучающихся в ходе урока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13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Оценка цели и результатов проведения урока с позиции эффективности основных действий учителя и обучающихся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13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rebuchet MS"/>
              </a:rPr>
              <a:t>Основа данного подхода − 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определение урока: </a:t>
            </a:r>
            <a:r>
              <a:rPr b="0" i="1" lang="ru-RU" sz="1800" spc="-1" strike="noStrike">
                <a:solidFill>
                  <a:srgbClr val="000000"/>
                </a:solidFill>
                <a:latin typeface="Trebuchet MS"/>
              </a:rPr>
              <a:t>урок 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− это система воспитательно-образовательной и организационной деятельности учителя в единстве с учебно-познавательной деятельностью обучающихся, направленная на достижение цели и задач их общего (или специального) обучения, воспитания и развития в соответствии с государственным образовательным стандартом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8" name="Picture 5" descr="index_01"/>
          <p:cNvPicPr/>
          <p:nvPr/>
        </p:nvPicPr>
        <p:blipFill>
          <a:blip r:embed="rId1"/>
          <a:stretch/>
        </p:blipFill>
        <p:spPr>
          <a:xfrm>
            <a:off x="4284720" y="115920"/>
            <a:ext cx="4730760" cy="1527120"/>
          </a:xfrm>
          <a:prstGeom prst="rect">
            <a:avLst/>
          </a:prstGeom>
          <a:ln w="0">
            <a:noFill/>
          </a:ln>
        </p:spPr>
      </p:pic>
      <p:sp>
        <p:nvSpPr>
          <p:cNvPr id="199" name="Rectangle 5"/>
          <p:cNvSpPr/>
          <p:nvPr/>
        </p:nvSpPr>
        <p:spPr>
          <a:xfrm>
            <a:off x="250920" y="333000"/>
            <a:ext cx="4325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ТЕОРИЯ, МЕТОДИКА И ТЕХНОЛОГИЯ СИСТЕМНОГО АНАЛИЗА УРОКА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(ПО  В.П. СИМОНОВУ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5" descr="index_01"/>
          <p:cNvPicPr/>
          <p:nvPr/>
        </p:nvPicPr>
        <p:blipFill>
          <a:blip r:embed="rId1"/>
          <a:stretch/>
        </p:blipFill>
        <p:spPr>
          <a:xfrm>
            <a:off x="4427640" y="189000"/>
            <a:ext cx="4516200" cy="145728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512640" y="2133720"/>
            <a:ext cx="863136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14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Дадим описание компонентов деятельностного подхода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14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rebuchet MS"/>
              </a:rPr>
              <a:t>Оценка основных личностных качеств учителя</a:t>
            </a: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 (первого, ведущего субъекта деятельности и компонента урока как деятельностной системы)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14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1.   Знание предмета и общая эрудиция учителя в целом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14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2.   Уровень его педагогического и методического мастерства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14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3.  Культура речи: темп, дикция, интенсивность, образность, эмоциональность, общая и специфическая грамотность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14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4.   Степень тактичности и демократичности взаимоотношений с обучающимися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14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5.    Внешний вид педагога, мимика, жесты и культура поведения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14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rebuchet MS"/>
              </a:rPr>
              <a:t>Оценка основных характеристик обучающихся данного класса </a:t>
            </a: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(второго субъекта деятельности и компонента урока как деятельностной системы)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14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1. Степень познавательной активности, творчества и самостоятельности обучающихся в ходе урока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14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2.   Уровень общеучебных и специальных умений и навыков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14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3.   Наличие и эффективность коллективных (групповых) форм работы на уроке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14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4. Степень дисциплинированности, организованности и заинтересованности обучающихся в ходе урока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Rectangle 5"/>
          <p:cNvSpPr/>
          <p:nvPr/>
        </p:nvSpPr>
        <p:spPr>
          <a:xfrm>
            <a:off x="395280" y="333000"/>
            <a:ext cx="403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ТЕОРИЯ, МЕТОДИКА И ТЕХНОЛОГИЯ СИСТЕМНОГО АНАЛИЗА УРОКА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(ПО  В.П. СИМОНОВУ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188640" y="2131920"/>
            <a:ext cx="8955000" cy="47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13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rebuchet MS"/>
              </a:rPr>
              <a:t>Оценка содержания совместной деятельности учителя и обучающихся в ходе урока </a:t>
            </a: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(первого системообразующего фактора урока как деятельностной системы)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13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1. Научность, доступность и посильность изучаемого учебного материала, формируемых умений и навыков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13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2. Актуальность содержания изучаемого материала и связь с жизнью (связь теории с практикой)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13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3. Степень новизны, проблемности и привлекательности учебного материала (получаемой обучающимися информации)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13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4. Оптимальность объёма, предложенного для усвоения материала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13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rebuchet MS"/>
              </a:rPr>
              <a:t>Оценка эффективности способов деятельности учителя и обучающихся в ходе урока </a:t>
            </a: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(второго системообразующего фактора урока как деятельностной системы)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13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1. Рациональность и эффективность использования времени занятия, оптимальность его темпа, а также чередования и смены видов деятельности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13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2.  Степень целесообразности и эффективности использования наглядности и ТСО в его ходе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13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3. Рациональность и эффективность используемых методов и организационных форм работы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13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4. Уровень обратной связи с обучающимися в ходе занятия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4" name="Picture 5" descr="index_01"/>
          <p:cNvPicPr/>
          <p:nvPr/>
        </p:nvPicPr>
        <p:blipFill>
          <a:blip r:embed="rId1"/>
          <a:stretch/>
        </p:blipFill>
        <p:spPr>
          <a:xfrm>
            <a:off x="4500720" y="189000"/>
            <a:ext cx="4514760" cy="1457280"/>
          </a:xfrm>
          <a:prstGeom prst="rect">
            <a:avLst/>
          </a:prstGeom>
          <a:ln w="0">
            <a:noFill/>
          </a:ln>
        </p:spPr>
      </p:pic>
      <p:sp>
        <p:nvSpPr>
          <p:cNvPr id="205" name="Rectangle 5"/>
          <p:cNvSpPr/>
          <p:nvPr/>
        </p:nvSpPr>
        <p:spPr>
          <a:xfrm>
            <a:off x="395280" y="333000"/>
            <a:ext cx="403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ТЕОРИЯ, МЕТОДИКА И ТЕХНОЛОГИЯ СИСТЕМНОГО АНАЛИЗА УРОКА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(ПО  В.П. СИМОНОВУ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107640" y="1989000"/>
            <a:ext cx="87757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13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5. Эффективность контроля за учебной деятельностью обучающихся и уровень требований, на котором проводилась оценка их знаний, умений и навыков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13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6. Степень эстетического воздействия проводимого урока на учеников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13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7. Степень соблюдения правил охраны труда и техники безопасности учителем и обучающимися в ходе урока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13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rebuchet MS"/>
              </a:rPr>
              <a:t>Оценка цели и результатов проведённого урока с позиций эффективности основных действий учителя и обучающихся 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(третьего системообразующего фактора урока как деятельностной системы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13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1. Степень конкретности, чёткости и лаконичности формулировки цели урока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13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2.</a:t>
            </a:r>
            <a:r>
              <a:rPr b="1" lang="ru-RU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Реальность, целесообразность, сложность и достижимость цели одновременно.</a:t>
            </a:r>
            <a:r>
              <a:rPr b="1" lang="ru-RU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13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3. Степень обучающего воздействия проведённого урока на учащихся (чему и в какой степени научились)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13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4. Степень воспитательного воздействия проведённого урока (что способствовало их воспитанию и в какой степени?)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13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5. Степень воздействия урока на развитие школьников (что способствовало и что препятствовало их развитию в ходе урока и в какой степени?)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7" name="Picture 5" descr="index_01"/>
          <p:cNvPicPr/>
          <p:nvPr/>
        </p:nvPicPr>
        <p:blipFill>
          <a:blip r:embed="rId1"/>
          <a:stretch/>
        </p:blipFill>
        <p:spPr>
          <a:xfrm>
            <a:off x="4572000" y="189000"/>
            <a:ext cx="4443480" cy="1434960"/>
          </a:xfrm>
          <a:prstGeom prst="rect">
            <a:avLst/>
          </a:prstGeom>
          <a:ln w="0">
            <a:noFill/>
          </a:ln>
        </p:spPr>
      </p:pic>
      <p:sp>
        <p:nvSpPr>
          <p:cNvPr id="208" name="Rectangle 5"/>
          <p:cNvSpPr/>
          <p:nvPr/>
        </p:nvSpPr>
        <p:spPr>
          <a:xfrm>
            <a:off x="395280" y="333000"/>
            <a:ext cx="403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ТЕОРИЯ, МЕТОДИКА И ТЕХНОЛОГИЯ СИСТЕМНОГО АНАЛИЗА УРОКА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(ПО  В.П. СИМОНОВУ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323640" y="2017800"/>
            <a:ext cx="8631000" cy="465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rebuchet MS"/>
              </a:rPr>
              <a:t>ФИО эксперта     ___________________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rebuchet MS"/>
              </a:rPr>
              <a:t>ФИО  преподавателя   ____________________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rebuchet MS"/>
              </a:rPr>
              <a:t>Тема учебного занятия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     ______________________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rebuchet MS"/>
              </a:rPr>
              <a:t>Форма учебного занятия    _____________________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rebuchet MS"/>
              </a:rPr>
              <a:t>Шкала оценивания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rebuchet MS"/>
              </a:rPr>
              <a:t>0 баллов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 – не реализовано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rebuchet MS"/>
              </a:rPr>
              <a:t>1 балл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 – частично реализовано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rebuchet MS"/>
              </a:rPr>
              <a:t>2 балла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 – реализовано полностью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rebuchet MS"/>
              </a:rPr>
              <a:t>Примечание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: каждый показатель в таблице оценивается отдельно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Rectangle 4"/>
          <p:cNvSpPr/>
          <p:nvPr/>
        </p:nvSpPr>
        <p:spPr>
          <a:xfrm>
            <a:off x="1116000" y="720"/>
            <a:ext cx="3311640" cy="245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9640" rIns="539640" tIns="539640" bIns="5396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ЛИСТ НАБЛЮДЕНИЯ УРОКА ИСТОРИИ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1" name="Picture 5" descr="index_01"/>
          <p:cNvPicPr/>
          <p:nvPr/>
        </p:nvPicPr>
        <p:blipFill>
          <a:blip r:embed="rId1"/>
          <a:stretch/>
        </p:blipFill>
        <p:spPr>
          <a:xfrm>
            <a:off x="4500720" y="115920"/>
            <a:ext cx="4516200" cy="14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5"/>
          <p:cNvSpPr/>
          <p:nvPr/>
        </p:nvSpPr>
        <p:spPr>
          <a:xfrm>
            <a:off x="1116000" y="-352080"/>
            <a:ext cx="7343640" cy="190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9640" rIns="539640" tIns="539640" bIns="5396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ЛИСТ НАБЛЮДЕНИЯ УРОКА ИСТОРИИ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" name="Rectangle 49"/>
          <p:cNvSpPr/>
          <p:nvPr/>
        </p:nvSpPr>
        <p:spPr>
          <a:xfrm>
            <a:off x="4067280" y="548280"/>
            <a:ext cx="403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ahoma"/>
              </a:rPr>
              <a:t>Таблица. Лист наблюдения урока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1332000" y="907920"/>
          <a:ext cx="6769080" cy="5446800"/>
        </p:xfrm>
        <a:graphic>
          <a:graphicData uri="http://schemas.openxmlformats.org/drawingml/2006/table">
            <a:tbl>
              <a:tblPr/>
              <a:tblGrid>
                <a:gridCol w="350640"/>
                <a:gridCol w="5112000"/>
                <a:gridCol w="1306440"/>
              </a:tblGrid>
              <a:tr h="5202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итерии эффективности учебного занят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ател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в баллах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леполагание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еткость поставленных целей и задач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ведение целей занятия до учащихс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ответствие содержания урока задачам учебного занят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ет особенностей групп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ровень достижения целей урока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разовательн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вивающи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спитательн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 (</a:t>
                      </a: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ксимум  - 14 баллов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5" name=""/>
          <p:cNvGraphicFramePr/>
          <p:nvPr/>
        </p:nvGraphicFramePr>
        <p:xfrm>
          <a:off x="1187280" y="44280"/>
          <a:ext cx="6985080" cy="6400800"/>
        </p:xfrm>
        <a:graphic>
          <a:graphicData uri="http://schemas.openxmlformats.org/drawingml/2006/table">
            <a:tbl>
              <a:tblPr/>
              <a:tblGrid>
                <a:gridCol w="385920"/>
                <a:gridCol w="5621400"/>
                <a:gridCol w="977760"/>
              </a:tblGrid>
              <a:tr h="3988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.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держание урока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учность материал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ступность материала для учащихс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уктурированность, логичность изложения материал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циональность объема изучаемого материал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циональность распределения времени на каждый этап уро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ализация межпредметных связ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ьтернативность оценок исторического прошло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блемн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правленность урока на формирование теоретических знаний у учащихся: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крытие на конкретно исторических примерах изученных теоретических положений и понят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язь с жизнью, практической деятельностью школьник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циональность сочетания теоретического и практического материал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6" name=""/>
          <p:cNvGraphicFramePr/>
          <p:nvPr/>
        </p:nvGraphicFramePr>
        <p:xfrm>
          <a:off x="1258920" y="1197000"/>
          <a:ext cx="6877080" cy="5040360"/>
        </p:xfrm>
        <a:graphic>
          <a:graphicData uri="http://schemas.openxmlformats.org/drawingml/2006/table">
            <a:tbl>
              <a:tblPr/>
              <a:tblGrid>
                <a:gridCol w="468360"/>
                <a:gridCol w="5078160"/>
                <a:gridCol w="1330560"/>
              </a:tblGrid>
              <a:tr h="568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иентация занятия на формирование исторических представлений у студентов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9060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 фактах прошлого (материальная, социально0политическая, историко-культурная жизнь людей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88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 историческом времен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0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 историческом пространств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15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 (</a:t>
                      </a: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ксимум  - 28 баллов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7" name=""/>
          <p:cNvGraphicFramePr/>
          <p:nvPr/>
        </p:nvGraphicFramePr>
        <p:xfrm>
          <a:off x="755640" y="333360"/>
          <a:ext cx="7834320" cy="6188040"/>
        </p:xfrm>
        <a:graphic>
          <a:graphicData uri="http://schemas.openxmlformats.org/drawingml/2006/table">
            <a:tbl>
              <a:tblPr/>
              <a:tblGrid>
                <a:gridCol w="431640"/>
                <a:gridCol w="5977080"/>
                <a:gridCol w="1425600"/>
              </a:tblGrid>
              <a:tr h="3988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изация познавательной деятельности студентов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туализация опорных зна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бор структуры урока, ориентированной на развитие самостоятельной познавательной деятельности учащихс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влечение исторических источников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исьменн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зуальн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тн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плексное использование исторических источник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пользование методов критического анализа источников информ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мостоятельность работы учащихся с источниками информаци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пользование активных методов обучения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ключение каждого учащегося в деятельность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изация учебной дискусс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8" name=""/>
          <p:cNvGraphicFramePr/>
          <p:nvPr/>
        </p:nvGraphicFramePr>
        <p:xfrm>
          <a:off x="971640" y="189000"/>
          <a:ext cx="7840440" cy="6522840"/>
        </p:xfrm>
        <a:graphic>
          <a:graphicData uri="http://schemas.openxmlformats.org/drawingml/2006/table">
            <a:tbl>
              <a:tblPr/>
              <a:tblGrid>
                <a:gridCol w="576000"/>
                <a:gridCol w="6264360"/>
                <a:gridCol w="1000080"/>
              </a:tblGrid>
              <a:tr h="5205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изация учебного сотрудничества студентов (тренинг коммуникативных навыков и преодоления учебных конфликтов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блюдение принципа ролевого участия (распределение компонентов учебной деятельности между учащимися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фференцированный характер зада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правленность заданий на развитие умений студентов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ебно-организационн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ебно-информационн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ебно-интеллектуальн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чевых (устная и письменная речь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правленность заданий для учащихся на оценку событий прошлого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ределение собственной позиции по отношению к явлениям современной жизни, исходя из их исторической обусловлен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отнесение своих действий и поступков окружающих с исторически возникшими формами социального повед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пользование мультимедийных технолог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 (</a:t>
                      </a: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ксимум  - 42 балла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: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Box 1"/>
          <p:cNvSpPr/>
          <p:nvPr/>
        </p:nvSpPr>
        <p:spPr>
          <a:xfrm>
            <a:off x="324000" y="1989000"/>
            <a:ext cx="85676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1) Какое место урок занимает в изучении темы? Какому этапу тематического блока он соответствует? В связи с этим, насколько обоснован выбор данного типа и  вида урока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2) Каковы цели учебного занятия? Чем они обусловлены? Как в них отражаются современные подходы к целям и содержанию исторического образован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3) В какой степени учебный материал урока соответствует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ГОС по специальности СПО?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4) Как в содержании занятия отражены новые данные исторической науки, современные подходы к анализу и оценкам прошлого, неоднозначные версии и суждения по поводу изучаемых фактов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5) Кто (или что) был для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удентов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 основным источником информации по новой теме? Как он был представлен: как единственный и безапелляционный, как один из надежных и достоверных, как один из возможных и оригинальных и т.п.? Обучались ли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уденты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 приемам критического анализа исторических источников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7" name="Picture 5" descr="index_01"/>
          <p:cNvPicPr/>
          <p:nvPr/>
        </p:nvPicPr>
        <p:blipFill>
          <a:blip r:embed="rId1"/>
          <a:stretch/>
        </p:blipFill>
        <p:spPr>
          <a:xfrm>
            <a:off x="4067280" y="169920"/>
            <a:ext cx="4876560" cy="1574640"/>
          </a:xfrm>
          <a:prstGeom prst="rect">
            <a:avLst/>
          </a:prstGeom>
          <a:ln w="0">
            <a:noFill/>
          </a:ln>
        </p:spPr>
      </p:pic>
      <p:sp>
        <p:nvSpPr>
          <p:cNvPr id="118" name="TextBox 1"/>
          <p:cNvSpPr/>
          <p:nvPr/>
        </p:nvSpPr>
        <p:spPr>
          <a:xfrm>
            <a:off x="826920" y="0"/>
            <a:ext cx="324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МЕТОДИЧЕСКИЕ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РЕКОМЕНДАЦИИ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TextBox 4"/>
          <p:cNvSpPr/>
          <p:nvPr/>
        </p:nvSpPr>
        <p:spPr>
          <a:xfrm>
            <a:off x="1042920" y="692280"/>
            <a:ext cx="295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MV Boli"/>
              </a:rPr>
              <a:t>Самоанализ урока истории и обществознани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9" name=""/>
          <p:cNvGraphicFramePr/>
          <p:nvPr/>
        </p:nvGraphicFramePr>
        <p:xfrm>
          <a:off x="826920" y="476280"/>
          <a:ext cx="7767720" cy="5273640"/>
        </p:xfrm>
        <a:graphic>
          <a:graphicData uri="http://schemas.openxmlformats.org/drawingml/2006/table">
            <a:tbl>
              <a:tblPr/>
              <a:tblGrid>
                <a:gridCol w="360360"/>
                <a:gridCol w="6199200"/>
                <a:gridCol w="1208160"/>
              </a:tblGrid>
              <a:tr h="5205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V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изация контроля и оценки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тоды и формы проверки знаний учащихся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row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нообраз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дивидуализированн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правленность на активизацию знаний школьник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вивающий характер форм и методов провер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пользование возможностей словесной и балльной оценок, их мотивированн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хват проверкой многосторонних результатов обучения истории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воение системы исторических зна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витие исторического мышл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владение способами действий с историческим материало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0" name=""/>
          <p:cNvGraphicFramePr/>
          <p:nvPr/>
        </p:nvGraphicFramePr>
        <p:xfrm>
          <a:off x="1150920" y="214200"/>
          <a:ext cx="7804080" cy="5918400"/>
        </p:xfrm>
        <a:graphic>
          <a:graphicData uri="http://schemas.openxmlformats.org/drawingml/2006/table">
            <a:tbl>
              <a:tblPr/>
              <a:tblGrid>
                <a:gridCol w="540000"/>
                <a:gridCol w="216000"/>
                <a:gridCol w="5837760"/>
                <a:gridCol w="1210320"/>
              </a:tblGrid>
              <a:tr h="36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изация домашнего задания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17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тимальность объем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7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ффективность метода доведения его до учащихс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740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 (</a:t>
                      </a: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ксимум -20 баллов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77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</a:t>
                      </a: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ль учителя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416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блюдение требований к учебному занятию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1776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лагоприятный валеологический климат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740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лагоприятная психологическая обстанов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740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блюдение норм педагогической эти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776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личие постоянной обратной связи с ученика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1" name=""/>
          <p:cNvGraphicFramePr/>
          <p:nvPr/>
        </p:nvGraphicFramePr>
        <p:xfrm>
          <a:off x="1116000" y="404640"/>
          <a:ext cx="7632720" cy="2959200"/>
        </p:xfrm>
        <a:graphic>
          <a:graphicData uri="http://schemas.openxmlformats.org/drawingml/2006/table">
            <a:tbl>
              <a:tblPr/>
              <a:tblGrid>
                <a:gridCol w="819000"/>
                <a:gridCol w="5661360"/>
                <a:gridCol w="1152360"/>
              </a:tblGrid>
              <a:tr h="31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чь учителя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30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еткость, логичн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8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моциональность, образность, богатст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2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 (</a:t>
                      </a: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ксимум </a:t>
                      </a: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–</a:t>
                      </a: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12 баллов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84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ОГО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</a:t>
                      </a: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ксимум -116 баллов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28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22" name="Rectangle 130"/>
          <p:cNvSpPr/>
          <p:nvPr/>
        </p:nvSpPr>
        <p:spPr>
          <a:xfrm>
            <a:off x="0" y="4875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" name="Rectangle 147"/>
          <p:cNvSpPr/>
          <p:nvPr/>
        </p:nvSpPr>
        <p:spPr>
          <a:xfrm>
            <a:off x="0" y="2927160"/>
            <a:ext cx="90360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Формула подсчета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Эффективность урока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= </a:t>
            </a:r>
            <a:r>
              <a:rPr b="1" lang="ru-RU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Х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х </a:t>
            </a:r>
            <a:r>
              <a:rPr b="1" lang="ru-RU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116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/ 100,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где </a:t>
            </a:r>
            <a:r>
              <a:rPr b="1" lang="ru-RU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Х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– общее количество набранных баллов; </a:t>
            </a:r>
            <a:r>
              <a:rPr b="1" lang="ru-RU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116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– постоянная величина, максимально возможное количество баллов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Перевод полученных результатов осуществляется по следующей таблице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ahoma"/>
              </a:rPr>
              <a:t>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ahoma"/>
              </a:rPr>
              <a:t>                                                </a:t>
            </a:r>
            <a:r>
              <a:rPr b="0" i="1" lang="ru-RU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Таблица. Оценка уровня эффективности учебного занятия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3780000" y="4797360"/>
          <a:ext cx="5192640" cy="1951200"/>
        </p:xfrm>
        <a:graphic>
          <a:graphicData uri="http://schemas.openxmlformats.org/drawingml/2006/table">
            <a:tbl>
              <a:tblPr/>
              <a:tblGrid>
                <a:gridCol w="1123920"/>
                <a:gridCol w="3836880"/>
                <a:gridCol w="231840"/>
              </a:tblGrid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ате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в 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чественная оценка уровня эффектив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–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сок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4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–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4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–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довлетворительн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 и ниж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зк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25" name="Rectangle 246"/>
          <p:cNvSpPr/>
          <p:nvPr/>
        </p:nvSpPr>
        <p:spPr>
          <a:xfrm>
            <a:off x="434880" y="5133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178920" y="2017440"/>
            <a:ext cx="87757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130000"/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лледж</a:t>
            </a: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,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руппа</a:t>
            </a: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, ФИО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еподавателя</a:t>
            </a: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, проводящего урок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13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rebuchet MS"/>
              </a:rPr>
              <a:t>I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Trebuchet MS"/>
              </a:rPr>
              <a:t>. Готовность к уроку</a:t>
            </a:r>
            <a:r>
              <a:rPr b="1" lang="ru-RU" sz="1600" spc="-1" strike="noStrike">
                <a:solidFill>
                  <a:srgbClr val="000000"/>
                </a:solidFill>
                <a:latin typeface="Trebuchet MS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rebuchet MS"/>
              </a:rPr>
              <a:t>Подготовленность кабинета</a:t>
            </a: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: санитарное состояние класса; подготовка оборудования,  дидактических материалов; использование возможностей кабинета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rebuchet MS"/>
              </a:rPr>
              <a:t>Готовность преподавателя и учащихся к уроку</a:t>
            </a: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 (обеспеченность учащихся учебниками, сборниками, хрестоматиями, картами – схемами, наличие у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тудентов</a:t>
            </a: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 тетрадей по истории)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rebuchet MS"/>
              </a:rPr>
              <a:t>Переключение внимания учащихся на предстоящий урок</a:t>
            </a: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: способ; количество времени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13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rebuchet MS"/>
              </a:rPr>
              <a:t>II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Trebuchet MS"/>
              </a:rPr>
              <a:t>. Организационный компонент урока (планирование)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rebuchet MS"/>
              </a:rPr>
              <a:t>Модели планирования учебного процесса</a:t>
            </a: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 (тематическое планирование, планирование по блочно-модульной технологии)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rebuchet MS"/>
              </a:rPr>
              <a:t>Формулировка образовательных, развивающих и воспитательных</a:t>
            </a: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i="1" lang="ru-RU" sz="1600" spc="-1" strike="noStrike">
                <a:solidFill>
                  <a:srgbClr val="000000"/>
                </a:solidFill>
                <a:latin typeface="Trebuchet MS"/>
              </a:rPr>
              <a:t>задач</a:t>
            </a: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 занятия (соответствие месту занятия в тематическом блоке, его содержанию, и возрастным  и познавательным возможностям школьников)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rebuchet MS"/>
              </a:rPr>
              <a:t>Постановка учебной проблемы, виды проблемной ситуации:</a:t>
            </a: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 ситуация неожиданности; ситуация конфликта; ситуация несоответствия; ситуация неопределенности; ситуация предположения; ситуация версионного характера; ситуация прогнозирования альтернативных путей развития исторических событий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Rectangle 4"/>
          <p:cNvSpPr/>
          <p:nvPr/>
        </p:nvSpPr>
        <p:spPr>
          <a:xfrm>
            <a:off x="755640" y="404640"/>
            <a:ext cx="3378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Примерная схема анализа и самоанализа  урока истории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8" name="Picture 5" descr="index_01"/>
          <p:cNvPicPr/>
          <p:nvPr/>
        </p:nvPicPr>
        <p:blipFill>
          <a:blip r:embed="rId1"/>
          <a:stretch/>
        </p:blipFill>
        <p:spPr>
          <a:xfrm>
            <a:off x="4211640" y="115920"/>
            <a:ext cx="480384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107640" y="2017440"/>
            <a:ext cx="88470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13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rebuchet MS"/>
              </a:rPr>
              <a:t>Структура урока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звенья урока, последовательность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наличие взаимосвязи с предыдущим и последующими уроками, преемственность этапов урока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оптимальность распределения времени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rebuchet MS"/>
              </a:rPr>
              <a:t>Форма учебного занятия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, </a:t>
            </a:r>
            <a:r>
              <a:rPr b="0" i="1" lang="ru-RU" sz="2000" spc="-1" strike="noStrike">
                <a:solidFill>
                  <a:srgbClr val="000000"/>
                </a:solidFill>
                <a:latin typeface="Trebuchet MS"/>
              </a:rPr>
              <a:t>тип урока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сочетание коллективных, групповых и индивидуальных форм работы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насколько данное сочетание оправдываются местом занятия в тематическом блоке, целевой установкой, содержанием учебно-исторического материала и характером познавательной деятельности учащихся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rebuchet MS"/>
              </a:rPr>
              <a:t>Характеристика учебных возможностей коллектива группыпо результатам педагогического анализа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 (учет  особенностей учащихся при планировании урока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30" name="Picture 5" descr="index_01"/>
          <p:cNvPicPr/>
          <p:nvPr/>
        </p:nvPicPr>
        <p:blipFill>
          <a:blip r:embed="rId1"/>
          <a:stretch/>
        </p:blipFill>
        <p:spPr>
          <a:xfrm>
            <a:off x="4284720" y="189000"/>
            <a:ext cx="4659120" cy="1503360"/>
          </a:xfrm>
          <a:prstGeom prst="rect">
            <a:avLst/>
          </a:prstGeom>
          <a:ln w="0">
            <a:noFill/>
          </a:ln>
        </p:spPr>
      </p:pic>
      <p:sp>
        <p:nvSpPr>
          <p:cNvPr id="231" name="Rectangle 5"/>
          <p:cNvSpPr/>
          <p:nvPr/>
        </p:nvSpPr>
        <p:spPr>
          <a:xfrm>
            <a:off x="755640" y="404640"/>
            <a:ext cx="3378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Примерная схема анализа и самоанализа  урока истории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250920" y="2017800"/>
            <a:ext cx="8704080" cy="465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Trebuchet MS"/>
              </a:rPr>
              <a:t>III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Trebuchet MS"/>
              </a:rPr>
              <a:t>. Содержательный компонент урока: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rebuchet MS"/>
              </a:rPr>
              <a:t>Соответствие материала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Trebuchet MS"/>
              </a:rPr>
              <a:t>требованиям 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рабочей програм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ы 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по истории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rebuchet MS"/>
              </a:rPr>
              <a:t>Научность материала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, его соответствие возрастным особенностям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удентов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rebuchet MS"/>
              </a:rPr>
              <a:t>Отражение в содержании занятия данных современной исторической науки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новые подходы к анализу и оценке прошлого,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ценности современного российского общества;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наличие альтернативных версий и суждений по поводу изучаемых фактов;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создание перспективности при изучении истории, т.е. применение знаний о закономерностях развития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rebuchet MS"/>
              </a:rPr>
              <a:t>Установление межпредметных и внутрипредметных связей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 (ретроспективных; синхронных; преемственных)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rebuchet MS"/>
              </a:rPr>
              <a:t>Установление связи с современной исторической действительностью и жизненным опытом учащихся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 с целью развития у них  познавательной активности и самостоятельности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33" name="Picture 5" descr="index_01"/>
          <p:cNvPicPr/>
          <p:nvPr/>
        </p:nvPicPr>
        <p:blipFill>
          <a:blip r:embed="rId1"/>
          <a:stretch/>
        </p:blipFill>
        <p:spPr>
          <a:xfrm>
            <a:off x="4356000" y="189000"/>
            <a:ext cx="4659480" cy="1503360"/>
          </a:xfrm>
          <a:prstGeom prst="rect">
            <a:avLst/>
          </a:prstGeom>
          <a:ln w="0">
            <a:noFill/>
          </a:ln>
        </p:spPr>
      </p:pic>
      <p:sp>
        <p:nvSpPr>
          <p:cNvPr id="234" name="Rectangle 5"/>
          <p:cNvSpPr/>
          <p:nvPr/>
        </p:nvSpPr>
        <p:spPr>
          <a:xfrm>
            <a:off x="755640" y="404640"/>
            <a:ext cx="3378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Примерная схема анализа и самоанализа  урока истории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250920" y="2017800"/>
            <a:ext cx="8704080" cy="465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-5788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rebuchet MS"/>
              </a:rPr>
              <a:t>Принцип отбора объектов прочного усвоения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578880" indent="-5788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количество неглавных и главных исторических фактов: простых (окружающая среда, материальные предметы, люди – участники событий и явлений), сложных (локализованные в пространстве и во времени динамичные факты-события и относительно статичные исторические факты-явления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578880" indent="-5788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конкретность исторических фактов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578880" indent="-5788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образность исторических фактов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578880" indent="-5788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rebuchet MS"/>
              </a:rPr>
              <a:t>Организация работы с учебником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578880" indent="-5788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соотношение изложения учителя и учебника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578880" indent="-5788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преобладающий вид работы (комментированное, аналитическое чтение)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578880" indent="-5788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rebuchet MS"/>
              </a:rPr>
              <a:t>Привлечение дополнительного исторического материала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578880" indent="-5788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вид дополнительного источника (визуальный, тестовый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578880" indent="-5788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объем дополнительного материала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578880" indent="-5788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функциональное назначение дополнительного материала (иллюстрация рассказа учителя или учебника, самостоятельный источник знаний по изучаемой теме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578880" indent="-5788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целесообразность привлечения на данном конкретном уроке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Rectangle 6"/>
          <p:cNvSpPr/>
          <p:nvPr/>
        </p:nvSpPr>
        <p:spPr>
          <a:xfrm>
            <a:off x="755640" y="404640"/>
            <a:ext cx="3378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Примерная схема анализа и самоанализа  урока истории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37" name="Picture 5" descr="index_01"/>
          <p:cNvPicPr/>
          <p:nvPr/>
        </p:nvPicPr>
        <p:blipFill>
          <a:blip r:embed="rId1"/>
          <a:stretch/>
        </p:blipFill>
        <p:spPr>
          <a:xfrm>
            <a:off x="4284720" y="189000"/>
            <a:ext cx="4659120" cy="150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250920" y="2017440"/>
            <a:ext cx="87040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rebuchet MS"/>
              </a:rPr>
              <a:t>IV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Trebuchet MS"/>
              </a:rPr>
              <a:t>. Методический компонент урока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rebuchet MS"/>
              </a:rPr>
              <a:t>Способы воспроизводства ранее усвоенных учащимися теоретических сведений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устная или письменная проверка знаний учащихся (индивидуальный, фронтальный, уплотненный опрос, проверка знания теории в процессе выполнения практических упражнений);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способы проверки дифференцированных письменных домашних заданий (выборочная проверка, взаимопроверка, самоконтроль, участие в проверке работ учеников-консультантов и т. д.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характеристика вопросов и задач, предлагаемых учащимся в процессе проверки домашнего задания (проблемные вопросы и задачи, способствующие созданию поисковых ситуаций на уроках; вопросы, требующие сопоставления, сравнения учебного материала и обобщения его на понятийном уровне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правильность постановки вопросов по содержанию, их доступность, составление заданий с учетом особенностей каждого учащегося и класса в целом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выбор методов и приемов опроса, способствующих активизации познавательной деятельности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тудентов</a:t>
            </a: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уровень ответов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бучающихся</a:t>
            </a: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 (глубина, осмысленность, точность, полнота, умение выделить главное, делать выводы и обобщения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мотивация оценок, их объективность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время, затраченное на проверку домашнего задания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39" name="Picture 5" descr="index_01"/>
          <p:cNvPicPr/>
          <p:nvPr/>
        </p:nvPicPr>
        <p:blipFill>
          <a:blip r:embed="rId1"/>
          <a:stretch/>
        </p:blipFill>
        <p:spPr>
          <a:xfrm>
            <a:off x="4427640" y="189000"/>
            <a:ext cx="4516200" cy="1457280"/>
          </a:xfrm>
          <a:prstGeom prst="rect">
            <a:avLst/>
          </a:prstGeom>
          <a:ln w="0">
            <a:noFill/>
          </a:ln>
        </p:spPr>
      </p:pic>
      <p:sp>
        <p:nvSpPr>
          <p:cNvPr id="240" name="Rectangle 5"/>
          <p:cNvSpPr/>
          <p:nvPr/>
        </p:nvSpPr>
        <p:spPr>
          <a:xfrm>
            <a:off x="755640" y="404640"/>
            <a:ext cx="3378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Примерная схема анализа и самоанализа  урока истории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179280" y="1988640"/>
            <a:ext cx="878544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-59112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rebuchet MS"/>
              </a:rPr>
              <a:t>Изучение нового материала</a:t>
            </a:r>
            <a:r>
              <a:rPr b="0" lang="ru-RU" sz="1400" spc="-1" strike="noStrike">
                <a:solidFill>
                  <a:srgbClr val="000000"/>
                </a:solidFill>
                <a:latin typeface="Trebuchet MS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591120" indent="-59112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rebuchet MS"/>
              </a:rPr>
              <a:t>подготовка учащихся к восприятию новой темы; сообщение учителем целей и задач урока, ознакомление с планом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591120" indent="-59112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rebuchet MS"/>
              </a:rPr>
              <a:t>характер познавательной деятельности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тудентов</a:t>
            </a:r>
            <a:r>
              <a:rPr b="0" lang="ru-RU" sz="1400" spc="-1" strike="noStrike">
                <a:solidFill>
                  <a:srgbClr val="000000"/>
                </a:solidFill>
                <a:latin typeface="Trebuchet MS"/>
              </a:rPr>
              <a:t> на занятии (содержание учебной работы; уровень познавательной деятельности; средства обучения; использование элементов самообразования)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591120" indent="-59112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rebuchet MS"/>
              </a:rPr>
              <a:t>формирование практических умений и навыков использования самостоятельной работы: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591120" indent="-59112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rebuchet MS"/>
              </a:rPr>
              <a:t>- основной источник  информации по новой теме;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591120" indent="-59112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rebuchet MS"/>
              </a:rPr>
              <a:t>- виды исторических источников (документы государственного характера; документы международного характера; документы политического характера; документы исторического характера; документы личностного характера; документы литературного характера);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591120" indent="-59112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rebuchet MS"/>
              </a:rPr>
              <a:t>- представление данного источника как единственного, одного из достоверных, своеобразных, спорных;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591120" indent="-59112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rebuchet MS"/>
              </a:rPr>
              <a:t>-  приемы критического анализа исторических источников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591120" indent="-59112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rebuchet MS"/>
              </a:rPr>
              <a:t>степень и пути осуществления дифференциации упражнений в ходе самостоятельной работы учащихся: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591120" indent="-59112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rebuchet MS"/>
              </a:rPr>
              <a:t>- приемы активизации мышления учащихся (система вопросов; создание проблемных ситуаций; разные уровни проблемно-эвристического решения задач; использование задач с недостающими и лишними данными; организация поисковой работы на уроке; индивидуальная, парная, групповая и коллективная формы работы); 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591120" indent="-59112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rebuchet MS"/>
              </a:rPr>
              <a:t>- характер упражнений по их содержанию и степени трудности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591120" indent="-59112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rebuchet MS"/>
              </a:rPr>
              <a:t>- способы предъявления заданий учащимся (по вариантам, по заданию учителя или на основе самостоятельного выбора того или иного варианта задания учащимися);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591120" indent="-59112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rebuchet MS"/>
              </a:rPr>
              <a:t>- удельный вес самостоятельной работы учащихся в общей системе работы на уроке;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Rectangle 4"/>
          <p:cNvSpPr/>
          <p:nvPr/>
        </p:nvSpPr>
        <p:spPr>
          <a:xfrm>
            <a:off x="755640" y="404640"/>
            <a:ext cx="3378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Примерная схема анализа и самоанализа  урока истории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43" name="Picture 5" descr="index_01"/>
          <p:cNvPicPr/>
          <p:nvPr/>
        </p:nvPicPr>
        <p:blipFill>
          <a:blip r:embed="rId1"/>
          <a:stretch/>
        </p:blipFill>
        <p:spPr>
          <a:xfrm>
            <a:off x="4427640" y="189000"/>
            <a:ext cx="4516200" cy="14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178920" y="2017800"/>
            <a:ext cx="8775720" cy="465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приемы и средства эмпирического изучения истории на уровне изложения и воспроизведения исторической информации в близкой к источнику форме (картинное описание, аналитическое описание, образная характеристика, образное повествование, сюжетный рассказ), уровне преобразования исторической информации (информативный, развернутый, картинный план), уровне творческой реконструкции образов (персонификация, драматизация, стилизация, интервью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приемы и средства изучения теоретических сведений: «открытая теория» (объяснение, рассуждение, аналитическая беседа, обобщающая характеристика), представление теоретических сведений в условно-графическом виде (ментальная карта; логическая схема; графики; диаграммы; сравнительно-обобщающая и конкретизирующая таблицы; смысловой, стереотипный, тезисный планы; учебные памятки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способы создания ситуаций для усвоения глубины исторического материала, эмоциональных переживаний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уровень воспитательного воздействия урока на личность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ритмичность урока (чередование легкого материала с трудным, письменных видов деятельности с устными; нагрузка в течение урока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время, затраченное на изучение нового материала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" name="Rectangle 4"/>
          <p:cNvSpPr/>
          <p:nvPr/>
        </p:nvSpPr>
        <p:spPr>
          <a:xfrm>
            <a:off x="755640" y="404640"/>
            <a:ext cx="3378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Примерная схема анализа и самоанализа  урока истории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46" name="Picture 5" descr="index_01"/>
          <p:cNvPicPr/>
          <p:nvPr/>
        </p:nvPicPr>
        <p:blipFill>
          <a:blip r:embed="rId1"/>
          <a:stretch/>
        </p:blipFill>
        <p:spPr>
          <a:xfrm>
            <a:off x="4427640" y="189000"/>
            <a:ext cx="4516200" cy="14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4"/>
          <p:cNvSpPr/>
          <p:nvPr/>
        </p:nvSpPr>
        <p:spPr>
          <a:xfrm>
            <a:off x="395280" y="2133720"/>
            <a:ext cx="84247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6) В чем заключалась учебная работа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удентов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? На каком уровне познавательной деятельности она была организована? Какими приемами и средствами преподавания учитель стимулировал именно такой характер учебной работы? Насколько он соответствовал целевой установке занятия, возрастным и индивидуальным возможностям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удентов этого возраста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7) Какими приемами и средствами актуализировались знания учащихся, концентрировалось их внимание, поддерживался интерес к новой теме, активизировалось их участие в работе на уроке, учитывались и поощрялись познавательные особенности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удентов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8) Насколько взаимосвязанными и преемственными были этапы урока? Насколько целостным и внутренне логичным получилось все занятие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9) Как этот урок связывает собой предыдущие и последующие занятия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10) В чем выражаются результаты урока? Каковы критерии его результативности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1" name="Picture 5" descr="index_01"/>
          <p:cNvPicPr/>
          <p:nvPr/>
        </p:nvPicPr>
        <p:blipFill>
          <a:blip r:embed="rId1"/>
          <a:stretch/>
        </p:blipFill>
        <p:spPr>
          <a:xfrm>
            <a:off x="4067280" y="169920"/>
            <a:ext cx="4876560" cy="1574640"/>
          </a:xfrm>
          <a:prstGeom prst="rect">
            <a:avLst/>
          </a:prstGeom>
          <a:ln w="0">
            <a:noFill/>
          </a:ln>
        </p:spPr>
      </p:pic>
      <p:sp>
        <p:nvSpPr>
          <p:cNvPr id="122" name="TextBox 1"/>
          <p:cNvSpPr/>
          <p:nvPr/>
        </p:nvSpPr>
        <p:spPr>
          <a:xfrm>
            <a:off x="826920" y="115920"/>
            <a:ext cx="324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МЕТОДИЧЕСКИЕ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РЕКОМЕНДАЦИИ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TextBox 5"/>
          <p:cNvSpPr/>
          <p:nvPr/>
        </p:nvSpPr>
        <p:spPr>
          <a:xfrm>
            <a:off x="1042920" y="836640"/>
            <a:ext cx="295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MV Boli"/>
              </a:rPr>
              <a:t>Самоанализ урока истории и обществознани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323640" y="2017800"/>
            <a:ext cx="8631000" cy="465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rebuchet MS"/>
              </a:rPr>
              <a:t>Закрепление нового материала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методы и приемы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форма самостоятельной работы учащихся с источниками;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время, отведенное на закрепление нового материала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rebuchet MS"/>
              </a:rPr>
              <a:t>Организации домашнего задания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форма: устное или письменное (доклад, тезисы, составление таблицы и т.д.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соответствие задания целям урока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дифференцированность домашнего задания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объем, своевременность и разъяснение задания (анализ некоторых примеров, беседа о наиболее рациональных способах выполнения заданий дома, называние номеров соответствующих упражнений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48" name="Picture 5" descr="index_01"/>
          <p:cNvPicPr/>
          <p:nvPr/>
        </p:nvPicPr>
        <p:blipFill>
          <a:blip r:embed="rId1"/>
          <a:stretch/>
        </p:blipFill>
        <p:spPr>
          <a:xfrm>
            <a:off x="4356000" y="189000"/>
            <a:ext cx="4587840" cy="1479600"/>
          </a:xfrm>
          <a:prstGeom prst="rect">
            <a:avLst/>
          </a:prstGeom>
          <a:ln w="0">
            <a:noFill/>
          </a:ln>
        </p:spPr>
      </p:pic>
      <p:sp>
        <p:nvSpPr>
          <p:cNvPr id="249" name="Rectangle 5"/>
          <p:cNvSpPr/>
          <p:nvPr/>
        </p:nvSpPr>
        <p:spPr>
          <a:xfrm>
            <a:off x="755640" y="404640"/>
            <a:ext cx="3378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Примерная схема анализа и самоанализа  урока истории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/>
          </p:nvPr>
        </p:nvSpPr>
        <p:spPr>
          <a:xfrm>
            <a:off x="323640" y="2017800"/>
            <a:ext cx="8631000" cy="465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Trebuchet MS"/>
              </a:rPr>
              <a:t>V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Trebuchet MS"/>
              </a:rPr>
              <a:t>. Рефлексивный компонент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rebuchet MS"/>
              </a:rPr>
              <a:t>Роль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Trebuchet MS"/>
              </a:rPr>
              <a:t>учителя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достижение поставленных задач к концу урока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творческий подход к подготовке урока, применение современных технологий обучения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владение вниманием учеников на протяжении всего урока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впечатление об исторической и методической эрудиции учителя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четкость и эмоциональность при изложении материала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привлечение учащихся к моральн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 этической оценке изученного материала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воспитание интереса к предмету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критерии эффективности урока (по мнению учителя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педагогический такт, корректность (оценка взаимоотношения учителя и учащихся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способы преодоления возможной перегрузки учащихся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" name="Rectangle 4"/>
          <p:cNvSpPr/>
          <p:nvPr/>
        </p:nvSpPr>
        <p:spPr>
          <a:xfrm>
            <a:off x="755640" y="404640"/>
            <a:ext cx="3378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Примерная схема анализа и самоанализа  урока истории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52" name="Picture 5" descr="index_01"/>
          <p:cNvPicPr/>
          <p:nvPr/>
        </p:nvPicPr>
        <p:blipFill>
          <a:blip r:embed="rId1"/>
          <a:stretch/>
        </p:blipFill>
        <p:spPr>
          <a:xfrm>
            <a:off x="4356000" y="189000"/>
            <a:ext cx="4587840" cy="14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/>
          </p:nvPr>
        </p:nvSpPr>
        <p:spPr>
          <a:xfrm>
            <a:off x="250920" y="2017800"/>
            <a:ext cx="8704080" cy="465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Преобладающие методы обучения и формы организации познавательной деятельности школьников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оправданность, целесообразность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степень сформированности основных способов деятельности у учащихся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влияние на эффективность урока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Результативность урока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степень реализации прогнозируемых результатов урока;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факторы, способствовавшие достижению целей урока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факторы, препятствовавшие достижению целей урока;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теоретические положения, способы деятельности, хуже усвоенные учащимися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план устранения недостатков урока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54" name="Picture 5" descr="index_01"/>
          <p:cNvPicPr/>
          <p:nvPr/>
        </p:nvPicPr>
        <p:blipFill>
          <a:blip r:embed="rId1"/>
          <a:stretch/>
        </p:blipFill>
        <p:spPr>
          <a:xfrm>
            <a:off x="4356000" y="189000"/>
            <a:ext cx="4587840" cy="1479600"/>
          </a:xfrm>
          <a:prstGeom prst="rect">
            <a:avLst/>
          </a:prstGeom>
          <a:ln w="0">
            <a:noFill/>
          </a:ln>
        </p:spPr>
      </p:pic>
      <p:sp>
        <p:nvSpPr>
          <p:cNvPr id="255" name="Rectangle 4"/>
          <p:cNvSpPr/>
          <p:nvPr/>
        </p:nvSpPr>
        <p:spPr>
          <a:xfrm>
            <a:off x="1187280" y="259200"/>
            <a:ext cx="2872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Примерная схема самоанализа урока истории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/>
          </p:nvPr>
        </p:nvSpPr>
        <p:spPr>
          <a:xfrm>
            <a:off x="323640" y="2017800"/>
            <a:ext cx="8631000" cy="465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rebuchet MS"/>
              </a:rPr>
              <a:t>Отношение учащихся к уроку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дисциплина, активность, сосредоточенность и устойчивость внимания на разных этапах урока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характер участия в работе на уроке отдельных учащихся и всего коллектива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отношение учащихся к учителю и друг к другу (боязнь, доброжелательность, уважение, взаимная помощь, подсказки и т.п.); отношение к неуспевающим и нарушителям дисциплины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ведение рабочих тетрадей, записей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оценка учениками результативности урок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Анализ урока учителя должен быть дополнен самоанализом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" name="Rectangle 4"/>
          <p:cNvSpPr/>
          <p:nvPr/>
        </p:nvSpPr>
        <p:spPr>
          <a:xfrm>
            <a:off x="755640" y="404640"/>
            <a:ext cx="3378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Примерная схема анализа и самоанализа  урока истории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58" name="Picture 5" descr="index_01"/>
          <p:cNvPicPr/>
          <p:nvPr/>
        </p:nvPicPr>
        <p:blipFill>
          <a:blip r:embed="rId1"/>
          <a:stretch/>
        </p:blipFill>
        <p:spPr>
          <a:xfrm>
            <a:off x="4356000" y="189000"/>
            <a:ext cx="4587840" cy="14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/>
          </p:nvPr>
        </p:nvSpPr>
        <p:spPr>
          <a:xfrm>
            <a:off x="394920" y="2017800"/>
            <a:ext cx="8559720" cy="465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rebuchet MS"/>
              </a:rPr>
              <a:t>При анализе вводно–мотивационного этапа </a:t>
            </a: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основное внимание обращается на следующие элементы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1. Была ли создана преподавателем в начале урока ситуация успеха? В чем она выражалась? И какими средствами реализовывалась?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2. Какими средствами пользовался преподаватель для создания учебной ситуации, которая привела к постановке учебной задачи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- использование известных знаний, способов работы студентов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- формы организации учебной работы учащихся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- создание условий для активной  позиции ученика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- позиция учителя и его роль на данном этапе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- использование учебных действий (рефлексивного контроля и оценки) для создания ситуации дефицита способностей у детей (уровень усвоенности)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3. Возникла ли в результате разворота логики учителя нужная задача у студентов или нет? Могут ли дети зафиксировать данную задачу в виде вопроса, (в любой форме: графической, знаковой, словесной)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4. Уровень владения студентами способностью вести учебную дискуссию как на уровне группы, так и на уровне класса: умение студентов аргументированно говорить, ставить вопросы на понимание, выдвигать гипотезы с указанием аргументов и контраргументов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60" name="Picture 5" descr="index_01"/>
          <p:cNvPicPr/>
          <p:nvPr/>
        </p:nvPicPr>
        <p:blipFill>
          <a:blip r:embed="rId1"/>
          <a:stretch/>
        </p:blipFill>
        <p:spPr>
          <a:xfrm>
            <a:off x="4356000" y="189000"/>
            <a:ext cx="4587840" cy="1479600"/>
          </a:xfrm>
          <a:prstGeom prst="rect">
            <a:avLst/>
          </a:prstGeom>
          <a:ln w="0">
            <a:noFill/>
          </a:ln>
        </p:spPr>
      </p:pic>
      <p:sp>
        <p:nvSpPr>
          <p:cNvPr id="261" name="Rectangle 5"/>
          <p:cNvSpPr/>
          <p:nvPr/>
        </p:nvSpPr>
        <p:spPr>
          <a:xfrm>
            <a:off x="1187280" y="189000"/>
            <a:ext cx="2872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Анализ урока формирования ключевых компетентностей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/>
          </p:nvPr>
        </p:nvSpPr>
        <p:spPr>
          <a:xfrm>
            <a:off x="250920" y="2060640"/>
            <a:ext cx="8704080" cy="465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5.   Соответствие   формы   организации   коллективно-распределенной деятельности поставленным целям урока. Какой уровень владения методикой организации коллективной работы учащихся на уроке у учителя? Были ли созданы необходимые условия для работы в парах, в группах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rebuchet MS"/>
              </a:rPr>
              <a:t>При анализе этапа проверки домашнего задания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  оцениваются следующие показатели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1. Особенности организованного начала урока "без раскачки", без лишних слов, без наведения порядка, в хорошем и деловом настроении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2. Четкая организация индивидуальной и  групповой работы учащихся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3. Организованная проверка заданий первого уровня, через групповую деятельность, оценка результатов каждого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4. Проверка домашней работы второго уровня: творческое  применение полученных знаний, применение (перенос) модели усвоенного способа к конструированию подобных задач; графическое, знаковое или символическое моделирование содержания усвоенных знаний или способов и др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63" name="Picture 5" descr="index_01"/>
          <p:cNvPicPr/>
          <p:nvPr/>
        </p:nvPicPr>
        <p:blipFill>
          <a:blip r:embed="rId1"/>
          <a:stretch/>
        </p:blipFill>
        <p:spPr>
          <a:xfrm>
            <a:off x="4356000" y="189000"/>
            <a:ext cx="4587840" cy="1479600"/>
          </a:xfrm>
          <a:prstGeom prst="rect">
            <a:avLst/>
          </a:prstGeom>
          <a:ln w="0">
            <a:noFill/>
          </a:ln>
        </p:spPr>
      </p:pic>
      <p:sp>
        <p:nvSpPr>
          <p:cNvPr id="264" name="Rectangle 5"/>
          <p:cNvSpPr/>
          <p:nvPr/>
        </p:nvSpPr>
        <p:spPr>
          <a:xfrm>
            <a:off x="1187280" y="565200"/>
            <a:ext cx="28720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" name="Rectangle 6"/>
          <p:cNvSpPr/>
          <p:nvPr/>
        </p:nvSpPr>
        <p:spPr>
          <a:xfrm>
            <a:off x="1187280" y="189000"/>
            <a:ext cx="2872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Анализ урока формирования ключевых компетентностей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/>
          </p:nvPr>
        </p:nvSpPr>
        <p:spPr>
          <a:xfrm>
            <a:off x="250920" y="2017440"/>
            <a:ext cx="51847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5. Проверка домашней работы третьего уровня: отчеты учащихся по группам о выполнение чисто творческой работы в зависимости от индивидуально-психологических особенностей - сочинение музыки, стихов, рассказов, сказок; выполнение рисунков, чертежей, муляжей; конструирование моделей, макетов, проектов, составление математических и химических  расчетов; разработка новых идей, предложений, научных подходов и т.п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6. Само-и-взаимооценка степени выполнения заданий</a:t>
            </a:r>
            <a:r>
              <a:rPr b="1" lang="ru-RU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разного</a:t>
            </a:r>
            <a:r>
              <a:rPr b="1" lang="ru-RU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уровня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" name="Rectangle 4"/>
          <p:cNvSpPr/>
          <p:nvPr/>
        </p:nvSpPr>
        <p:spPr>
          <a:xfrm>
            <a:off x="1187280" y="565200"/>
            <a:ext cx="28720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68" name="Picture 5" descr="index_01"/>
          <p:cNvPicPr/>
          <p:nvPr/>
        </p:nvPicPr>
        <p:blipFill>
          <a:blip r:embed="rId1"/>
          <a:stretch/>
        </p:blipFill>
        <p:spPr>
          <a:xfrm>
            <a:off x="4356000" y="189000"/>
            <a:ext cx="4587840" cy="1479600"/>
          </a:xfrm>
          <a:prstGeom prst="rect">
            <a:avLst/>
          </a:prstGeom>
          <a:ln w="0">
            <a:noFill/>
          </a:ln>
        </p:spPr>
      </p:pic>
      <p:sp>
        <p:nvSpPr>
          <p:cNvPr id="269" name="Rectangle 7"/>
          <p:cNvSpPr/>
          <p:nvPr/>
        </p:nvSpPr>
        <p:spPr>
          <a:xfrm>
            <a:off x="1187280" y="189000"/>
            <a:ext cx="2872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Анализ урока формирования ключевых компетентностей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70" name="Picture 8" descr="j0301252"/>
          <p:cNvPicPr/>
          <p:nvPr/>
        </p:nvPicPr>
        <p:blipFill>
          <a:blip r:embed="rId2"/>
          <a:stretch/>
        </p:blipFill>
        <p:spPr>
          <a:xfrm>
            <a:off x="5796000" y="2708280"/>
            <a:ext cx="2838240" cy="242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/>
          </p:nvPr>
        </p:nvSpPr>
        <p:spPr>
          <a:xfrm>
            <a:off x="178920" y="2017440"/>
            <a:ext cx="87757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rebuchet MS"/>
              </a:rPr>
              <a:t>При анализе этапа  выравнивания знаний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 основное внимание обращается на следующие элементы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1. Особенности, вопросов, подготовленных учителем для выравнивания знаний учащихся (выделение главных понятий, отделение главного от второстепенного)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2. Характер реагирования учителя на ответы учащихся (сам оценивает ответы или привлекает других учащихся, добивается обобщенных ответов или соглашается частными и второстепенными ответами)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3. Выравнивание знаний учащихся по пройденному материалу методом групповой отработки заданий учителя. Как умело пользуется учитель этим способом учебной деятельности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4. Как активно учащиеся индивидуально и в групповой форме проговаривают усвоенные понятия в громкой речи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5. Добился ли учитель положительного самочувствия всех учащихся в результате субъективного ощущения полноты своих знаний сравнительно с другими студентами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6. Как прошла самооценка выровненных знаний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" name="Rectangle 4"/>
          <p:cNvSpPr/>
          <p:nvPr/>
        </p:nvSpPr>
        <p:spPr>
          <a:xfrm>
            <a:off x="1187280" y="168120"/>
            <a:ext cx="2872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Анализ урока формирования ключевых компетентностей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73" name="Picture 5" descr="index_01"/>
          <p:cNvPicPr/>
          <p:nvPr/>
        </p:nvPicPr>
        <p:blipFill>
          <a:blip r:embed="rId1"/>
          <a:stretch/>
        </p:blipFill>
        <p:spPr>
          <a:xfrm>
            <a:off x="4356000" y="189000"/>
            <a:ext cx="4587840" cy="14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/>
          </p:nvPr>
        </p:nvSpPr>
        <p:spPr>
          <a:xfrm>
            <a:off x="323640" y="2017800"/>
            <a:ext cx="8631000" cy="465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rebuchet MS"/>
              </a:rPr>
              <a:t>При анализе решения учебной задачи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 необходимо обратить внимание на наличие следующих структурных элементов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1. Как расчленена учебная задача на частные (абстрактные) задания, как организована система создания проблемных ситуаций и программирование процесса познания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2. Как четко организовано пошаговое решение учебной задачи  через систему частных заданий; как выделяются и отрабатываются учебные действия, формулируются выводы, определения, общие способы решения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3. Как происходит моделирование усвоенного содержания или общего способа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4. Как организуется индивидуальная и групповая учебная деятельность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5. Как происходит пошаговая рефлексивно-оценочная деятельность в процессе решения УЗ и пошаговая самооценка усвоения знаний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75" name="Picture 5" descr="index_01"/>
          <p:cNvPicPr/>
          <p:nvPr/>
        </p:nvPicPr>
        <p:blipFill>
          <a:blip r:embed="rId1"/>
          <a:stretch/>
        </p:blipFill>
        <p:spPr>
          <a:xfrm>
            <a:off x="4356000" y="189000"/>
            <a:ext cx="4587840" cy="1479600"/>
          </a:xfrm>
          <a:prstGeom prst="rect">
            <a:avLst/>
          </a:prstGeom>
          <a:ln w="0">
            <a:noFill/>
          </a:ln>
        </p:spPr>
      </p:pic>
      <p:sp>
        <p:nvSpPr>
          <p:cNvPr id="276" name="Rectangle 5"/>
          <p:cNvSpPr/>
          <p:nvPr/>
        </p:nvSpPr>
        <p:spPr>
          <a:xfrm>
            <a:off x="1187280" y="168120"/>
            <a:ext cx="2872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Анализ урока формирования ключевых компетентностей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/>
          </p:nvPr>
        </p:nvSpPr>
        <p:spPr>
          <a:xfrm>
            <a:off x="250920" y="2206800"/>
            <a:ext cx="8704080" cy="465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rebuchet MS"/>
              </a:rPr>
              <a:t>При анализе формирования общего способа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 (приема) необходимо обратить внимание на следующее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rebuchet MS"/>
              </a:rPr>
              <a:t>1. Какими средствами учитель вводит ученика в ситуацию осознания необходимости использования специального способа решения поставленной задачи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2. Каким образом учитель добивается выделения и осознания отдельных учебных действий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3. Все ли студенты овладевают способом и в какой мере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4. В какой форме учащиеся фиксировали усвоенный способ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5. Как была организована групповая работа по усвоению и сознанию способа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6. Как была проведена промежуточная и итоговая самооценка степени усвоения общего способа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78" name="Picture 5" descr="index_01"/>
          <p:cNvPicPr/>
          <p:nvPr/>
        </p:nvPicPr>
        <p:blipFill>
          <a:blip r:embed="rId1"/>
          <a:stretch/>
        </p:blipFill>
        <p:spPr>
          <a:xfrm>
            <a:off x="4356000" y="189000"/>
            <a:ext cx="4587840" cy="1479600"/>
          </a:xfrm>
          <a:prstGeom prst="rect">
            <a:avLst/>
          </a:prstGeom>
          <a:ln w="0">
            <a:noFill/>
          </a:ln>
        </p:spPr>
      </p:pic>
      <p:sp>
        <p:nvSpPr>
          <p:cNvPr id="279" name="Rectangle 5"/>
          <p:cNvSpPr/>
          <p:nvPr/>
        </p:nvSpPr>
        <p:spPr>
          <a:xfrm>
            <a:off x="1187280" y="168120"/>
            <a:ext cx="2872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Анализ урока формирования ключевых компетентностей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4"/>
          <p:cNvSpPr/>
          <p:nvPr/>
        </p:nvSpPr>
        <p:spPr>
          <a:xfrm>
            <a:off x="250920" y="2781360"/>
            <a:ext cx="87138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1. Соответствие педагогического замысла целям и задачам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2. Соответствие типа урока средствам и методам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3. Научность исторических знаний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4. Достоверность исторических фактов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5. Мотивация и дифференцированность обучения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6. Воспитание интереса к предмету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7. Единство деятельности учителя и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учающихся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8. Познавательная активность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удентов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9. Отбор главного, осознанного материала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10. Полноценность содержания урока.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      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5" name="Picture 5" descr="index_01"/>
          <p:cNvPicPr/>
          <p:nvPr/>
        </p:nvPicPr>
        <p:blipFill>
          <a:blip r:embed="rId1"/>
          <a:stretch/>
        </p:blipFill>
        <p:spPr>
          <a:xfrm>
            <a:off x="4067280" y="169920"/>
            <a:ext cx="4876560" cy="1574640"/>
          </a:xfrm>
          <a:prstGeom prst="rect">
            <a:avLst/>
          </a:prstGeom>
          <a:ln w="0">
            <a:noFill/>
          </a:ln>
        </p:spPr>
      </p:pic>
      <p:sp>
        <p:nvSpPr>
          <p:cNvPr id="126" name="TextBox 4"/>
          <p:cNvSpPr/>
          <p:nvPr/>
        </p:nvSpPr>
        <p:spPr>
          <a:xfrm>
            <a:off x="1908000" y="1773360"/>
            <a:ext cx="532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Требования к уроку истории и обществознани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/>
          </p:nvPr>
        </p:nvSpPr>
        <p:spPr>
          <a:xfrm>
            <a:off x="178920" y="2017440"/>
            <a:ext cx="87757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rebuchet MS"/>
              </a:rPr>
              <a:t>При анализе этапа моделирования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 необходимо обращать внимание на следующее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1. Каким образом учитель создает ситуацию, при которой студенты принимают учебное действие моделирования (преобразование модели) и используют его как инструмент для решения ранее поставленной УЗ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2. Какие виды моделей используются на данном уроке ? Кто это действие задает (в зависимо­сти от уровня группы, возраста обучающихся)? Обоснованность выбора как моделей, так их исполнителей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3. Каким образом используется этап моделирования для решения поставленной УЗ? Какие формы организации учебного сотрудничества использовал учитель на данном этапе? Их необходимость и целесообразность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4. Каков уровень понимания студентов (абстрагирования) построенных моделей? Помогают ли они для решения поставленных целей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5. Как связан процесс моделирования с другими учебными действиями на уроке? (Переход от одного вида модели к другой)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81" name="Picture 5" descr="index_01"/>
          <p:cNvPicPr/>
          <p:nvPr/>
        </p:nvPicPr>
        <p:blipFill>
          <a:blip r:embed="rId1"/>
          <a:stretch/>
        </p:blipFill>
        <p:spPr>
          <a:xfrm>
            <a:off x="4356000" y="189000"/>
            <a:ext cx="4587840" cy="1479600"/>
          </a:xfrm>
          <a:prstGeom prst="rect">
            <a:avLst/>
          </a:prstGeom>
          <a:ln w="0">
            <a:noFill/>
          </a:ln>
        </p:spPr>
      </p:pic>
      <p:sp>
        <p:nvSpPr>
          <p:cNvPr id="282" name="Rectangle 5"/>
          <p:cNvSpPr/>
          <p:nvPr/>
        </p:nvSpPr>
        <p:spPr>
          <a:xfrm>
            <a:off x="1187280" y="168120"/>
            <a:ext cx="2872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Анализ урока формирования ключевых компетентностей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/>
          </p:nvPr>
        </p:nvSpPr>
        <p:spPr>
          <a:xfrm>
            <a:off x="250920" y="2017440"/>
            <a:ext cx="87040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rebuchet MS"/>
              </a:rPr>
              <a:t>При анализе этапа</a:t>
            </a:r>
            <a:r>
              <a:rPr b="1" i="1" lang="ru-RU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rebuchet MS"/>
              </a:rPr>
              <a:t> самоконтроля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 необходимо особо отметить следующие его стороны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1 Обоснованность выбора и его целесообразность на данном этапе обучения студентов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2. Степень автоматизированности контроля (его протекание). Представляет ли он собой самостоятельное развернутое действие или включен в процесс выполнения других действий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3. Уровень организованности студентов на выполнение действия контроля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4. Каков уровень направленности контроля (Что контролируется? Контролируется ли процесс выполнения действий или лишь их результат?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5. Каковы критерии, на которых строится контроль (материализованно или идеально представлена схема-образец)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6. Частота осуществления контроля (после действия, в процессе действия</a:t>
            </a:r>
            <a:r>
              <a:rPr b="1" lang="ru-RU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или до его начала)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7. Отбор предметного содержания для проведения действия контроля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8. Понимают ли студенты значимость данного этапа работы для решения главной задачи обучения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84" name="Picture 5" descr="index_01"/>
          <p:cNvPicPr/>
          <p:nvPr/>
        </p:nvPicPr>
        <p:blipFill>
          <a:blip r:embed="rId1"/>
          <a:stretch/>
        </p:blipFill>
        <p:spPr>
          <a:xfrm>
            <a:off x="4356000" y="189000"/>
            <a:ext cx="4587840" cy="1479600"/>
          </a:xfrm>
          <a:prstGeom prst="rect">
            <a:avLst/>
          </a:prstGeom>
          <a:ln w="0">
            <a:noFill/>
          </a:ln>
        </p:spPr>
      </p:pic>
      <p:sp>
        <p:nvSpPr>
          <p:cNvPr id="285" name="Rectangle 5"/>
          <p:cNvSpPr/>
          <p:nvPr/>
        </p:nvSpPr>
        <p:spPr>
          <a:xfrm>
            <a:off x="1187280" y="168120"/>
            <a:ext cx="2872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Анализ урока формирования ключевых компетентностей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/>
          </p:nvPr>
        </p:nvSpPr>
        <p:spPr>
          <a:xfrm>
            <a:off x="250920" y="2133720"/>
            <a:ext cx="870408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rebuchet MS"/>
              </a:rPr>
              <a:t>При анализе этапа</a:t>
            </a:r>
            <a:r>
              <a:rPr b="1" i="1" lang="ru-RU" sz="1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rebuchet MS"/>
              </a:rPr>
              <a:t>самооценки </a:t>
            </a: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необходимо обратить внимание на следующие особенности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1. Какую структуру урока определил учитель для себя для оптимальной работы над действием оценки у учащихся? Ее обоснованность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2. Испытывают учащиеся потребность в оценке своих действий?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3. Опираются студенты при работе на свою собственную оценку или прибегают к оценке учителя? Определяется уровень (этап) этого состояния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4. При действии оценки на уроке учитывается содержание выполненного действия студентами или случайные признаки?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5. Каков уровень возможностей студентов на данном этапе обучения по оценке своих способностей относительно решения предстоящей задачи?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6. Прослеживается ли в уроке цикличность в действии оценки (т.е. оценка выносится студентами только перед решением задачи, которая позволяет им адекватно определить свои возможности, в ее решении и в соответствии с этим в дальнейшем спланировать свою деятельность или производится только итоговая оценка как санкция (факт) освоенности данного способа (понятия)?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7. Какой арсенал средств и форм использует учитель для освоения этого действия с обучающимися?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87" name="Picture 5" descr="index_01"/>
          <p:cNvPicPr/>
          <p:nvPr/>
        </p:nvPicPr>
        <p:blipFill>
          <a:blip r:embed="rId1"/>
          <a:stretch/>
        </p:blipFill>
        <p:spPr>
          <a:xfrm>
            <a:off x="4356000" y="189000"/>
            <a:ext cx="4587840" cy="1479600"/>
          </a:xfrm>
          <a:prstGeom prst="rect">
            <a:avLst/>
          </a:prstGeom>
          <a:ln w="0">
            <a:noFill/>
          </a:ln>
        </p:spPr>
      </p:pic>
      <p:sp>
        <p:nvSpPr>
          <p:cNvPr id="288" name="Rectangle 5"/>
          <p:cNvSpPr/>
          <p:nvPr/>
        </p:nvSpPr>
        <p:spPr>
          <a:xfrm>
            <a:off x="1187280" y="168120"/>
            <a:ext cx="2872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Анализ урока формирования ключевых компетентностей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5"/>
          <p:cNvSpPr/>
          <p:nvPr/>
        </p:nvSpPr>
        <p:spPr>
          <a:xfrm>
            <a:off x="1403280" y="187560"/>
            <a:ext cx="712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Схема анализа компетентностно-ориентированного урок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90" name=""/>
          <p:cNvGraphicFramePr/>
          <p:nvPr/>
        </p:nvGraphicFramePr>
        <p:xfrm>
          <a:off x="1116000" y="981000"/>
          <a:ext cx="7710480" cy="4424400"/>
        </p:xfrm>
        <a:graphic>
          <a:graphicData uri="http://schemas.openxmlformats.org/drawingml/2006/table">
            <a:tbl>
              <a:tblPr/>
              <a:tblGrid>
                <a:gridCol w="2347920"/>
                <a:gridCol w="460440"/>
                <a:gridCol w="1033560"/>
                <a:gridCol w="780840"/>
                <a:gridCol w="370080"/>
                <a:gridCol w="2717640"/>
              </a:tblGrid>
              <a:tr h="40716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подавате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сциплина, групп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ма уро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леполаг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сутству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ль формулирует учите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вместное со студента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ли уро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льзя измерить, продиагностирова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агностичны, измеряем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здание мотивационного пол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2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сутствует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этапе целеполаг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отдельных этапах уро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332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91" name=""/>
          <p:cNvGraphicFramePr/>
          <p:nvPr/>
        </p:nvGraphicFramePr>
        <p:xfrm>
          <a:off x="1116000" y="5033880"/>
          <a:ext cx="7704000" cy="1828800"/>
        </p:xfrm>
        <a:graphic>
          <a:graphicData uri="http://schemas.openxmlformats.org/drawingml/2006/table">
            <a:tbl>
              <a:tblPr/>
              <a:tblGrid>
                <a:gridCol w="1943280"/>
                <a:gridCol w="3051000"/>
                <a:gridCol w="2709720"/>
              </a:tblGrid>
              <a:tr h="3682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         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держание уро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т связи с жизнью, практической деятельностью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слеживается связь с жизнью, практической деятельностью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слеживается связь с жизнью, практической деятельностью. Имеется интеграция содержания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2" name=""/>
          <p:cNvGraphicFramePr/>
          <p:nvPr/>
        </p:nvGraphicFramePr>
        <p:xfrm>
          <a:off x="900000" y="189000"/>
          <a:ext cx="7729560" cy="3840120"/>
        </p:xfrm>
        <a:graphic>
          <a:graphicData uri="http://schemas.openxmlformats.org/drawingml/2006/table">
            <a:tbl>
              <a:tblPr/>
              <a:tblGrid>
                <a:gridCol w="1511280"/>
                <a:gridCol w="505080"/>
                <a:gridCol w="258480"/>
                <a:gridCol w="1613160"/>
                <a:gridCol w="182520"/>
                <a:gridCol w="1347840"/>
                <a:gridCol w="341280"/>
                <a:gridCol w="255600"/>
                <a:gridCol w="1714320"/>
              </a:tblGrid>
              <a:tr h="307080">
                <a:tc gridSpan="9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ы организации деятельности учащихся на урок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активные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тивны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терактивн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ронтальн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уппов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рн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дивидуальн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 gridSpan="9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пользование методов, прием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012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пользование не оправдано, методы и приемы - репродуктивные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бор оправдан,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соответствует целям урока, используются методы и приемы репродуктивные и продуктивн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полагают включение учащихся как субъектов деятельности на некоторых этапах урока; характер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–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компетентностно-ориентированн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полагают включение учащихся как субъектов деятельности на всех этапах урока; характер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–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компетентностно-ориентированн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93" name=""/>
          <p:cNvGraphicFramePr/>
          <p:nvPr/>
        </p:nvGraphicFramePr>
        <p:xfrm>
          <a:off x="900000" y="4508640"/>
          <a:ext cx="7775640" cy="2077920"/>
        </p:xfrm>
        <a:graphic>
          <a:graphicData uri="http://schemas.openxmlformats.org/drawingml/2006/table">
            <a:tbl>
              <a:tblPr/>
              <a:tblGrid>
                <a:gridCol w="1684440"/>
                <a:gridCol w="1673280"/>
                <a:gridCol w="1484280"/>
                <a:gridCol w="1333440"/>
                <a:gridCol w="1600200"/>
              </a:tblGrid>
              <a:tr h="44280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пользование технолог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4280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4316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флексивность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49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сутству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моциональная рефлекс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ценка деятель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ценка результа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флексия учител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94" name=""/>
          <p:cNvGraphicFramePr/>
          <p:nvPr/>
        </p:nvGraphicFramePr>
        <p:xfrm>
          <a:off x="900000" y="4005360"/>
          <a:ext cx="7775640" cy="517320"/>
        </p:xfrm>
        <a:graphic>
          <a:graphicData uri="http://schemas.openxmlformats.org/drawingml/2006/table">
            <a:tbl>
              <a:tblPr/>
              <a:tblGrid>
                <a:gridCol w="77756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5" name=""/>
          <p:cNvGraphicFramePr/>
          <p:nvPr/>
        </p:nvGraphicFramePr>
        <p:xfrm>
          <a:off x="925560" y="189000"/>
          <a:ext cx="7294680" cy="5014800"/>
        </p:xfrm>
        <a:graphic>
          <a:graphicData uri="http://schemas.openxmlformats.org/drawingml/2006/table">
            <a:tbl>
              <a:tblPr/>
              <a:tblGrid>
                <a:gridCol w="1558800"/>
                <a:gridCol w="792360"/>
                <a:gridCol w="1295280"/>
                <a:gridCol w="863640"/>
                <a:gridCol w="946080"/>
                <a:gridCol w="1838520"/>
              </a:tblGrid>
              <a:tr h="48816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зультативность уро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зультат не достигнут или достигнут учителе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формирована направленность на предметные компетентности (указать какие); наличие продукта. Результат достигнут отдельными учащимися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формирована направленность на предметные, общепредметные компетентности (указать какие); наличие продукта деятельности, знаний о его практическом применении. Большая часть класса достигла результата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формирована направленность на предметные, общепредметные компетентности, развивались ключевые компетентности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указать, какие);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зультат достигнут каждым учащимся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ценив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2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диционное, по 5-бальной шкал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чественная, словесная оценка деятель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ругие виды оценив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96" name=""/>
          <p:cNvGraphicFramePr/>
          <p:nvPr/>
        </p:nvGraphicFramePr>
        <p:xfrm>
          <a:off x="900000" y="5229360"/>
          <a:ext cx="7344000" cy="1439640"/>
        </p:xfrm>
        <a:graphic>
          <a:graphicData uri="http://schemas.openxmlformats.org/drawingml/2006/table">
            <a:tbl>
              <a:tblPr/>
              <a:tblGrid>
                <a:gridCol w="2178000"/>
                <a:gridCol w="2578320"/>
                <a:gridCol w="2587680"/>
              </a:tblGrid>
              <a:tr h="38880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воды: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нципы деятельностно-компетентностного подхода в обучен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0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реализуютс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ализуются частичн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ализуются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0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Picture 5" descr="index_01"/>
          <p:cNvPicPr/>
          <p:nvPr/>
        </p:nvPicPr>
        <p:blipFill>
          <a:blip r:embed="rId1"/>
          <a:stretch/>
        </p:blipFill>
        <p:spPr>
          <a:xfrm>
            <a:off x="4356000" y="189000"/>
            <a:ext cx="4587840" cy="1479600"/>
          </a:xfrm>
          <a:prstGeom prst="rect">
            <a:avLst/>
          </a:prstGeom>
          <a:ln w="0">
            <a:noFill/>
          </a:ln>
        </p:spPr>
      </p:pic>
      <p:sp>
        <p:nvSpPr>
          <p:cNvPr id="298" name="PlaceHolder 1"/>
          <p:cNvSpPr>
            <a:spLocks noGrp="1"/>
          </p:cNvSpPr>
          <p:nvPr>
            <p:ph/>
          </p:nvPr>
        </p:nvSpPr>
        <p:spPr>
          <a:xfrm>
            <a:off x="250920" y="2017800"/>
            <a:ext cx="8704080" cy="465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rebuchet MS"/>
              </a:rPr>
              <a:t>«Обучать деятельности – это значит делать учение мотивированным, учить ребенка самостоятельно ставить перед собой цель и находить пути, в том числе средства, ее достижения (т.е. оптимально организовывать свою деятельность), помогать сформировать у себя умения контроля и самоконтроля, оценки и самооценки»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 (А.А. Леонтьев)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Исходя из этого, набор позиций определен следующим образом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· ученик </a:t>
            </a:r>
            <a:r>
              <a:rPr b="1" lang="ru-RU" sz="1800" spc="-1" strike="noStrike">
                <a:solidFill>
                  <a:srgbClr val="000000"/>
                </a:solidFill>
                <a:latin typeface="Trebuchet MS"/>
              </a:rPr>
              <a:t>сам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 ставит цель (участвует в постановке цели, а, следовательно, учитель организует ситуацию постановки, понимания и принятия цели учащимися как собственной учебной задачи. Обязательной частью компетентностно-ориентированного урока становится работа учителя с мотивацией, интересом учащихся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·ученик </a:t>
            </a:r>
            <a:r>
              <a:rPr b="1" lang="ru-RU" sz="1800" spc="-1" strike="noStrike">
                <a:solidFill>
                  <a:srgbClr val="000000"/>
                </a:solidFill>
                <a:latin typeface="Trebuchet MS"/>
              </a:rPr>
              <a:t>сам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 проектирует или выбирает средства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· </a:t>
            </a:r>
            <a:r>
              <a:rPr b="1" lang="ru-RU" sz="1800" spc="-1" strike="noStrike">
                <a:solidFill>
                  <a:srgbClr val="000000"/>
                </a:solidFill>
                <a:latin typeface="Trebuchet MS"/>
              </a:rPr>
              <a:t>сам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 оценивает результат и корректирует свои действия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Еще один важный принцип компетентностного подхода – </a:t>
            </a:r>
            <a:r>
              <a:rPr b="1" lang="ru-RU" sz="1800" spc="-1" strike="noStrike">
                <a:solidFill>
                  <a:srgbClr val="000000"/>
                </a:solidFill>
                <a:latin typeface="Trebuchet MS"/>
              </a:rPr>
              <a:t>диагностичность (измеримость) целей урока, 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что предполагает ответ на вопросы: </a:t>
            </a:r>
            <a:r>
              <a:rPr b="1" lang="ru-RU" sz="1800" spc="-1" strike="noStrike">
                <a:solidFill>
                  <a:srgbClr val="000000"/>
                </a:solidFill>
                <a:latin typeface="Trebuchet MS"/>
              </a:rPr>
              <a:t>«Что должен научиться делать ученик?» и «Как я, учитель, делаю это сам?»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99" name="Picture 4" descr="09"/>
          <p:cNvPicPr/>
          <p:nvPr/>
        </p:nvPicPr>
        <p:blipFill>
          <a:blip r:embed="rId2"/>
          <a:stretch/>
        </p:blipFill>
        <p:spPr>
          <a:xfrm>
            <a:off x="1619280" y="260280"/>
            <a:ext cx="1584360" cy="13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/>
          </p:nvPr>
        </p:nvSpPr>
        <p:spPr>
          <a:xfrm>
            <a:off x="394920" y="2017800"/>
            <a:ext cx="8559720" cy="465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-59112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Какова характеристика реальных учебных возможностей обучающихся? Какие особенности обучающихся были учтены при планировании данного урока?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591120" indent="-59112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Каково место данного урока в теме, разделе, курсе? Как он связан с предыдущим, на что в них опирается? Как этот урок «работает» на последующие уроки, темы, разделы? В чём специфика этого урока? Каков его тип?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591120" indent="-59112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Какие задачи решались на уроке: образовательные,  воспитательные, развивающие? Была ли обеспечена их комплексность, взаимосвязь? Какие задачи были главными, стержневыми? Как учтены в задачах особенности класса, отдельных групп школьников?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591120" indent="-59112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Почему выбранная структура урока была рациональна для решения этих задач? Рационально ли выделено место в уроке для опроса, изучения нового материала, закрепления, домашнего задания и т. д.? Рационально ли было распределено время, отведённое на все этапы урока? Логичны ли «связки» между всеми этапами урока?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591120" indent="-59112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На каких понятиях, идеях, положениях фактах делался главный акцент на уроке и почему? Выбрано ли главное, существенное?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591120" indent="-59112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Какое сочетание методов обучения избрано для раскрытия нового материала? Дать обоснование выбора методов обучения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591120" indent="-59112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Какое сочетание форм обучения было избрано для раскрытия нового материала и почему? Необходим ли был дифференцированный подход к обучающимся? Как он осуществлялся и почему именно так?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01" name="Picture 5" descr="index_01"/>
          <p:cNvPicPr/>
          <p:nvPr/>
        </p:nvPicPr>
        <p:blipFill>
          <a:blip r:embed="rId1"/>
          <a:stretch/>
        </p:blipFill>
        <p:spPr>
          <a:xfrm>
            <a:off x="4356000" y="189000"/>
            <a:ext cx="4587840" cy="1479600"/>
          </a:xfrm>
          <a:prstGeom prst="rect">
            <a:avLst/>
          </a:prstGeom>
          <a:ln w="0">
            <a:noFill/>
          </a:ln>
        </p:spPr>
      </p:pic>
      <p:sp>
        <p:nvSpPr>
          <p:cNvPr id="302" name="Rectangle 6"/>
          <p:cNvSpPr/>
          <p:nvPr/>
        </p:nvSpPr>
        <p:spPr>
          <a:xfrm>
            <a:off x="1403280" y="575280"/>
            <a:ext cx="2314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СХЕМА САМОАНАЛИЗА УРОК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/>
          </p:nvPr>
        </p:nvSpPr>
        <p:spPr>
          <a:xfrm>
            <a:off x="323640" y="2017800"/>
            <a:ext cx="8631000" cy="465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-58500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Как организован контроль усвоения знаний, умений и навыков? В каких формах и какими методами осуществлялся? Почему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85000" indent="-58500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Как использовался на уроках учебный кабинет, какие средства обучения. Почему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85000" indent="-58500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За счёт чего обеспечивалась высокая работоспособность студентов в течение всего урока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85000" indent="-58500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За счёт чего на уроке поддерживалась хорошая психологическая атмосфера, общение? Как было реализовано воспитательное влияние личности учителя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85000" indent="-58500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Как и за счёт чего обеспечивалось на уроке и в домашней работе студентов рациональное использование времени, предупреждение перегрузки учащихся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85000" indent="-58500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Запасные методические «ходы» на случай непредвиденной ситуации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85000" indent="-58500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Удалось ли полностью реализовать все поставленные задачи? Если не удалось, то какие и почему? Как учитель планирует восполнение нереализованного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Rectangle 4"/>
          <p:cNvSpPr/>
          <p:nvPr/>
        </p:nvSpPr>
        <p:spPr>
          <a:xfrm>
            <a:off x="1403280" y="575280"/>
            <a:ext cx="2314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СХЕМА САМОАНАЛИЗА УРОК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05" name="Picture 5" descr="index_01"/>
          <p:cNvPicPr/>
          <p:nvPr/>
        </p:nvPicPr>
        <p:blipFill>
          <a:blip r:embed="rId1"/>
          <a:stretch/>
        </p:blipFill>
        <p:spPr>
          <a:xfrm>
            <a:off x="4356000" y="189000"/>
            <a:ext cx="4587840" cy="14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/>
          </p:nvPr>
        </p:nvSpPr>
        <p:spPr>
          <a:xfrm>
            <a:off x="250920" y="2565000"/>
            <a:ext cx="870408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-  Анализ урока: типология, методики, диагностика / авт.-сост. А.В. Голубева, Т.А. Чегодаева. - Волгоград: Учитель, 2007. - 121 с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- Афиногенов А.Я. Реализация современных требований к содержанию образования и организации образовательного процес­са в учреждениях начального профессионального образования / А.Я. Афиногенов // Межвузовский сборник научных статей: Вузов­ская наука. Новации. Перспективы. - Тула: АНОВПО «ИЭУ», 2007. - с. 93-97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- Афиногенов А.Я. Опытно-экспериментальная работа в уч­реждениях профессионального образования Тульской области: учебно-методическое пособие / А.Я. Афиногенов, Л.И. Луценко, Г.Н. Лищина. - Тула: ИПК и ППРО ТО, 2008. - 164 с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-  Батышев А.С. Практическая педагогика для начинающего преподавателя / А.С. Батышев. - М.: Ассоциация «Профессиональ­ное образование», 2003. - 200 с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07" name="Picture 5" descr="index_01"/>
          <p:cNvPicPr/>
          <p:nvPr/>
        </p:nvPicPr>
        <p:blipFill>
          <a:blip r:embed="rId1"/>
          <a:stretch/>
        </p:blipFill>
        <p:spPr>
          <a:xfrm>
            <a:off x="4211640" y="115920"/>
            <a:ext cx="4803840" cy="1584360"/>
          </a:xfrm>
          <a:prstGeom prst="rect">
            <a:avLst/>
          </a:prstGeom>
          <a:ln w="0">
            <a:noFill/>
          </a:ln>
        </p:spPr>
      </p:pic>
      <p:sp>
        <p:nvSpPr>
          <p:cNvPr id="308" name="Rectangle 5"/>
          <p:cNvSpPr/>
          <p:nvPr/>
        </p:nvSpPr>
        <p:spPr>
          <a:xfrm>
            <a:off x="1116000" y="1915560"/>
            <a:ext cx="748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Список использованной литератур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09" name="Picture 6" descr="j0299125"/>
          <p:cNvPicPr/>
          <p:nvPr/>
        </p:nvPicPr>
        <p:blipFill>
          <a:blip r:embed="rId2"/>
          <a:stretch/>
        </p:blipFill>
        <p:spPr>
          <a:xfrm>
            <a:off x="1547640" y="115920"/>
            <a:ext cx="984600" cy="16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4"/>
          <p:cNvSpPr/>
          <p:nvPr/>
        </p:nvSpPr>
        <p:spPr>
          <a:xfrm>
            <a:off x="395280" y="3068640"/>
            <a:ext cx="896472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Полноценность содержания урока определяется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- умелым отбором материал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-образным, конкретным, эмоциональным освещением событи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- умением дифференцированно оценивать содержание: различать опорные  знания, объекты прочного усвоения и материал, являющийся средством достижения цели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- целесообразным сочетанием содержания речи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еподавателя,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 учебника и внеурочных знаний учащихс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- созданием системы исторических  и обществвоведческих знаний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8" name="Picture 5" descr="index_01"/>
          <p:cNvPicPr/>
          <p:nvPr/>
        </p:nvPicPr>
        <p:blipFill>
          <a:blip r:embed="rId1"/>
          <a:stretch/>
        </p:blipFill>
        <p:spPr>
          <a:xfrm>
            <a:off x="4067280" y="169920"/>
            <a:ext cx="4876560" cy="1574640"/>
          </a:xfrm>
          <a:prstGeom prst="rect">
            <a:avLst/>
          </a:prstGeom>
          <a:ln w="0">
            <a:noFill/>
          </a:ln>
        </p:spPr>
      </p:pic>
      <p:sp>
        <p:nvSpPr>
          <p:cNvPr id="129" name="TextBox 3"/>
          <p:cNvSpPr/>
          <p:nvPr/>
        </p:nvSpPr>
        <p:spPr>
          <a:xfrm>
            <a:off x="1908000" y="1916280"/>
            <a:ext cx="532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Требования к уроку истории и обществознани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/>
          </p:nvPr>
        </p:nvSpPr>
        <p:spPr>
          <a:xfrm>
            <a:off x="178920" y="2060640"/>
            <a:ext cx="877572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-  Беспалько В.П. Педагогика и прогрессивные технологии обучения / В.П. Беспалько. - М., 1995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-   Важевская Е.Н. Учись учиться / Е.Н. Важевская, А.Т. Глазу­нов. -М., 2000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-  Володарская А.А. Современные подходы к процессу обу­чения (Что такое современный урок?): методические рекомендации в вопросах и ответах / А.А. Володарская. - М., 1998. -22 с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-  Ермолаева М.Г. Современный урок: анализ, тенденции, возможности: учебно-методическое пособие / М.Г. Ермолаева. - СПб.: КАРО, 2008.-160 с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-  Заславская О.В. Обучение как фактор формирования и развития воспитательной системы школы / О.В. Заславская. - Тула: ТО ИРО, 1997. - 187 с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-  Заславская О.В. Педагогическая технология и содержа­ние деятельности педколлективов общеобразовательных школ по реализации идеи индивидуализации обучения (программа «Школа индивидуального выбора»); в 9 частях / О.В. Заславская [и др.] - Тула, 1993.-440 с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11" name="Picture 5" descr="index_01"/>
          <p:cNvPicPr/>
          <p:nvPr/>
        </p:nvPicPr>
        <p:blipFill>
          <a:blip r:embed="rId1"/>
          <a:stretch/>
        </p:blipFill>
        <p:spPr>
          <a:xfrm>
            <a:off x="4284720" y="189000"/>
            <a:ext cx="4730760" cy="152712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5" descr="j0217698"/>
          <p:cNvPicPr/>
          <p:nvPr/>
        </p:nvPicPr>
        <p:blipFill>
          <a:blip r:embed="rId2"/>
          <a:stretch/>
        </p:blipFill>
        <p:spPr>
          <a:xfrm>
            <a:off x="1476360" y="260280"/>
            <a:ext cx="1440000" cy="13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/>
          </p:nvPr>
        </p:nvSpPr>
        <p:spPr>
          <a:xfrm>
            <a:off x="0" y="2133360"/>
            <a:ext cx="91440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-  Заславская О.В. Процесс обучения и его функции в раз­витии воспитательной системы школы: дисс. ... доктора пед. наук: 13.00.01 / О.В. Заславская. - М., 1997. - 278 с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-  Коменский Я.А. Избранные педагогические сочинения: в 2-х т. / Я. А. Коменский. - М.: Педагогика, 1982.-Т. 1.-656 с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-   Конаржевский Ю.А. Педагогический анализ учебно- воспитательного процесса и управление школой / Ю.А. Конаржев­ский. - М.: Педагогика, 1986. - 144 с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-   Конаржевский Ю.А. Анализ урока / Ю.А. Конаржевский. - М.: Центр «Педагогический поиск», 2000. - 336 с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- Кульневич С.В. Анализ современного урока: практическое пособие для учителей и руководителей образовательных учрежде­ний, студентов лед. уч. заведений, слушателей ИПК/ С.В. Кульне­вич, Т.П. Лакоценина. - Ростов-н/Д.: ТЦ «Учитель», 2002. - 176 с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-  Лейбович А.Н. Структура и содержание государственного стандарта профессионального образования / А Н. Лейбович. - М., 1996.-228 с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14" name="Picture 5" descr="index_01"/>
          <p:cNvPicPr/>
          <p:nvPr/>
        </p:nvPicPr>
        <p:blipFill>
          <a:blip r:embed="rId1"/>
          <a:stretch/>
        </p:blipFill>
        <p:spPr>
          <a:xfrm>
            <a:off x="4067280" y="115920"/>
            <a:ext cx="4948200" cy="159552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5" descr="j0299125"/>
          <p:cNvPicPr/>
          <p:nvPr/>
        </p:nvPicPr>
        <p:blipFill>
          <a:blip r:embed="rId2"/>
          <a:stretch/>
        </p:blipFill>
        <p:spPr>
          <a:xfrm>
            <a:off x="1547640" y="115920"/>
            <a:ext cx="984600" cy="16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/>
          </p:nvPr>
        </p:nvSpPr>
        <p:spPr>
          <a:xfrm>
            <a:off x="0" y="2133360"/>
            <a:ext cx="91440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-   Махмутов М.И. Современный урок / М.И. Махмутов. - М.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1981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-  Общие основы педагогики / под. ред. Ф.Ф. Королева, В.Е. Гмурмана. - М., 1981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-  Олейникова О.Н. Разработка модульных программ, осно­ванных на компетенциях: учебное пособие / О Н. Олейникова [и др.]. - М.: Альфа, - 2005. - 228 с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-   Подласый И.П. Продуктивная педагогика: книга для учи­теля / И.П. Подласый. - М.: Народное образование, 2003. - 496 с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-  Подласый И.П. Педагогика: учеб. для студентов высших пед. учеб. заведений / И.П. Подласый. - М.: Просвещение: Гуманит изд. центр ВЛАДОС, 1996. - 432 с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-   Поташник М.М. Требования к современному уроку: мето­дическое пособие / М.М. Поташник. -'М.: Центр педагогического образования, 2008.-272 с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-  Профессиональная педагогика: учебник для студентов, обучающихся по педагогическим специальностям и направлени­ям- М.: Ассоциация «Профессиональное образование», 1997. - 512 с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-   Рерих Н.К. О вечном... / Н.К. Рерих. - М.: Политиздат, 1991.-426 с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17" name="Picture 5" descr="index_01"/>
          <p:cNvPicPr/>
          <p:nvPr/>
        </p:nvPicPr>
        <p:blipFill>
          <a:blip r:embed="rId1"/>
          <a:stretch/>
        </p:blipFill>
        <p:spPr>
          <a:xfrm>
            <a:off x="4067280" y="115920"/>
            <a:ext cx="4948200" cy="159696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5" descr="j0217698"/>
          <p:cNvPicPr/>
          <p:nvPr/>
        </p:nvPicPr>
        <p:blipFill>
          <a:blip r:embed="rId2"/>
          <a:stretch/>
        </p:blipFill>
        <p:spPr>
          <a:xfrm>
            <a:off x="1476360" y="189000"/>
            <a:ext cx="1513080" cy="146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/>
          </p:nvPr>
        </p:nvSpPr>
        <p:spPr>
          <a:xfrm>
            <a:off x="0" y="2133360"/>
            <a:ext cx="91440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-  Сергеева Т.А. Проектирование учебного занятия / Т.А. Сергеева, Н.М. Уварова. - М., 2000. - 83 с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-   Сибирская М П. Педагогические технологии профессио­нальной подготовки / М.П. Сибирская. - СПб., 1995. - 79 с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-  Симонов В.П. Урок: планирование, организация и оценка эффективности (проблемы, методологии, теории и технологии): монография. Авторское издание / В.П. Симонов. - 2003. - 186 с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-   Скакун В.А. Проведение и анализ уроков по специальным и общетехническим предметам / В.А. Скакун. - М.: Высш. шк., 1984. - 80 с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-   Скакун В.А. Методическое пособие для преподавателей специальных и общетехнических предметов профессиональных учебных заведений / В.А. Скакун. - М., 2001. - 184 с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-   Конаржевский Ю.А. Анализ урока / Ю.А. Конаржевский. - М.: Центр «Педагогический поиск», 2000. - 336 с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-  Кульневич С.В. Анализ современного урока: практическое пособие для учителей и руководителей образовательных учрежде­ний, студентов лед. уч. заведений, слушателей ИПК/ С.В. Кульне­вич, Т.П. Лакоценина. - Ростов-н/Д.: ТЦ «Учитель», 2002. - 176 с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20" name="Picture 5" descr="index_01"/>
          <p:cNvPicPr/>
          <p:nvPr/>
        </p:nvPicPr>
        <p:blipFill>
          <a:blip r:embed="rId1"/>
          <a:stretch/>
        </p:blipFill>
        <p:spPr>
          <a:xfrm>
            <a:off x="4140360" y="115920"/>
            <a:ext cx="4875120" cy="157320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5" descr="j0299125"/>
          <p:cNvPicPr/>
          <p:nvPr/>
        </p:nvPicPr>
        <p:blipFill>
          <a:blip r:embed="rId2"/>
          <a:stretch/>
        </p:blipFill>
        <p:spPr>
          <a:xfrm>
            <a:off x="1547640" y="189000"/>
            <a:ext cx="922680" cy="151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0" y="2133360"/>
            <a:ext cx="91440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-   Лейбович А.Н. Структура и содержание государственного стандарта профессионального образования / А Н. Лейбович. - М., 1996.-228 с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-     Махмутов М.И. Современный урок / М.И. Махмутов. - М.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1981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-     Общие основы педагогики / под. ред. Ф.Ф. Королева, В.Е. Гмурмана. - М., 1981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-   Олейникова О.Н. Разработка модульных программ, осно­ванных на компетенциях: учебное пособие / О Н. Олейникова [и др.]. - М.: Альфа, - 2005. - 228 с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-   Подласый И.П. Продуктивная педагогика: книга для учи­теля / И.П. Подласый. - М.: Народное образование, 2003. - 496 с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-  Подласый И.П. Педагогика: учеб. для студентов высших пед. учеб. заведений / И.П. Подласый. - М.: Просвещение: Гуманит изд. центр ВЛАДОС, 1996. - 432 с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-    Сергеева Т.А. Проектирование учебного занятия / Т.А. Сергеева, Н.М. Уварова. - М., 2000. - 83 с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23" name="Picture 5" descr="index_01"/>
          <p:cNvPicPr/>
          <p:nvPr/>
        </p:nvPicPr>
        <p:blipFill>
          <a:blip r:embed="rId1"/>
          <a:stretch/>
        </p:blipFill>
        <p:spPr>
          <a:xfrm>
            <a:off x="4140360" y="115920"/>
            <a:ext cx="4875120" cy="157464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6" descr="j0217698"/>
          <p:cNvPicPr/>
          <p:nvPr/>
        </p:nvPicPr>
        <p:blipFill>
          <a:blip r:embed="rId2"/>
          <a:stretch/>
        </p:blipFill>
        <p:spPr>
          <a:xfrm>
            <a:off x="1547640" y="260280"/>
            <a:ext cx="1440000" cy="13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0" y="2204640"/>
            <a:ext cx="9144000" cy="465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-  Подласый И.П. Педагогика: учеб. для студентов высших пед. учеб. заведений / И.П. Подласый. - М.: Просвещение: Гуманит изд. центр ВЛАДОС, 1996. - 432 с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-   Поташник М.М. Требования к современному уроку: мето­дическое пособие / М.М. Поташник. -'М.: Центр педагогического образования, 2008.-272 с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-   Профессиональная педагогика: учебник для студентов, обучающихся по педагогическим специальностям и направлени­ям- М.: Ассоциация «Профессиональное образование», 1997. - 512 с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-     Рерих Н.К. О вечном... / Н.К. Рерих. - М.: Политиздат, 1991.-426 с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-   Сибирская М П. Педагогические технологии профессио­нальной подготовки / М.П. Сибирская. - СПб., 1995. - 79 с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-  Симонов В.П. Урок: планирование, организация и оценка эффективности (проблемы, методологии, теории и технологии): монография. Авторское издание / В.П. Симонов. - 2003. - 186 с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-   Скакун В.А. Проведение и анализ уроков по специальным и общетехническим предметам / В.А. Скакун. - М.: Высш. шк., 1984. - 80 с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-   Скакун В.А. Методическое пособие для преподавателей специальных и общетехнических предметов профессиональных учебных заведений / В.А. Скакун. - М., 2001. - 184 с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26" name="Picture 5" descr="index_01"/>
          <p:cNvPicPr/>
          <p:nvPr/>
        </p:nvPicPr>
        <p:blipFill>
          <a:blip r:embed="rId1"/>
          <a:stretch/>
        </p:blipFill>
        <p:spPr>
          <a:xfrm>
            <a:off x="4284720" y="189000"/>
            <a:ext cx="4730760" cy="152712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6" descr="j0299125"/>
          <p:cNvPicPr/>
          <p:nvPr/>
        </p:nvPicPr>
        <p:blipFill>
          <a:blip r:embed="rId2"/>
          <a:stretch/>
        </p:blipFill>
        <p:spPr>
          <a:xfrm>
            <a:off x="1763640" y="115920"/>
            <a:ext cx="922320" cy="151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4" descr="index_01"/>
          <p:cNvPicPr/>
          <p:nvPr/>
        </p:nvPicPr>
        <p:blipFill>
          <a:blip r:embed="rId1"/>
          <a:stretch/>
        </p:blipFill>
        <p:spPr>
          <a:xfrm>
            <a:off x="4067280" y="169920"/>
            <a:ext cx="4876560" cy="157464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5"/>
          <p:cNvSpPr/>
          <p:nvPr/>
        </p:nvSpPr>
        <p:spPr>
          <a:xfrm>
            <a:off x="684360" y="692280"/>
            <a:ext cx="3382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Системный анализ урок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Box 3"/>
          <p:cNvSpPr/>
          <p:nvPr/>
        </p:nvSpPr>
        <p:spPr>
          <a:xfrm>
            <a:off x="684360" y="2133720"/>
            <a:ext cx="79912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rebuchet MS"/>
              </a:rPr>
              <a:t>Оценка основных личностных качеств учителя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6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Знание предмета и общая эрудиция учителя. Уровень педагогического и методического мастерств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6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Культура речи, темп, дикция. Интенсивность. Образность, эмоциональность, общая и специфическая грамотность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6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Степень тактичности и демократичности взаимоотношений с ученикам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6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Внешний вид, культура, мимика, жесты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4" descr="index_01"/>
          <p:cNvPicPr/>
          <p:nvPr/>
        </p:nvPicPr>
        <p:blipFill>
          <a:blip r:embed="rId1"/>
          <a:stretch/>
        </p:blipFill>
        <p:spPr>
          <a:xfrm>
            <a:off x="4067280" y="169920"/>
            <a:ext cx="4876560" cy="157464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6"/>
          <p:cNvSpPr/>
          <p:nvPr/>
        </p:nvSpPr>
        <p:spPr>
          <a:xfrm>
            <a:off x="611280" y="2421000"/>
            <a:ext cx="813600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MV Boli"/>
              </a:rPr>
              <a:t>Оценка основных характеристик обучающихся на заняти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6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Степень познавательной активности, творчества и самостоятельности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6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Уровень развития общеучебных и специальных умений и навыков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6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Наличие и эффективность коллективных (групповых) форм работы учащихся на уроке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6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Степень дисциплинированности, организованности и заинтересованности в данном учебном предмете вообще и в уроке в частности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5"/>
          <p:cNvSpPr/>
          <p:nvPr/>
        </p:nvSpPr>
        <p:spPr>
          <a:xfrm>
            <a:off x="684360" y="692280"/>
            <a:ext cx="3382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Системный анализ урок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0T19:17:30Z</dcterms:created>
  <dc:creator>Admin</dc:creator>
  <dc:description/>
  <dc:language>en-US</dc:language>
  <cp:lastModifiedBy>Windows User</cp:lastModifiedBy>
  <dcterms:modified xsi:type="dcterms:W3CDTF">2017-12-23T07:15:36Z</dcterms:modified>
  <cp:revision>41</cp:revision>
  <dc:subject/>
  <dc:title>Моя тема по  самообразованию: </dc:title>
</cp:coreProperties>
</file>