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634-3AFA-4BEA-B5D9-4029BD0F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C50-F33C-435C-9B1B-D30BAC1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F13-4B13-4028-9917-CEED7A78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6D5-13ED-4A72-A231-0B2BC130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CA8-D03E-4986-8A89-8D5EFF3B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92CF-A834-43B8-A2E1-346298D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FF3-1493-4B23-B0E7-75A5124A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8C6C-A7F6-495B-80C9-9686611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AEC1-0783-4B5C-922A-1AF85552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305-CE5B-47FD-9D9C-D3AAC06C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DF2-1AE4-49EB-827C-58CDCA6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655-E4BA-4F6A-9BFA-AA129A4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F33-B026-4B0C-87E8-44F8DA1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0AA8-3863-44E4-87C3-0BF396D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B46A-1D58-49D8-A9BD-03A62D49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5FDA-934A-4A1C-AE3D-27AE230C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72F7-F451-4B2F-AC52-5766BE22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CE22-1B57-4102-8CF6-B37F3A06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901E-AC59-43B8-868B-625915F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893F-CB30-45D0-9210-52FD222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6CEF-B9A8-4176-95C5-6434C460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2E6F-5785-41ED-AF0C-BC8DFA23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E57-5F85-4489-8298-41F5237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0335-5FCE-4B77-8A05-CF93270A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2B6D-075A-4A98-8DD5-22AEAC6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32F4-2870-484A-AE54-B19E329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E5A4-82D1-4A5B-A88C-252A91D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5B6C-B184-4F01-8A5F-27E709C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288B-8CD0-4972-BA6D-1BCA5F42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BE81-8313-4FBB-B5A7-574F762C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3A8-EF28-4653-A73A-95C7D808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712-F837-4583-AF96-B6F7955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CBB-5947-4E04-B745-AB5E47B3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82F-E3D6-4541-88E8-0591ABF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45C-DCBE-408E-B2AF-B1DF3F8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866-FCCC-4576-ABF5-3CE0A54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66E-96E4-4FA6-B6F2-CB9D12115D5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4c8aa36f7131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75E-0E02-4F15-9F6F-264D9CD614F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3AA0-C1AD-4EF9-B20C-1632AC303D3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РОДИТЕЛЬСКОЕ СОБРАНИЕ </a:t>
            </a:r>
            <a:br>
              <a:rPr sz="44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«Подготовка к проведению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государственной итоговой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аттестации выпускников 11-х классов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в 2018 году» </a:t>
            </a:r>
            <a:br>
              <a:rPr sz="36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</a:t>
            </a:r>
            <a:br>
              <a:rPr sz="2000"/>
            </a:b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</a:t>
            </a:r>
            <a:br>
              <a:rPr sz="2000"/>
            </a:br>
            <a:br>
              <a:rPr sz="18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</a:t>
            </a:r>
            <a:br>
              <a:rPr sz="2000"/>
            </a:b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332000" y="260280"/>
            <a:ext cx="7632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учения «зачета» за итоговое сочинение необходимо получить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«зачет» по критериям №1 и №2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тавление «незачета» по одному из этих критериев автоматически ведет к «незачету» за работу в целом), а также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полнительно «зачет»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я бы по одному из других критериев (№3-№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ставлении оценки учитывается объем сочинения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мое количество слов – 35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очинении менее 250 слов (в подсчет включаются все слова, в том числе и служебные), то за такую работу ставится «незачет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количество слов в сочинении не устанавливается: в определении объема своего сочинения выпускник должен исходить из того, что на всю работу отводится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часа 55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Математика 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100-бальной систе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редметы по выбор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-31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Копия (2) TEACHER"/>
          <p:cNvPicPr/>
          <p:nvPr/>
        </p:nvPicPr>
        <p:blipFill>
          <a:blip r:embed="rId1"/>
          <a:stretch/>
        </p:blipFill>
        <p:spPr>
          <a:xfrm>
            <a:off x="611280" y="2133720"/>
            <a:ext cx="2595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Сроки ГИА - 2018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32000" y="1413000"/>
          <a:ext cx="7632720" cy="38718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60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роприят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ты пр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е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декабря 201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е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февраля 201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чине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ая 201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А-11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досрочный этап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марта – 13 апреля 20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А-11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сновной этап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мая – 29 июня 20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8650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став индивидуального комплекта ЕГЭ</a:t>
            </a:r>
            <a:br>
              <a:rPr sz="3200"/>
            </a:b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-12600" y="763560"/>
            <a:ext cx="2701800" cy="38163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8" descr=""/>
          <p:cNvPicPr/>
          <p:nvPr/>
        </p:nvPicPr>
        <p:blipFill>
          <a:blip r:embed="rId2"/>
          <a:stretch/>
        </p:blipFill>
        <p:spPr>
          <a:xfrm>
            <a:off x="2700360" y="1278000"/>
            <a:ext cx="2490840" cy="3519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1" descr=""/>
          <p:cNvPicPr/>
          <p:nvPr/>
        </p:nvPicPr>
        <p:blipFill>
          <a:blip r:embed="rId3"/>
          <a:stretch/>
        </p:blipFill>
        <p:spPr>
          <a:xfrm>
            <a:off x="5216400" y="907920"/>
            <a:ext cx="239724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0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2038320" cy="287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E:\Презентации\2008\13-14 марта\RUS_01_2007.png"/>
          <p:cNvPicPr/>
          <p:nvPr/>
        </p:nvPicPr>
        <p:blipFill>
          <a:blip r:embed="rId5"/>
          <a:stretch/>
        </p:blipFill>
        <p:spPr>
          <a:xfrm>
            <a:off x="5291280" y="254160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"/>
          <p:cNvPicPr/>
          <p:nvPr/>
        </p:nvPicPr>
        <p:blipFill>
          <a:blip r:embed="rId6"/>
          <a:stretch/>
        </p:blipFill>
        <p:spPr>
          <a:xfrm>
            <a:off x="3828960" y="4479840"/>
            <a:ext cx="2565360" cy="1981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250920" y="4797360"/>
            <a:ext cx="35290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ответов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ответов №2 лис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ответов №2 ли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М (несколько страни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332000" y="549360"/>
            <a:ext cx="7632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Arial"/>
              </a:rPr>
              <a:t>ВСЕ БЛАНКИ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  <a:ea typeface="Arial"/>
              </a:rPr>
              <a:t>(кроме сочинения)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Arial"/>
              </a:rPr>
              <a:t> ОДНОСТОРОННИ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Arial"/>
                <a:ea typeface="Arial"/>
              </a:rPr>
              <a:t>ОТВЕТ НА ОБОРОТНОЙ СТОРОНЕ БЛАНКА </a:t>
            </a:r>
            <a:br>
              <a:rPr sz="5000"/>
            </a:br>
            <a:r>
              <a:rPr b="1" lang="ru-RU" sz="5000" spc="-1" strike="noStrike">
                <a:solidFill>
                  <a:srgbClr val="ff3300"/>
                </a:solidFill>
                <a:latin typeface="Arial"/>
                <a:ea typeface="Arial"/>
              </a:rPr>
              <a:t>НЕ БУДЕТ СКАНИРОВАТЬС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58920" y="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правка об изменениях в КИМ ЕГЭ 201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изменения в КИМ ЕГЭ не носят принципиального характера. По большинству предметов проводится уточнение формулировок заданий и совершенствование системы оценивания заданий для повышения дифференцирующей способности экзаменационной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360" y="1484280"/>
          <a:ext cx="7488360" cy="5370480"/>
        </p:xfrm>
        <a:graphic>
          <a:graphicData uri="http://schemas.openxmlformats.org/drawingml/2006/table">
            <a:tbl>
              <a:tblPr/>
              <a:tblGrid>
                <a:gridCol w="2035080"/>
                <a:gridCol w="545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менения в КИМ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странные яз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й структуры и содержания нет. Уточнены критерии оценивания выполнения заданий 39 и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16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 и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Изменения структуры КИМ отсутствуют. В задании 25 убрана возможность написания алгоритма на естественном языке в связи с не востребованностью этой возможности участниками экзаме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Примеры текстов программ и их фрагментов в условиях заданий 8, 11, 19, 20, 21, 24, 25 на языке Си заменены на примеры на языке С++, как значительно более актуальном и распространенном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187280" y="549360"/>
          <a:ext cx="7488360" cy="5400720"/>
        </p:xfrm>
        <a:graphic>
          <a:graphicData uri="http://schemas.openxmlformats.org/drawingml/2006/table">
            <a:tbl>
              <a:tblPr/>
              <a:tblGrid>
                <a:gridCol w="2035440"/>
                <a:gridCol w="5452920"/>
              </a:tblGrid>
              <a:tr h="27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ика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 В часть 1 добавлено одно задание базового уровня (№24), проверяющее элементы астрофизи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) Максимальный первичный балл за выполнение всей работы увеличен с 50 до 52 балл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27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влено одно задание (№30) высокого уровня с развернутым ответом. За счет изменения балльности заданий части 1 максимальный первичный балл за выполнение всей работы остался без изменений (60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стало 35 зада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264960"/>
            <a:ext cx="7129440" cy="1161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03280" y="115920"/>
          <a:ext cx="7489800" cy="6310440"/>
        </p:xfrm>
        <a:graphic>
          <a:graphicData uri="http://schemas.openxmlformats.org/drawingml/2006/table">
            <a:tbl>
              <a:tblPr/>
              <a:tblGrid>
                <a:gridCol w="2035080"/>
                <a:gridCol w="5454720"/>
              </a:tblGrid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терату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 Уточнены требования к выполнению заданий 9 и 16 (отменено требование обосновать выбор примера для сопоставле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) Введена четвертая тема сочинения (17.4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) Полностью переработаны критерии оценивания выполнения заданий с развернутым ответом (8, 9, 15, 16, 17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) Максимальный балл за всю работу увеличен с 42 до 57 баллов.Изменения в КИМ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Переработана система оценивания задания 28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Детализирована формулировка задания 29 и изменена система его оценив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Максимальный первичный балл за выполнение всей работы увеличен с 62 до 64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01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В экзаменационную работу включено задание базового уровня (№20), проверяющее знание лексических норм современного русского литературного язы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Максимальный первичный балл за выполнение всей работы увеличен с 57 до 58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777080" cy="936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Минимальный балл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32000" y="90792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ля поступления в ВУЗ: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й язык – 3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матика - 2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 - 4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логия - 3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- 3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имия - 3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странные языки - 2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ка - 3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ознание - 4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- 3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графия - 3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ля получения аттестата: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й язык - 2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26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матика база – 3 (оцен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000" y="115560"/>
            <a:ext cx="8280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РМАТИВНЫЕ ДОКУМЕН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Закон РФ от 22.12.2012№ 273 ФЗ «Об образовании в РФ» ст.59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Освоение образовательных программ основного общего, среднего об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завершается обязательной итоговой аттестацией выпускн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б утверждении Порядка аккредитации граждан в качестве общественных наблюдателей при проведении ГИА по образовательным программам основного общего и среднего общего образования, всероссийской олимпиады школьников и олимпиад школьников» (приказ МОиН от 28июня 2013 г. N 491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б утверждении Порядка проведения государственной итоговой аттестации по образовательным программам среднего общего образования» (приказ МОиН РФ от 26.12.2013 № 14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 внесении изменений в Порядок проведения государственной итоговой аттестации по образовательным программам среднего общего образования» (приказ Минобрнауки России от 5 августа 2014 г. № 92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 действии результатов ЕГЭ» (письмо МОиН от 20.11.2013 ДЛ-344/17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б установлении минимального количества баллов единого государственного экзамена, необходимого для поступления на обучение по программам бакалавриата и программам специалитета» (распоряжение Рособрнадзора от 04.09.2014 №1701-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О сроках проведения ЕГЭ в 2018 году» должно быть распоряжение Рособрнадз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3200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явление на участие в Е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до 1 февраля2018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632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аттестата выпускники текущего года сдают </a:t>
            </a: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обязательные предме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усский язык и математи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ать можно </a:t>
            </a: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любое количество предме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 спис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Правила и процедура проведения ЕГЭ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ЕГЭ в основные сроки получают </a:t>
            </a:r>
            <a:r>
              <a:rPr b="0" lang="ru-RU" sz="3200" spc="-1" strike="noStrike">
                <a:solidFill>
                  <a:srgbClr val="333399"/>
                </a:solidFill>
                <a:latin typeface="Calibri"/>
              </a:rPr>
              <a:t>пропуск (как информационный лист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пропуске на ЕГЭ указыв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ы Е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са пунктов проведения экзамена (далее – ПП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ы и время начала экзам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ды образовательного учреждения и ПП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Правила и процедура проведения ЕГЭ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ГЭ проводится в специальных пунктах проведения экзамена (ППЭ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ПЭ нужно приходить с паспортом или другим документом, удостоверяющим л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Правила и процедура проведения ЕГЭ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137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ГЭ начинается в 10:00 по местному вр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начала и окончания экзамена фиксируется на дос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решается пользоваться на ЕГЭ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о математи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линейкой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о физи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линейкой и непрограммируемым калькулятором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о хим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епрограммируемым калькулятором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о географ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линейкой, транспортиром, непрограммируемым калькулятором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Правила и процедура проведения ЕГЭ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20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96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на экзамене </a:t>
            </a: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запрещено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мобильные телефо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иные средства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ые электронно-вычислительные устройства и справочные материалы и устро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же запрещ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-25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говор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-25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авания с мес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-25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сажив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-25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любыми материалами и предмет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-25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ждение по ППЭ во время экзамена без сопрово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6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</a:rPr>
              <a:t>Результаты ЕГЭ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ная экзаменационная работа оценивается в первичных бал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первичных баллов за выполнение каждого задания можно узнать в спецификации КИМ по пред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рвичные баллы переводятся в тестов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е и устанавливают итоговый результат ЕГЭ по 100-балльной ш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участников ЕГЭ с полученными ими результатами ЕГЭ по общеобразовательному предмету осуществляется не позднее 3-х рабочих дней со дня их утверждения ГЭ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ЕГЭ каждого участника заносятся в федеральную информационную сис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332000" y="692280"/>
            <a:ext cx="7632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600" spc="-1" strike="noStrike">
                <a:solidFill>
                  <a:srgbClr val="333399"/>
                </a:solidFill>
                <a:latin typeface="Calibri"/>
              </a:rPr>
              <a:t>по одному из обязательных предмет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(русский язык или математика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то он может пересдать этот экзамен в этом же году в резервные дн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32000" y="980640"/>
            <a:ext cx="763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ступлении абитуриенту могут быть добавлены дополнительные 10 бал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аттестат с отличи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сочинение (на усмотрение ВУЗа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ые достижения в учебе (научные конкурсы, олимпиады и т.д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высокие достижения в области спор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42560" y="404280"/>
            <a:ext cx="7643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зультаты ЕГЭ каждого участника заносятся в федеральную информационную систему, бумажных свидетельств о результатах ЕГЭ не предусмотре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УДОВЛЕТВОРИТЕЛЬНЫЙ РЕЗУЛЬТ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участник ЕГЭ получит результат ниже установленного минимального количества баллов по одному из обязательных учебных предметов, он имеет право на повторную сдачу в дополнительные сроки, предусмотренные единым расписани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если участник ЕГЭ не получает минимального количества баллов ЕГЭ по предметам по выбору, то пересдача для таких участников предусмотрена только через г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71280" y="333000"/>
            <a:ext cx="79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«Об утверждении Порядка аккредитации граждан в качестве общественных наблюдателей при проведении ГИА» (приказ МОиН от 28 июня 2013 г. № 491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2014г. : оснащение пунктов проведения ЕГЭ системами видеонаблюдения. Каждая аудитория оборудована системами видеонаблюдения (ст. 98 ФЗ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ждой аудитории 1 общественный наблюда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ние мобильным телефоном запреще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нарушении этих правил участник ЕГЭ удаляется с экзамена с внесением записи в протокол проведения экзамена в аудитории с указанием причины удаления. На бланках и в пропуске проставляется метка о факте удаления с экзаме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Без права пересдачи ЕГЭ в этом учебном год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32000" y="1052280"/>
            <a:ext cx="7632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Апелляц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письменное заявление участника ЕГЭ либо о нарушении установленного порядка проведения ЕГЭ, либо о несогласии с результатами ЕГЭ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Виды апелляций 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елляция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о нарушении установленного поряд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дения ЕГЭ подается в день экзамена после сдачи бланков ЕГЭ, не выходя из ППЭ (результаты ЕГЭ аннулируютс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елляция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о несогласии с результат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ГЭ подается в течение 2 рабочих дней после официального объявления индивидуальных результатов экзамена и ознакомления с ними участника ЕГЭ в своем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Результаты  рассмотрения апелляции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hTopImg" descr="146144"/>
          <p:cNvPicPr/>
          <p:nvPr/>
        </p:nvPicPr>
        <p:blipFill>
          <a:blip r:embed="rId1"/>
          <a:stretch/>
        </p:blipFill>
        <p:spPr>
          <a:xfrm>
            <a:off x="1258920" y="1052640"/>
            <a:ext cx="7388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543800" cy="15238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Calibri"/>
              </a:rPr>
              <a:t>ГИА 9 - 2018</a:t>
            </a:r>
            <a:endParaRPr b="1" lang="en-US" sz="8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116000" y="32130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то нужно знать родител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1280" y="66240"/>
            <a:ext cx="792468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основного общего образования завершается обязательной государственной итоговой аттестацией  по русскому языку, математике и 2 предметам по выбору уча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  — это основной обязательный вид экзамена в 9 классе. Служит для контроля знаний, полученных учащимися за 9 лет, а также для приёма в учреждения среднего профессионального образования (колледжи и технику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оценивается на региональном уровне. После экзаменов ученикам выдают аттестаты о получении основного общего образования. Учащиеся, окончившие 9 класс с отличием, получают аттестаты особого образ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60280"/>
            <a:ext cx="8229600" cy="936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ФОРМЫ ПРОВЕДЕНИЯ ГИ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6920" y="1125360"/>
            <a:ext cx="779796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форма государственной итоговой аттестации по образовательным программам основного общего образования. При проведении ОГЭ используются контрольные измерительные материалы стандартизированной фо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форма ГИА в виде письменных и устных экзаменов с использованием текстов, тем, заданий, бил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58560" y="259920"/>
            <a:ext cx="777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5 году обязательными экзаменами в форме ГИА являлись только русский язык и матема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6 года, кроме русского языка и математики, школьников обязали сдавать ещё два экзамена по выбо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ующее нововведение зафиксировано в приказа Минобрнауки. 1. Пункт 4 изложить в следующей редакции: «ГИА включает в себя обязательные экзамены по русскому языку и математике, а также экзамены по двум учебным предметам по выбору обучающегося из числа учебных предметов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литерат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иностранные языки (английский, французский, немецкий и испанский язы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информатика и информационно-коммуникационные технологии (ИК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331640" y="549000"/>
            <a:ext cx="756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вый замминистра образования и науки России Наталья Третьяк заявляла, что в министерстве недовольны тем, что среди школьников намечается тенденция: сдавать только то, что обязательно, а от предметов по выбору отказываться вовсе. Наталья Третьяк сообщила, что вслед за ЕГЭ министерство намерено реформировать ОГЭ,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этапно увеличив число обязательных экзаменов в девятых классах: с 2016 года сделать вместо двух – четыре, с 2018 – пять, а с 2020 – ш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" indent="1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03280" y="259920"/>
            <a:ext cx="75614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по всем учебным предметам начинается в 10.00 по местному времени. В день экзамена участник ОГЭ прибывает в ППЭ не позднее 9.15 по местному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в ППЭ осуществляется при наличии у участников документов, удостоверяющих личность, и при наличии их в списках распределения в данный ППЭ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 обучающихся документа, удостоверяющего личность, он допускается в ППЭ после подтверждения его личности сопровождающ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402920" y="333360"/>
            <a:ext cx="7489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проведении ЕГЭ используются контрольные измерительные материалы (КИМ), представляющие собой комплексы заданий стандартизированной формы, а также специальные бланки для оформления ответов на зад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Э проводится письменно на русском языке (за исключением ЕГЭ по иностранным языкам)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проведения ЕГЭ составляется единое расписа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835280" y="691920"/>
            <a:ext cx="675144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астник ОГЭ опоздал на экзамен, он допускается к сдаче ОГЭ в установленном порядке, при этом время окончания экзамена не продлевается, повторный общий инструктаж не проводится. Организаторы предоставляют необходимую информацию для заполнения полей бланков ОГЭ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участию в ОГЭ по данному учебному предмету в дополнительные сроки указанный участник может быть допущен только по решению председателя ГЭ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ЗАПРЕЩЕНО!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42920" y="1214280"/>
            <a:ext cx="78868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проведения экзамена (в период с момента входа в ППЭ и до окончания экзамена) участникам запрещается иметь при себе средства связи, электронно-вычислительную технику, фото-, аудио- и видеоаппаратуру, справочные материалы, письменные заметки и иные средства хранения и передачи информации, выносить из аудитории письменные заметки и иные средства хранения и передачи информ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ПЭ запрещается выносить экзаменационные материалы, в том числе КИМ и черновики на бумажном или электронном носителях, фотографировать экзаменационные 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92360" y="549000"/>
            <a:ext cx="72007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омендуется взять с собой только необходимые ве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елевая ручка с чернилами черного цвета (2 шт.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решенные средства обучения и воспит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карства и питание (при необходимост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ые вещи участники ОГЭ обязаны оставить в специально разрешенном месте для хранения личных вещей до входа в ПП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258920" y="475920"/>
            <a:ext cx="7634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ГЭ занимают рабочие места в аудитории в соответствие со списками распределения. Изменение рабочего места запреще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экзамена запрещено общаться друг с другом, свободно перемещаться по аудитории и ППЭ, выходить из аудитории без разрешения организат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ходе из аудитории во время экзамена участник ОГЭ должен оставить экзаменационные материалы, черновики и письменные принадлежности на рабочем стол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58920" y="907560"/>
            <a:ext cx="76341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ГЭ, допустивших нарушение указанных требований или нарушения Порядка проведения государственной итоговой аттестации, удаляются с экзам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акт нарушения подтверждается, председатель ГЭК принимает нарушение об аннулировании результатов участника ОГЭ по соответствующему учебному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М МОЖНО ПОЛЬЗОВАТЬСЯ НА ЭКЗАМЕНЕ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31640" y="1557000"/>
            <a:ext cx="756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ешается использовать орфографические словар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ешается пользоваться линей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очные материалы, которые можно использовать во время экзамена, выдаются каждому участнику ОГЭ вместе с текстом его экзаменацион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М МОЖНО ПОЛЬЗОВАТЬСЯ НА ЭКЗАМЕНЕ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714680"/>
            <a:ext cx="77774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льзоваться непрограммируемым калькулят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граммируемый калькулятор – это калькулятор, которы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обеспечивать арифметические вычисления (сложение, вычитание, умножение, деление, извлечение корня) и вычисление тригонометрических функций (sin, cos, tg, ctg, arcsin, arcos, arctg); не должен предоставлять возможность сохранения в своей памяти баз данных экзаменационных заданий и их решений, а также любой другой информации, знание которой прямо или косвенно проверяется на экзаме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кулятор не должен предоставлять экзаменующемуся возможности получения извне информации во время сдачи экзамена. Коммуникационные возможности калькулятора не должны допускать беспроводного обмена информацией с любыми внешними источ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ое оборудование, необходимое для выполнения части заданий, предоставлятся участникам ОГЭ в пункте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М МОЖНО ПОЛЬЗОВАТЬСЯ НА ЭКЗАМЕНЕ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58560" y="1557000"/>
            <a:ext cx="75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льзоваться линейкой, карандашом и непрограммируемым калькулят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о использование непрограммируемого калькулятора, линейки и географических атласов для 7, 8 и 9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238880" cy="6764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нимание!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76360" y="1196640"/>
            <a:ext cx="7238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, что не входит в спецификацию КИМ ОГЭ по предмету, иметь и использовать на экзамене запрещено, в том чис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ые телефоны или иные средства связ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электронно-вычислительные устройст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, аудио и видеоаппаратур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ые материалы и письменные замет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средства хранения и передачи информ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рушении этих правил и отказе в их соблюдении организаторы совместно с уполномоченным представителем ГЭК вправе удалить участника ОГЭ с экзамена с внесением записи в протокол проведения экзамена в аудитории с указанием причины удаления. На бланках и в пропуске проставляется метка о факте удаления с экза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58920" y="691920"/>
            <a:ext cx="76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выполняется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евой ручкой с чернилами черного цве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кзаменационная работа, выполненная другими письменными принадлежностями, не обрабатывается и не проверяе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ГЭ пользуется при выполнении работы черновиками со штампом образовательной организации, на базе которой организован ППЭ, и делать пометки в К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вики и КИМ не проверяются и записи в них не учитываются при обработ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16000" y="333360"/>
            <a:ext cx="78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«О ДЕЙСТВИИ РЕЗУЛЬТАТОВ ЕГЭ» (письмо МОиН от 20.11.2013 дл-344/17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Согласно ч.2 ст. 71 ФЗ №273 от 22.12.2012 результаты ЕГЭ при приеме на обучение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действительны 4 года, </a:t>
            </a: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следующих за годом получения таких результа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2018 году прием на обучение допускается по результатам ЕГЭ, подтвержденными свидетельствами о ЕГЭ, выданными в 2015 и в 2016, 2017 годах и действующими до окончания 2019, 2020, 2021 годов соответ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31640" y="620640"/>
            <a:ext cx="756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ГЭ, который по состоянию здоровья или другим объективным причинам не может завершить выполнение экзаменационной работы, имеет право досрочно сдать экзаменационные материалы и покинуть аудитор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организатор должен пригласить организатора вне аудитории, который сопроводит такого участника к медицинскому работник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одтверждения медработником ухудшения состояния здоровья составляется акт о досрочном завершении экзамена по объективным причин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76360" y="333360"/>
            <a:ext cx="741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ГЭ, досрочно завершившие выполнение экзаменационной работы, могут покинуть ППЭ. Организаторы принимают у них все экзаменационные 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8 году для сдачи ОГЭ отводится следующее количество времени для каждого предм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71760" y="2928960"/>
          <a:ext cx="6095880" cy="3627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 (м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ствозн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332000" y="1557360"/>
            <a:ext cx="77040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080" indent="-10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, если участник ГИА набрал количество баллов не ниже минимального, определяемым Рособрнадз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63640" y="264960"/>
            <a:ext cx="7129440" cy="1161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85840" y="184320"/>
            <a:ext cx="864396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Шкала перевода баллов в отметки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37960" y="1143000"/>
            <a:ext cx="89060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53440" cy="2495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00040" y="2357280"/>
            <a:ext cx="845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14200" y="1762200"/>
            <a:ext cx="8715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28680" y="1657440"/>
            <a:ext cx="84866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1504800"/>
            <a:ext cx="8686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840" y="1467000"/>
            <a:ext cx="8572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16000" y="213840"/>
            <a:ext cx="784872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ЧАСТНИКИ ЕГ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ЕГЭ как форме ГИА допускаются обучающиеся, не имеющие академической задолженности и в полном объеме выполнившие учебный план или индивидуальный учебный план, а также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успешно написавшие итоговое сочин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изложение). 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бранные форма (формы) государственной итоговой аттестации и предметы, по которым выпускник планирует сдавать экзамены, указывается им в заявлен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ПЕЛЛЯЦИЯ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86920" y="1052280"/>
            <a:ext cx="77439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ГЭ имеет право подать апелляцию о нарушении установленного Порядка проведения ГИА и (или) о несогласии с выставленными бал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сматривается апелляция по вопросам содержания и структуры заданий по учебным предметам, по вопросам, связанным с оцениваем результатов выполнения заданий с кратким ответом, неправильным оформлением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ю о нарушении Порядка участник ОГЭ подает в день проведения экзамена члену ГЭК, не покидая ПП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пелляция о несогласии с выставленными баллами подается в течение двух рабочих дней после официального объявления результатов экзамена в конфликтную комиссию или в образовательную организацию ,в которой они были допущ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ГЭ заблаговременно информируются о времени ,месте и порядке рассмотрения апелляций. Обучающийся и (или) его родители (законные представители) при желании присутствуют при рассмотрении апелля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5680" indent="-1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331640" y="259920"/>
            <a:ext cx="75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апелляции о нарушении установленного  Порядка конфликтная комиссия выносит одно из решений: об отклонении апелляции и об удовлетворении апелля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довлетворении апелляции результат ОГЭ аннулируется и участнику ОГЭ предоставляется возможность сдать экзамен в иной день, предусмотренный единым расписанием проведения ОГ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16000" y="40464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рассмотрения апелляции о несогласии с выставленными баллами конфликтная комиссия принимает решение об отклонении апелляции и сохранении выставленных баллов или удовлетворении апелляции и изменении баллов. Баллы могут быть изменены как в сторону повышения, так и в сторону пон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D31-B952-4C92-96F3-351935A24D19}" type="slidenum">
              <a:rPr b="0" lang="ru-RU" sz="1200" spc="-1" strike="noStrike">
                <a:solidFill>
                  <a:srgbClr val="a4c5c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6227640" y="2781360"/>
            <a:ext cx="2232000" cy="936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ЕРЕС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154560" y="1197000"/>
            <a:ext cx="2305080" cy="10810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ТТЕСТАТ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 основ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щем образ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4365720"/>
            <a:ext cx="2448000" cy="158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вторное 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прав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обуч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образовате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режд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2987640" y="1628640"/>
            <a:ext cx="50472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2987640" y="5013360"/>
            <a:ext cx="50328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11280" y="1557360"/>
            <a:ext cx="1584360" cy="129708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опуск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(И)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403280" y="2854440"/>
            <a:ext cx="0" cy="151128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 rot="16200000">
            <a:off x="736560" y="344808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Franklin Gothic Book"/>
              </a:rPr>
              <a:t>не допущ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492360" y="2565360"/>
            <a:ext cx="2303640" cy="129528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Неудовлетворите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результа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по одному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обязате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565440" y="1197000"/>
            <a:ext cx="2230560" cy="108108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492360" y="4078440"/>
            <a:ext cx="2374920" cy="1707840"/>
          </a:xfrm>
          <a:prstGeom prst="rect">
            <a:avLst/>
          </a:prstGeom>
          <a:solidFill>
            <a:srgbClr val="00b8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удовлетвор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результа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 двум обязате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едме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3571920" y="141300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Г(И)А-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ойд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успеш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5796000" y="1628640"/>
            <a:ext cx="3603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5796000" y="3070080"/>
            <a:ext cx="431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2987640" y="3070080"/>
            <a:ext cx="50472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2195640" y="2205000"/>
            <a:ext cx="7920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 flipV="1">
            <a:off x="2987640" y="1628640"/>
            <a:ext cx="0" cy="26654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2987640" y="4294080"/>
            <a:ext cx="50472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198880" y="1981080"/>
            <a:ext cx="76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Franklin Gothic Book"/>
              </a:rPr>
              <a:t>допуще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 flipH="1">
            <a:off x="2987640" y="5589720"/>
            <a:ext cx="446400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V="1">
            <a:off x="7380360" y="2278080"/>
            <a:ext cx="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308720" y="24796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Franklin Gothic Book"/>
              </a:rPr>
              <a:t>сд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7451640" y="3717720"/>
            <a:ext cx="0" cy="18716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7380360" y="3862440"/>
            <a:ext cx="5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Franklin Gothic Book"/>
              </a:rPr>
              <a:t>не сд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611280" y="40464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769680" y="299880"/>
            <a:ext cx="64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Модель аттестации 9 классов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(по проекту Положения о проведении Г(И)А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920-B27C-4980-AF4D-A6AA3F6A37B0}" type="slidenum">
              <a:rPr b="0" lang="ru-RU" sz="1200" spc="-1" strike="noStrike">
                <a:solidFill>
                  <a:srgbClr val="a4c5c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179280" y="2421000"/>
            <a:ext cx="3816360" cy="236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пуск к Г(И)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, имеющие годовые отме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вс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щеобразовате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ам учебного пл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9 кла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 ниже удовлетворите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обучающие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удовлетворительную годовую отмет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одному предмет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 обязатель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ей экзамена по этому предмет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54200" y="472428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чет итоговой отм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_s1031"/>
          <p:cNvSpPr/>
          <p:nvPr/>
        </p:nvSpPr>
        <p:spPr>
          <a:xfrm>
            <a:off x="4143240" y="714240"/>
            <a:ext cx="2714760" cy="55404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язательные предм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_s1032"/>
          <p:cNvSpPr/>
          <p:nvPr/>
        </p:nvSpPr>
        <p:spPr>
          <a:xfrm>
            <a:off x="2643120" y="1628640"/>
            <a:ext cx="1571760" cy="64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_s1033"/>
          <p:cNvSpPr/>
          <p:nvPr/>
        </p:nvSpPr>
        <p:spPr>
          <a:xfrm>
            <a:off x="4500720" y="1628640"/>
            <a:ext cx="2286000" cy="64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_s1034"/>
          <p:cNvSpPr/>
          <p:nvPr/>
        </p:nvSpPr>
        <p:spPr>
          <a:xfrm>
            <a:off x="7000920" y="500040"/>
            <a:ext cx="1819080" cy="192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ом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356000" y="2995560"/>
          <a:ext cx="4608720" cy="1893960"/>
        </p:xfrm>
        <a:graphic>
          <a:graphicData uri="http://schemas.openxmlformats.org/drawingml/2006/table">
            <a:tbl>
              <a:tblPr/>
              <a:tblGrid>
                <a:gridCol w="787680"/>
                <a:gridCol w="779400"/>
                <a:gridCol w="1100160"/>
                <a:gridCol w="1023840"/>
                <a:gridCol w="917640"/>
              </a:tblGrid>
              <a:tr h="11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тера-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. яз. (английский, французский, немецкий и испан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ство-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27"/>
          <p:cNvSpPr/>
          <p:nvPr/>
        </p:nvSpPr>
        <p:spPr>
          <a:xfrm>
            <a:off x="5076720" y="2708280"/>
            <a:ext cx="316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едметы по выбор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29040" y="5445000"/>
          <a:ext cx="4890960" cy="1096920"/>
        </p:xfrm>
        <a:graphic>
          <a:graphicData uri="http://schemas.openxmlformats.org/drawingml/2006/table">
            <a:tbl>
              <a:tblPr/>
              <a:tblGrid>
                <a:gridCol w="2709720"/>
                <a:gridCol w="2181240"/>
              </a:tblGrid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е в 10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е в С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Rectangle 2"/>
          <p:cNvSpPr/>
          <p:nvPr/>
        </p:nvSpPr>
        <p:spPr>
          <a:xfrm>
            <a:off x="395280" y="189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дель аттестации 9 классов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по проекту Положения о проведении ГИА-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 flipH="1">
            <a:off x="3780000" y="1268280"/>
            <a:ext cx="57600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 flipH="1">
            <a:off x="4932000" y="1413000"/>
            <a:ext cx="14436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6156360" y="1413000"/>
            <a:ext cx="14436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6804000" y="1197000"/>
            <a:ext cx="72072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6443640" y="2349360"/>
            <a:ext cx="0" cy="358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7"/>
          <p:cNvSpPr/>
          <p:nvPr/>
        </p:nvSpPr>
        <p:spPr>
          <a:xfrm>
            <a:off x="7812000" y="2276640"/>
            <a:ext cx="0" cy="43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539640" y="5000760"/>
            <a:ext cx="2952720" cy="18572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реднее арифметическое годовой отметки по предмету за весь курс его изучения в основной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9"/>
          <p:cNvSpPr/>
          <p:nvPr/>
        </p:nvSpPr>
        <p:spPr>
          <a:xfrm>
            <a:off x="6704280" y="2427120"/>
            <a:ext cx="83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3399"/>
                </a:solidFill>
                <a:latin typeface="Franklin Gothic Book"/>
              </a:rPr>
              <a:t>из чис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4643280" y="5084640"/>
            <a:ext cx="4032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пределение предметов по выбор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332000" y="980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pi.ru/content/otkrytyy-bank-zadaniy-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pi.ru/content/otkrytyy-bank-zadaniy-o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ipi.ru/ege-i-gve-11/itogovoe-sochin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ge.edu.ru/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sdamgi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Русский язык 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632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тоговое сочине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оводит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6 декабря 2017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7 февраля 2018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16 мая  2018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ивается сочинение по принципу: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«зачет»/«незаче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учающийся, не сдавший сочинение 6 декабря,  имеет право на пересдач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Русский язык 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том по вопросам проведения итогового сочинения в выпускных классах под председательством Н.Д. Солженицыной определены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5 открытых направлений тем итогового сочинения на 2017/18 учебный г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Верность и измена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Равнодушие и отзывчивость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Цели и средства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мелость и трусость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Человек и обществ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ритерии оценивания сочинения (изложения)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инение оценивается по пяти критер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терии №1 и №2 являются основ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ритерий №1 «Соответствие тем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ритерий №2 «Аргументация. Привлечение литературного материа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й №3 «Композиция и логика рассужден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й №4 «Качество письменной реч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й №5 «Грамотнос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57:29Z</dcterms:created>
  <dc:creator>Завуч</dc:creator>
  <dc:description/>
  <dc:language>en-US</dc:language>
  <cp:lastModifiedBy>User</cp:lastModifiedBy>
  <cp:lastPrinted>2017-11-17T09:37:53Z</cp:lastPrinted>
  <dcterms:modified xsi:type="dcterms:W3CDTF">2017-11-18T04:33:57Z</dcterms:modified>
  <cp:revision>109</cp:revision>
  <dc:subject/>
  <dc:title>Слайд 1</dc:title>
</cp:coreProperties>
</file>