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6799-5502-48B5-A6EA-06F0942FE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186F-548A-4192-A765-3E76BEC917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577-6EED-4D10-A9B5-9CFB0957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738-258D-4FCC-B522-FECBE62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2B2-97C8-4C9C-B81C-FA44D6C6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622-DE57-449D-B67C-EF9000E7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CD3-4AA4-4F64-A94F-C131DEE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795-2744-476B-9B4F-0C5E4FBB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F16-4B90-43E8-911A-70B9AAAB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88C-53BA-4D64-81C3-1645C67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B60-5E1C-498D-908E-C27F10A9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43D-C967-46AF-912B-86B8E9A0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02F-A784-407B-94FB-80BEAE8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F7E-5C6C-4517-BBFB-15B86446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F5D-CFD3-46AD-AAAF-A1ACCC5A8F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Интегрированный  урок</a:t>
            </a: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физика-химия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2741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ергия. Эк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116000" y="5300640"/>
            <a:ext cx="78501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итель физики Шунина А.Г., учитель химии Касумова Т.Г.,                      11 Б класс, 10 А класс, 10 Б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.Тульский, 2015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МБОУ средняя общеобразовательная школа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Заголовок 1"/>
          <p:cNvGrpSpPr/>
          <p:nvPr/>
        </p:nvGrpSpPr>
        <p:grpSpPr>
          <a:xfrm>
            <a:off x="-6480" y="-6480"/>
            <a:ext cx="9369720" cy="6870960"/>
            <a:chOff x="-6480" y="-6480"/>
            <a:chExt cx="9369720" cy="6870960"/>
          </a:xfrm>
        </p:grpSpPr>
        <p:pic>
          <p:nvPicPr>
            <p:cNvPr id="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369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358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22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Энергосберегающее поведение </a:t>
            </a:r>
            <a:br>
              <a:rPr sz="3600"/>
            </a:br>
            <a:r>
              <a:rPr b="1" i="1" lang="ru-RU" sz="3600" spc="-1" strike="noStrike">
                <a:solidFill>
                  <a:srgbClr val="ee941c"/>
                </a:solidFill>
                <a:latin typeface="Arial"/>
              </a:rPr>
              <a:t>(анкета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снижаете температуру в помещении ночью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повторно используете стекло, бумагу и металл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не покупаете товары, которые могут использоваться только один раз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не покупаете товары в больших обертках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чините вещи, вместо того, чтобы заменить их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Выгнутая вправо стрелка 11"/>
          <p:cNvSpPr/>
          <p:nvPr/>
        </p:nvSpPr>
        <p:spPr>
          <a:xfrm>
            <a:off x="7858080" y="2000160"/>
            <a:ext cx="285840" cy="642960"/>
          </a:xfrm>
          <a:custGeom>
            <a:avLst/>
            <a:gdLst>
              <a:gd name="textAreaLeft" fmla="*/ 38160 w 285840"/>
              <a:gd name="textAreaRight" fmla="*/ 247680 w 28584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Выгнутая вправо стрелка 12"/>
          <p:cNvSpPr/>
          <p:nvPr/>
        </p:nvSpPr>
        <p:spPr>
          <a:xfrm>
            <a:off x="7858080" y="1857240"/>
            <a:ext cx="428760" cy="1295640"/>
          </a:xfrm>
          <a:custGeom>
            <a:avLst/>
            <a:gdLst>
              <a:gd name="textAreaLeft" fmla="*/ 57240 w 428760"/>
              <a:gd name="textAreaRight" fmla="*/ 371520 w 428760"/>
              <a:gd name="textAreaTop" fmla="*/ 283680 h 1295640"/>
              <a:gd name="textAreaBottom" fmla="*/ 9583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Заголовок 1"/>
          <p:cNvGrpSpPr/>
          <p:nvPr/>
        </p:nvGrpSpPr>
        <p:grpSpPr>
          <a:xfrm>
            <a:off x="-6480" y="-6480"/>
            <a:ext cx="9369720" cy="6870960"/>
            <a:chOff x="-6480" y="-6480"/>
            <a:chExt cx="9369720" cy="6870960"/>
          </a:xfrm>
        </p:grpSpPr>
        <p:pic>
          <p:nvPicPr>
            <p:cNvPr id="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369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0"/>
              <a:ext cx="9358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22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Сложите все ответы  «Да» </a:t>
            </a:r>
            <a:br>
              <a:rPr sz="3500"/>
            </a:b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Если у вас получилось:</a:t>
            </a:r>
            <a:endParaRPr b="0" lang="en-US" sz="3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От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1 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до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Вам еще многому надо научиться, так что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начните прямо сейча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От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6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до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10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У Вас много хороших привычек, которые могут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служить основой для дальнейшей работы над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соб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От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11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до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15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Вы являетесь хорошим примером всем остальны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От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16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до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20</a:t>
            </a:r>
            <a:r>
              <a:rPr b="0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Ваш опыт надо максимально использовать други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Выгнутая вправо стрелка 11"/>
          <p:cNvSpPr/>
          <p:nvPr/>
        </p:nvSpPr>
        <p:spPr>
          <a:xfrm>
            <a:off x="7885080" y="1484280"/>
            <a:ext cx="285840" cy="642960"/>
          </a:xfrm>
          <a:custGeom>
            <a:avLst/>
            <a:gdLst>
              <a:gd name="textAreaLeft" fmla="*/ 38160 w 285840"/>
              <a:gd name="textAreaRight" fmla="*/ 247680 w 28584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Выгнутая вправо стрелка 12"/>
          <p:cNvSpPr/>
          <p:nvPr/>
        </p:nvSpPr>
        <p:spPr>
          <a:xfrm>
            <a:off x="8101080" y="1052640"/>
            <a:ext cx="428400" cy="1295280"/>
          </a:xfrm>
          <a:custGeom>
            <a:avLst/>
            <a:gdLst>
              <a:gd name="textAreaLeft" fmla="*/ 57240 w 428400"/>
              <a:gd name="textAreaRight" fmla="*/ 371160 w 428400"/>
              <a:gd name="textAreaTop" fmla="*/ 283680 h 1295280"/>
              <a:gd name="textAreaBottom" fmla="*/ 9579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СЧИТ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13" descr="Nakaliv"/>
          <p:cNvPicPr/>
          <p:nvPr/>
        </p:nvPicPr>
        <p:blipFill>
          <a:blip r:embed="rId1"/>
          <a:stretch/>
        </p:blipFill>
        <p:spPr>
          <a:xfrm>
            <a:off x="2916360" y="1700280"/>
            <a:ext cx="814320" cy="12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Lumen"/>
          <p:cNvPicPr/>
          <p:nvPr/>
        </p:nvPicPr>
        <p:blipFill>
          <a:blip r:embed="rId2"/>
          <a:stretch/>
        </p:blipFill>
        <p:spPr>
          <a:xfrm>
            <a:off x="5003640" y="1413000"/>
            <a:ext cx="1008360" cy="172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LCD"/>
          <p:cNvPicPr/>
          <p:nvPr/>
        </p:nvPicPr>
        <p:blipFill>
          <a:blip r:embed="rId3"/>
          <a:stretch/>
        </p:blipFill>
        <p:spPr>
          <a:xfrm>
            <a:off x="7236000" y="1413000"/>
            <a:ext cx="111600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95280" y="1052640"/>
          <a:ext cx="8540640" cy="381636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305080"/>
                <a:gridCol w="196524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М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АЛИ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МИНИСЦЕН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ДИО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лам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61"/>
          <p:cNvSpPr/>
          <p:nvPr/>
        </p:nvSpPr>
        <p:spPr>
          <a:xfrm>
            <a:off x="179280" y="5157720"/>
            <a:ext cx="85107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Вт час стоит 2,00 ру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тоотдача ламп  при данной мощности каждой лампы ОДИНАКОВ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СЧИТ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13" descr="Nakaliv"/>
          <p:cNvPicPr/>
          <p:nvPr/>
        </p:nvPicPr>
        <p:blipFill>
          <a:blip r:embed="rId1"/>
          <a:stretch/>
        </p:blipFill>
        <p:spPr>
          <a:xfrm>
            <a:off x="2916360" y="1700280"/>
            <a:ext cx="81432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Lumen"/>
          <p:cNvPicPr/>
          <p:nvPr/>
        </p:nvPicPr>
        <p:blipFill>
          <a:blip r:embed="rId2"/>
          <a:stretch/>
        </p:blipFill>
        <p:spPr>
          <a:xfrm>
            <a:off x="5003640" y="1413000"/>
            <a:ext cx="1008360" cy="172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LCD"/>
          <p:cNvPicPr/>
          <p:nvPr/>
        </p:nvPicPr>
        <p:blipFill>
          <a:blip r:embed="rId3"/>
          <a:stretch/>
        </p:blipFill>
        <p:spPr>
          <a:xfrm>
            <a:off x="7236000" y="1413000"/>
            <a:ext cx="111600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95280" y="1052640"/>
          <a:ext cx="8540640" cy="41796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305080"/>
                <a:gridCol w="196524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М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АЛИ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МИНИСЦЕН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ДИО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В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тельность рабо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 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20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28"/>
          <p:cNvSpPr/>
          <p:nvPr/>
        </p:nvSpPr>
        <p:spPr>
          <a:xfrm>
            <a:off x="179280" y="5516640"/>
            <a:ext cx="8510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250920" y="5373720"/>
            <a:ext cx="8510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час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00 дней 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00 руб. =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Nakaliv"/>
          <p:cNvPicPr/>
          <p:nvPr/>
        </p:nvPicPr>
        <p:blipFill>
          <a:blip r:embed="rId1"/>
          <a:stretch/>
        </p:blipFill>
        <p:spPr>
          <a:xfrm>
            <a:off x="179280" y="0"/>
            <a:ext cx="1584360" cy="2133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984680" y="1890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ЛАМПА НАКАЛИ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35280" y="620640"/>
            <a:ext cx="2087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0 В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-5 шт. в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а 30-5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24360" y="765000"/>
            <a:ext cx="4862520" cy="862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0,1 кВт.х 10 часов х 300 дней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300 кВт.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Х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2,00 = 600,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4" descr="Lumen"/>
          <p:cNvPicPr/>
          <p:nvPr/>
        </p:nvPicPr>
        <p:blipFill>
          <a:blip r:embed="rId2"/>
          <a:stretch/>
        </p:blipFill>
        <p:spPr>
          <a:xfrm>
            <a:off x="179280" y="2421000"/>
            <a:ext cx="100800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696680" y="26370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cf941"/>
                </a:solidFill>
                <a:uFillTx/>
                <a:latin typeface="Arial"/>
              </a:rPr>
              <a:t>ЛЮМИНЕСЦЕНТНАЯ ЛАМ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08000" y="3068640"/>
            <a:ext cx="16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В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шт. в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211640" y="3357720"/>
            <a:ext cx="395928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0,01 кВт.х10 часов х 300 дней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30 кВт.х2,00 = 60,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LCD"/>
          <p:cNvPicPr/>
          <p:nvPr/>
        </p:nvPicPr>
        <p:blipFill>
          <a:blip r:embed="rId3"/>
          <a:stretch/>
        </p:blipFill>
        <p:spPr>
          <a:xfrm>
            <a:off x="0" y="4869000"/>
            <a:ext cx="1547640" cy="1989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1767240" y="47973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ffff"/>
                </a:solidFill>
                <a:uFillTx/>
                <a:latin typeface="Arial"/>
              </a:rPr>
              <a:t>СВЕТОДИОДНАЯ ЛАМ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908000" y="5241960"/>
            <a:ext cx="230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 В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шт. в 10-20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678200" y="5661000"/>
            <a:ext cx="4465800" cy="86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0,004 кВт.х 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часов х 300 дней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2 кВт.х2,00 = 24,00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674120" cy="6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Arial"/>
              </a:rPr>
              <a:t>Считай и экономь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50920" y="3776760"/>
            <a:ext cx="8713800" cy="308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a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Без учета энергопотребления нет стимулов к энергосбереж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a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Без понимания как экономить и что делать </a:t>
            </a:r>
            <a:r>
              <a:rPr b="0" lang="en-US" sz="2800" spc="-1" strike="noStrike">
                <a:solidFill>
                  <a:srgbClr val="0000a4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нет действий по эконом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a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Без стимула платить за энергоресурсы </a:t>
            </a:r>
            <a:r>
              <a:rPr b="0" lang="en-US" sz="2800" spc="-1" strike="noStrike">
                <a:solidFill>
                  <a:srgbClr val="0000a4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нет смысла экономить </a:t>
            </a:r>
            <a:r>
              <a:rPr b="0" lang="en-US" sz="2800" spc="-1" strike="noStrike">
                <a:solidFill>
                  <a:srgbClr val="0000a4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0000a4"/>
                </a:solidFill>
                <a:latin typeface="Tahoma"/>
              </a:rPr>
              <a:t> все что не заплатил – сэконом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http://www.trud.ru/userfiles/gallery/3e/b_3e1824da7e10c22743416578e2f3e92e.jpg"/>
          <p:cNvPicPr/>
          <p:nvPr/>
        </p:nvPicPr>
        <p:blipFill>
          <a:blip r:embed="rId1"/>
          <a:stretch/>
        </p:blipFill>
        <p:spPr>
          <a:xfrm>
            <a:off x="2268360" y="692280"/>
            <a:ext cx="41040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иболее эффективные мероприят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454560" y="2276640"/>
            <a:ext cx="568944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Теплоизоляция наружных поверх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Установка энергоэффективных окон и двер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Установка приборов уч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Установка энергоэффективных источников с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Балансировка систем ото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941"/>
                </a:solidFill>
                <a:latin typeface="Tahoma"/>
              </a:rPr>
              <a:t>Автоматизация управления энергоресур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ecf94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58920" y="2133720"/>
            <a:ext cx="12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Обложка"/>
          <p:cNvPicPr/>
          <p:nvPr/>
        </p:nvPicPr>
        <p:blipFill>
          <a:blip r:embed="rId1"/>
          <a:stretch/>
        </p:blipFill>
        <p:spPr>
          <a:xfrm>
            <a:off x="0" y="3581280"/>
            <a:ext cx="3200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Энергосбережение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 — важная задача по сохранению природных ресурс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8" descr="http://www.bath.ac.uk/management/images/photographs/releases/13-05-09.jpg"/>
          <p:cNvPicPr/>
          <p:nvPr/>
        </p:nvPicPr>
        <p:blipFill>
          <a:blip r:embed="rId1"/>
          <a:stretch/>
        </p:blipFill>
        <p:spPr>
          <a:xfrm>
            <a:off x="468360" y="1413000"/>
            <a:ext cx="4535280" cy="31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://www.computerra.ru/upload/ivor/zaidel_1_789.jpg"/>
          <p:cNvPicPr/>
          <p:nvPr/>
        </p:nvPicPr>
        <p:blipFill>
          <a:blip r:embed="rId2"/>
          <a:stretch/>
        </p:blipFill>
        <p:spPr>
          <a:xfrm>
            <a:off x="4248000" y="2941560"/>
            <a:ext cx="4896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Земля из космоса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537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5273280"/>
            <a:ext cx="8075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ff00"/>
                </a:solidFill>
                <a:latin typeface="Georgia"/>
              </a:rPr>
              <a:t>Спасибо всем за внимание и участие!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льз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Выгнутая вправо стрелка 11"/>
          <p:cNvSpPr/>
          <p:nvPr/>
        </p:nvSpPr>
        <p:spPr>
          <a:xfrm>
            <a:off x="7858080" y="2000160"/>
            <a:ext cx="285840" cy="642960"/>
          </a:xfrm>
          <a:custGeom>
            <a:avLst/>
            <a:gdLst>
              <a:gd name="textAreaLeft" fmla="*/ 38160 w 285840"/>
              <a:gd name="textAreaRight" fmla="*/ 247680 w 28584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Выгнутая вправо стрелка 12"/>
          <p:cNvSpPr/>
          <p:nvPr/>
        </p:nvSpPr>
        <p:spPr>
          <a:xfrm>
            <a:off x="7858080" y="1857240"/>
            <a:ext cx="428760" cy="1295640"/>
          </a:xfrm>
          <a:custGeom>
            <a:avLst/>
            <a:gdLst>
              <a:gd name="textAreaLeft" fmla="*/ 57240 w 428760"/>
              <a:gd name="textAreaRight" fmla="*/ 371520 w 428760"/>
              <a:gd name="textAreaTop" fmla="*/ 283680 h 1295640"/>
              <a:gd name="textAreaBottom" fmla="*/ 9583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60280"/>
            <a:ext cx="8435880" cy="590544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69b7e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использование знаний обучающихся раздела «Электродинамика» из курса физики в решении вопроса энергосбере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использование знаний обучающихся раздела «Углеводороды» из курса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понимание и осознание современной модели энергосбере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анализ содержания образования и самообразования в области энергосбере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овладение новыми компетенциями в сфере энергосбережения, востребованными работодателями на рынке труда 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6012000" cy="5516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39640" y="0"/>
            <a:ext cx="7674120" cy="66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99"/>
                </a:solidFill>
                <a:latin typeface="Arial"/>
              </a:rPr>
              <a:t>Лампа накал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cf941"/>
                </a:solidFill>
                <a:latin typeface="Arial"/>
              </a:rPr>
              <a:t>Люминисцентная ламп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f941"/>
                </a:solidFill>
                <a:latin typeface="Arial"/>
              </a:rPr>
              <a:t>Светодиодная ламп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040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Экономьте электроэнергию!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Уходя, гасите свет!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Выключи воду!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Закрывайте, пожалуйста, двери!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-6480" y="-6480"/>
            <a:ext cx="9369720" cy="6870960"/>
            <a:chOff x="-6480" y="-6480"/>
            <a:chExt cx="9369720" cy="687096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369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358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22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Энергосберегающее поведение</a:t>
            </a:r>
            <a:br>
              <a:rPr sz="3600"/>
            </a:b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(анкета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записываете ваше энергопотребление, делаете анализ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выключаете свет в комнате, когда уходите из нее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Стиральная машина всегда полностью заполнена, когда вы используете ее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Холодильник стоит в прохладной комнате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не ставите мебель перед обогревательными приборами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Выгнутая вправо стрелка 11"/>
          <p:cNvSpPr/>
          <p:nvPr/>
        </p:nvSpPr>
        <p:spPr>
          <a:xfrm>
            <a:off x="8317080" y="1341360"/>
            <a:ext cx="285480" cy="642960"/>
          </a:xfrm>
          <a:custGeom>
            <a:avLst/>
            <a:gdLst>
              <a:gd name="textAreaLeft" fmla="*/ 38160 w 285480"/>
              <a:gd name="textAreaRight" fmla="*/ 247320 w 28548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Выгнутая вправо стрелка 12"/>
          <p:cNvSpPr/>
          <p:nvPr/>
        </p:nvSpPr>
        <p:spPr>
          <a:xfrm>
            <a:off x="8388360" y="907920"/>
            <a:ext cx="428760" cy="1295640"/>
          </a:xfrm>
          <a:custGeom>
            <a:avLst/>
            <a:gdLst>
              <a:gd name="textAreaLeft" fmla="*/ 57240 w 428760"/>
              <a:gd name="textAreaRight" fmla="*/ 371520 w 428760"/>
              <a:gd name="textAreaTop" fmla="*/ 283680 h 1295640"/>
              <a:gd name="textAreaBottom" fmla="*/ 9583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1"/>
          <p:cNvGrpSpPr/>
          <p:nvPr/>
        </p:nvGrpSpPr>
        <p:grpSpPr>
          <a:xfrm>
            <a:off x="-6480" y="-6480"/>
            <a:ext cx="9369720" cy="6870960"/>
            <a:chOff x="-6480" y="-6480"/>
            <a:chExt cx="9369720" cy="687096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369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358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8229600" cy="122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Энергосберегающее поведение </a:t>
            </a:r>
            <a:br>
              <a:rPr sz="3600"/>
            </a:b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(анкета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начали использовать энергосберегающие лампочки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используете местное освещение (настольную лампу, бра, торшер)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проветриваете помещение быстро и эффективно, всего несколько минут за раз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заклеиваете окна на зиму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e941c"/>
                </a:solidFill>
                <a:latin typeface="Arial"/>
              </a:rPr>
              <a:t>Вы зашториваете окна на ночь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Выгнутая вправо стрелка 11"/>
          <p:cNvSpPr/>
          <p:nvPr/>
        </p:nvSpPr>
        <p:spPr>
          <a:xfrm>
            <a:off x="8604360" y="1268280"/>
            <a:ext cx="285480" cy="642960"/>
          </a:xfrm>
          <a:custGeom>
            <a:avLst/>
            <a:gdLst>
              <a:gd name="textAreaLeft" fmla="*/ 38160 w 285480"/>
              <a:gd name="textAreaRight" fmla="*/ 247320 w 28548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Выгнутая вправо стрелка 12"/>
          <p:cNvSpPr/>
          <p:nvPr/>
        </p:nvSpPr>
        <p:spPr>
          <a:xfrm>
            <a:off x="8715240" y="907920"/>
            <a:ext cx="428760" cy="1295640"/>
          </a:xfrm>
          <a:custGeom>
            <a:avLst/>
            <a:gdLst>
              <a:gd name="textAreaLeft" fmla="*/ 57240 w 428760"/>
              <a:gd name="textAreaRight" fmla="*/ 371520 w 428760"/>
              <a:gd name="textAreaTop" fmla="*/ 283680 h 1295640"/>
              <a:gd name="textAreaBottom" fmla="*/ 9583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Заголовок 1"/>
          <p:cNvGrpSpPr/>
          <p:nvPr/>
        </p:nvGrpSpPr>
        <p:grpSpPr>
          <a:xfrm>
            <a:off x="-6480" y="-6480"/>
            <a:ext cx="9369720" cy="6870960"/>
            <a:chOff x="-6480" y="-6480"/>
            <a:chExt cx="9369720" cy="6870960"/>
          </a:xfrm>
        </p:grpSpPr>
        <p:pic>
          <p:nvPicPr>
            <p:cNvPr id="7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369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0"/>
              <a:ext cx="9358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22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9b7e"/>
                </a:solidFill>
                <a:latin typeface="Arial"/>
              </a:rPr>
              <a:t>Энергосберегающее поведение </a:t>
            </a:r>
            <a:br>
              <a:rPr sz="3600"/>
            </a:br>
            <a:r>
              <a:rPr b="1" i="1" lang="ru-RU" sz="3600" spc="-1" strike="noStrike">
                <a:solidFill>
                  <a:srgbClr val="ee941c"/>
                </a:solidFill>
                <a:latin typeface="Arial"/>
              </a:rPr>
              <a:t>(анкета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кладете крышку на кастрюлю, когда готови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часто размораживаете холодильн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используете раковину для мытья посу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моетесь под душем, а не принимаете ванн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ходите пешком или ездите на велосипеде на работу (учебу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Вы снижаете температуру в помещении, когда выход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Выгнутая вправо стрелка 11"/>
          <p:cNvSpPr/>
          <p:nvPr/>
        </p:nvSpPr>
        <p:spPr>
          <a:xfrm>
            <a:off x="8028000" y="1197000"/>
            <a:ext cx="285840" cy="642960"/>
          </a:xfrm>
          <a:custGeom>
            <a:avLst/>
            <a:gdLst>
              <a:gd name="textAreaLeft" fmla="*/ 38160 w 285840"/>
              <a:gd name="textAreaRight" fmla="*/ 247680 w 285840"/>
              <a:gd name="textAreaTop" fmla="*/ 133920 h 642960"/>
              <a:gd name="textAreaBottom" fmla="*/ 473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3492867"/>
                <a:lnTo>
                  <a:pt x="5400" y="21314"/>
                </a:lnTo>
                <a:lnTo>
                  <a:pt x="0" y="19200"/>
                </a:lnTo>
                <a:lnTo>
                  <a:pt x="5400" y="16514"/>
                </a:lnTo>
                <a:lnTo>
                  <a:pt x="5400" y="17714"/>
                </a:lnTo>
                <a:arcTo wR="21600" hR="9000" stAng="3492867" swAng="-3300361"/>
                <a:lnTo>
                  <a:pt x="21407" y="10200"/>
                </a:lnTo>
                <a:arcTo wR="21600" hR="9000" stAng="-192505" swAng="-5207495"/>
                <a:close/>
              </a:path>
              <a:path fill="darkenLess" w="21600" h="21600">
                <a:moveTo>
                  <a:pt x="0" y="0"/>
                </a:moveTo>
                <a:arcTo wR="21600" hR="9000" stAng="-5400000" swAng="5400000"/>
                <a:lnTo>
                  <a:pt x="21600" y="11400"/>
                </a:lnTo>
                <a:arcTo wR="21600" hR="9000" stAng="0" swAng="-192505"/>
                <a:lnTo>
                  <a:pt x="21407" y="10200"/>
                </a:lnTo>
                <a:arcTo wR="21600" hR="9000" stAng="-192505" swAng="-520749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Выгнутая вправо стрелка 12"/>
          <p:cNvSpPr/>
          <p:nvPr/>
        </p:nvSpPr>
        <p:spPr>
          <a:xfrm>
            <a:off x="8101080" y="981000"/>
            <a:ext cx="428400" cy="1295640"/>
          </a:xfrm>
          <a:custGeom>
            <a:avLst/>
            <a:gdLst>
              <a:gd name="textAreaLeft" fmla="*/ 57240 w 428400"/>
              <a:gd name="textAreaRight" fmla="*/ 371160 w 428400"/>
              <a:gd name="textAreaTop" fmla="*/ 283680 h 1295640"/>
              <a:gd name="textAreaBottom" fmla="*/ 9583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3568724"/>
                <a:lnTo>
                  <a:pt x="5400" y="21300"/>
                </a:lnTo>
                <a:lnTo>
                  <a:pt x="0" y="19813"/>
                </a:lnTo>
                <a:lnTo>
                  <a:pt x="5400" y="17726"/>
                </a:lnTo>
                <a:lnTo>
                  <a:pt x="5400" y="18620"/>
                </a:lnTo>
                <a:arcTo wR="21600" hR="9460" stAng="3568724" swAng="-3426043"/>
                <a:lnTo>
                  <a:pt x="21504" y="10353"/>
                </a:lnTo>
                <a:arcTo wR="21600" hR="9460" stAng="-142681" swAng="-5257319"/>
                <a:close/>
              </a:path>
              <a:path fill="darkenLess" w="21600" h="21600">
                <a:moveTo>
                  <a:pt x="0" y="0"/>
                </a:moveTo>
                <a:arcTo wR="21600" hR="9460" stAng="-5400000" swAng="5400000"/>
                <a:lnTo>
                  <a:pt x="21600" y="11246"/>
                </a:lnTo>
                <a:arcTo wR="21600" hR="9460" stAng="0" swAng="-142681"/>
                <a:lnTo>
                  <a:pt x="21504" y="10353"/>
                </a:lnTo>
                <a:arcTo wR="21600" hR="9460" stAng="-142681" swAng="-5257319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7:32:33Z</dcterms:created>
  <dc:creator>Admin</dc:creator>
  <dc:description/>
  <dc:language>en-US</dc:language>
  <cp:lastModifiedBy>Анжелика</cp:lastModifiedBy>
  <dcterms:modified xsi:type="dcterms:W3CDTF">2015-12-14T17:15:51Z</dcterms:modified>
  <cp:revision>18</cp:revision>
  <dc:subject/>
  <dc:title>Слайд 1</dc:title>
</cp:coreProperties>
</file>