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EB6-3D21-4FC9-855D-78A178F9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303-F916-46E7-85BF-C6F25462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6F5F6-8B53-4ACC-A8ED-E3C02617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C39B3-678A-4BC0-A029-ABA5B350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3B57D-967D-42C5-A528-F881B471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DFBC7-FBE0-433F-986A-C747570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B644D-8993-468F-BD5D-E983E812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C0B72-B25C-4A23-83F3-25D218E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D8FFE-1245-4B4F-A644-3DB6E29B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F937C-5550-4A11-810B-140D5282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6580E-4A21-472E-B6D0-7428D22D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AC5-4F33-4854-B307-F029346C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651-1E59-4220-93B7-7DF6AAA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CAEB-7CAC-4CD0-B10D-35E02004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53DA-C5E6-4BB6-BECA-5907C094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1D7-A539-4EC2-B264-3F366188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03E-7C75-4526-BD93-548EEE20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5E89-A4B8-4660-8CF9-900262D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50A4-61B2-43E9-997A-0B6998A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1185-CA7B-4D79-814F-655B964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A4E-296D-4614-B754-36F125CE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D9D4-DB0E-467A-BCC5-8BC9E4EF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E1D0-B2DB-4EF2-8883-A526430B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01E-B7D8-498B-9230-BADD1008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ED1F-2EB5-4769-9968-01F64A80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AAF4-BD25-4DC2-8E83-9517CB3B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1ACB-5613-4C6F-881B-28B4C4B2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5ABC-D72F-4F46-BBC6-FB2E859B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7A8F-480C-40D3-9CE8-22B90AFD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18A2-2916-4B13-BD4C-FCD7D48C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A83F-9D95-449B-A0C6-007A541B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48C-D52E-49A5-8BA8-84300341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E75F-C14C-4EC5-8E14-AFF8FB09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3403-BEE1-4F44-89B4-22B2FC0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7CE7-129B-45D5-AB5C-E7BF860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0948-3487-4978-BA4C-964F711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5C89-5883-457D-BC54-69812774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B78F-149D-420C-AB80-8FC5ED99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978BD-1190-4CBC-BD26-8A799A17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7BFF-F37E-4D82-8065-50792957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8633-6F53-4D4E-82D0-0BC75837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E2D1-93B3-420E-A3E4-6F0B99FD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CEF-B251-4949-9821-4D96FF1F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F246-EDC3-4C14-B11F-875F5F49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853A0-DF35-42A6-B1BF-5A4887E2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66682-20C4-4845-81CC-C83BFE0F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3F11-6CBC-48C0-8EDA-2943253B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BD8B1-651F-4EFE-817F-BF30E89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02623-78F8-4842-8974-7561043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5BFC9-486B-4995-8084-8AB68DFB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E373-49DC-4909-90BE-32DB472B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303E-298F-4FB6-8D68-AF69B2EF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83D5-7A90-48A8-8AD2-1F1E4F75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884-A429-4438-9BF3-EFBCDF2D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B6CE1-6AD9-4361-A413-3C05C314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A91C3-158D-4EA4-A722-0222CEE0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EDA5-654F-48D9-B752-9AA98AAC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1DF4B-B15F-4329-9208-D3EB134D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D6FB3-54F3-4DBD-9E9F-E5373214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BBC64-7EE7-4274-8FE9-AEF0C89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0CE5-84CB-40AA-8DA2-8345C69E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D61C3-98AD-4060-BCB5-DF6FFC4B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D08A2-DFDA-42EA-A991-29CAC157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B71B0-FFCD-4F6C-885C-58D73262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4CE-6AE2-49C9-8556-03F4D9B0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97CE5-60D2-47E2-82F9-253EC1E1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70F8C-41DE-4474-BED5-2303154F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01F72-4138-41D9-92FF-3CA8A975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68C71-16C7-48DA-833E-8579DCC8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109BF-D7D5-472D-8B38-D5A85363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B6F0F-81E7-42C4-B432-8A2CBDB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53C9E-6E5A-448A-924F-512D5D5A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DECD3-168D-4599-A5A5-2C8D2EAE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4CEF9-2D32-436B-BDEB-8B84962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13B6-ED41-4B2D-9603-2FB5E1E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FC8-75E2-418E-A2AD-6F1AC311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D37C-B421-4147-A879-7965AE7C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2794B-57E0-437A-B156-2A817868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42C18-5DD6-4680-BFAB-E8748187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EA762-C8EA-4C5D-B192-FEC5088E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AA6B7-E818-41FE-8CE7-A45CFB4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FB8B0-917E-4AA5-B3BB-8A5B7662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808EB-59FF-4935-B37D-41791731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E97BC-ED53-4718-9C6D-84B9EAA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E2D90-F753-4BE5-8E86-5CF567F3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62ABC-52C9-4C90-90B4-4D0C57E6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1B7-8B38-405C-9B4E-3717BDBD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1964B-01A3-41AD-A8E7-3C173258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848CB-1D91-47F3-9C8B-27216964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38B6D-90B1-4D20-8C6F-3E0231B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EE36-DB37-41EE-A3E3-3D4746F6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E066A-2C4B-441F-B7CC-B21C6E36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763A7-764F-4238-A3A4-58070347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4411E-C440-47D4-B547-419C88F1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18D0A-28CE-4D50-BE0C-58B25823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2E3AD-8F13-443B-AFB5-2FF4EB1F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4F1D0-A745-40FD-A5C7-32B5751E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9B5-BE8B-4EA8-AFA3-B82DA6FF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D4BBF-341B-4AF2-9489-9E905FBC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67091-D11D-4710-8A79-389D6951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4C8BB-0E90-4D0D-9D08-33AE07E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83746-EBCB-4EDE-9E26-96CF322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4741F-1F7A-4079-8067-844C9750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7CE68-BAAD-4754-BE18-C6C6AED4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538CD-CA3E-4156-8B8F-97986A70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2B186-BC51-449D-954C-D92732C5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6FDB7-96B9-4F20-9429-DBE69FFB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26C36-6248-48D1-88A0-10C37747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799B-207F-41FE-8219-AA651EE2450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CEA9-6F86-4CA4-BD1B-E7068DEF978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1BC-CB01-4A90-9D92-F22C8D18CBB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2A77-E8ED-489C-8F0A-ED968536501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DDA6-FD7D-4DAE-BC25-33B30F1096D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231-728D-4085-AB9F-A2A8B55F6A2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C382-288F-40B0-933D-461AFA62674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614A-8485-4DCB-A224-5D2BEF13A5A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1E18-39EF-4866-9F56-37A5C6B0F84E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7516800" cy="2189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143360" y="4143600"/>
            <a:ext cx="578628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Constantia"/>
              </a:rPr>
              <a:t>Фирсова Валентина Николаевна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Constantia"/>
              </a:rPr>
              <a:t>воспитатель  МАДОУ ДСКВ «Югорка»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Constantia"/>
              </a:rPr>
              <a:t>Г. Покачи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01" name="Дидюля - Мираж.mp3" descr=""/>
          <p:cNvPicPr/>
          <p:nvPr/>
        </p:nvPicPr>
        <p:blipFill>
          <a:blip r:embed="rId2"/>
          <a:stretch/>
        </p:blipFill>
        <p:spPr>
          <a:xfrm>
            <a:off x="90000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8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300"/>
                            </p:stCondLst>
                            <p:childTnLst>
                              <p:par>
                                <p:cTn id="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7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"/>
          <p:cNvSpPr/>
          <p:nvPr/>
        </p:nvSpPr>
        <p:spPr>
          <a:xfrm>
            <a:off x="1785960" y="2228040"/>
            <a:ext cx="607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гда он в клетке, то прияте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 шкуре много чёрных пят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н хищный зверь, хотя немножк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ак лев и тигр, похож на кош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1" descr="112_3.jpg"/>
          <p:cNvPicPr/>
          <p:nvPr/>
        </p:nvPicPr>
        <p:blipFill>
          <a:blip r:embed="rId1"/>
          <a:stretch/>
        </p:blipFill>
        <p:spPr>
          <a:xfrm>
            <a:off x="1047600" y="785880"/>
            <a:ext cx="6882120" cy="51609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2071800" y="1857240"/>
            <a:ext cx="5000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 носу и рог и д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 их держит го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охо видит, бедола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 отсюда и отва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боится ник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аже Лёвы са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1" descr="slide0011_image020.jpg"/>
          <p:cNvPicPr/>
          <p:nvPr/>
        </p:nvPicPr>
        <p:blipFill>
          <a:blip r:embed="rId1"/>
          <a:stretch/>
        </p:blipFill>
        <p:spPr>
          <a:xfrm>
            <a:off x="1357200" y="928800"/>
            <a:ext cx="6572520" cy="52578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ircl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3"/>
          <p:cNvSpPr/>
          <p:nvPr/>
        </p:nvSpPr>
        <p:spPr>
          <a:xfrm>
            <a:off x="928800" y="71424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Царь зверей он и не диво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н какая роскошь – гри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Хоть кошачий рык, но гроз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апы – мощь, и взгляд серьез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928880" y="3286080"/>
            <a:ext cx="4952880" cy="22147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3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"/>
          <p:cNvSpPr/>
          <p:nvPr/>
        </p:nvSpPr>
        <p:spPr>
          <a:xfrm>
            <a:off x="2465280" y="433080"/>
            <a:ext cx="416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шка полоса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равится ребя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Рисунок 2" descr="Tiger_11.jpg"/>
          <p:cNvPicPr/>
          <p:nvPr/>
        </p:nvPicPr>
        <p:blipFill>
          <a:blip r:embed="rId1"/>
          <a:srcRect l="0" t="1517" r="0" b="1517"/>
          <a:stretch/>
        </p:blipFill>
        <p:spPr>
          <a:xfrm>
            <a:off x="1857240" y="2000160"/>
            <a:ext cx="5143680" cy="3841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9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4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928880" y="2071800"/>
            <a:ext cx="5429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трубил побудку он Разбежались звери в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к же им не разбеж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н силен, его бо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214280" y="874800"/>
            <a:ext cx="7072560" cy="5305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5"/>
          <p:cNvSpPr/>
          <p:nvPr/>
        </p:nvSpPr>
        <p:spPr>
          <a:xfrm>
            <a:off x="1571760" y="2143080"/>
            <a:ext cx="59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ва горба, копыта, хвос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 него огромный рос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ед ним толпится лю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ети, кто же 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071720" y="714240"/>
            <a:ext cx="7167240" cy="5375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3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2071800" y="178596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о что за велик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остом как подъемный         кр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о, голову зад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с приветству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1" descr="slide0007_image012.jpg"/>
          <p:cNvPicPr/>
          <p:nvPr/>
        </p:nvPicPr>
        <p:blipFill>
          <a:blip r:embed="rId1"/>
          <a:stretch/>
        </p:blipFill>
        <p:spPr>
          <a:xfrm>
            <a:off x="1214280" y="857160"/>
            <a:ext cx="6429600" cy="5032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льнур</dc:creator>
  <dc:description/>
  <dc:language>en-US</dc:language>
  <cp:lastModifiedBy>Пользователь</cp:lastModifiedBy>
  <dcterms:modified xsi:type="dcterms:W3CDTF">2017-12-23T14:15:42Z</dcterms:modified>
  <cp:revision>65</cp:revision>
  <dc:subject/>
  <dc:title>Животные жарких стр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4e0000000000010250300207f7000400038000</vt:lpwstr>
  </property>
</Properties>
</file>