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4E100-8137-4D17-AEC8-0EFAC05B39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6FCE8-4EAB-40AF-A71C-3E49F00536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FA8AE-984F-4DC4-B1D4-640890420C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EFD7B-223B-48DC-B613-67A7F7D652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678-5988-4957-94CB-36C17E2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16D-0E67-4DB7-A79B-8B1E6763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9F5-0050-4076-AC7C-5B783077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8FD-E795-4B31-B290-FCAC0292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EC8-13F0-4576-969A-44429351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873-8BC3-42DD-BC85-62AEB839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A07-23D4-45D2-B13E-03060169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8EA-0414-4F0D-AA6D-A0D34614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FEE-E948-4773-A2DE-2F434832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B33-6D58-470E-8A83-B3573D4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F81-33A5-49EB-AC04-61F640F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21C-A24D-4E3D-8A3F-748168D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82C942-7227-4109-BFC0-2951F56755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4176720" y="5565600"/>
            <a:ext cx="45864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262699"/>
                </a:solidFill>
                <a:latin typeface="Arial"/>
              </a:rPr>
              <a:t>Зимующие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351000"/>
            <a:ext cx="8858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сад комбинированного ви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Югор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683160" y="456552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ирсова В.Н.                                                                        воспитатель МАДОУ  ДСКВ «Юго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968720" y="6637680"/>
            <a:ext cx="23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. Пок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5013.jpg"/>
          <p:cNvPicPr/>
          <p:nvPr/>
        </p:nvPicPr>
        <p:blipFill>
          <a:blip r:embed="rId1"/>
          <a:stretch/>
        </p:blipFill>
        <p:spPr>
          <a:xfrm>
            <a:off x="1968480" y="1708200"/>
            <a:ext cx="6286680" cy="4713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840480" y="851040"/>
            <a:ext cx="2324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Син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0_2275f_f578765c_XL.jpeg"/>
          <p:cNvPicPr/>
          <p:nvPr/>
        </p:nvPicPr>
        <p:blipFill>
          <a:blip r:embed="rId1"/>
          <a:stretch/>
        </p:blipFill>
        <p:spPr>
          <a:xfrm>
            <a:off x="5397480" y="993600"/>
            <a:ext cx="3571920" cy="4507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98080" y="1351080"/>
            <a:ext cx="2513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16165d"/>
                </a:solidFill>
                <a:latin typeface="Arial"/>
              </a:rPr>
              <a:t>Снеги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635040" y="4494240"/>
            <a:ext cx="5587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год я к вам ле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вать у вас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еще красней 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о – красный галстук 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4408.jpg"/>
          <p:cNvPicPr/>
          <p:nvPr/>
        </p:nvPicPr>
        <p:blipFill>
          <a:blip r:embed="rId1"/>
          <a:stretch/>
        </p:blipFill>
        <p:spPr>
          <a:xfrm>
            <a:off x="968400" y="993600"/>
            <a:ext cx="34257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99064b1321e4c38c2ff00a8511ff35f2.jpg"/>
          <p:cNvPicPr/>
          <p:nvPr/>
        </p:nvPicPr>
        <p:blipFill>
          <a:blip r:embed="rId2"/>
          <a:stretch/>
        </p:blipFill>
        <p:spPr>
          <a:xfrm>
            <a:off x="5468760" y="851040"/>
            <a:ext cx="3286440" cy="2466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семечки.jpg"/>
          <p:cNvPicPr/>
          <p:nvPr/>
        </p:nvPicPr>
        <p:blipFill>
          <a:blip r:embed="rId3"/>
          <a:stretch/>
        </p:blipFill>
        <p:spPr>
          <a:xfrm>
            <a:off x="1111320" y="4065480"/>
            <a:ext cx="4024080" cy="2627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1269066590_psheno1.jpg"/>
          <p:cNvPicPr/>
          <p:nvPr/>
        </p:nvPicPr>
        <p:blipFill>
          <a:blip r:embed="rId4"/>
          <a:stretch/>
        </p:blipFill>
        <p:spPr>
          <a:xfrm>
            <a:off x="5683320" y="3565440"/>
            <a:ext cx="3038400" cy="3083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197360" y="636480"/>
            <a:ext cx="4131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Что едят птицы</a:t>
            </a:r>
            <a:r>
              <a:rPr b="0" lang="en-US" sz="4000" spc="-1" strike="noStrike">
                <a:solidFill>
                  <a:srgbClr val="22228b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ворона 2.jpeg"/>
          <p:cNvPicPr/>
          <p:nvPr/>
        </p:nvPicPr>
        <p:blipFill>
          <a:blip r:embed="rId1"/>
          <a:stretch/>
        </p:blipFill>
        <p:spPr>
          <a:xfrm>
            <a:off x="0" y="1779480"/>
            <a:ext cx="2614680" cy="1847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ворона 2.jpeg"/>
          <p:cNvPicPr/>
          <p:nvPr/>
        </p:nvPicPr>
        <p:blipFill>
          <a:blip r:embed="rId2"/>
          <a:stretch/>
        </p:blipFill>
        <p:spPr>
          <a:xfrm>
            <a:off x="7040520" y="2343240"/>
            <a:ext cx="2325600" cy="1643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ворона 2.jpeg"/>
          <p:cNvPicPr/>
          <p:nvPr/>
        </p:nvPicPr>
        <p:blipFill>
          <a:blip r:embed="rId3"/>
          <a:stretch/>
        </p:blipFill>
        <p:spPr>
          <a:xfrm>
            <a:off x="3754440" y="279360"/>
            <a:ext cx="2254320" cy="1592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ворона 2.jpeg"/>
          <p:cNvPicPr/>
          <p:nvPr/>
        </p:nvPicPr>
        <p:blipFill>
          <a:blip r:embed="rId4"/>
          <a:stretch/>
        </p:blipFill>
        <p:spPr>
          <a:xfrm>
            <a:off x="3683160" y="5280120"/>
            <a:ext cx="24685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64 0.06198 L 0.22012 0.00673 C 0.25775 -0.00525 0.31144 -0.01008 0.37128 -0.01008 C 0.43851 -0.01008 0.49299 -0.00336 0.53109 0.00862 L 0.74035 0.08299 E">
                                      <p:cBhvr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297 0.09055 L -0.46922 0.14391 C -0.43111 0.15588 -0.37348 0.16261 -0.31302 0.16261 C -0.24453 0.16261 -0.18989 0.15588 -0.15132 0.14391 L 0.03275 0.09055 E">
                                      <p:cBhvr>
                                        <p:cTn id="3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6 0.11996 L 0.00866 0.73928 E">
                                      <p:cBhvr>
                                        <p:cTn id="4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 0.0958 L -0.00709 -0.55294 E">
                                      <p:cBhvr>
                                        <p:cTn id="4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565800" y="395280"/>
            <a:ext cx="6493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исуем снегиряК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ЕОВНЙНЕНГ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Гульнур\Desktop\1a0fc96561d7e1301eee80652dcc4176.jpg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3168720" y="663480"/>
            <a:ext cx="56372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ои документы\My Pictures\Фотографии для контакта\SDC10906.JPG"/>
          <p:cNvPicPr/>
          <p:nvPr/>
        </p:nvPicPr>
        <p:blipFill>
          <a:blip r:embed="rId1"/>
          <a:stretch/>
        </p:blipFill>
        <p:spPr>
          <a:xfrm>
            <a:off x="10255320" y="11495160"/>
            <a:ext cx="11466360" cy="859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ои документы\My Pictures\Фотографии для контакта\SDC10906.JPG"/>
          <p:cNvPicPr/>
          <p:nvPr/>
        </p:nvPicPr>
        <p:blipFill>
          <a:blip r:embed="rId2"/>
          <a:stretch/>
        </p:blipFill>
        <p:spPr>
          <a:xfrm>
            <a:off x="2897280" y="1636560"/>
            <a:ext cx="45068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SDC12362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03280" y="684360"/>
            <a:ext cx="3690720" cy="276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1133280" y="4708440"/>
            <a:ext cx="4629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Arial"/>
              </a:rPr>
              <a:t>Чик – чири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Arial"/>
              </a:rPr>
              <a:t>К зернышкам пры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Arial"/>
              </a:rPr>
              <a:t>Клюй, не робей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Arial"/>
              </a:rPr>
              <a:t>Кто это</a:t>
            </a:r>
            <a:r>
              <a:rPr b="1" lang="en-US" sz="3600" spc="-1" strike="noStrike">
                <a:solidFill>
                  <a:srgbClr val="16165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212274430_i-1245.jpg"/>
          <p:cNvPicPr/>
          <p:nvPr/>
        </p:nvPicPr>
        <p:blipFill>
          <a:blip r:embed="rId1"/>
          <a:stretch/>
        </p:blipFill>
        <p:spPr>
          <a:xfrm>
            <a:off x="3254400" y="23511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553920" y="493560"/>
            <a:ext cx="2629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Вороб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SDC1235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82680" y="2851200"/>
            <a:ext cx="3921120" cy="2940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325520" y="636480"/>
            <a:ext cx="272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16165d"/>
                </a:solidFill>
                <a:latin typeface="Arial"/>
              </a:rPr>
              <a:t>Голуб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SDC12361.JPG"/>
          <p:cNvPicPr/>
          <p:nvPr/>
        </p:nvPicPr>
        <p:blipFill>
          <a:blip r:embed="rId1"/>
          <a:stretch/>
        </p:blipFill>
        <p:spPr>
          <a:xfrm>
            <a:off x="2325600" y="2136600"/>
            <a:ext cx="5572080" cy="4178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484640" y="779400"/>
            <a:ext cx="7363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Люди подкармливают голу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SDC12374.JPG"/>
          <p:cNvPicPr/>
          <p:nvPr/>
        </p:nvPicPr>
        <p:blipFill>
          <a:blip r:embed="rId1"/>
          <a:stretch/>
        </p:blipFill>
        <p:spPr>
          <a:xfrm>
            <a:off x="3897360" y="27795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ворона.jpeg"/>
          <p:cNvPicPr/>
          <p:nvPr/>
        </p:nvPicPr>
        <p:blipFill>
          <a:blip r:embed="rId1"/>
          <a:stretch/>
        </p:blipFill>
        <p:spPr>
          <a:xfrm>
            <a:off x="5111640" y="1065240"/>
            <a:ext cx="3990960" cy="3286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626120" y="1994040"/>
            <a:ext cx="28036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775080" y="4851360"/>
            <a:ext cx="545220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серенький жи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у крыльев черны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ишь –  кружат двадцать 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чат : - Карр! Карр! Кар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833840" y="1351080"/>
            <a:ext cx="689544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инкою зеленова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вотиком желтова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рненькая шап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полоска шарф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Мои документы\My Pictures\Младшаягруппа 2010 - 2011\292663404.gif"/>
          <p:cNvPicPr/>
          <p:nvPr/>
        </p:nvPicPr>
        <p:blipFill>
          <a:blip r:embed="rId1"/>
          <a:stretch/>
        </p:blipFill>
        <p:spPr>
          <a:xfrm>
            <a:off x="6111720" y="399420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8:00:51Z</dcterms:created>
  <dc:creator>Admin</dc:creator>
  <dc:description/>
  <dc:language>en-US</dc:language>
  <cp:lastModifiedBy>Пользователь</cp:lastModifiedBy>
  <dcterms:modified xsi:type="dcterms:W3CDTF">2017-12-23T14:20:29Z</dcterms:modified>
  <cp:revision>22</cp:revision>
  <dc:subject/>
  <dc:title>Слайд 1</dc:title>
</cp:coreProperties>
</file>