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D04-D926-408B-8440-6750AD6C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5E1-73E0-40C9-B8A2-71E0EE46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664-D341-4439-A001-B3B78F63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F1F-91AF-4084-B67B-C4A21CCF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1CB0-FC30-414B-B5BC-8A4B43E7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2CD0-C372-4A7F-9725-6E97BC3D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31D0-65F6-4248-B7BD-B09BF5F8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26BD-A80A-445C-ABC0-EB34311D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3146-89DE-4D2E-B8E6-88C4BE02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E19A-A21B-40E7-B062-50DD2B63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2BAE-2287-44B0-929A-156A2D2C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669-6FA3-4482-8334-6747CF00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5989-2D5D-46EB-A308-38D2FE54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BC67-058F-48E7-AB4B-14624CD4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E1E1-0FA6-4CAF-AE97-804BA32E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5D64-9E1F-4F58-858F-E7BAAD69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6658-71A3-4A2D-A1DF-A5CD6B1E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8EA-4ED4-4708-BB4C-2C4537F2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E0E-68CD-4014-B15B-4E85CE7E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2E9-1820-4E63-8CD3-ED1B01D6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79D-83FA-4B24-9E43-967EE145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675-42A8-4207-94CA-8D079F92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0F1-6F87-4AFD-B17F-1C1FB4BC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D4E-02A4-4B18-8426-4A5CE3FC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A7F4-2D11-4E3B-8AF1-612CF17095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B2D6-0321-49A1-89B8-19AA702BF7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34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Полёт на Марс в романе А.Н.Толстого «АЭЛИТА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220640"/>
            <a:ext cx="64008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8567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овести указан адрес дома в Петрограде,  в котором жил инженер Лось и близ которого 18 августа 192… года состоялся запуск его ракеты — Ждановская набережная. 11. Этот дом действительно существует и сохранился до XXI века. Это место, по нескольким причинам, имеет отношение и к реальной истории российской космонавтик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оседнем доме № 13 в 1920-е годы находилась школа авиационных техников им. Ворошилова, в которой преподавал возможный прототип героя романа Юзеф Доминикович Лось, позднее ставший разработчиком ракетных двигателе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930-х годах неподалёку расположилась лаборатория ГИРДа занимавшаяся исследованиями реактивного движения, и её испытательный полигон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ядом находится Военно-космическая академия имени А. Ф. Можайск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Рисунок 6" descr="http://p3.citywalls.ru/photo_136-140095.jpg?mt=1351172705"/>
          <p:cNvPicPr/>
          <p:nvPr/>
        </p:nvPicPr>
        <p:blipFill>
          <a:blip r:embed="rId4"/>
          <a:stretch/>
        </p:blipFill>
        <p:spPr>
          <a:xfrm>
            <a:off x="1258920" y="3645000"/>
            <a:ext cx="6121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Через несколько лет путешествие на Марс будет не более сложно, чем перелет из Москвы в Нью-Йорк …Я уверен – пройдет немного лет, и сотни воздушных кораблей будут бороздить звездное пространство. Вечно, вечно нас толкает дух иска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».(Инженер Мстислав Сергеевич Лос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7" descr="121427"/>
          <p:cNvPicPr/>
          <p:nvPr/>
        </p:nvPicPr>
        <p:blipFill>
          <a:blip r:embed="rId3"/>
          <a:stretch/>
        </p:blipFill>
        <p:spPr>
          <a:xfrm>
            <a:off x="5148360" y="692280"/>
            <a:ext cx="3409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РАСИБО ЗА ВНИМ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лексей Николаевич Толстой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1883-194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первые роман (с подзаголовком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Закат Марса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был напечатан в журнале «Красная новь» в 1922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ое отдельное издание произведения вышло в 1923 году под названием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Аэлита (Закат Марса)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08904650_000"/>
          <p:cNvPicPr/>
          <p:nvPr/>
        </p:nvPicPr>
        <p:blipFill>
          <a:blip r:embed="rId1"/>
          <a:stretch/>
        </p:blipFill>
        <p:spPr>
          <a:xfrm>
            <a:off x="250920" y="1413000"/>
            <a:ext cx="2601720" cy="2914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ausloc3w9wk"/>
          <p:cNvPicPr/>
          <p:nvPr/>
        </p:nvPicPr>
        <p:blipFill>
          <a:blip r:embed="rId2"/>
          <a:stretch/>
        </p:blipFill>
        <p:spPr>
          <a:xfrm>
            <a:off x="2484360" y="414972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романе рассказывается о приключениях двух землян на Мар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0" descr="i_005"/>
          <p:cNvPicPr/>
          <p:nvPr/>
        </p:nvPicPr>
        <p:blipFill>
          <a:blip r:embed="rId1"/>
          <a:stretch/>
        </p:blipFill>
        <p:spPr>
          <a:xfrm>
            <a:off x="5172120" y="1125360"/>
            <a:ext cx="330372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6868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т как выглядел «межпланетный корабль»: «яйцеобразный аппарат был не менее восьми с половиной метров высоты и шести метров в поперечнике. Посредине, по окружности его, шел стальной пояс, пригибающийся книзу, к поверхности аппарата, как зонт, – это был парашютный тормоз, увеличивающий сопротивление аппарата при падении в атмосфере. Под парашютом расположены три круглые дверцы – входные люки. Нижняя часть яйца оканчивалась узким горлом. Его окружала двойная, массивной стали, круглая спираль, свернутая в противоположные стороны, – это был буфер, смягчающий удар при падении на землю…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9" descr="39cb2fe5feb7"/>
          <p:cNvPicPr/>
          <p:nvPr/>
        </p:nvPicPr>
        <p:blipFill>
          <a:blip r:embed="rId1"/>
          <a:stretch/>
        </p:blipFill>
        <p:spPr>
          <a:xfrm>
            <a:off x="1908000" y="3141720"/>
            <a:ext cx="60883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23d0a6be3e"/>
          <p:cNvPicPr/>
          <p:nvPr/>
        </p:nvPicPr>
        <p:blipFill>
          <a:blip r:embed="rId1"/>
          <a:stretch/>
        </p:blipFill>
        <p:spPr>
          <a:xfrm>
            <a:off x="4716360" y="3068640"/>
            <a:ext cx="2841840" cy="3789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504036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учно-техническая сторона фабулы романа основана на теории межпланетных ракетных сообщений, разработанной русским учёным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. Э. Циолковским в его труде «Исследование мировых пространств реактивны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борами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ziolkovsky"/>
          <p:cNvPicPr/>
          <p:nvPr/>
        </p:nvPicPr>
        <p:blipFill>
          <a:blip r:embed="rId2"/>
          <a:stretch/>
        </p:blipFill>
        <p:spPr>
          <a:xfrm>
            <a:off x="5789520" y="0"/>
            <a:ext cx="33544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3357360"/>
            <a:ext cx="843588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летая к Марсу, герои повести наблюдают сложную, геометрически правильную систему каналов, на пересечении которых расположены тёмные точки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product_detailed_image_239980_41080"/>
          <p:cNvPicPr/>
          <p:nvPr/>
        </p:nvPicPr>
        <p:blipFill>
          <a:blip r:embed="rId1"/>
          <a:stretch/>
        </p:blipFill>
        <p:spPr>
          <a:xfrm>
            <a:off x="2987640" y="260280"/>
            <a:ext cx="40384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6840" y="3500280"/>
            <a:ext cx="814716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 спуска аппарата описано как оранжевая пустыня, изрезанная рукотворными каналами и поросшая кактусами. Позднее выясняется, что эта местность   пришла в запустение после гражданской войны и взрыва водяного цирка. Основное население проживает в   оазисах. Столица Марса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аце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«Солнечное селение»), находится в оазисе Азора («Радость»). Обитатели планеты называют её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у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hello_html_m23b67c87"/>
          <p:cNvPicPr/>
          <p:nvPr/>
        </p:nvPicPr>
        <p:blipFill>
          <a:blip r:embed="rId1"/>
          <a:stretch/>
        </p:blipFill>
        <p:spPr>
          <a:xfrm>
            <a:off x="2700360" y="333360"/>
            <a:ext cx="41050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арсе обитают аборигены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ол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и метисы 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о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 — потомки аолов и колонизаторов с Земли 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агацитл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бежавших из погибающей Атлантиды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8" descr="article225908"/>
          <p:cNvPicPr/>
          <p:nvPr/>
        </p:nvPicPr>
        <p:blipFill>
          <a:blip r:embed="rId1"/>
          <a:stretch/>
        </p:blipFill>
        <p:spPr>
          <a:xfrm>
            <a:off x="5651640" y="189000"/>
            <a:ext cx="3171600" cy="379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8594244abf744c47_0"/>
          <p:cNvPicPr/>
          <p:nvPr/>
        </p:nvPicPr>
        <p:blipFill>
          <a:blip r:embed="rId2"/>
          <a:stretch/>
        </p:blipFill>
        <p:spPr>
          <a:xfrm>
            <a:off x="3492360" y="3930480"/>
            <a:ext cx="391176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15920"/>
            <a:ext cx="4038480" cy="60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 были сотни марсиан, летевших навстречу в крылатых лодках и седлах, на парусиновых птицах, в корзинах с парашю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ханизм двукрылой лодки  был прост. Крошечный моторчик питался крупинками белого металла, распадающегося с чудовищной силой в присутствии электрической искры. Электрическую энергию аппарат получал во время полета из воздуха, так как Марс был покрыт электричеством высокого напря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9_5faf1fd84f6272dedc5304ef49366693_1476617467"/>
          <p:cNvPicPr/>
          <p:nvPr/>
        </p:nvPicPr>
        <p:blipFill>
          <a:blip r:embed="rId3"/>
          <a:stretch/>
        </p:blipFill>
        <p:spPr>
          <a:xfrm>
            <a:off x="5003640" y="2637000"/>
            <a:ext cx="2784600" cy="4035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original"/>
          <p:cNvPicPr/>
          <p:nvPr/>
        </p:nvPicPr>
        <p:blipFill>
          <a:blip r:embed="rId4"/>
          <a:stretch/>
        </p:blipFill>
        <p:spPr>
          <a:xfrm>
            <a:off x="5796000" y="476280"/>
            <a:ext cx="302400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3T16:36:42Z</dcterms:created>
  <dc:creator>Школа 25</dc:creator>
  <dc:description/>
  <dc:language>en-US</dc:language>
  <cp:lastModifiedBy>Школа 25</cp:lastModifiedBy>
  <dcterms:modified xsi:type="dcterms:W3CDTF">2017-12-24T13:03:33Z</dcterms:modified>
  <cp:revision>12</cp:revision>
  <dc:subject/>
  <dc:title>А.Н.Толстой «АЭЛИТА»</dc:title>
</cp:coreProperties>
</file>