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C8BA-0ADC-453F-B44E-BD3E6A23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BDAC-1394-40F9-9F0F-1D1E8C9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529E-A529-4A8D-9B59-4D4E1C2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7E7C-8259-4537-B781-2E1BC8FD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B42-2C88-48BA-AFA0-30E1B499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40BF-FAE1-40CC-B5F2-990D891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C58-4E1F-44FC-AB58-03DA02A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FC08-1655-4991-A044-CD8409C0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360-ABB5-4F41-B1F1-D03735C4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9B44-0612-4751-A2BB-C7396FD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EEC4-B63B-4593-A003-1C47FCA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09BF-7D83-4A4D-88CE-7CA9D430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F42-C231-41BE-A1C6-C801030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F453-3C18-4C96-972F-51C8469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0E7-072A-4DA5-98A2-5E36772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9927-E3D7-4092-990E-54D5D01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4A3-3A44-4CAB-8D75-FC1EDB35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3E51-E673-4CB2-9C50-E3D7A77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633D-BA2C-481C-816F-F7B761A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A7F7-45BB-4C78-ADD5-86AFFB3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F9C4-1863-4B99-BCEE-2CBB61F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B91F-EA17-44B7-8E8A-25AA966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FD8A-623C-4775-9DFB-240520D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8593-A18C-4913-B1C3-EB6E623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D66-F9E4-4D80-8FA9-479A7890F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624A-12B9-4894-8D38-528060417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267920"/>
            <a:ext cx="60195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Состояние  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    здоровья      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             детей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 rot="10800000">
            <a:off x="2987640" y="5659920"/>
            <a:ext cx="60199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СВОБОДНОГО ВЫ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ИВНЫЕ МЕТ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ПОЗНАНИЕ И РАЗВ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ТС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ЕНИЕ ЗА ПОСАД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ДОРОВИТЕЛЬНЫЕ МОМЕНТЫ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ключает в себя требования к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ализации ООП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дной из составляющих частей которой явля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здание комфортной развивающей образовательной сред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обеспечивающей высокое качество образования 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арантирующей охрану и укреп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физического, психологического и социального здоровья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413000"/>
          <a:ext cx="86407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6407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казатели здоровья                       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844640"/>
          <a:ext cx="822960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22960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профилактических осмотров детей до 14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08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5640" y="1844640"/>
          <a:ext cx="79200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920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лонения в состоянии здоровья обуч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184464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ческие данные: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группы здоровья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06440" y="1979640"/>
          <a:ext cx="7054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1979640"/>
                    <a:ext cx="7054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НИМАТЕЛЬНЫЙ УЧИТЕЛЬ ЗАМЕТИТ ВНЕШНИЕ ПРИЗНАКИ УСТАЛОСТИ УЧЕ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АЯ СМЕНА ПО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ЯГИ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ЯХИВАНИЕ РУ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В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ЫВАНИЕ ГЛ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ПИРАНИЕ ГОЛО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НОВИВШИЙСЯ ВЗГЛ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НИМАТЕЛЬНЫЙ УЧИТЕЛЬ ЗАМЕТИТ ВНЕШНИЕ ПРИЗНАКИ УСТАЛОСТИ УЧЕ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С СОСЕ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ЛИЧЕНИЕ КОЛИЧЕСТВА ОШИБОК В ОТВЕ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ОСПРИЯТИЕ ВОПР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ЕРЖКА С ОТВЕ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ЫЕ ПОГЛЯДЫВАНИЯ НА ЧАСЫ В ОЖИДАНИИ КОНЦА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НУЖНОЕ ПЕРЕКЛАДЫВАНИЕ ПРЕДМ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АЯ ОРГАНИЗАЦИЯ УЧЕБ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ИРОВКА УЧЕБН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ЁТ РАБОТОСПОСОБНОСТ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ИЧЕСКИЕ ТРЕБ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Й НАСТР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КУЛЬТМИНУТКИ И ДИНАМИЧЕСКИЕ ПА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8:51:28Z</dcterms:created>
  <dc:creator>USER</dc:creator>
  <dc:description/>
  <dc:language>en-US</dc:language>
  <cp:lastModifiedBy>USER</cp:lastModifiedBy>
  <dcterms:modified xsi:type="dcterms:W3CDTF">2012-01-09T16:57:34Z</dcterms:modified>
  <cp:revision>3</cp:revision>
  <dc:subject/>
  <dc:title>Состояние       здоровья                    детей</dc:title>
</cp:coreProperties>
</file>