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0672-913E-4468-8022-48273D68C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FF9D-9ACD-4E3D-A55D-C9B8ECCF80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B76-F154-485E-9C17-74888A1D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E56-515C-4FC4-B5B7-7F09E4AF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6AF-264D-4ECD-A3B7-118FF012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92C-7A50-4ACA-8C15-F570D07F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BA2-87F3-497B-9C41-1B242BDC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C3D-AC89-467C-ADA5-2C0745FF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6C5-9827-4BC8-BEFF-A344B11D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EBB-7327-451C-8A1B-54F33FBC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F11-7C1F-4DAA-A3FC-2058A131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25A-6B80-40FA-AF9B-7725329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E6D-5223-435C-BC5B-5F0DC07D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B4D-FADF-4D47-BC33-AB026199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8523-9102-4D8B-ACBB-97B4AB95C6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7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85880" y="5200560"/>
            <a:ext cx="70200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ОУ Школа №1161 корпус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ь: Дякина О.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11280" y="189000"/>
            <a:ext cx="78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0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Monotype Corsiva"/>
              </a:rPr>
              <a:t>Давайте, покормим </a:t>
            </a:r>
            <a:endParaRPr b="0" lang="en-US" sz="40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Monotype Corsiva"/>
              </a:rPr>
              <a:t>птиц !</a:t>
            </a:r>
            <a:endParaRPr b="0" lang="en-US" sz="40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0" name="Picture 10" descr="C:\Users\Ольга\Desktop\аттестация на высший разряд\Второе занятие\снегири.jpg"/>
          <p:cNvPicPr/>
          <p:nvPr/>
        </p:nvPicPr>
        <p:blipFill>
          <a:blip r:embed="rId1"/>
          <a:stretch/>
        </p:blipFill>
        <p:spPr>
          <a:xfrm>
            <a:off x="468360" y="2924280"/>
            <a:ext cx="451152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:\Users\Ольга\Desktop\аттестация на высший разряд\Второе занятие\синицы.jpg"/>
          <p:cNvPicPr/>
          <p:nvPr/>
        </p:nvPicPr>
        <p:blipFill>
          <a:blip r:embed="rId2"/>
          <a:stretch/>
        </p:blipFill>
        <p:spPr>
          <a:xfrm>
            <a:off x="5195880" y="21099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60093"/>
                </a:solidFill>
                <a:latin typeface="Arial"/>
              </a:rPr>
              <a:t>ГОЛУБЬ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4600440" y="16286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янула я ладошку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адони хлеба крошк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етали голубк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мело брали хлеб с рук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о рядышком гулял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 собою ворковал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вели свою беседу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 еще найти к обе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Объект 8" descr=""/>
          <p:cNvPicPr/>
          <p:nvPr/>
        </p:nvPicPr>
        <p:blipFill>
          <a:blip r:embed="rId1"/>
          <a:stretch/>
        </p:blipFill>
        <p:spPr>
          <a:xfrm>
            <a:off x="324000" y="193032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fff"/>
                </a:solidFill>
                <a:latin typeface="Arial"/>
              </a:rPr>
              <a:t>ГАЛК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492120" y="1557360"/>
            <a:ext cx="5100480" cy="38257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5796000" y="1268280"/>
            <a:ext cx="3006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ают ее с ворон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ть и меньшая размером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деяньи скучном, скромно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черным галстучком на сером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енью на юг не мчится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им студеных не боится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но, крепкая закал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зовется просто: гал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КЛЁСТ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tretch/>
        </p:blipFill>
        <p:spPr>
          <a:xfrm>
            <a:off x="281160" y="1484280"/>
            <a:ext cx="4771800" cy="36972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4788000" y="1484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ест всегда был дружен с елко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и скачет по иголка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шки ловко потроши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енами их шурши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за праздничный наряд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ышки огнем горя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есты сели на иголки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то кто украсил елки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ДЯТЕЛ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1835280" y="1303200"/>
            <a:ext cx="5095800" cy="3889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2195640" y="5157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ятел крепконосы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бит ёлку носо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расной шапке, пёстр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бит носом остр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Arial"/>
              </a:rPr>
              <a:t>СОВ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905440" cy="44305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6156360" y="1268280"/>
            <a:ext cx="271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летает тише всех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рху вниз и снизу вверх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 кукушка, ни синица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совсем другая птица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- умница со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спит ночью до утр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осне сидит высоко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ит в темноте далё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2760" y="189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3" descr="C:\Users\Ольга\Desktop\аттестация на высший разряд\Второе занятие\16.jpg"/>
          <p:cNvPicPr/>
          <p:nvPr/>
        </p:nvPicPr>
        <p:blipFill>
          <a:blip r:embed="rId1"/>
          <a:stretch/>
        </p:blipFill>
        <p:spPr>
          <a:xfrm rot="21163800">
            <a:off x="6249600" y="3745080"/>
            <a:ext cx="2770200" cy="187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Ольга\Desktop\аттестация на высший разряд\Второе занятие\1.jpg"/>
          <p:cNvPicPr/>
          <p:nvPr/>
        </p:nvPicPr>
        <p:blipFill>
          <a:blip r:embed="rId2"/>
          <a:stretch/>
        </p:blipFill>
        <p:spPr>
          <a:xfrm>
            <a:off x="4140360" y="12600"/>
            <a:ext cx="4073400" cy="318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Users\Ольга\Desktop\аттестация на высший разряд\Второе занятие\6.jpg"/>
          <p:cNvPicPr/>
          <p:nvPr/>
        </p:nvPicPr>
        <p:blipFill>
          <a:blip r:embed="rId3"/>
          <a:stretch/>
        </p:blipFill>
        <p:spPr>
          <a:xfrm>
            <a:off x="466560" y="4363920"/>
            <a:ext cx="2740320" cy="20545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2556000" y="35067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богаты их кор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сть зерна нуж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сть одна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не страш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ет им зим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е можно забыва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лететь мог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остались зим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одно с людьм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2520" y="2319120"/>
            <a:ext cx="3240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кормите птиц зи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усть со всех конц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 вам слетятся, как дом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тайки на крыльц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4" descr="C:\Users\Ольга\Desktop\аттестация на высший разряд\Второе занятие\синицы.jpg"/>
          <p:cNvPicPr/>
          <p:nvPr/>
        </p:nvPicPr>
        <p:blipFill>
          <a:blip r:embed="rId4"/>
          <a:stretch/>
        </p:blipFill>
        <p:spPr>
          <a:xfrm>
            <a:off x="684360" y="312840"/>
            <a:ext cx="25225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Объект 3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3960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592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нами живут разные пт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2fff0"/>
                </a:solidFill>
                <a:latin typeface="Arial"/>
              </a:rPr>
              <a:t>Дело в том, что зимой птицам очень сложно отыскать себе еду, ведь насекомых, ягод и зерен становится мало, а когда выпадает снег, то их вообще невозможно найти. И разные птицы   решают эту проблему по-разному: перелетные птицы пролетают сотни и даже тысячи километров до более теплых стран, а зимующие — приспосабливаются к нашим суровым зим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fff0"/>
                </a:solidFill>
                <a:latin typeface="Arial"/>
              </a:rPr>
              <a:t>Зимующие птицы те, которые живут с нами летом и остаются жить рядом с нами и зимой. Зимующие птицы это: воробей, ворона, сорока, поползень, голубь, галка, дятел, синица, клест, свиристель, сой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C:\Users\Ольга\Desktop\аттестация на высший разряд\Второе занятие\hello_html_m5decbb6c.jpg"/>
          <p:cNvPicPr/>
          <p:nvPr/>
        </p:nvPicPr>
        <p:blipFill>
          <a:blip r:embed="rId1"/>
          <a:stretch/>
        </p:blipFill>
        <p:spPr>
          <a:xfrm>
            <a:off x="2627280" y="3645000"/>
            <a:ext cx="417672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Зима для птиц  – </a:t>
            </a:r>
            <a:br>
              <a:rPr sz="4400"/>
            </a:b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                       суровое испыт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3711600" cy="201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2"/>
          <a:stretch/>
        </p:blipFill>
        <p:spPr>
          <a:xfrm>
            <a:off x="3219480" y="1916280"/>
            <a:ext cx="3359160" cy="212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"/>
          <p:cNvPicPr/>
          <p:nvPr/>
        </p:nvPicPr>
        <p:blipFill>
          <a:blip r:embed="rId3"/>
          <a:stretch/>
        </p:blipFill>
        <p:spPr>
          <a:xfrm>
            <a:off x="3419640" y="4344840"/>
            <a:ext cx="3470040" cy="251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"/>
          <p:cNvPicPr/>
          <p:nvPr/>
        </p:nvPicPr>
        <p:blipFill>
          <a:blip r:embed="rId4"/>
          <a:stretch/>
        </p:blipFill>
        <p:spPr>
          <a:xfrm>
            <a:off x="6219720" y="2593800"/>
            <a:ext cx="2818080" cy="2347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8" descr="C:\Users\Ольга\Desktop\аттестация на высший разряд\Второе занятие\6.jpg"/>
          <p:cNvPicPr/>
          <p:nvPr/>
        </p:nvPicPr>
        <p:blipFill>
          <a:blip r:embed="rId5"/>
          <a:stretch/>
        </p:blipFill>
        <p:spPr>
          <a:xfrm>
            <a:off x="442800" y="907920"/>
            <a:ext cx="3206880" cy="24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48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Times New Roman"/>
              </a:rPr>
              <a:t>Кормушки для </a:t>
            </a:r>
            <a:br>
              <a:rPr sz="5400"/>
            </a:br>
            <a:r>
              <a:rPr b="0" lang="ru-RU" sz="5400" spc="-1" strike="noStrike">
                <a:solidFill>
                  <a:srgbClr val="cc3300"/>
                </a:solidFill>
                <a:latin typeface="Times New Roman"/>
              </a:rPr>
              <a:t>птиц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79440" y="4724280"/>
            <a:ext cx="224784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2"/>
          <a:stretch/>
        </p:blipFill>
        <p:spPr>
          <a:xfrm>
            <a:off x="2916360" y="5005440"/>
            <a:ext cx="1800000" cy="1833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C:\Users\Ольга\Desktop\аттестация на высший разряд\Второе занятие\10.jpg"/>
          <p:cNvPicPr/>
          <p:nvPr/>
        </p:nvPicPr>
        <p:blipFill>
          <a:blip r:embed="rId3"/>
          <a:stretch/>
        </p:blipFill>
        <p:spPr>
          <a:xfrm>
            <a:off x="6227640" y="1709640"/>
            <a:ext cx="2849760" cy="512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4"/>
          <a:stretch/>
        </p:blipFill>
        <p:spPr>
          <a:xfrm>
            <a:off x="4108320" y="3395520"/>
            <a:ext cx="2376720" cy="22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C:\Users\Ольга\Desktop\аттестация на высший разряд\Второе занятие\4.jpg"/>
          <p:cNvPicPr/>
          <p:nvPr/>
        </p:nvPicPr>
        <p:blipFill>
          <a:blip r:embed="rId5"/>
          <a:stretch/>
        </p:blipFill>
        <p:spPr>
          <a:xfrm>
            <a:off x="3544920" y="1765440"/>
            <a:ext cx="2343240" cy="156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C:\Users\Ольга\Desktop\аттестация на высший разряд\Второе занятие\7.jpg"/>
          <p:cNvPicPr/>
          <p:nvPr/>
        </p:nvPicPr>
        <p:blipFill>
          <a:blip r:embed="rId6"/>
          <a:stretch/>
        </p:blipFill>
        <p:spPr>
          <a:xfrm>
            <a:off x="74520" y="2544840"/>
            <a:ext cx="3360960" cy="227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C:\Users\Ольга\Desktop\аттестация на высший разряд\Второе занятие\3.jpg"/>
          <p:cNvPicPr/>
          <p:nvPr/>
        </p:nvPicPr>
        <p:blipFill>
          <a:blip r:embed="rId7"/>
          <a:stretch/>
        </p:blipFill>
        <p:spPr>
          <a:xfrm>
            <a:off x="297000" y="549360"/>
            <a:ext cx="26193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8840" y="-171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</a:rPr>
              <a:t>ВОРОБЕЙ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4" descr="C:\Users\Ольга\Desktop\аттестация на высший разряд\Второе занятие\16.jpg"/>
          <p:cNvPicPr/>
          <p:nvPr/>
        </p:nvPicPr>
        <p:blipFill>
          <a:blip r:embed="rId1"/>
          <a:stretch/>
        </p:blipFill>
        <p:spPr>
          <a:xfrm>
            <a:off x="1766880" y="971640"/>
            <a:ext cx="5675400" cy="38433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2317680" y="4941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рой шубке перо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в морозы он гер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чет, на лету резв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рел – а все же птиц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cc"/>
                </a:solidFill>
                <a:latin typeface="Times New Roman"/>
              </a:rPr>
              <a:t>ПОПОЛЗЕНЬ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Объект 1" descr=""/>
          <p:cNvPicPr/>
          <p:nvPr/>
        </p:nvPicPr>
        <p:blipFill>
          <a:blip r:embed="rId1"/>
          <a:stretch/>
        </p:blipFill>
        <p:spPr>
          <a:xfrm>
            <a:off x="900000" y="1508040"/>
            <a:ext cx="4751640" cy="37958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5148360" y="1484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убая спинк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женький бочок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тволу осинк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скачком скачок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олзень вертлявы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чет вверх и вниз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вол залез дырявы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ювом вниз пов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-28152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СИНИЦ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4186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няя косын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елтенькая спин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ленькая пти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ать её 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C:\Users\Ольга\Desktop\аттестация на высший разряд\Второе занятие\1734.jpg"/>
          <p:cNvPicPr/>
          <p:nvPr/>
        </p:nvPicPr>
        <p:blipFill>
          <a:blip r:embed="rId1"/>
          <a:stretch/>
        </p:blipFill>
        <p:spPr>
          <a:xfrm>
            <a:off x="1650960" y="836640"/>
            <a:ext cx="5616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60093"/>
                </a:solidFill>
                <a:latin typeface="Times New Roman"/>
              </a:rPr>
              <a:t>ВОРОН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0" name="Picture 3" descr="C:\Users\Ольга\Desktop\аттестация на высший разряд\Второе занятие\ворона.jpg"/>
          <p:cNvPicPr/>
          <p:nvPr/>
        </p:nvPicPr>
        <p:blipFill>
          <a:blip r:embed="rId1"/>
          <a:stretch/>
        </p:blipFill>
        <p:spPr>
          <a:xfrm>
            <a:off x="147600" y="1773360"/>
            <a:ext cx="5430960" cy="4079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5219640" y="20606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а птица всем знакома -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о ходит возле дома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-Кар-К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друг закричит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спокойно улетит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хитрая персона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зовут её …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оро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ОРОК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76360" y="1959120"/>
            <a:ext cx="4319640" cy="31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сороки – белобок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костюмы очень строги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ёрный верх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ый бок –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 любимый у сорок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напутай, мой дружок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ёрный верх у белобок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C:\Users\Ольга\Desktop\аттестация на высший разряд\Второе занятие\сорока.jpg"/>
          <p:cNvPicPr/>
          <p:nvPr/>
        </p:nvPicPr>
        <p:blipFill>
          <a:blip r:embed="rId1"/>
          <a:stretch/>
        </p:blipFill>
        <p:spPr>
          <a:xfrm>
            <a:off x="179280" y="2055960"/>
            <a:ext cx="5113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0:33:25Z</dcterms:created>
  <dc:creator>User</dc:creator>
  <dc:description/>
  <dc:language>en-US</dc:language>
  <cp:lastModifiedBy>Ольга</cp:lastModifiedBy>
  <dcterms:modified xsi:type="dcterms:W3CDTF">2017-12-23T17:40:51Z</dcterms:modified>
  <cp:revision>47</cp:revision>
  <dc:subject/>
  <dc:title>Слайд 1</dc:title>
</cp:coreProperties>
</file>