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B66-AF5D-4B03-BC0A-5E372EB8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051-727C-4533-8D5D-15AAB507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4CB-9207-4411-BFB3-29D1EFCC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5BF-6B65-493D-8A45-1CC74252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2200-83F4-489E-9A8E-BC77EEF4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DC92-52FF-4488-90EB-78AEDE7C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FD00-4417-4279-92A2-3DF5B0A4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3E60-8E85-4F84-9BE0-1A3D65F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F80D-C3F7-4B44-B87E-0E5DE714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6C06-0BA3-4AF3-9167-95DBFB5F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FE85-A3B2-40DC-B8F1-942ABE3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AE2-044A-4E12-8856-EC87331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5813-EC8B-4BF4-A797-A1CB0710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347F-EFF1-4DB3-BFF8-BDC49AFF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AEA9-F677-467D-A5D9-0F811333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2349-80C6-4790-8D5F-7B964154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71DD-EA07-4468-A9AD-874F161D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FFAC3-D455-45A0-89E7-BAE61DD6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85E3C-9598-4DC6-A21E-1FDCF49B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CB1A9-E59D-44B2-A2F9-0D3089C6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69E604-EBB1-4D94-9AA7-F805095A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19B37-C737-4616-89E7-F6A4F2E0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586-6FEF-4E11-A15E-C7645692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8214CB-0B00-4B2D-92A9-FBC881EC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05EE3-4BB5-414C-86BB-15A2722D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C6102-6940-4569-BC90-514F6EA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D43D9-3064-485A-8CC9-954CBE66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110F9-94D1-46DC-9505-E90FCBA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87260-D83A-4F7D-9A48-481AC350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2ABB0-5171-46EF-A39F-F57007C2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37CE4-D9D0-430C-A59A-C0D8936F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0EFBD-F970-48ED-941D-25D80B36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A6E89-97A0-4D89-8DE4-02EBBABC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19A-CB89-473A-B069-DE905383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0D7FA-8728-47C1-A01E-B8F30DF1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29E60-9FF5-43B6-9CC7-308F3F1A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401BA-BD6B-4018-99A7-95A99405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EA16C-8CA9-4240-B40A-2FBAC937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AF358-D81E-428D-81AF-C6B963C1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104E1-B2D9-4AF5-8D33-80BD667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D92AE-79EF-46B1-BFCD-BED4E6B4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AD795-3E8A-4BC3-A1E3-465E3F43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1BA6B-3918-4A6E-B245-68315B55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7EC-EB80-4B5B-B617-E5B55DB0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19F-5163-4F5C-8566-5D7133D6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5B0-F75C-4C5D-9817-DBA658D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811-72D0-450A-989E-FB8E0665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FC3-F145-46B9-89A9-C0BA51C1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0cba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13D5-DEFD-45AC-9BD4-CF59266E7C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0cba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3C7C-F823-46D6-AA22-60FEBAF18F4A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0cba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7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9A07-AA30-4789-86A8-545A06EED9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0cba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6F6D-2E95-4414-925B-76715429B7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86;&#1089;&#1086;&#1073;&#1085;&#1086;&#1089;&#1090;&#1100;" TargetMode="External"/><Relationship Id="rId2" Type="http://schemas.openxmlformats.org/officeDocument/2006/relationships/hyperlink" Target="http://ru.wikipedia.org/wiki/&#1044;&#1077;&#1103;&#1090;&#1077;&#1083;&#1100;&#1085;&#1086;&#1089;&#1090;&#1100;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idos.ru/olymp/index.htm" TargetMode="External"/><Relationship Id="rId2" Type="http://schemas.openxmlformats.org/officeDocument/2006/relationships/hyperlink" Target="http://eidos.ru/olymp/index.htm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Технологии работы </a:t>
            </a:r>
            <a:br>
              <a:rPr sz="3600"/>
            </a:b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с одаренными детьм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123720" y="376524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Мотивационно-личностные способност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44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ойчивость в поиске пути решения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ереносимость рутинной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нутренней мотивации к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критичность, высокая требовательность к с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ость и независимость в р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зрослый» круг интересующих вопр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ердость в отстаивании своего м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ность организовать и структурировать вещи, людей и сит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2d005_t"/>
          <p:cNvPicPr/>
          <p:nvPr/>
        </p:nvPicPr>
        <p:blipFill>
          <a:blip r:embed="rId1"/>
          <a:stretch/>
        </p:blipFill>
        <p:spPr>
          <a:xfrm>
            <a:off x="7572240" y="5857920"/>
            <a:ext cx="15717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Кризисы детской одареннос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075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рата творческого потенциала: ребенок прекращает создавать  особые, свойственные его одаренности творческие продукты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изис креатив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интеллектуальной продуктивности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изис интеллектуа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или полная потеря интереса к процессу и результатам своего труда -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изис мотива достиж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итча о слепо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ажды один человек проходил мимо слепого. У ног слепого лежала табличка, на которой было написа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Я слепой. Помогите мне, пожалуйста»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-видимому, дела слепого шли не очень хорошо - в его шляпе была всего одна мон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ловек взял табличку, что-то на ней написал, поставил табличку на место и пошел своим путем. Через несколько часов он возвращался обратно и, проходя мимо слепого, увидел, что его шляпа полна монет. Табличка с новой надписью стояла на том же месте. На ней было написано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5" descr="Притча о слепом"/>
          <p:cNvPicPr/>
          <p:nvPr/>
        </p:nvPicPr>
        <p:blipFill>
          <a:blip r:embed="rId1"/>
          <a:stretch/>
        </p:blipFill>
        <p:spPr>
          <a:xfrm>
            <a:off x="5334120" y="177804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ейчас весна, но я не могу её увидеть…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Сейчас весна, но я не могу её увидеть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«Эврика! Нашел!» -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533520" y="182880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скликнул когда-то древнегреческий ученый Архимед, сделав открытие. Ныне пробивает путь себе так называемая эвристическая педагогика, в отличие от традиционной направленная не на усвоение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оспроизводство готовых знан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ез развития творческих способностей учеников, а н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прерывное открытие ими нового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Эвристика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ое открытие нового (от греч. heurisko — отыскиваю, нахожу, открываю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наука о творчестве, цель которой получение качественно новых результатов (кибернетика, синергетика, психология и т.п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Эвристическое обучение (дидактическая эвристика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 образования основанная на эвристическом подходе к основным элементам дидакт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нцип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держ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ормам и методам образовательной деятельности уче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ым результа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Эвристическое обучение</a:t>
            </a: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бучение, ставящее целью конструирование учеником собственного смысла, целей и содержания образования, а также процесса его организации, диагностики и осозна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ринципы дидактической эвристи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нцип личностного целеполагания ученика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бода выбора учеником главных элементов своего образования: целей, смысла содержания и фор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нцип метапредметных основ содержания образования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у содержания образовательных областей и учебных дисциплин составляют фундаментальные образовательные объекты, обеспечивающие возможность их субъективного личностного познания ученик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ринципы дидактической эвристи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нцип соответствия образовательной деятельности изучаемому предмет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нцип первичности образовательной продукции учащегося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ваемое учеником личностное содержание образования опережает изучение образовательных стандартов и общепризнанных культурно-исторических достижений в изучаемой об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. А. Сухомлин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295280" y="93024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00000"/>
                </a:solidFill>
                <a:latin typeface="Arial"/>
              </a:rPr>
              <a:t>Одаренность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ринципы дидактической эвристи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нцип сопровождающего обучени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ые проявления творчества учащегося находят поддержку и сопровождение со стороны педаг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нцип продуктивности обучени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лавным ориентиром обучения является личное образовательное приращение ученика, складывающееся из его внутренних продуктов учебной деятельности (умения, способности, способы деятельности и т. п.) и внешних (версия, текст, рисунок и т. п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ринципы дидактической эвристи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нцип образовательной рефлексии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ый процесс включает непрерывное осознание учеником и учителем собственной деятельности: анализ и усвоение способов этой деятельности, получаемых результатов, конструирование на данной основе последующих действий и планов обуч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Организационные основы эвристического обучен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олог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нитив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атив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0000"/>
                </a:solidFill>
                <a:latin typeface="Arial"/>
              </a:rPr>
              <a:t>Методологическая деятельность обеспечивает развитие таких способностей ученика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еполага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нирова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рмотворчеств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опреде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флекс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оце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Индивидуальная траектория образования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ление индивидуального смысла и целей ученика в каждом учебном предмете, теме, уроке, составление индивидуальных образовательных программ по изучаемым предметам на четверть или г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 выбора индивидуального темпа обучения, форм и методов решения образовательных задач, способов контроля, рефлексии и самооценки своей деятельности на основе знания своих индивидуальных особеннос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й отбор изучаемых предметов, творческих лабораторий, и иных типов занятий в заданных школой рамках; превышение (опережение или углубление) осваиваемого содержания учебных курсов; индивидуальный выбор тематики и количества творческих работ по предмет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 на индивидуальную картину мира и индивидуальные обоснованные позиции по каждой образовательной области; право на личные трактовки и понимания фундаментальных понятий и категор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Когнитивной деятельностью считаю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сть, опирающуюся на познавательные (когнитивные) способности ученик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гнитивныме способности (от лат. cogito — мыслю): логические и эмоционально-образные способности, смысловое и разнонаучное видение, способности задавать вопросы, прогнозировать перспективу, формулировать гипотезы, делать выводы и д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Алгоритм по исследованию образовательного объекта (феномена)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означьте обнаруженный вами феномен понятием, рисунком или символ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ишите свои чувства и мысли, возникшие при наблюдении феномен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разите необычность феномена, ту его суть, которая отличает его от других похожих явлен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формулируйте возникший у вас вопрос или проблем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ьте план своего дальнейшего исследования феномен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ложите свою версию, гипотезу, объясняющую феноме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делайте выводы из своего исследования. Проведите рефлексию своей деятельности и выполните ее самооценку.</a:t>
            </a:r>
            <a:br>
              <a:rPr sz="22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20000"/>
                </a:solidFill>
                <a:latin typeface="Times New Roman"/>
              </a:rPr>
              <a:t>Примеры заданий, предполагающих познавательную продуктивность учеников: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ите версию происхождения алфавита, появления письмен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ясните причины применения десятеричной системы счисления при измерении расстояний, а двенадцатеричной — при измерении време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следуйте слово “город”, установите его происхождение, смысл, строение, признаки, функции, связ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ите опыт по установлению зависимости настроения человека от цвета его одежд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дите общие элементы в орнаментах (традициях, языках) раз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льту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сните, что общего в цвете и музыке, в числах и геометрически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ыщите общие принципы строения различных государст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улируйте закон отталкивания в природ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едите закономерности собственной ре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Креативная деятельность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ативные (от лат. creatio — созидание) виды деятельности характеризуют “творческость”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Эвристическая образовательная ситуац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бозначение главного образовательного объекта эвристической ситуации в виде явления, понятия, предмета. Создание образовательной сред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оздание образовательной напряжен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Личное решение эвристической ситуации каждым ученик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Демонстрация и обсуждение образовательных продуктов учеников: стихов, задач, определений, символов, поделок, идей и т.п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истематизация полученных типов продукции, их фиксация и представление в качестве коллективного образовательного продук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ведение учителем культурно-исторических аналог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ая рефлексия по осознанию происходяще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Одаренность -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как таковое впервые было сформулировано в серед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 английским психолог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ренсисом Гальто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развития каких-либо способностей человека, связанный с их развитием, но, тем не менее, от них независимый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чественно-своеобразное сочетание </a:t>
            </a:r>
            <a:r>
              <a:rPr b="0" lang="ru-RU" sz="24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способ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 которого зависит возможность достижения большего или меньшего успеха в выполнении той или другой </a:t>
            </a:r>
            <a:r>
              <a:rPr b="0" lang="ru-RU" sz="24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деятельност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(Б.М. Тепл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Эвристическая образовательная ситуация  (Этап1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152640" y="1828800"/>
            <a:ext cx="4647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означение главного образовательного объекта эвристической ситуации в виде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явления, понятия, предмета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ыявление личного опыта и проблематики учеников по отношению к обозначенному объекту. Расширение образовательной среды, необходимой для дальнейшей деятель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Times New Roman"/>
              </a:rPr>
              <a:t>МИР – что это для вас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Times New Roman"/>
              </a:rPr>
              <a:t>Как вы себе это представляете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Times New Roman"/>
              </a:rPr>
              <a:t>Предложите свои ассоциации, символ и сущность понят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Times New Roman"/>
              </a:rPr>
              <a:t>Нарисуйте ВАШ МИ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Times New Roman"/>
              </a:rPr>
              <a:t>Составьте СИНКВЕЙН к слову МИ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инквейн к слову «МИР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строка — тема сиквейна, заключает в себе одно слово (обычно существительное или местоимение), которое обозначает объект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ая строка — два слова (чаще всего прилагательные или причастия), они дают описание признаков и свойств выбранного в синквейне объ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етья строка — образована тремя глаголами или деепричастиями, описывающими характерные действия объ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твертая строка — фраза из четырёх слов, выражающая личное отношение автора синквейна к описываемому объек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ятая строка — одно слово-резюме, характеризующее суть объе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14640" y="1828800"/>
            <a:ext cx="2971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прекрасный счастли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думает делает говор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человек - собаке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подр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Эвристическая образовательная ситуация (Этап 2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образовательной напряженности. Формулировка проблемы, связанной с объектом, которая не имеет известного решения. Или фиксация двух и более решений одной проблемы. Постановка цели деятельности по отношению к познанию объекта. Формулировка учебного задания в такой форме, которая обеспечит возможность личного уникального решения ситуации каждым учеником.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43040" y="1828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 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Откуда возникло все? Что было в начале? Что такое начало?” — краткое обсуждение детьми эти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Возникает несколько разных точек зрения на поставленные вопросы. Вокруг фундаментального объекта “мир” и проблемы его происхождения создается </a:t>
            </a: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образовательная напряженность.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Эвристическая образовательная ситуация (Этап 3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чное решение эвристической ситуации каждым ученик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зможна парная и групповая деятельность учеников, а также другие эвристические формы и методы обучения. Сопровождающее отношение учителя к созданию учениками их образовательной продукции. Помощь в достраивании этой продукции до понятного и воспринимаемого другими учениками ви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Коллективное обсуждение прекращается и каждому ученику предлагается нарисовать происхождение мира так, как он себе это представля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(создание каждым учеником собственного образовательного продукт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Эвристическая образовательная ситуац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монстрация и обсуждение образовательных продуктов учеников: стихов, задач, определений, символов, поделок, идей и т.п. Дискуссии, споры, переформулирование обсуждаемых проблем, рождение новых. Сопоставление и,(или) переопределение начальных позиций, мнений, результатов учеников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Через 10 минут дети начинают по очереди комментировать свои версии-рисун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Другие ученики задают им вопросы на 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Происходит коллективное обсуждение проблемы и переосмысление первонвчальных плозиций.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Эвристическая образовательная ситуация (Этап 5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тизация полученных типов продукции, их фиксация и представление в качестве коллективного образовательного продукта. Выявление метапредметных уровней полученных продуктов. Анализ использованных способов решения проблемы. Переопределение образовательной напряженности на качественно ином уров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832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Учитель записывает на доске основные типы детских версий: “Взрыв”, “Движение в пустоте”, “Океан и тепло”, “Соединение пылинок”, “Сотворение Богом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Обобщение основных ученических позиций— </a:t>
            </a: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коллективный образовательный продукт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 на данном этапе. Проводится устная промежуточная рефлексия: Что мы сегодня делали? Что вы чувствовали? Что нового каждый из нас понял, узнал, придумал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Эвристическая образовательная ситуация (Этап 6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едение учителем культурно-исторических аналогов созданным учениками образовательным продуктам, в том числе и внесение в образовательное пространство представлений самого учителя. Сопоставление разных типов продукции, самоопределение участников образования по отношению к многообразию точек зрения и способов решений. При необходимости — развитие эвристической ситуации на новом уровн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47246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На следующем занятии учитель знакомит детей с культурно-историческими аналогами решения изучаемого вопроса, зачитывает отрывки о происхождении мира из книг: Ригведа, Библия, Древнегреческие мифы и др. Дети делают рисунки к наиболее ярким сюжетам, смотрят иллюстрации, сравнивают их, отыскивают сходство и отличие с версиями одноклассников. Образовательный результат по данной теме </a:t>
            </a: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не является единым для всех.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Эвристическая образовательная ситуац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ая рефлексия по осознанию происходящей деятельности. “Снятие” и усвоение использованных методов познания, способов решения возникших проблем. Обозначение и оценка достигнутых результатов. Осознание методологии эвристической деятельности каждого из учеников.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95680" y="1828800"/>
            <a:ext cx="41911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Каждый ученик пытается письменно изложить свои результаты в форме рефлексивного минисочи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Желающим продолжить занятия по данной теме предлагается взять творческую работу, в ней более подробно разработать свою гипотезу происхождения мира, изготовить модель  (схему, презентацию) и выставить ее на защиту в конце четвер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Особенности содержания учебного материал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ундаментальные образовательные объе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ый продукт уче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ультурно-исторические аналоги образовательному продукту уче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Особенности содержания учебного материал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ериал, который задается учителем в качестве образовательной сред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назначение — обеспечить детям условия для возникновения у них собственного содержания образования. Этот материал косвенно содержит в себе предполагаемую образовательную доминанту—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ундаментальный образовательный объект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.е. общий для всех учащихся объект познания, который обеспечивает каждому познающему личный результат позн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ундаментальные образовательные объек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ключевые сущности, отражающие целостность и единство мира и концентрирующие в себе реальность быт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Способности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7521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сти, которые  отличают одного человека от другого,  и имеют отношение к успешности выполнения какой-либо деятельности или многих деятель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00"/>
                </a:solidFill>
                <a:latin typeface="Times New Roman"/>
              </a:rPr>
              <a:t>Задатк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индивидуальные врожденные или наследственные качества, которые лежат в основе развития способност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Особенности содержания учебного материал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ый продукт ученика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о содержание образования, которое рождается у каждого учащегося в ходе образовательной деятельности в направлении заданного фундаментального образовательного объекта- Образовательный продукт в зависимости от выбранных способов познания различен для разных учащих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Особенности содержания учебного материал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ультурно-исторические аналоги образовательному продукту ученика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х вносит в образовательный процесс учитель после того, как личные результаты учеников оказываются оформлены настолько, чтобы быть сопоставленными с общепринятыми аналогичными достижениями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широком смысле слов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ультурно-исторические аналог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фундаментальные знания и опыт человечества во всем богатстве и многообраз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точки зрения традиционного образовани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ультурно-исторические аналог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образовательные стандарты, включающие в себя основное содержание и методы учебных дисциплин.</a:t>
            </a:r>
            <a:br>
              <a:rPr sz="2200"/>
            </a:br>
            <a:br>
              <a:rPr sz="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Формы эвристического обучен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тический диа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ристические урок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мпиады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груж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овые игры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чные и дистанционные проект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активные формы обуч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е защит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Автор – Сократ (сократический диалог, сократическая беседа). Беседа характеризовалась 2 специфическими чертами: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ая – метод собеседования, состоящий из наводящих вопросов, отвечая на которые собеседник сам постепенно убеждался в неверности собственных сужд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ая – шутливо искаженная позиция учителя, подчеркивающего его мнимое незнание обсуждаемого вопро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Условия эффективности эвристической беседы: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четкого и достаточно гибкого предварительно продуманного плана эвристической бесе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ановка серии логически взаимосвязанных эвристических вопро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формулировка вопросов, если учащиеся затрудняются на них ответ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этапное обсуждение и подведение итогов, т.е. использование поэтапного общ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оговое обобщение и заключение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457200" y="1371600"/>
          <a:ext cx="8229600" cy="5029200"/>
        </p:xfrm>
        <a:graphic>
          <a:graphicData uri="http://schemas.openxmlformats.org/drawingml/2006/table">
            <a:tbl>
              <a:tblPr/>
              <a:tblGrid>
                <a:gridCol w="5105520"/>
                <a:gridCol w="3124080"/>
              </a:tblGrid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эвристических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главная идея?      В чем су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, где, когда,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йте определение…      Сформулируйт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убление, расширение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шите…       Перескажите…   Объясните…Как использовать?      Какая разниц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ите примеры…       Обобщит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зируйте…      Классифицируй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ум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ешить другим способ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чем причин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ы ли вы с этим утверждени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ите контрарг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чем недостатки?         Ваш прогноз?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ошибки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их способностей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ого мыш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истематика эвристических вопросов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Эвристический урок включает задания на собственное творчество учащихс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ести свои буквы, цифры, животных, географический материк, государство, планету; придумать символ или знак для обозначения дня недели, месяца, года, ми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ь определение изучаемому понятию, объекту, явлению; сформулировать математический принцип; отыскать историческую закономерность; сконструировать теорию приро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инить </a:t>
            </a:r>
            <a:r>
              <a:rPr b="0" lang="ru-RU" sz="24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сказ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адачу, поговорку, пословицу, загадку, зазывалку, считалку, небылицу, рифму, стихотворение, песню, очерк, трактат, современные виды текста (интервью, реклама, деловые диалог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словарь, прописи, кроссворд, игру, викторину, родословную, примету, сценарий спектакля, программу концерта, свое задание для других учеников, сборник математических задач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Эвристический урок включает задания на собственное творчество учащихс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ть образ — рисуночный, двигательный, музыкальный, словесный; “оживить” буквы, слова, числа, фигуры, ноты; перевести образ с одного языка на другой: нарисовать музыку, определить цвета дней недели, нарисовать картину приро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готовить поделку, модель, макет, газету, журнал, маску, математическую фигуру, геометрический сад, вышивку, фотографию, видеофильм, берестяную грамот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ть цели своих занятий по всем предметам на день, четверть, год; разработать план домашней, классной или творческой работы; написать самооценку, рецензию, индивидуальную программу занятий по предме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Творческие задан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следование (эксперимент, серия опытов, исторический анализ, собственное решение научной проблемы, доказательство теор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чинение (стихи, сказки, задачи, очерки, трактат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ое произведение (проведенный в роли учителя урок, составленный кроссворд, обучающая компьютерная программа, придуманная игра, викторин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произведение (живопись, графика, музыка, песня, танец, вышивка, фотография, композиция, выстав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ое произведение (поделка, модель, макет, схема, фигура, компьютерная программ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релищное произведение (концерт, спектакль, сценка, показательное выступление, соревновани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ическое произведение (индивидуальная образовательная программа, план занятий по выбранной теме, тест или проверочное задание для учеников, рефлексивный дневник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Методы эвристического обучен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“вживания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смыслового видения 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символического видения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образного ви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придумывания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«Если бы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эвристических вопросов (Квинтилиан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гиперболизации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агглютинации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зговой штурм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(Л.Ф. Осборн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синект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(Дж. Гордон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морфологического ящ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инверсии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онятие о способностях и одаренност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900000" y="1628640"/>
            <a:ext cx="2952720" cy="64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ни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2268360" y="2276640"/>
            <a:ext cx="2953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419640" y="2924280"/>
            <a:ext cx="295272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ар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4716360" y="3573360"/>
            <a:ext cx="295272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979640" y="4437000"/>
            <a:ext cx="295272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5580000" y="5229360"/>
            <a:ext cx="1728720" cy="1368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324000" y="5300640"/>
            <a:ext cx="1728720" cy="1368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2987640" y="5300640"/>
            <a:ext cx="1728720" cy="1368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080520" y="236844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л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524880" y="558972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л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4"/>
          <p:cNvSpPr/>
          <p:nvPr/>
        </p:nvSpPr>
        <p:spPr>
          <a:xfrm>
            <a:off x="5292720" y="4365720"/>
            <a:ext cx="1214280" cy="876240"/>
          </a:xfrm>
          <a:custGeom>
            <a:avLst/>
            <a:gdLst>
              <a:gd name="textAreaLeft" fmla="*/ 212040 w 1214280"/>
              <a:gd name="textAreaRight" fmla="*/ 881280 w 1214280"/>
              <a:gd name="textAreaTop" fmla="*/ 117360 h 876240"/>
              <a:gd name="textAreaBottom" fmla="*/ 75888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53" hR="21600" stAng="10800000" swAng="-5400000"/>
                <a:lnTo>
                  <a:pt x="11901" y="21600"/>
                </a:lnTo>
                <a:arcTo wR="7553" hR="21600" stAng="5400000" swAng="-2681045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74" y="7200"/>
                </a:lnTo>
                <a:arcTo wR="7553" hR="21600" stAng="2718955" swAng="2321074"/>
                <a:lnTo>
                  <a:pt x="9727" y="20686"/>
                </a:lnTo>
                <a:arcTo wR="7553" hR="21600" stAng="5759971" swAng="5040029"/>
                <a:close/>
              </a:path>
              <a:path fill="darkenLess" w="21600" h="21600">
                <a:moveTo>
                  <a:pt x="0" y="0"/>
                </a:moveTo>
                <a:arcTo wR="7553" hR="21600" stAng="10800000" swAng="-5400000"/>
                <a:lnTo>
                  <a:pt x="11901" y="21600"/>
                </a:lnTo>
                <a:arcTo wR="7553" hR="21600" stAng="5400000" swAng="359971"/>
                <a:lnTo>
                  <a:pt x="9727" y="20686"/>
                </a:lnTo>
                <a:arcTo wR="7553" hR="21600" stAng="5759971" swAng="5040029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"/>
          <p:cNvSpPr/>
          <p:nvPr/>
        </p:nvSpPr>
        <p:spPr>
          <a:xfrm flipV="1">
            <a:off x="1908000" y="5084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6"/>
          <p:cNvSpPr/>
          <p:nvPr/>
        </p:nvSpPr>
        <p:spPr>
          <a:xfrm flipH="1" flipV="1">
            <a:off x="4859280" y="5084640"/>
            <a:ext cx="720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7"/>
          <p:cNvSpPr/>
          <p:nvPr/>
        </p:nvSpPr>
        <p:spPr>
          <a:xfrm flipV="1">
            <a:off x="378000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8"/>
          <p:cNvSpPr/>
          <p:nvPr/>
        </p:nvSpPr>
        <p:spPr>
          <a:xfrm>
            <a:off x="2050920" y="3933720"/>
            <a:ext cx="341280" cy="505080"/>
          </a:xfrm>
          <a:prstGeom prst="upArrow">
            <a:avLst>
              <a:gd name="adj1" fmla="val 50000"/>
              <a:gd name="adj2" fmla="val 3699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9"/>
          <p:cNvSpPr/>
          <p:nvPr/>
        </p:nvSpPr>
        <p:spPr>
          <a:xfrm>
            <a:off x="2556000" y="3933720"/>
            <a:ext cx="341280" cy="505080"/>
          </a:xfrm>
          <a:prstGeom prst="upArrow">
            <a:avLst>
              <a:gd name="adj1" fmla="val 50000"/>
              <a:gd name="adj2" fmla="val 3699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0"/>
          <p:cNvSpPr/>
          <p:nvPr/>
        </p:nvSpPr>
        <p:spPr>
          <a:xfrm>
            <a:off x="3059280" y="3933720"/>
            <a:ext cx="341280" cy="505080"/>
          </a:xfrm>
          <a:prstGeom prst="upArrow">
            <a:avLst>
              <a:gd name="adj1" fmla="val 50000"/>
              <a:gd name="adj2" fmla="val 3699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1"/>
          <p:cNvSpPr/>
          <p:nvPr/>
        </p:nvSpPr>
        <p:spPr>
          <a:xfrm>
            <a:off x="3564000" y="3933720"/>
            <a:ext cx="341280" cy="505080"/>
          </a:xfrm>
          <a:prstGeom prst="upArrow">
            <a:avLst>
              <a:gd name="adj1" fmla="val 50000"/>
              <a:gd name="adj2" fmla="val 3699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6678720" y="206064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1 из 10 000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4"/>
          <p:cNvSpPr/>
          <p:nvPr/>
        </p:nvSpPr>
        <p:spPr>
          <a:xfrm>
            <a:off x="6156360" y="1773360"/>
            <a:ext cx="142920" cy="914400"/>
          </a:xfrm>
          <a:custGeom>
            <a:avLst/>
            <a:gdLst>
              <a:gd name="textAreaLeft" fmla="*/ 0 w 142920"/>
              <a:gd name="textAreaRight" fmla="*/ 51480 w 142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5"/>
          <p:cNvSpPr/>
          <p:nvPr/>
        </p:nvSpPr>
        <p:spPr>
          <a:xfrm>
            <a:off x="6948360" y="25653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6"/>
          <p:cNvSpPr/>
          <p:nvPr/>
        </p:nvSpPr>
        <p:spPr>
          <a:xfrm>
            <a:off x="7164360" y="2800440"/>
            <a:ext cx="10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-3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7"/>
          <p:cNvSpPr/>
          <p:nvPr/>
        </p:nvSpPr>
        <p:spPr>
          <a:xfrm>
            <a:off x="7956720" y="33577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8"/>
          <p:cNvSpPr/>
          <p:nvPr/>
        </p:nvSpPr>
        <p:spPr>
          <a:xfrm>
            <a:off x="8101080" y="359244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-2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Центр дистанционного образования «Эйдос»</a:t>
            </a:r>
            <a:br>
              <a:rPr sz="2800"/>
            </a:br>
            <a:r>
              <a:rPr b="1" lang="ru-RU" sz="28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eidos.ru/olymp/index.ht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ВРИСТИЧЕСКИЕ ОЛИМПИАД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равствуйте! Вы находитесь на сайте самых необычных и популярных олимпиад в сети Интернет. Более 180 тысяч школьников и студентов из сотен городов России и других стран уже приняли участие в этих олимпиадах! Многие учащиеся ждут эвристических олимпиад с нетерпением, как глоток творчества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ижайшие олимпиады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6 января - Компьютер и программирование 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8 января - АНГЛИЙСКИЙ ЯЗЫК 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февраля - Алгебра 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февраля - Физика (исследования)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февраля - Русский язык (морфология) 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 февраля - Телекоммуникации &gt;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исание всех олимпиад 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Центр дистанционного образования «Эйдос»</a:t>
            </a:r>
            <a:br>
              <a:rPr sz="2800"/>
            </a:b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eidos.ru/olymp/index.h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Слоган эвристических олимпиад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бойся необычных идей и «сумасшедших» ответов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удь смелее и раскованнее в своих мыслях и фантазиях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мни, ты талантлив и способен на гениальные открытия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Цель дистанционных эвристических олимпиад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явление и развитие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ворческих способ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участников. В эвристических олимпиадах могут участвовать школьники с любым уровнем подготовки. От них требуется создание собственного результата — образовательного продукт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ия в эвристических олимпиадах открытые, без заранее известных ответов. Для выполнения заданий требуется проявить индивидуальность, уникальность, самобытность. Жюри оценивает оригинальность, аргументированность, мировоззренческую глубину предлагаемых гипотез, проектов, моделей, сочинен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Типы Всероссийских дистанционных эвристических олимпиад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метные эвристические 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предлагаются задания по фундаментальным темам традиционных учебных предме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етапредметные эвристические 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олимпиады, ориентированные на изучение глубинных основ мирозд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мпиады, включающие в себя задания определённого типа: исследования, задачи, сочинения, стихи, путешествия, игры и т. 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Object 4" descr=""/>
          <p:cNvPicPr/>
          <p:nvPr/>
        </p:nvPicPr>
        <p:blipFill>
          <a:blip r:embed="rId1"/>
          <a:stretch/>
        </p:blipFill>
        <p:spPr>
          <a:xfrm>
            <a:off x="6400800" y="6858000"/>
            <a:ext cx="3648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Задания распределяются по отдельным номинациям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Идея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браз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ово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акономерность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имвол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Эксперимент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Конструкци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римеры олимпиадных заданий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матика: Задание «ЗАКОНОМЕРНОСТЬ»: «Составьте периодическую таблицу геометрических элементов. Сформулируйте и запишите положенные вами в основу таблицы признаки периодичност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й язык: Задание «БУКВЫ»: «Много лет назад из русского языка исчезли буквы „кси“, „пси“, „фита“, „ять“. Как вы думаете, почему это произошло? Какие буквы, по-вашему, могут исчезнуть в ближайшие 500 лет, обоснуйте свой отве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тература: Задание «ВКУС КНИГИ»: Составьте каталог книг на разные вкусы: «кислые» книги, «солёные», «сладкие» и т. п. В каждом разделе приведите по 1-2 названия книг и их авторов. Обоснуйте, почему именно эти книги вы отнесли к данному раздел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304920" y="419760"/>
            <a:ext cx="86104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Жил старик, известный своей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мудростью, к которому за советом шли люди. Однажды пришел к нему один человек и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стал жаловаться на все зло, которое принес в его жизнь так называемый технический прогресс.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Разве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имеет цену весь этот технический хлам, - спросил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он,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- когда люди задумываются о смысле и ценности жизни?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Все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в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мире может способствовать нашему знанию: не только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то, что создал Бог, но и то, что сделал человек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Но чему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мы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можем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научиться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у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железной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дороги?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-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спросил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в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сомнении пришедший.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</a:t>
            </a:r>
            <a:r>
              <a:rPr b="1" i="1" lang="ru-RU" sz="2200" spc="-1" strike="noStrike">
                <a:solidFill>
                  <a:srgbClr val="4d0000"/>
                </a:solidFill>
                <a:latin typeface="Arial"/>
                <a:ea typeface="Times New Roman"/>
              </a:rPr>
              <a:t>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А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у телеграфа?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</a:t>
            </a:r>
            <a:r>
              <a:rPr b="1" i="1" lang="ru-RU" sz="2200" spc="-1" strike="noStrike" u="sng">
                <a:solidFill>
                  <a:srgbClr val="4d0000"/>
                </a:solidFill>
                <a:uFillTx/>
                <a:latin typeface="Arial"/>
                <a:ea typeface="Times New Roman"/>
              </a:rPr>
              <a:t> __________________________________________________</a:t>
            </a:r>
            <a:r>
              <a:rPr b="1" i="1" lang="ru-RU" sz="2200" spc="-1" strike="noStrike" u="sng">
                <a:solidFill>
                  <a:srgbClr val="4d0000"/>
                </a:solidFill>
                <a:uFillTx/>
                <a:latin typeface="Verdana"/>
                <a:ea typeface="Times New Roman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А у телефона?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</a:t>
            </a:r>
            <a:r>
              <a:rPr b="1" i="1" lang="ru-RU" sz="2200" spc="-1" strike="noStrike" u="sng">
                <a:solidFill>
                  <a:srgbClr val="4d0000"/>
                </a:solidFill>
                <a:uFillTx/>
                <a:latin typeface="Arial"/>
                <a:ea typeface="Times New Roman"/>
              </a:rPr>
              <a:t>__________________________________________________</a:t>
            </a:r>
            <a:r>
              <a:rPr b="1" i="1" lang="ru-RU" sz="2200" spc="-1" strike="noStrike" u="sng">
                <a:solidFill>
                  <a:srgbClr val="4d0000"/>
                </a:solidFill>
                <a:uFillTx/>
                <a:latin typeface="Verdana"/>
                <a:ea typeface="Times New Roman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Понял пришедший слова старика, поблагодарил его и пошел своей дорог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304920" y="275760"/>
            <a:ext cx="861048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Жил старик, известный своей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мудростью, к которому за советом шли люди. Однажды пришел к нему один человек и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стал жаловаться на все зло, которое принес в его жизнь так называемый технический прогресс.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Разве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имеет цену весь этот технический хлам, - спросил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он,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- когда люди задумываются о смысле и ценности жизни?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Все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в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мире может способствовать нашему знанию: не только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то, что создал Бог, но и то, что сделал человек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Но чему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мы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можем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научиться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у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железной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дороги?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-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спросил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в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сомнении пришедший.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Verdana"/>
                <a:ea typeface="Times New Roman"/>
              </a:rPr>
              <a:t>Тому, что из-за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Verdana"/>
                <a:ea typeface="Times New Roman"/>
              </a:rPr>
              <a:t> одного мгновения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Verdana"/>
                <a:ea typeface="Times New Roman"/>
              </a:rPr>
              <a:t> можно упустить все.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А</a:t>
            </a:r>
            <a:r>
              <a:rPr b="1" i="1" lang="ru-RU" sz="2200" spc="-1" strike="noStrike">
                <a:solidFill>
                  <a:srgbClr val="4d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у телеграфа?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</a:t>
            </a:r>
            <a:r>
              <a:rPr b="1" i="1" lang="ru-RU" sz="2200" spc="-1" strike="noStrike">
                <a:solidFill>
                  <a:srgbClr val="4d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Verdana"/>
                <a:ea typeface="Times New Roman"/>
              </a:rPr>
              <a:t>Тому, что за каждое слово надо отвечать.</a:t>
            </a:r>
            <a:r>
              <a:rPr b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А у телефона?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- 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Verdana"/>
                <a:ea typeface="Times New Roman"/>
              </a:rPr>
              <a:t>Тому, что там слышно все, что мы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Verdana"/>
                <a:ea typeface="Times New Roman"/>
              </a:rPr>
              <a:t> говорим здесь .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200" spc="-1" strike="noStrike" u="sng">
                <a:solidFill>
                  <a:srgbClr val="d00000"/>
                </a:solidFill>
                <a:uFillTx/>
                <a:latin typeface="Verdana"/>
                <a:ea typeface="Times New Roman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4d0000"/>
                </a:solidFill>
                <a:latin typeface="Verdana"/>
                <a:ea typeface="Times New Roman"/>
              </a:rPr>
              <a:t>Понял пришедший слова старика, поблагодарил его и пошел своей дорог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Выделяют различные виды одаренности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(по видам деятельности):</a:t>
            </a:r>
            <a:r>
              <a:rPr b="1" lang="ru-RU" sz="6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ллектуальн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у ребенка повышенная любознательность, исключительная сообразительность, полное погружение в умственную деятельность и т.д.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рческ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легкость генерирования идей, способность предлагать качественно разные, неповторяющиеся решения, оригинальность мышления и т.д.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адемическ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оявляющуюся в успешном обучении отдельным учебным предметам, в выраженной избирательности интересов ребе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изобразительную, музыкальную, литературную, актерскую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циальную или лидерск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язанную с легкостью установления контактов и высоким качеством межличностных отношени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сихомоторную (т.е. спортивную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характеризующуюся способностями человека иметь объективную информацию о своих движениях, точно контролировать свои движения и управлять и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Структура одаренности. Модель Дж. Рензулл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интеллектуальный компонент (уровень развития процессов внимания, памяти, мышле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– креативность, или творческость (уровень развития творческого воображения, его оригинальность и продуктивность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– мотивационный компонент (познавательная и исследовательская активност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5" descr="2023"/>
          <p:cNvPicPr/>
          <p:nvPr/>
        </p:nvPicPr>
        <p:blipFill>
          <a:blip r:embed="rId1"/>
          <a:stretch/>
        </p:blipFill>
        <p:spPr>
          <a:xfrm>
            <a:off x="755640" y="4114800"/>
            <a:ext cx="3097080" cy="2362320"/>
          </a:xfrm>
          <a:prstGeom prst="rect">
            <a:avLst/>
          </a:prstGeom>
          <a:ln w="0">
            <a:noFill/>
          </a:ln>
        </p:spPr>
      </p:pic>
      <p:sp>
        <p:nvSpPr>
          <p:cNvPr id="228" name="Line 13"/>
          <p:cNvSpPr/>
          <p:nvPr/>
        </p:nvSpPr>
        <p:spPr>
          <a:xfrm>
            <a:off x="205092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3809880" y="4114800"/>
            <a:ext cx="5154840" cy="2438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сечение всех трех компонен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аточно высоком уровн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тия  дает нам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о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воеобразие  ярко выраже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пособност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оторым и отличае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даренный ребен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Интеллектуальные способнос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ширный словарный зап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й запас информации в различных област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е понимание, запоминание и воспроизвед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убокое понимание причинно-следственны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е обобщение, поиск сходства и различий, анализ составных ча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ность в рассужде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а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4" descr="2d005_t"/>
          <p:cNvPicPr/>
          <p:nvPr/>
        </p:nvPicPr>
        <p:blipFill>
          <a:blip r:embed="rId1"/>
          <a:stretch/>
        </p:blipFill>
        <p:spPr>
          <a:xfrm>
            <a:off x="7451640" y="5857920"/>
            <a:ext cx="15717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Творческие способност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зна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е количество идей; нестандартность предлагаемых реш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а и независимость в выражении своего мн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лонность к риску, предприимчивость и реши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ое вообра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вство юм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ая чувствительность, импульсив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вство прекрасного – эстетическая восприимчив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труктивная критика, критичность мыш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02:56Z</dcterms:created>
  <dc:creator>Алена</dc:creator>
  <dc:description/>
  <dc:language>en-US</dc:language>
  <cp:lastModifiedBy>Admin</cp:lastModifiedBy>
  <dcterms:modified xsi:type="dcterms:W3CDTF">2013-02-16T20:38:51Z</dcterms:modified>
  <cp:revision>1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