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9E6BF-5F37-4DD5-A3E9-A3DF51BA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B93E4-4DE3-4AF5-B2AF-02F3EFE6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82AFD-926B-446D-94D4-0362AD48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A8479-B650-4585-A3B5-ADE8407F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CB5F-2305-4939-955C-7FCA4D86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5B08-87E2-4221-B101-D1F2E665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7E6C-44E8-4513-9B8D-753593AF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3EF2-F34D-451F-8D30-AA6DE5AF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283F-905B-479F-BA56-29E4CB30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7D52-580A-46C9-BDD3-AADEA220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2972-0780-44CE-803B-ADC6FD61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D35D4-D47A-4BB1-99DD-66657264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C1B7-A04A-4872-8DB2-873258B6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1A29-1A0A-4CA0-B312-C5C7CFF6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D425-D319-4EBC-BA03-2F4E53F2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426F-0E30-400E-AF48-1390D296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DF08-61E5-4825-8F61-1AEA8F50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E98FF-2216-40B8-8A93-219D7184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3A8F8-8DD6-434C-8DCC-28FECF97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5F350-F95E-4778-8F9F-42D67E99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C380-9E8D-4A78-ABF8-E4ADC1A3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43440-FD05-4662-AF74-60C3CC21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A0EA3-8BEC-4B6C-9F9D-0972A75F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32A06-C61C-4889-ADB3-DE0A306F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3D1A-0AC7-4F20-9F0B-7FBFB8A7CC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3725-C605-4F55-85D3-3A8A3104FE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Информационно –коммуникативные технологии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ование ИКТ в начальных класс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Варламова Е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Лицей №3 им. А.С. Пушк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ложительные стороны использования И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образие методов и приё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тизация и конт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эрудиции пользо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ение интенсивности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иление индивидуализации учебного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ситуации успеха в достижении учебных ц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иентир на саморазвитие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ияние на мотивац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нятие информационной (компьютерной) техн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ьютерные технологии – это процессы подготовки и передачи информации обучаемому, средством осуществления которых является компью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ификационные параметры технологии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Г.К. Селевк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уровню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основному фактору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концепции усво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ориентации на личностные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характеру содерж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типу управления позна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организационным форм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подходу к учен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преобладающему мет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направлению модер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категории обучаем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цептуальные по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учение – это общ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цип адап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алоговый характер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вляе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четание видов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сихологический комф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ограничен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и метафоры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«компьютерного обуч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ство обучения: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олё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гулировщик движения по учебному матери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j0195384"/>
          <p:cNvPicPr/>
          <p:nvPr/>
        </p:nvPicPr>
        <p:blipFill>
          <a:blip r:embed="rId1"/>
          <a:stretch/>
        </p:blipFill>
        <p:spPr>
          <a:xfrm>
            <a:off x="1577880" y="1996920"/>
            <a:ext cx="1795680" cy="1833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j0292982"/>
          <p:cNvPicPr/>
          <p:nvPr/>
        </p:nvPicPr>
        <p:blipFill>
          <a:blip r:embed="rId2"/>
          <a:stretch/>
        </p:blipFill>
        <p:spPr>
          <a:xfrm>
            <a:off x="5745240" y="2004840"/>
            <a:ext cx="184284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формационно – коммуникативная компетентность уч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40273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дактические         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«Портфоли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а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ые проекты с уча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9"/>
          <p:cNvGraphicFramePr/>
          <p:nvPr/>
        </p:nvGraphicFramePr>
        <p:xfrm>
          <a:off x="5697360" y="1981080"/>
          <a:ext cx="19400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7360" y="1981080"/>
                    <a:ext cx="1940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0"/>
          <p:cNvGraphicFramePr/>
          <p:nvPr/>
        </p:nvGraphicFramePr>
        <p:xfrm>
          <a:off x="3995640" y="2492280"/>
          <a:ext cx="3524400" cy="33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2492280"/>
                    <a:ext cx="352440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12"/>
          <p:cNvGraphicFramePr/>
          <p:nvPr/>
        </p:nvGraphicFramePr>
        <p:xfrm>
          <a:off x="4788000" y="2637000"/>
          <a:ext cx="4038480" cy="26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2637000"/>
                    <a:ext cx="403848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454560" y="1916280"/>
          <a:ext cx="5689440" cy="440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54560" y="1916280"/>
                    <a:ext cx="568944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отовность педагогов 1 ступен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к использованию И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Rectangle 15"/>
          <p:cNvGraphicFramePr/>
          <p:nvPr/>
        </p:nvGraphicFramePr>
        <p:xfrm>
          <a:off x="1332000" y="1817640"/>
          <a:ext cx="653724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817640"/>
                    <a:ext cx="65372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4643280" y="198900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а функцион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471680" y="2620800"/>
            <a:ext cx="6201000" cy="2336400"/>
            <a:chOff x="1471680" y="2620800"/>
            <a:chExt cx="6201000" cy="2336400"/>
          </a:xfrm>
        </p:grpSpPr>
        <p:cxnSp>
          <p:nvCxnSpPr>
            <p:cNvPr id="137" name="_s31774"/>
            <p:cNvCxnSpPr>
              <a:stCxn id="138" idx="3"/>
              <a:endCxn id="139" idx="2"/>
            </p:cNvCxnSpPr>
            <p:nvPr/>
          </p:nvCxnSpPr>
          <p:spPr>
            <a:xfrm flipV="1">
              <a:off x="4343400" y="3077640"/>
              <a:ext cx="229320" cy="58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31758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5059440" y="2589840"/>
              <a:ext cx="1168560" cy="2143800"/>
            </a:xfrm>
            <a:prstGeom prst="bentConnector3">
              <a:avLst>
                <a:gd name="adj1" fmla="val 97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31757"/>
            <p:cNvCxnSpPr>
              <a:stCxn id="143" idx="0"/>
              <a:endCxn id="139" idx="2"/>
            </p:cNvCxnSpPr>
            <p:nvPr/>
          </p:nvCxnSpPr>
          <p:spPr>
            <a:xfrm flipV="1">
              <a:off x="4572360" y="3077640"/>
              <a:ext cx="2160" cy="116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31756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916360" y="2589840"/>
              <a:ext cx="1168560" cy="2144160"/>
            </a:xfrm>
            <a:prstGeom prst="bentConnector3">
              <a:avLst>
                <a:gd name="adj1" fmla="val 97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31752"/>
            <p:cNvSpPr/>
            <p:nvPr/>
          </p:nvSpPr>
          <p:spPr>
            <a:xfrm>
              <a:off x="3724560" y="2620800"/>
              <a:ext cx="1695240" cy="456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31753"/>
            <p:cNvSpPr/>
            <p:nvPr/>
          </p:nvSpPr>
          <p:spPr>
            <a:xfrm>
              <a:off x="1471680" y="4246200"/>
              <a:ext cx="1914840" cy="711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азвит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рес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31754"/>
            <p:cNvSpPr/>
            <p:nvPr/>
          </p:nvSpPr>
          <p:spPr>
            <a:xfrm>
              <a:off x="3615120" y="4246200"/>
              <a:ext cx="1914480" cy="711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орет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ве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31755"/>
            <p:cNvSpPr/>
            <p:nvPr/>
          </p:nvSpPr>
          <p:spPr>
            <a:xfrm>
              <a:off x="5758200" y="4246200"/>
              <a:ext cx="1914480" cy="711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акт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31773"/>
            <p:cNvSpPr/>
            <p:nvPr/>
          </p:nvSpPr>
          <p:spPr>
            <a:xfrm>
              <a:off x="2428920" y="3306600"/>
              <a:ext cx="1914840" cy="71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г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21:40:38Z</dcterms:created>
  <dc:creator>USER</dc:creator>
  <dc:description/>
  <dc:language>en-US</dc:language>
  <cp:lastModifiedBy>USER</cp:lastModifiedBy>
  <dcterms:modified xsi:type="dcterms:W3CDTF">2012-04-18T20:51:46Z</dcterms:modified>
  <cp:revision>8</cp:revision>
  <dc:subject/>
  <dc:title>Информационно –коммуникативные технологии.</dc:title>
</cp:coreProperties>
</file>