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244-66C6-47B1-AD1F-C51BDBBA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D06-4653-41B3-A0AB-4340D224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F11-A4E3-4024-816A-EA0CC82A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83C-6763-4757-87DC-6CFE6F1C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0A2A-C517-4257-862F-57AF6463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303F-F21D-47B2-89C5-D1F5606A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0C2F-325A-4181-92D0-9AD03ACE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B841-A666-406B-A6F0-D58DCA91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3E31-3E62-4149-BC64-AA914197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2F70-ED3A-49A7-96C7-224CFEBB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11C5-372F-4B7B-A71D-7BD587F4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DEE-14FB-4BA1-B85D-82E0388D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89A9-7BAE-4F02-93EA-11586526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CA70-0A34-41D6-BEE7-E21CE881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23EA-4830-4BDF-8AC9-42767A2A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75DC-5E54-4165-8CA0-6ED56AD4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DE81-0076-47AB-9573-6ACCF0C2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3A8-BB00-4FA7-A6C6-70055FBC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DF5-C4E7-47D1-AD2D-2D8A83CC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73A-E658-4FBE-BF7E-A951A33D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C69-C7D3-4128-9F22-1368A75F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31A-F956-4996-B5D4-63185C91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AC0-454C-4AB1-B5EC-B27155A2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E14-708E-496B-AFB8-B6AD5034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4CEE-5DA5-410C-B9BE-F054636AD4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C342-BF60-41FA-880D-8C6DD2063E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Оказание первой медицинской помощи пострадавшим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908000" y="3068280"/>
            <a:ext cx="6336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ктическ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медицинских повязок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подаватель ОБЖ высшей категории Образцова Елена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ронежский промышленно-гуманитарный коллед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овязка на кисть рук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на кисть"/>
          <p:cNvPicPr/>
          <p:nvPr/>
        </p:nvPicPr>
        <p:blipFill>
          <a:blip r:embed="rId1"/>
          <a:stretch/>
        </p:blipFill>
        <p:spPr>
          <a:xfrm>
            <a:off x="1403280" y="2325600"/>
            <a:ext cx="66978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1928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овязка на руку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на руку"/>
          <p:cNvPicPr/>
          <p:nvPr/>
        </p:nvPicPr>
        <p:blipFill>
          <a:blip r:embed="rId1"/>
          <a:stretch/>
        </p:blipFill>
        <p:spPr>
          <a:xfrm>
            <a:off x="3300480" y="2421000"/>
            <a:ext cx="28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овязка на ногу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на ногу"/>
          <p:cNvPicPr/>
          <p:nvPr/>
        </p:nvPicPr>
        <p:blipFill>
          <a:blip r:embed="rId1"/>
          <a:stretch/>
        </p:blipFill>
        <p:spPr>
          <a:xfrm>
            <a:off x="3203640" y="2693880"/>
            <a:ext cx="266364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овязка на палец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32000" y="3917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на палец"/>
          <p:cNvPicPr/>
          <p:nvPr/>
        </p:nvPicPr>
        <p:blipFill>
          <a:blip r:embed="rId1"/>
          <a:stretch/>
        </p:blipFill>
        <p:spPr>
          <a:xfrm>
            <a:off x="3419640" y="2708280"/>
            <a:ext cx="2881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авила, которые необходимо соблюдать при наложении повязок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болезненно обнажить рану, не занося дополнительной гряз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 касаться  поверхности  раны  (ожоговой  поверхности)  руками, чтобы не занести дополнительно микроб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ходящиеся  в  ране  куски  дерева,  одежды,  земли  и  т.п.  можно вынимать, если они находятся на поверхности ран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язку следует накладывать чисто вымытыми руками, по возможности протереть их одеколоном, спирт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вязочный материал должен быть стерильный. В случае  отсут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рильного материала можно использовать чисто выстиранные куски ткани, предварительно проглаженные горячим утюг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  наложением  повязки  кожу  вокруг  раны  протереть  бензином, одеколоном, спиртом, затем обработать йод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озможности обработать рану раствором фурациллина  1:5000, 3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ом перекиси водород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рыть рану стерильной повязкой, салфетк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репить повязку бинтом или косын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МНИТ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ё , что соприкасается с ран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о быть СТЕРИЛЬН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рабо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виды медицинских повяз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работать навыки наложения медицинских повяз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навыки оказания помощи при наложении медицинской повязки, недопускающие инфицирование р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овязка на голову в виде «чепц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ввиде чепца"/>
          <p:cNvPicPr/>
          <p:nvPr/>
        </p:nvPicPr>
        <p:blipFill>
          <a:blip r:embed="rId1"/>
          <a:stretch/>
        </p:blipFill>
        <p:spPr>
          <a:xfrm>
            <a:off x="1835280" y="2924280"/>
            <a:ext cx="547344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ращевидная повяз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пращевидная повязка"/>
          <p:cNvPicPr/>
          <p:nvPr/>
        </p:nvPicPr>
        <p:blipFill>
          <a:blip r:embed="rId1"/>
          <a:stretch/>
        </p:blipFill>
        <p:spPr>
          <a:xfrm>
            <a:off x="2916360" y="2781360"/>
            <a:ext cx="33112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овязка на глаз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116000" y="394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на глаз"/>
          <p:cNvPicPr/>
          <p:nvPr/>
        </p:nvPicPr>
        <p:blipFill>
          <a:blip r:embed="rId1"/>
          <a:stretch/>
        </p:blipFill>
        <p:spPr>
          <a:xfrm>
            <a:off x="3132000" y="2854440"/>
            <a:ext cx="25131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932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овязка на колено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img2"/>
          <p:cNvPicPr/>
          <p:nvPr/>
        </p:nvPicPr>
        <p:blipFill>
          <a:blip r:embed="rId1"/>
          <a:stretch/>
        </p:blipFill>
        <p:spPr>
          <a:xfrm>
            <a:off x="3276720" y="2816280"/>
            <a:ext cx="2158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548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овязка на локот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img4"/>
          <p:cNvPicPr/>
          <p:nvPr/>
        </p:nvPicPr>
        <p:blipFill>
          <a:blip r:embed="rId1"/>
          <a:stretch/>
        </p:blipFill>
        <p:spPr>
          <a:xfrm>
            <a:off x="2843280" y="2581200"/>
            <a:ext cx="3384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овязка на ключицу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Untitled-1 copy"/>
          <p:cNvPicPr/>
          <p:nvPr/>
        </p:nvPicPr>
        <p:blipFill>
          <a:blip r:embed="rId1"/>
          <a:stretch/>
        </p:blipFill>
        <p:spPr>
          <a:xfrm>
            <a:off x="2843280" y="2852640"/>
            <a:ext cx="3168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овязка на грудную клетку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320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на грудную клетку, восьмиобразная"/>
          <p:cNvPicPr/>
          <p:nvPr/>
        </p:nvPicPr>
        <p:blipFill>
          <a:blip r:embed="rId1"/>
          <a:stretch/>
        </p:blipFill>
        <p:spPr>
          <a:xfrm>
            <a:off x="5148360" y="2924280"/>
            <a:ext cx="2376360" cy="2936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на грудь"/>
          <p:cNvPicPr/>
          <p:nvPr/>
        </p:nvPicPr>
        <p:blipFill>
          <a:blip r:embed="rId2"/>
          <a:stretch/>
        </p:blipFill>
        <p:spPr>
          <a:xfrm>
            <a:off x="1763640" y="2924280"/>
            <a:ext cx="24415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7T13:22:47Z</dcterms:created>
  <dc:creator>Образцова</dc:creator>
  <dc:description/>
  <dc:language>en-US</dc:language>
  <cp:lastModifiedBy>Пользователь</cp:lastModifiedBy>
  <dcterms:modified xsi:type="dcterms:W3CDTF">2017-12-23T21:14:37Z</dcterms:modified>
  <cp:revision>7</cp:revision>
  <dc:subject/>
  <dc:title>Оказание первой медицинской помощи пострадавшим</dc:title>
</cp:coreProperties>
</file>