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5B2C-D864-4AB2-B680-9305CC2C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1F29-68CC-49DA-B355-F0F7D5BB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8EFB-A8F9-4339-B434-87365317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EB03-CB67-4775-A876-FEE35914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F1BF-E450-47D3-B162-2AFA85E3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1B24-EFC5-45AB-9185-790A9E1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3F34-4A4A-4D64-89E7-8F46817A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74B5-C7F2-4B46-8CD4-C90DE0DD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F6C8-FA23-4F61-B375-18E03EBD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35AA-9B03-4D08-A081-53811344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5BA9-A7F7-4483-880D-02595876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5754F-1065-4235-8EC3-034AE95C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C395-813E-49FA-903C-BD3A93F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FA0A-55E0-4B23-A182-637422D9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23FA-5974-47C7-BBBC-E5A34A7B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B8A5-2F85-4989-8CE9-9ADB60EB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93A3-EF08-4502-9663-62BBDDEE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48F3-72CB-4A9D-B478-59FBD643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D530-2023-4073-ADED-035F9DF4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37D7-D05C-499B-B592-81D80861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85AD-8E06-46D5-83B4-46553428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FF39-E06A-4602-99A1-ADB80C47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F38CF-9A8C-4C30-A6CE-E8B3C15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4F7C-D06B-4710-A196-C3940068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5BE5-16BC-4682-B648-643297B716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275F-6B3A-44CA-B05A-1E72D00319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Безымянный"/>
          <p:cNvPicPr/>
          <p:nvPr/>
        </p:nvPicPr>
        <p:blipFill>
          <a:blip r:embed="rId1"/>
          <a:stretch/>
        </p:blipFill>
        <p:spPr>
          <a:xfrm>
            <a:off x="539640" y="2276640"/>
            <a:ext cx="7620120" cy="41241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7"/>
          <p:cNvSpPr txBox="1"/>
          <p:nvPr/>
        </p:nvSpPr>
        <p:spPr>
          <a:xfrm>
            <a:off x="755640" y="476280"/>
            <a:ext cx="777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Права ребён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35"/>
          <p:cNvPicPr/>
          <p:nvPr/>
        </p:nvPicPr>
        <p:blipFill>
          <a:blip r:embed="rId1"/>
          <a:stretch/>
        </p:blipFill>
        <p:spPr>
          <a:xfrm>
            <a:off x="684360" y="333360"/>
            <a:ext cx="7704000" cy="56498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5651640" y="6165720"/>
            <a:ext cx="309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Статья 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</p:spTree>
  </p:cSld>
  <p:transition spd="med">
    <p:strips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Quant Antiqua"/>
              </a:rPr>
              <a:t>1. Лягушка из сказки В. Гаршина «Лягушка-путешественница», отправившись в путешествие, воспользовалась своим </a:t>
            </a:r>
            <a:r>
              <a:rPr b="1" lang="ru-RU" sz="2200" spc="-1" strike="noStrike">
                <a:solidFill>
                  <a:srgbClr val="ff3300"/>
                </a:solidFill>
                <a:latin typeface="Quant Antiqua"/>
              </a:rPr>
              <a:t>правом 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Quant Antiqu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Quant Antiqua"/>
              </a:rPr>
              <a:t>2. Буратино, схватив крысу Шушеру за хвост, нарушил ее </a:t>
            </a:r>
            <a:r>
              <a:rPr b="1" lang="ru-RU" sz="2200" spc="-1" strike="noStrike">
                <a:solidFill>
                  <a:srgbClr val="ff3300"/>
                </a:solidFill>
                <a:latin typeface="Quant Antiqua"/>
              </a:rPr>
              <a:t>право на</a:t>
            </a:r>
            <a:r>
              <a:rPr b="1" lang="ru-RU" sz="2200" spc="-1" strike="noStrike">
                <a:solidFill>
                  <a:srgbClr val="ffffff"/>
                </a:solidFill>
                <a:latin typeface="Quant Antiqu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Quant Antiqua"/>
              </a:rPr>
              <a:t>3. Полицейский из сказки А.Толстого «Золотой ключик», силой ворвавшись в каморку папы Карло, нарушил его </a:t>
            </a:r>
            <a:r>
              <a:rPr b="1" lang="ru-RU" sz="2200" spc="-1" strike="noStrike">
                <a:solidFill>
                  <a:srgbClr val="ff3300"/>
                </a:solidFill>
                <a:latin typeface="Quant Antiqua"/>
              </a:rPr>
              <a:t>право на</a:t>
            </a:r>
            <a:r>
              <a:rPr b="1" lang="ru-RU" sz="2200" spc="-1" strike="noStrike">
                <a:solidFill>
                  <a:srgbClr val="ffffff"/>
                </a:solidFill>
                <a:latin typeface="Quant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Quant Antiqua"/>
              </a:rPr>
              <a:t>4. Балда из сказки А.С.Пушкина «Сказание о попе и его работнике Балде», нанявшись на работу к попу, воспользовался своим </a:t>
            </a:r>
            <a:r>
              <a:rPr b="1" lang="ru-RU" sz="2200" spc="-1" strike="noStrike">
                <a:solidFill>
                  <a:srgbClr val="ff3300"/>
                </a:solidFill>
                <a:latin typeface="Quant Antiqua"/>
              </a:rPr>
              <a:t>правом на</a:t>
            </a:r>
            <a:r>
              <a:rPr b="1" lang="ru-RU" sz="2200" spc="-1" strike="noStrike">
                <a:solidFill>
                  <a:srgbClr val="ffffff"/>
                </a:solidFill>
                <a:latin typeface="Quant Antiqu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Quant Antiqua"/>
              </a:rPr>
              <a:t>5. Царевич Иван из сказки «Иван-царевич и серый волк», украв Жар- птицу у царя Берендея, нарушил его </a:t>
            </a:r>
            <a:r>
              <a:rPr b="1" lang="ru-RU" sz="2200" spc="-1" strike="noStrike">
                <a:solidFill>
                  <a:srgbClr val="ff3300"/>
                </a:solidFill>
                <a:latin typeface="Quant Antiqua"/>
              </a:rPr>
              <a:t>право на</a:t>
            </a:r>
            <a:r>
              <a:rPr b="1" lang="ru-RU" sz="2200" spc="-1" strike="noStrike">
                <a:solidFill>
                  <a:srgbClr val="ffffff"/>
                </a:solidFill>
                <a:latin typeface="Quant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Quant Antiqua"/>
              </a:rPr>
              <a:t>6. В сказке «Иван-царевич и серый волк» братья убили Ивана, нарушив его </a:t>
            </a:r>
            <a:r>
              <a:rPr b="1" lang="ru-RU" sz="2200" spc="-1" strike="noStrike">
                <a:solidFill>
                  <a:srgbClr val="ff3300"/>
                </a:solidFill>
                <a:latin typeface="Quant Antiqua"/>
              </a:rPr>
              <a:t>право 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2195640" y="476280"/>
            <a:ext cx="4967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Закончите фразу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124" name="WordArt 5"/>
          <p:cNvSpPr txBox="1"/>
          <p:nvPr/>
        </p:nvSpPr>
        <p:spPr>
          <a:xfrm>
            <a:off x="6012000" y="1844640"/>
            <a:ext cx="28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свободное передвижение</a:t>
            </a:r>
            <a:endParaRPr b="1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2916360" y="2637000"/>
            <a:ext cx="3457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личную неприкосновенность</a:t>
            </a:r>
            <a:endParaRPr b="1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3059280" y="3645000"/>
            <a:ext cx="3744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неприкосновенность жилища</a:t>
            </a:r>
            <a:endParaRPr b="1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5796000" y="4653000"/>
            <a:ext cx="936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руд</a:t>
            </a:r>
            <a:endParaRPr b="1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484360" y="5589720"/>
            <a:ext cx="3240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владение имуществом</a:t>
            </a:r>
            <a:endParaRPr b="1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10"/>
          <p:cNvSpPr txBox="1"/>
          <p:nvPr/>
        </p:nvSpPr>
        <p:spPr>
          <a:xfrm>
            <a:off x="5364000" y="6381720"/>
            <a:ext cx="14400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жизнь</a:t>
            </a:r>
            <a:endParaRPr b="1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«Сказка ложь, да в ней намёк…»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40320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Quant Antiqua"/>
              </a:rPr>
              <a:t>В какой сказке личность во всех отношениях серая осуществляет план убийства двух лиц и лишь благодаря своевременному вмешательству общественности всё кончается благополучно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9f25ae3502d3"/>
          <p:cNvPicPr/>
          <p:nvPr/>
        </p:nvPicPr>
        <p:blipFill>
          <a:blip r:embed="rId1"/>
          <a:srcRect l="0" t="5959" r="-494" b="0"/>
          <a:stretch/>
        </p:blipFill>
        <p:spPr>
          <a:xfrm>
            <a:off x="4932360" y="1484280"/>
            <a:ext cx="345600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51280" y="980640"/>
            <a:ext cx="4943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Quant Antiqua"/>
              </a:rPr>
              <a:t>В этой сказке Пушкина должностное лицо грубо нарушило принцип «от каждого по способности, каждому - по труду» и присвоило зарплату труженика. Труженик учинил самосуд, причинив должностному лицу тяжкие телесные повреждения, приведшие к смер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3" descr="20081006202612"/>
          <p:cNvPicPr/>
          <p:nvPr/>
        </p:nvPicPr>
        <p:blipFill>
          <a:blip r:embed="rId1"/>
          <a:stretch/>
        </p:blipFill>
        <p:spPr>
          <a:xfrm>
            <a:off x="395280" y="1125360"/>
            <a:ext cx="338760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4475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ff66"/>
                </a:solidFill>
                <a:latin typeface="Quant Antiqua"/>
              </a:rPr>
              <a:t>В этой сказке речь идёт о неком спортсмене, который без хорошей физической подготовки отправился на соревнования с препятствиями. Хитрость и выдержка позволили ему подойти к самому финишу. Финал трагичен: герой, нарушив правила техники безопасности, погибает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3" descr="01462"/>
          <p:cNvPicPr/>
          <p:nvPr/>
        </p:nvPicPr>
        <p:blipFill>
          <a:blip r:embed="rId1"/>
          <a:stretch/>
        </p:blipFill>
        <p:spPr>
          <a:xfrm>
            <a:off x="4859280" y="765000"/>
            <a:ext cx="3948120" cy="518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532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Quant Antiqua"/>
              </a:rPr>
              <a:t>Назовите сказку, в которой лицо с дурной репутацией под вывеской милой и обаятельной личности совершило покушение на семь несовершеннолетних душ, но было разоблачено и жестоко наказано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3" descr="6705_1-550-700-1"/>
          <p:cNvPicPr/>
          <p:nvPr/>
        </p:nvPicPr>
        <p:blipFill>
          <a:blip r:embed="rId1"/>
          <a:stretch/>
        </p:blipFill>
        <p:spPr>
          <a:xfrm>
            <a:off x="2556000" y="2852640"/>
            <a:ext cx="4752720" cy="387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3644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Quant Antiqua"/>
              </a:rPr>
              <a:t>Назовите сказку, где две невестки царя посягают на имущество третьей, крадут одеяние невесты младшего сына царя и сжигают его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3" descr="1287797f915c"/>
          <p:cNvPicPr/>
          <p:nvPr/>
        </p:nvPicPr>
        <p:blipFill>
          <a:blip r:embed="rId1"/>
          <a:stretch/>
        </p:blipFill>
        <p:spPr>
          <a:xfrm>
            <a:off x="2484360" y="260280"/>
            <a:ext cx="3987720" cy="3465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81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Quant Antiqua"/>
              </a:rPr>
              <a:t>В этой сказке добрая птица уступила свою собственность двум лицам, пожелавшим разделить её на части, но не сумевшим это сделать. В итоге - богатство было случайно уничтожено мелкой серой личностью.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3" descr="45960696_01labl8m41220465485"/>
          <p:cNvPicPr/>
          <p:nvPr/>
        </p:nvPicPr>
        <p:blipFill>
          <a:blip r:embed="rId1"/>
          <a:srcRect l="0" t="0" r="0" b="5523"/>
          <a:stretch/>
        </p:blipFill>
        <p:spPr>
          <a:xfrm>
            <a:off x="1476360" y="2637000"/>
            <a:ext cx="619128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Quant Antiqua"/>
              </a:rPr>
              <a:t>В этой сказке криминальная личность завладела жилищами двух братьев. Но братьям удалось укрыться в доме у своего младшего брата, дом которого был выстроен с соблюдением всех норм техники безопасности и строительства жилых помещений, благодаря чему братья сохранили жизнь и личную неприкосновенност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820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Quant Antiqua"/>
              </a:rPr>
              <a:t>В этой сказке управляющий развлекательным заведением эксплуатировал несовершеннолетних, жестоко обращался с животными. За свою противоправную деятельность он был наказан подростком, уклоняющимся от учёбы, мерой, не оговоренной в УК – лишение свободы передвижения. В это же время два мошенника обманным путём завладели капиталом, который  подросток  получил от отца на приобретение учебной литературы.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3" descr="257422"/>
          <p:cNvPicPr/>
          <p:nvPr/>
        </p:nvPicPr>
        <p:blipFill>
          <a:blip r:embed="rId1"/>
          <a:stretch/>
        </p:blipFill>
        <p:spPr>
          <a:xfrm>
            <a:off x="2268360" y="3068640"/>
            <a:ext cx="4391280" cy="3497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324000" y="333360"/>
            <a:ext cx="8569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Конвенция 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правах ребён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468360" y="2565360"/>
            <a:ext cx="324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Приня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20 ноябр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1989 г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ОО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pic>
        <p:nvPicPr>
          <p:cNvPr id="104" name="Picture 8" descr="Титул Конвенции"/>
          <p:cNvPicPr/>
          <p:nvPr/>
        </p:nvPicPr>
        <p:blipFill>
          <a:blip r:embed="rId1"/>
          <a:stretch/>
        </p:blipFill>
        <p:spPr>
          <a:xfrm>
            <a:off x="5796000" y="2637000"/>
            <a:ext cx="2879640" cy="38908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0"/>
          <p:cNvSpPr txBox="1"/>
          <p:nvPr/>
        </p:nvSpPr>
        <p:spPr>
          <a:xfrm>
            <a:off x="1692360" y="4581360"/>
            <a:ext cx="37432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Вступила в сил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2 сентябр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1990 год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6911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Quant Antiqua"/>
              </a:rPr>
              <a:t>В какой сказке главный герой, несовершеннолетний, гуляя по берегу моря, нашёл сосуд. Нарушив технику безопасности при обнаружении неустановленных предметов, вскрыл данный сосуд. Его действия привели к несанкционированному появлению, в виде густого дыма, старейшего жителя Востока, который, обладая магическими способностями, может выполнить любое желания.</a:t>
            </a:r>
            <a:r>
              <a:rPr b="1" lang="ru-RU" sz="2400" spc="-1" strike="noStrike">
                <a:solidFill>
                  <a:srgbClr val="a50021"/>
                </a:solidFill>
                <a:latin typeface="Quant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rcRect l="0" t="8191" r="0" b="5151"/>
          <a:stretch/>
        </p:blipFill>
        <p:spPr>
          <a:xfrm>
            <a:off x="5076720" y="1052640"/>
            <a:ext cx="372456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1692360" y="189000"/>
            <a:ext cx="61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Проверь себ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-703440" y="2491200"/>
            <a:ext cx="9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ем была принята «Конвенция о правах ребенка»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9000" y="1484280"/>
            <a:ext cx="89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 каком году была принята Конвенция о правах ребёнка 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526160" y="198900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1989 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4574880" y="299736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Генеральной Ассамблеей О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040" y="3499200"/>
            <a:ext cx="72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то, согласно Конвенции, является ребенком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2266920" y="400428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Человеческое существо до достижения 18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120" y="457992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 какого момента, согласно Конвенции, ребенок имее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о на имя и на приобретение гражданства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5582520" y="5372640"/>
            <a:ext cx="32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 момента рожде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39"/>
          <p:cNvPicPr/>
          <p:nvPr/>
        </p:nvPicPr>
        <p:blipFill>
          <a:blip r:embed="rId1"/>
          <a:stretch/>
        </p:blipFill>
        <p:spPr>
          <a:xfrm>
            <a:off x="395280" y="376200"/>
            <a:ext cx="8424720" cy="6176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36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7801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6156360" y="6165720"/>
            <a:ext cx="259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Статья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</p:spTree>
  </p:cSld>
  <p:transition spd="med"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32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57546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5508720" y="6165720"/>
            <a:ext cx="32400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Статьи 12,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</p:spTree>
  </p:cSld>
  <p:transition spd="med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37"/>
          <p:cNvPicPr/>
          <p:nvPr/>
        </p:nvPicPr>
        <p:blipFill>
          <a:blip r:embed="rId1"/>
          <a:stretch/>
        </p:blipFill>
        <p:spPr>
          <a:xfrm>
            <a:off x="826920" y="404640"/>
            <a:ext cx="7705800" cy="56502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5"/>
          <p:cNvSpPr txBox="1"/>
          <p:nvPr/>
        </p:nvSpPr>
        <p:spPr>
          <a:xfrm>
            <a:off x="5292720" y="6165720"/>
            <a:ext cx="345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Статьи 19, 3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</p:spTree>
  </p:cSld>
  <p:transition spd="med">
    <p:strips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33"/>
          <p:cNvPicPr/>
          <p:nvPr/>
        </p:nvPicPr>
        <p:blipFill>
          <a:blip r:embed="rId1"/>
          <a:stretch/>
        </p:blipFill>
        <p:spPr>
          <a:xfrm>
            <a:off x="971640" y="404640"/>
            <a:ext cx="7632720" cy="559764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5867280" y="6165720"/>
            <a:ext cx="2881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Статья 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</p:spTree>
  </p:cSld>
  <p:transition spd="med"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30"/>
          <p:cNvPicPr/>
          <p:nvPr/>
        </p:nvPicPr>
        <p:blipFill>
          <a:blip r:embed="rId1"/>
          <a:stretch/>
        </p:blipFill>
        <p:spPr>
          <a:xfrm>
            <a:off x="684360" y="333360"/>
            <a:ext cx="7920000" cy="580716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5796000" y="6165720"/>
            <a:ext cx="2952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Статья 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</p:spTree>
  </p:cSld>
  <p:transition spd="med"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31"/>
          <p:cNvPicPr/>
          <p:nvPr/>
        </p:nvPicPr>
        <p:blipFill>
          <a:blip r:embed="rId1"/>
          <a:stretch/>
        </p:blipFill>
        <p:spPr>
          <a:xfrm>
            <a:off x="826920" y="404640"/>
            <a:ext cx="7705800" cy="56502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5"/>
          <p:cNvSpPr txBox="1"/>
          <p:nvPr/>
        </p:nvSpPr>
        <p:spPr>
          <a:xfrm>
            <a:off x="5724360" y="6165720"/>
            <a:ext cx="3024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Статья 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</p:spTree>
  </p:cSld>
  <p:transition spd="med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34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54364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5796000" y="6165720"/>
            <a:ext cx="2952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Статья 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</p:spTree>
  </p:cSld>
  <p:transition spd="med"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6:17:41Z</dcterms:created>
  <dc:creator>Берюхова</dc:creator>
  <dc:description/>
  <dc:language>en-US</dc:language>
  <cp:lastModifiedBy>Panda-07-05-13</cp:lastModifiedBy>
  <dcterms:modified xsi:type="dcterms:W3CDTF">2017-12-24T09:43:58Z</dcterms:modified>
  <cp:revision>18</cp:revision>
  <dc:subject/>
  <dc:title>Слайд 1</dc:title>
</cp:coreProperties>
</file>