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76D1-CDB0-4E26-8B56-6547B9BA6D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4C49-161D-413F-914C-B65015F0E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D71-7B12-4252-BA97-5F00B3DC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7F5-CB18-449D-A214-9052026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9BE-9758-4FDC-8E1D-3E90B62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611-1644-4FCD-AE11-F76823F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B31E-273C-4A87-853D-64827969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437B-A786-4D8D-8D70-7B220229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96EC-EFA1-469B-BFA9-EF653B6B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4C47-7A3B-4E15-9F3B-0B2F09DE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D258-00CC-44A8-BA6C-8309475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E22-8127-48FF-A18D-898C6B5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17DB-087B-4891-A8C6-9AB566E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C96-EAF3-4EB1-AD6E-CA8985E2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8485-F431-40E2-BAB1-B240302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301C-0834-486B-B0DB-DB92CF8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F0D2-848E-4198-9D33-E6CE265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DB3-85DC-4960-9BE1-05CF106C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ABCA-0953-4F02-B989-02300C89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969-5278-4FA0-89CC-440B4078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ADE-AEA2-4641-81FF-0101EAC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9C6-160B-415A-9FFC-868B05B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68B-61C6-46A0-8B00-A27000C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7C2-945C-4C0B-BFA4-BA2E8D6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922-EBDF-44AD-BF00-135EAB5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DFB-D916-431C-ACF5-1FEF0DB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BA85-AA41-4203-88A2-17B6651D05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3844-1318-45F3-AC60-4A995C7EF0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4436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БОУ СОШ с. Бисерово Афанасьевского района Кировской области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2124000" y="2708280"/>
            <a:ext cx="52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здник скакалк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logo"/>
          <p:cNvPicPr/>
          <p:nvPr/>
        </p:nvPicPr>
        <p:blipFill>
          <a:blip r:embed="rId1"/>
          <a:stretch/>
        </p:blipFill>
        <p:spPr>
          <a:xfrm>
            <a:off x="7380360" y="765000"/>
            <a:ext cx="139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Четвертый эта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ртивный сектор школы подводит итоги праздника и принимает решение о награждении победителей в номинациях: «Самый прыгучий класс», «Самый активный класс» среди 1-4-х классов и 5-11-х классов, «Самый классный прыгун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700360" y="1413000"/>
            <a:ext cx="45054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одведение итогов 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Picture 5" descr="00435809"/>
          <p:cNvPicPr/>
          <p:nvPr/>
        </p:nvPicPr>
        <p:blipFill>
          <a:blip r:embed="rId1"/>
          <a:stretch/>
        </p:blipFill>
        <p:spPr>
          <a:xfrm>
            <a:off x="468360" y="2781360"/>
            <a:ext cx="21049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2491920"/>
            <a:ext cx="639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ханизм реализации проект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397240" y="333360"/>
            <a:ext cx="5263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100_3451"/>
          <p:cNvPicPr/>
          <p:nvPr/>
        </p:nvPicPr>
        <p:blipFill>
          <a:blip r:embed="rId1"/>
          <a:stretch/>
        </p:blipFill>
        <p:spPr>
          <a:xfrm>
            <a:off x="1403280" y="1052640"/>
            <a:ext cx="6613560" cy="49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100_3430"/>
          <p:cNvPicPr/>
          <p:nvPr/>
        </p:nvPicPr>
        <p:blipFill>
          <a:blip r:embed="rId2"/>
          <a:stretch/>
        </p:blipFill>
        <p:spPr>
          <a:xfrm>
            <a:off x="1187280" y="141300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Изображение 003"/>
          <p:cNvPicPr/>
          <p:nvPr/>
        </p:nvPicPr>
        <p:blipFill>
          <a:blip r:embed="rId1"/>
          <a:stretch/>
        </p:blipFill>
        <p:spPr>
          <a:xfrm>
            <a:off x="1258920" y="105264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399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Содержимое 4" descr="IMG_4541.JPG"/>
          <p:cNvPicPr/>
          <p:nvPr/>
        </p:nvPicPr>
        <p:blipFill>
          <a:blip r:embed="rId2"/>
          <a:stretch/>
        </p:blipFill>
        <p:spPr>
          <a:xfrm>
            <a:off x="669960" y="404640"/>
            <a:ext cx="8159760" cy="6120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G_4544.JPG"/>
          <p:cNvPicPr/>
          <p:nvPr/>
        </p:nvPicPr>
        <p:blipFill>
          <a:blip r:embed="rId3"/>
          <a:stretch/>
        </p:blipFill>
        <p:spPr>
          <a:xfrm>
            <a:off x="755640" y="476280"/>
            <a:ext cx="7738920" cy="5805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MG_4552.JPG"/>
          <p:cNvPicPr/>
          <p:nvPr/>
        </p:nvPicPr>
        <p:blipFill>
          <a:blip r:embed="rId4"/>
          <a:stretch/>
        </p:blipFill>
        <p:spPr>
          <a:xfrm>
            <a:off x="755640" y="765000"/>
            <a:ext cx="7308720" cy="5480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IMG_4547.JPG"/>
          <p:cNvPicPr/>
          <p:nvPr/>
        </p:nvPicPr>
        <p:blipFill>
          <a:blip r:embed="rId5"/>
          <a:stretch/>
        </p:blipFill>
        <p:spPr>
          <a:xfrm>
            <a:off x="539640" y="692280"/>
            <a:ext cx="7488360" cy="5616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IMG_4564.JPG"/>
          <p:cNvPicPr/>
          <p:nvPr/>
        </p:nvPicPr>
        <p:blipFill>
          <a:blip r:embed="rId6"/>
          <a:stretch/>
        </p:blipFill>
        <p:spPr>
          <a:xfrm>
            <a:off x="490680" y="620640"/>
            <a:ext cx="8340480" cy="5761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IMG_4569.JPG"/>
          <p:cNvPicPr/>
          <p:nvPr/>
        </p:nvPicPr>
        <p:blipFill>
          <a:blip r:embed="rId7"/>
          <a:stretch/>
        </p:blipFill>
        <p:spPr>
          <a:xfrm>
            <a:off x="276120" y="608040"/>
            <a:ext cx="8267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39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ффективность «Праздника скакалки»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-е участие в празднике всех учащих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(65%) педагогов из 20 были задействованы в празднике в качестве участник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месяца (подготовка, сам праздник) практически вся школа во время перемен осваивала новые упражнения, готовилась к скиппингу, к личному первенств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школы курировали подготовку к празднику и участвовали в нем, что для многих стало стимулом для продолжения спортивных занят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отдых на переменах так понравился детям, что они прыгали через скакалку в одиночку и группами до конца учебного год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киппинг» вызвал бурю эмоций и новых идей для будущих выступлений и результа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журный класс организовывал на переменах игры со скакалкой для начальных классов, ребята откликались на игру хорош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реализации прое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бюджетное финансиро-вание - 500 руб. (приобретение веревки для скиппинга и новых скакалок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бвенции - школа - 1300 руб. (грамоты, призы победителям соревновани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ментарии экспер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59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ва Александра, Консультант по медиа-стратегиям 20.08.20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ект - прекрасный пример того, как самыми простыми средствами можно добиться прекрасных результатов. На входе: желание сделать учащихся более физически активными и здоровыми, объединение учеников и учителей при организации и творческий подход. На выходе -достижение основной цели по оздоровлению учащихся, сплоченные классы. К тому же у детей школьного возраста особенно сильна ориентация на лидера, а проведение подобного конкурса наверняка привело к появлению новых спортивных лидеров, за которыми будут тянуться остальные ребя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"Праздника скакалки" также позволит школе развивать собственные спортивные тради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logo"/>
          <p:cNvPicPr/>
          <p:nvPr/>
        </p:nvPicPr>
        <p:blipFill>
          <a:blip r:embed="rId1"/>
          <a:stretch/>
        </p:blipFill>
        <p:spPr>
          <a:xfrm>
            <a:off x="7750080" y="333360"/>
            <a:ext cx="139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690560" y="2421000"/>
            <a:ext cx="57628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информацию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92000" y="1844640"/>
            <a:ext cx="63990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есто реализац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овская область, с. Бисеро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 прове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ябрь 20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ллектив проек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8000" y="1915920"/>
            <a:ext cx="6399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ет учащихся школы, учителя физической культуры, педагог-организа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Цели и задачи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992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учащихся потребность в здоровом образе жизни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ать любовь к физической культуре и спорт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ействовать формированию потребности в здоровом образе жизни в школ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детей и родителей активному отдых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формированию и развитию ответственной личной позиции за свое здоровье и свою фигур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делать более интересной общественную жизнь школы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популяризации скакалки как наиболее простого и доступного гимнастического снаря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ктуальность проек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наблюдается тенденция к ухудшению состояния здоровья учащихся. И как показывает практика, это в определенной степени связано с традиционной («сидячей») системой обучения, что отражается на учебе и общем самочувствии. По многолетним наблюдениям, двигательная активность учащихся снижается уже к 6-7-му классу, особенно это заметно на перемен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опис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68360" y="2205000"/>
            <a:ext cx="63993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раздник скакалки» проводится для учащихся школы 1-11-х классов в четыре этап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MCj03564310000[1]"/>
          <p:cNvPicPr/>
          <p:nvPr/>
        </p:nvPicPr>
        <p:blipFill>
          <a:blip r:embed="rId1"/>
          <a:stretch/>
        </p:blipFill>
        <p:spPr>
          <a:xfrm>
            <a:off x="0" y="2852640"/>
            <a:ext cx="2448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ервый этап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еся класса по желанию участвовали в личном первенстве школы по прыжкам через скакалк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ое упражнение выполнялось 30 сек. Результаты и достижения учитывались при подведении итогов праздни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050920" y="155736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Конкурс «Супер-пупер».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6" name="Picture 5" descr="MCj03909340000[1]"/>
          <p:cNvPicPr/>
          <p:nvPr/>
        </p:nvPicPr>
        <p:blipFill>
          <a:blip r:embed="rId1"/>
          <a:stretch/>
        </p:blipFill>
        <p:spPr>
          <a:xfrm>
            <a:off x="0" y="2349360"/>
            <a:ext cx="2487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торой эта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68360" y="2205000"/>
            <a:ext cx="63993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анды классов участвовали в командных соревнованиях (по типу веселых стартов со скакалкой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 учитывался при подведении итогов праздни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2484360" y="155736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Командные чемпионаты 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0" name="Picture 5" descr="MCj02153020000[1]"/>
          <p:cNvPicPr/>
          <p:nvPr/>
        </p:nvPicPr>
        <p:blipFill>
          <a:blip r:embed="rId1"/>
          <a:stretch/>
        </p:blipFill>
        <p:spPr>
          <a:xfrm>
            <a:off x="468360" y="1773360"/>
            <a:ext cx="1790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тий эта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8360" y="2205000"/>
            <a:ext cx="63993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курс проводился по отдельному положению для 5-11-х классов. Участвовала команда класса - минимум шесть человек + один родитель или классный руководитель. Результат учитывался при подведении итогов праздни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1-4-х классов проводилась игра-путешествие «Здравствуй, скакалка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4356000" y="1484280"/>
            <a:ext cx="2162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Скиппинг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Picture 5" descr="MCj02320460000[1]"/>
          <p:cNvPicPr/>
          <p:nvPr/>
        </p:nvPicPr>
        <p:blipFill>
          <a:blip r:embed="rId1"/>
          <a:stretch/>
        </p:blipFill>
        <p:spPr>
          <a:xfrm>
            <a:off x="179280" y="2708280"/>
            <a:ext cx="2202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37:19Z</dcterms:created>
  <dc:creator>учитель</dc:creator>
  <dc:description/>
  <cp:keywords/>
  <dc:language>en-US</dc:language>
  <cp:lastModifiedBy>Администратор ИБ</cp:lastModifiedBy>
  <dcterms:modified xsi:type="dcterms:W3CDTF">2017-12-24T06:49:21Z</dcterms:modified>
  <cp:revision>21</cp:revision>
  <dc:subject/>
  <dc:title>Организатор проекта: МОУ СОШ с. Бисерово Афанасьевского района Кир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