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E015-DF5B-4607-838C-B5A39A849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84EC-3084-4806-8BBD-8206FB612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4E48-68E4-42CA-9911-D502E1548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BECC-6D71-4993-8ACD-0B8DFA35E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CB82-4E07-48CB-B431-47D6FC7C4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81D4-7FBF-45E6-B01A-B9742B494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03DC-D968-4F22-93E3-419F8114A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9ED4-6D0A-4A99-8D12-EF9432178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3D56-EDBD-44DC-8D25-EDE87AF4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EC87-07CA-44B3-9765-FBA80CF6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E98C-4E58-491D-A52F-C549E518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D879-0D27-45E2-9375-8CF16F66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B1030-CE34-4795-AD7D-E9C7C3ECC9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imes New Roman"/>
              </a:rPr>
              <a:t>«Детские опыты и эксперимент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57913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Экспериментирование в свободн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Для того чтобы дети могли заниматься опытами самостоятельно, в детском саду должна быть организована специальная предметная среда и пространство для ее разви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У дошкольников в группе в свободном доступе должна быть специальная зона – уголок экспериментирования, в которой размещаю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- наборы для опытов с инструкциями-картинк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-игрушки для исследований – шарики, кубики, мелкие предметы из раз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материал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- различные природные материалы – песок, вода, глина, скорлупа, шер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- измерительные приборы – весы, мерные емкости, песочные часы, линей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- инструменты – пипетки, шпатели, мерные ложки, зубочистки, прозрачные и цветные стекл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- другая насыщенная предметная среда – зеркало, увеличительное стекло, соль, магни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- писчие принадлежности для фиксации результа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848720" cy="6172200"/>
          </a:xfrm>
          <a:prstGeom prst="rect">
            <a:avLst/>
          </a:prstGeom>
          <a:ln w="76320">
            <a:solidFill>
              <a:srgbClr val="33cc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534520" cy="6095880"/>
          </a:xfrm>
          <a:prstGeom prst="rect">
            <a:avLst/>
          </a:prstGeom>
          <a:ln w="76320">
            <a:solidFill>
              <a:srgbClr val="33cc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0" y="2590920"/>
            <a:ext cx="4419720" cy="4114800"/>
          </a:xfrm>
          <a:prstGeom prst="rect">
            <a:avLst/>
          </a:prstGeom>
          <a:ln w="76320">
            <a:solidFill>
              <a:srgbClr val="33cc33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4191120" cy="3581640"/>
          </a:xfrm>
          <a:prstGeom prst="rect">
            <a:avLst/>
          </a:prstGeom>
          <a:ln w="76320">
            <a:solidFill>
              <a:srgbClr val="33cc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4191120" cy="3962520"/>
          </a:xfrm>
          <a:prstGeom prst="rect">
            <a:avLst/>
          </a:prstGeom>
          <a:ln w="76320">
            <a:solidFill>
              <a:srgbClr val="33cc33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572000" y="2514600"/>
            <a:ext cx="4419720" cy="4191120"/>
          </a:xfrm>
          <a:prstGeom prst="rect">
            <a:avLst/>
          </a:prstGeom>
          <a:ln w="76320">
            <a:solidFill>
              <a:srgbClr val="33cc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76312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Картотека опытов и экспериментов в детском са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Со временем у каждого воспитателя, который поддерживает метод экспериментирования, накапливается большой опыт по его использованию в разных видах деятельности. Из конспектов следует сформировать картотеку, которая содержит естественно-научные эксперименты для детей на различную тематику. Примеры таких тематик приведем ниж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Эколог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- строение растен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- условия, необходимые для жизни растен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- размножение растен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- опыты в огороде и цветник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- опытническая деятельность по сезона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- исследование животны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Исследовательская деятельность о человек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- строение человек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- физиология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-гигие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Физические опыты в детском саду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- движени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- измерени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- магнетиз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- вещества и материал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- свет и цвет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- зву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Опыты на кухн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-360" y="304560"/>
            <a:ext cx="89917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 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Важной целью современного образования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является побуждение детей к познавательной активности и стремлению узнавать ново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Эксперименты в детском саду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удачно выбранная форма работы, которая сочетает в себе образовательные требования и учитывает возрастные особенности дошколь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04920" y="3505320"/>
            <a:ext cx="35049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imes New Roman"/>
              </a:rPr>
              <a:t>Только через действие  ребёнок сможет познать многообразие окружающего мира и определить собственное место в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523880" y="2209680"/>
            <a:ext cx="61722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686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Times New Roman"/>
              </a:rPr>
              <a:t>Спасибо за вним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447920" y="1143000"/>
            <a:ext cx="7543800" cy="5562720"/>
          </a:xfrm>
          <a:prstGeom prst="rect">
            <a:avLst/>
          </a:prstGeom>
          <a:ln w="12600">
            <a:solidFill>
              <a:srgbClr val="3399ff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7057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cc33"/>
                </a:solidFill>
                <a:latin typeface="Times New Roman"/>
              </a:rPr>
              <a:t>То, что я услышал, я забыл.</a:t>
            </a:r>
            <a:br>
              <a:rPr sz="2800"/>
            </a:br>
            <a:r>
              <a:rPr b="1" i="1" lang="en-US" sz="2800" spc="-1" strike="noStrike">
                <a:solidFill>
                  <a:srgbClr val="33cc33"/>
                </a:solidFill>
                <a:latin typeface="Times New Roman"/>
              </a:rPr>
              <a:t>То, что я увидел, я помню.</a:t>
            </a:r>
            <a:br>
              <a:rPr sz="2800"/>
            </a:br>
            <a:r>
              <a:rPr b="1" i="1" lang="en-US" sz="2800" spc="-1" strike="noStrike">
                <a:solidFill>
                  <a:srgbClr val="33cc33"/>
                </a:solidFill>
                <a:latin typeface="Times New Roman"/>
              </a:rPr>
              <a:t>То, что я сделал, я знаю.</a:t>
            </a:r>
            <a:br>
              <a:rPr sz="2800"/>
            </a:br>
            <a:r>
              <a:rPr b="1" i="1" lang="en-US" sz="1800" spc="-1" strike="noStrike">
                <a:solidFill>
                  <a:srgbClr val="008000"/>
                </a:solidFill>
                <a:latin typeface="Times New Roman"/>
              </a:rPr>
              <a:t>Китайская послов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14400" y="2133720"/>
            <a:ext cx="7696080" cy="464796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0948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Детское эксперимент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является одним из методов обучения и развития естественнонаучных представлений дошкольников. В ходе опытной деятельности дошкольник учится наблюдать, размышлять, сравнивать, отвечать на вопросы, делать выводы, устанавливать причинно-следственную связь, соблюдать правила безопасности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648320" y="365760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Цели и задач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опытно-экспериментальной деятельности в ДОУ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формирование у детей дошкольного возраста диалектического мышления, т.е. способности видеть многообразие мира в системе взаимосвязей и взаимозависимосте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развитие собственного познавательного опыта в обобщенном виде с помощью наглядных средств (эталонов, символов, условных заместителей, моделей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расширение перспектив развития опытно-экспериментальной деятельности детей путем включения их в мыслительные, моделирующие и преобразующие действ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поддержание у детей инициативы, сообразительности, пытливости, критичности, самосто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расширение кругозора детей посредством введения в более широкую пространственную и временную перспектив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Times New Roman"/>
              </a:rPr>
              <a:t>В работах многих ученых педагогов (Г. М. Лямина,А. П. Усова,Е. А. Панько)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говорится о необходимости включения дошкольников в осмысленную деятельность, в процессе которой предоставляется детям возможность приобретать знания самостоятельно. В связи с этим и представляет особый интерес детское экспериментирование и его активное внедрение в практику работы детского дошкольного учрежд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Times New Roman"/>
              </a:rPr>
              <a:t>В 1990 годы профессор, академик Академии Творческой Педагогики РАО Н. Н. Подъяков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роанализировав и обобщив богатейший опыт исследовательской работы в системе дошкольного образования, пришел к заключению, что в детском возрасте ведущим видом деятельности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является экспериментирова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Times New Roman"/>
              </a:rPr>
              <a:t>А в 2014 году экспериментирование как ведущий вид детской деятельности прописано во ФГОС дошкольного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809520" y="228600"/>
            <a:ext cx="53341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Дети дошкольного возраста по своей природе</a:t>
            </a: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 –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пытливые исследователи окружающего мира. В образовательном процессе экспериментально – опытная  деятельность является тем методом обучения, который позволяет ребёнку моделировать в своём сознании картину мира, основанную на собственных наблюдениях, опытах, установлении взаимозависимостей, закономер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733920" cy="43434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-360" y="151920"/>
            <a:ext cx="899172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В процессе экспериментирования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дошкольник получает возможность удовлетворить присущую ему любознательность: «Почему? Зачем? Как? Что будет, если?», почувствовать себя ученым, исследователем, первооткрывател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00"/>
                </a:solidFill>
                <a:latin typeface="Times New Roman"/>
              </a:rPr>
              <a:t>Детское экспериментирование как важнейший вид поисковой деятельности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характеризуется высоким уровнем самостоятельности и оригинальности, усложнением и развитием действий цели образования: ребенок сам ставит цели, сам достигает их, получая новые знания о предметах и явлен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0866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Экспериментирование в организованн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В соответствии с общеобразовательной программой «От рождения до школы», опытническая деятельность запланирована во всех возрастных группах детского сада  начиная с младшей в области «Ознакомление с миром природ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В ней запланировано изучение с помощью опыт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- свойств песка, глины и камн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- свойств воды в ее различных состояния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- темпера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В других образовательных областях экспериментальная деятельность помогает поддержанию интереса детей к процессу обучения, делает усвоение материала легче, так как легко поддерживает непроизвольное вним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Например, эксперименты в детском саду во время организованной деятельности представляют собо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- взвешивание тяжелых и легких материал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- измерение длины с помощью меро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- наблюдение за ростом растений и зависимость этого процесса от освещения, температуры и поли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- изучение смешивания цве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34120" y="4876920"/>
            <a:ext cx="27432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3429000"/>
            <a:ext cx="9144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Структура эксперимента в организованн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В отличие от свободного экспериментирования, где дети действуют по интуитивному пути, опыт - эксперимент планируется по определенному план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- постановка познавательной задачи (ставится воспитателем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- выдвижение детьми предполож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- проверка гипотез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- фиксация результатов и подведение итог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- обсуждение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608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23T15:43:49Z</dcterms:created>
  <dc:creator>Домашний</dc:creator>
  <dc:description/>
  <dc:language>en-US</dc:language>
  <cp:lastModifiedBy>Домашний</cp:lastModifiedBy>
  <dcterms:modified xsi:type="dcterms:W3CDTF">2017-01-23T17:55:0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