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0.jpeg" ContentType="image/jpeg"/>
  <Override PartName="/ppt/media/image33.jpeg" ContentType="image/jpeg"/>
  <Override PartName="/ppt/media/image31.jpeg" ContentType="image/jpeg"/>
  <Override PartName="/ppt/media/image47.wmf" ContentType="image/x-wmf"/>
  <Override PartName="/ppt/media/image38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32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11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6.png" ContentType="image/png"/>
  <Override PartName="/ppt/media/image6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2E6-EE24-4742-B5A4-5FBC1017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868-DA09-4DD3-8576-AF2F68F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A57-2E87-45E4-8ADF-DECDFEA2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A46-F60C-45B9-8A08-E9CD641D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9266-DA6E-4C60-B7F2-C7C8968B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6797-C542-45C5-A4E6-411DDA13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956B-B3B3-4B98-8ABE-65EAA2A0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73C1-1C3C-49D7-9424-1F28141A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5F03-B553-40BA-AC76-E5B2BD20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3648-E9F9-44C9-AAAB-1D4641D1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0DD5-6C1F-4B30-B202-BA80A81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6C8-FB60-4653-AA32-E523DBDE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6E82-CE27-49CB-9FFE-3084F4C3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69F0-B92E-46AD-BEA2-52F5248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9F56-FA0B-4EB9-8E56-145821C1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AEEC-F2CB-450E-A7A8-08265932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A381-B580-41AC-97B5-C3FD0AF7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144-25EF-44F8-8D41-D5C51A41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803-82EB-4AD3-8433-177C0EA6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853-A22D-4E95-8777-99940CA3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294-BEF3-4035-8611-E93E270F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13E-3A22-4B60-AC13-61BF7C7E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F06-B703-4B48-97E8-5056325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39B-1B60-4A92-92C6-FF743248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2095-7C05-4AD7-AC5E-CEDDC9BE72B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4C79-2825-4819-937A-FBD98E73BE90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image" Target="../media/image34.jpeg"/><Relationship Id="rId20" Type="http://schemas.openxmlformats.org/officeDocument/2006/relationships/image" Target="../media/image35.jpeg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42.jpeg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60">
            <a:hlinkClick r:id="" action="ppaction://hlinkshowjump?jump=nextslide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WordArt 261"/>
          <p:cNvSpPr txBox="1"/>
          <p:nvPr/>
        </p:nvSpPr>
        <p:spPr>
          <a:xfrm rot="21594000">
            <a:off x="468360" y="411120"/>
            <a:ext cx="8461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4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Развитие дивергентного мышления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ащихся начальной школы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10" name="Rectangle 263"/>
          <p:cNvSpPr/>
          <p:nvPr/>
        </p:nvSpPr>
        <p:spPr>
          <a:xfrm>
            <a:off x="4343400" y="4648320"/>
            <a:ext cx="48006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Rectangle 265"/>
          <p:cNvSpPr/>
          <p:nvPr/>
        </p:nvSpPr>
        <p:spPr>
          <a:xfrm>
            <a:off x="3276720" y="4581360"/>
            <a:ext cx="5410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3635280" y="2427480"/>
            <a:ext cx="511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де нет простора для проявления способности,  там нет и способности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Людвиг Фейербах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Picture 12" descr="22"/>
          <p:cNvPicPr/>
          <p:nvPr/>
        </p:nvPicPr>
        <p:blipFill>
          <a:blip r:embed="rId1"/>
          <a:stretch/>
        </p:blipFill>
        <p:spPr>
          <a:xfrm>
            <a:off x="7524720" y="5229360"/>
            <a:ext cx="863640" cy="136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C:\Users\dns\AppData\Local\Microsoft\Windows\Temporary Internet Files\Content.IE5\7W5FYDNQ\MC900233118[1].wmf"/>
          <p:cNvPicPr/>
          <p:nvPr/>
        </p:nvPicPr>
        <p:blipFill>
          <a:blip r:embed="rId2"/>
          <a:stretch/>
        </p:blipFill>
        <p:spPr>
          <a:xfrm>
            <a:off x="0" y="2133720"/>
            <a:ext cx="5999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469"/>
                </a:solidFill>
                <a:latin typeface="Tahoma"/>
              </a:rPr>
              <a:t>Когнитивные факторы дивергентного мышления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Рамка 2"/>
          <p:cNvSpPr/>
          <p:nvPr/>
        </p:nvSpPr>
        <p:spPr>
          <a:xfrm>
            <a:off x="571680" y="1643040"/>
            <a:ext cx="2786040" cy="1071720"/>
          </a:xfrm>
          <a:custGeom>
            <a:avLst/>
            <a:gdLst>
              <a:gd name="textAreaLeft" fmla="*/ 133920 w 2786040"/>
              <a:gd name="textAreaRight" fmla="*/ 2652120 w 2786040"/>
              <a:gd name="textAreaTop" fmla="*/ 133920 h 1071720"/>
              <a:gd name="textAreaBottom" fmla="*/ 937800 h 1071720"/>
            </a:gdLst>
            <a:ahLst/>
            <a:rect l="textAreaLeft" t="textAreaTop" r="textAreaRight" b="textAreaBottom"/>
            <a:pathLst>
              <a:path w="2786063" h="1071562">
                <a:moveTo>
                  <a:pt x="0" y="0"/>
                </a:moveTo>
                <a:lnTo>
                  <a:pt x="2786063" y="0"/>
                </a:lnTo>
                <a:lnTo>
                  <a:pt x="2786063" y="1071562"/>
                </a:lnTo>
                <a:lnTo>
                  <a:pt x="0" y="1071562"/>
                </a:lnTo>
                <a:close/>
                <a:moveTo>
                  <a:pt x="133945" y="133945"/>
                </a:moveTo>
                <a:lnTo>
                  <a:pt x="133945" y="937617"/>
                </a:lnTo>
                <a:lnTo>
                  <a:pt x="2652118" y="937617"/>
                </a:lnTo>
                <a:lnTo>
                  <a:pt x="2652118" y="133945"/>
                </a:lnTo>
                <a:close/>
              </a:path>
            </a:pathLst>
          </a:custGeom>
          <a:solidFill>
            <a:srgbClr val="ecd882"/>
          </a:solidFill>
          <a:ln w="25560">
            <a:solidFill>
              <a:srgbClr val="ad9e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Рамка 3"/>
          <p:cNvSpPr/>
          <p:nvPr/>
        </p:nvSpPr>
        <p:spPr>
          <a:xfrm>
            <a:off x="500040" y="3571920"/>
            <a:ext cx="4071960" cy="1071360"/>
          </a:xfrm>
          <a:custGeom>
            <a:avLst/>
            <a:gdLst>
              <a:gd name="textAreaLeft" fmla="*/ 133920 w 4071960"/>
              <a:gd name="textAreaRight" fmla="*/ 3938040 w 4071960"/>
              <a:gd name="textAreaTop" fmla="*/ 133920 h 1071360"/>
              <a:gd name="textAreaBottom" fmla="*/ 937440 h 1071360"/>
            </a:gdLst>
            <a:ahLst/>
            <a:rect l="textAreaLeft" t="textAreaTop" r="textAreaRight" b="textAreaBottom"/>
            <a:pathLst>
              <a:path w="4071937" h="1071563">
                <a:moveTo>
                  <a:pt x="0" y="0"/>
                </a:moveTo>
                <a:lnTo>
                  <a:pt x="4071937" y="0"/>
                </a:lnTo>
                <a:lnTo>
                  <a:pt x="4071937" y="1071563"/>
                </a:lnTo>
                <a:lnTo>
                  <a:pt x="0" y="1071563"/>
                </a:lnTo>
                <a:close/>
                <a:moveTo>
                  <a:pt x="133945" y="133945"/>
                </a:moveTo>
                <a:lnTo>
                  <a:pt x="133945" y="937618"/>
                </a:lnTo>
                <a:lnTo>
                  <a:pt x="3937992" y="937618"/>
                </a:lnTo>
                <a:lnTo>
                  <a:pt x="3937992" y="133945"/>
                </a:lnTo>
                <a:close/>
              </a:path>
            </a:pathLst>
          </a:custGeom>
          <a:solidFill>
            <a:srgbClr val="ecd882"/>
          </a:solidFill>
          <a:ln w="25560">
            <a:solidFill>
              <a:srgbClr val="ad9e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Рамка 4"/>
          <p:cNvSpPr/>
          <p:nvPr/>
        </p:nvSpPr>
        <p:spPr>
          <a:xfrm>
            <a:off x="4429080" y="2286000"/>
            <a:ext cx="2786040" cy="1071720"/>
          </a:xfrm>
          <a:custGeom>
            <a:avLst/>
            <a:gdLst>
              <a:gd name="textAreaLeft" fmla="*/ 133920 w 2786040"/>
              <a:gd name="textAreaRight" fmla="*/ 2652120 w 2786040"/>
              <a:gd name="textAreaTop" fmla="*/ 133920 h 1071720"/>
              <a:gd name="textAreaBottom" fmla="*/ 937800 h 1071720"/>
            </a:gdLst>
            <a:ahLst/>
            <a:rect l="textAreaLeft" t="textAreaTop" r="textAreaRight" b="textAreaBottom"/>
            <a:pathLst>
              <a:path w="2786063" h="1071563">
                <a:moveTo>
                  <a:pt x="0" y="0"/>
                </a:moveTo>
                <a:lnTo>
                  <a:pt x="2786063" y="0"/>
                </a:lnTo>
                <a:lnTo>
                  <a:pt x="2786063" y="1071563"/>
                </a:lnTo>
                <a:lnTo>
                  <a:pt x="0" y="1071563"/>
                </a:lnTo>
                <a:close/>
                <a:moveTo>
                  <a:pt x="133945" y="133945"/>
                </a:moveTo>
                <a:lnTo>
                  <a:pt x="133945" y="937618"/>
                </a:lnTo>
                <a:lnTo>
                  <a:pt x="2652118" y="937618"/>
                </a:lnTo>
                <a:lnTo>
                  <a:pt x="2652118" y="133945"/>
                </a:lnTo>
                <a:close/>
              </a:path>
            </a:pathLst>
          </a:custGeom>
          <a:solidFill>
            <a:srgbClr val="ecd882"/>
          </a:solidFill>
          <a:ln w="25560">
            <a:solidFill>
              <a:srgbClr val="ad9e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Рамка 5"/>
          <p:cNvSpPr/>
          <p:nvPr/>
        </p:nvSpPr>
        <p:spPr>
          <a:xfrm>
            <a:off x="4500720" y="4714920"/>
            <a:ext cx="4214520" cy="1071360"/>
          </a:xfrm>
          <a:custGeom>
            <a:avLst/>
            <a:gdLst>
              <a:gd name="textAreaLeft" fmla="*/ 133920 w 4214520"/>
              <a:gd name="textAreaRight" fmla="*/ 4080600 w 4214520"/>
              <a:gd name="textAreaTop" fmla="*/ 133920 h 1071360"/>
              <a:gd name="textAreaBottom" fmla="*/ 937440 h 1071360"/>
            </a:gdLst>
            <a:ahLst/>
            <a:rect l="textAreaLeft" t="textAreaTop" r="textAreaRight" b="textAreaBottom"/>
            <a:pathLst>
              <a:path w="4214812" h="1071563">
                <a:moveTo>
                  <a:pt x="0" y="0"/>
                </a:moveTo>
                <a:lnTo>
                  <a:pt x="4214812" y="0"/>
                </a:lnTo>
                <a:lnTo>
                  <a:pt x="4214812" y="1071563"/>
                </a:lnTo>
                <a:lnTo>
                  <a:pt x="0" y="1071563"/>
                </a:lnTo>
                <a:close/>
                <a:moveTo>
                  <a:pt x="133945" y="133945"/>
                </a:moveTo>
                <a:lnTo>
                  <a:pt x="133945" y="937618"/>
                </a:lnTo>
                <a:lnTo>
                  <a:pt x="4080867" y="937618"/>
                </a:lnTo>
                <a:lnTo>
                  <a:pt x="4080867" y="133945"/>
                </a:lnTo>
                <a:close/>
              </a:path>
            </a:pathLst>
          </a:custGeom>
          <a:solidFill>
            <a:srgbClr val="ecd882"/>
          </a:solidFill>
          <a:ln w="25560">
            <a:solidFill>
              <a:srgbClr val="ad9e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Рамка 6"/>
          <p:cNvSpPr/>
          <p:nvPr/>
        </p:nvSpPr>
        <p:spPr>
          <a:xfrm>
            <a:off x="1285920" y="5643720"/>
            <a:ext cx="3000240" cy="1071360"/>
          </a:xfrm>
          <a:custGeom>
            <a:avLst/>
            <a:gdLst>
              <a:gd name="textAreaLeft" fmla="*/ 133920 w 3000240"/>
              <a:gd name="textAreaRight" fmla="*/ 2866320 w 3000240"/>
              <a:gd name="textAreaTop" fmla="*/ 133920 h 1071360"/>
              <a:gd name="textAreaBottom" fmla="*/ 937440 h 1071360"/>
            </a:gdLst>
            <a:ahLst/>
            <a:rect l="textAreaLeft" t="textAreaTop" r="textAreaRight" b="textAreaBottom"/>
            <a:pathLst>
              <a:path w="3000375" h="1071562">
                <a:moveTo>
                  <a:pt x="0" y="0"/>
                </a:moveTo>
                <a:lnTo>
                  <a:pt x="3000375" y="0"/>
                </a:lnTo>
                <a:lnTo>
                  <a:pt x="3000375" y="1071562"/>
                </a:lnTo>
                <a:lnTo>
                  <a:pt x="0" y="1071562"/>
                </a:lnTo>
                <a:close/>
                <a:moveTo>
                  <a:pt x="133945" y="133945"/>
                </a:moveTo>
                <a:lnTo>
                  <a:pt x="133945" y="937617"/>
                </a:lnTo>
                <a:lnTo>
                  <a:pt x="2866430" y="937617"/>
                </a:lnTo>
                <a:lnTo>
                  <a:pt x="2866430" y="133945"/>
                </a:lnTo>
                <a:close/>
              </a:path>
            </a:pathLst>
          </a:custGeom>
          <a:solidFill>
            <a:srgbClr val="ecd882"/>
          </a:solidFill>
          <a:ln w="25560">
            <a:solidFill>
              <a:srgbClr val="ad9e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525240" y="185724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Constantia"/>
              </a:rPr>
              <a:t>Беглость  (Б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4407480" y="250020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Constantia"/>
              </a:rPr>
              <a:t>Гибкость (Г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221400" y="3786120"/>
            <a:ext cx="43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Constantia"/>
              </a:rPr>
              <a:t>Оригинальность (О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4325400" y="4929120"/>
            <a:ext cx="43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Constantia"/>
              </a:rPr>
              <a:t>Разработанность (Р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1282680" y="585792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Constantia"/>
              </a:rPr>
              <a:t>Название (Н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484360" y="33336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Бланк  ответов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612720" y="1486080"/>
            <a:ext cx="1440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2720" y="1486080"/>
            <a:ext cx="0" cy="1439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612720" y="2925720"/>
            <a:ext cx="151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2124000" y="1485720"/>
            <a:ext cx="0" cy="1439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684360" y="3357720"/>
            <a:ext cx="1295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162000" y="30686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2557440" y="1486080"/>
            <a:ext cx="1440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2557440" y="2925720"/>
            <a:ext cx="151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 flipV="1">
            <a:off x="4068720" y="1485720"/>
            <a:ext cx="0" cy="1439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612720" y="4581360"/>
            <a:ext cx="1440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612720" y="4581360"/>
            <a:ext cx="0" cy="1440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612720" y="6021360"/>
            <a:ext cx="151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Line 20"/>
          <p:cNvSpPr/>
          <p:nvPr/>
        </p:nvSpPr>
        <p:spPr>
          <a:xfrm flipV="1">
            <a:off x="2124000" y="4581360"/>
            <a:ext cx="0" cy="1440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2484360" y="4581360"/>
            <a:ext cx="1440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2484360" y="4581360"/>
            <a:ext cx="0" cy="1440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2484360" y="6021360"/>
            <a:ext cx="151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Line 24"/>
          <p:cNvSpPr/>
          <p:nvPr/>
        </p:nvSpPr>
        <p:spPr>
          <a:xfrm flipV="1">
            <a:off x="3995640" y="4581360"/>
            <a:ext cx="0" cy="1440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Line 25"/>
          <p:cNvSpPr/>
          <p:nvPr/>
        </p:nvSpPr>
        <p:spPr>
          <a:xfrm>
            <a:off x="5076720" y="4654440"/>
            <a:ext cx="1440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5076720" y="4654440"/>
            <a:ext cx="0" cy="1440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Line 27"/>
          <p:cNvSpPr/>
          <p:nvPr/>
        </p:nvSpPr>
        <p:spPr>
          <a:xfrm>
            <a:off x="5076720" y="6094440"/>
            <a:ext cx="151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Line 28"/>
          <p:cNvSpPr/>
          <p:nvPr/>
        </p:nvSpPr>
        <p:spPr>
          <a:xfrm flipV="1">
            <a:off x="6588000" y="4654440"/>
            <a:ext cx="0" cy="1440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5005440" y="1486080"/>
            <a:ext cx="14396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5005440" y="1486080"/>
            <a:ext cx="0" cy="1439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05440" y="2925720"/>
            <a:ext cx="151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Line 32"/>
          <p:cNvSpPr/>
          <p:nvPr/>
        </p:nvSpPr>
        <p:spPr>
          <a:xfrm flipV="1">
            <a:off x="6516720" y="1485720"/>
            <a:ext cx="0" cy="1439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7094520" y="1486080"/>
            <a:ext cx="1440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Line 34"/>
          <p:cNvSpPr/>
          <p:nvPr/>
        </p:nvSpPr>
        <p:spPr>
          <a:xfrm>
            <a:off x="7094520" y="1486080"/>
            <a:ext cx="0" cy="1439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Line 35"/>
          <p:cNvSpPr/>
          <p:nvPr/>
        </p:nvSpPr>
        <p:spPr>
          <a:xfrm>
            <a:off x="7094520" y="2925720"/>
            <a:ext cx="151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Line 36"/>
          <p:cNvSpPr/>
          <p:nvPr/>
        </p:nvSpPr>
        <p:spPr>
          <a:xfrm flipV="1">
            <a:off x="8605800" y="1485720"/>
            <a:ext cx="0" cy="1439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Line 37"/>
          <p:cNvSpPr/>
          <p:nvPr/>
        </p:nvSpPr>
        <p:spPr>
          <a:xfrm>
            <a:off x="7237440" y="4581360"/>
            <a:ext cx="1440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Line 38"/>
          <p:cNvSpPr/>
          <p:nvPr/>
        </p:nvSpPr>
        <p:spPr>
          <a:xfrm>
            <a:off x="7237440" y="4581360"/>
            <a:ext cx="0" cy="1440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Line 39"/>
          <p:cNvSpPr/>
          <p:nvPr/>
        </p:nvSpPr>
        <p:spPr>
          <a:xfrm>
            <a:off x="7237440" y="6021360"/>
            <a:ext cx="151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Line 40"/>
          <p:cNvSpPr/>
          <p:nvPr/>
        </p:nvSpPr>
        <p:spPr>
          <a:xfrm flipV="1">
            <a:off x="8748720" y="4581360"/>
            <a:ext cx="0" cy="1440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Line 41"/>
          <p:cNvSpPr/>
          <p:nvPr/>
        </p:nvSpPr>
        <p:spPr>
          <a:xfrm>
            <a:off x="2557440" y="1486080"/>
            <a:ext cx="0" cy="1439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2322720" y="30686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Line 43"/>
          <p:cNvSpPr/>
          <p:nvPr/>
        </p:nvSpPr>
        <p:spPr>
          <a:xfrm>
            <a:off x="2773440" y="3357720"/>
            <a:ext cx="1295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503280" y="6113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Line 47"/>
          <p:cNvSpPr/>
          <p:nvPr/>
        </p:nvSpPr>
        <p:spPr>
          <a:xfrm>
            <a:off x="757080" y="6454800"/>
            <a:ext cx="12956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Text Box 48"/>
          <p:cNvSpPr/>
          <p:nvPr/>
        </p:nvSpPr>
        <p:spPr>
          <a:xfrm>
            <a:off x="2374920" y="6113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Line 49"/>
          <p:cNvSpPr/>
          <p:nvPr/>
        </p:nvSpPr>
        <p:spPr>
          <a:xfrm>
            <a:off x="2629080" y="6454800"/>
            <a:ext cx="1368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Text Box 50"/>
          <p:cNvSpPr/>
          <p:nvPr/>
        </p:nvSpPr>
        <p:spPr>
          <a:xfrm>
            <a:off x="4842000" y="30686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Text Box 51"/>
          <p:cNvSpPr/>
          <p:nvPr/>
        </p:nvSpPr>
        <p:spPr>
          <a:xfrm>
            <a:off x="7002720" y="2997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Text Box 52"/>
          <p:cNvSpPr/>
          <p:nvPr/>
        </p:nvSpPr>
        <p:spPr>
          <a:xfrm>
            <a:off x="4967640" y="6186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Text Box 53"/>
          <p:cNvSpPr/>
          <p:nvPr/>
        </p:nvSpPr>
        <p:spPr>
          <a:xfrm>
            <a:off x="7128000" y="6113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5365800" y="3286080"/>
            <a:ext cx="1224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Line 56"/>
          <p:cNvSpPr/>
          <p:nvPr/>
        </p:nvSpPr>
        <p:spPr>
          <a:xfrm>
            <a:off x="7308720" y="3286080"/>
            <a:ext cx="1297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Line 57"/>
          <p:cNvSpPr/>
          <p:nvPr/>
        </p:nvSpPr>
        <p:spPr>
          <a:xfrm>
            <a:off x="5365800" y="6454800"/>
            <a:ext cx="1224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Line 58"/>
          <p:cNvSpPr/>
          <p:nvPr/>
        </p:nvSpPr>
        <p:spPr>
          <a:xfrm>
            <a:off x="7524720" y="6381720"/>
            <a:ext cx="1224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TextBox 50"/>
          <p:cNvSpPr/>
          <p:nvPr/>
        </p:nvSpPr>
        <p:spPr>
          <a:xfrm>
            <a:off x="1003320" y="178596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TextBox 51"/>
          <p:cNvSpPr/>
          <p:nvPr/>
        </p:nvSpPr>
        <p:spPr>
          <a:xfrm>
            <a:off x="5289480" y="178596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TextBox 52"/>
          <p:cNvSpPr/>
          <p:nvPr/>
        </p:nvSpPr>
        <p:spPr>
          <a:xfrm>
            <a:off x="7432560" y="1857240"/>
            <a:ext cx="8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TextBox 53"/>
          <p:cNvSpPr/>
          <p:nvPr/>
        </p:nvSpPr>
        <p:spPr>
          <a:xfrm>
            <a:off x="1003320" y="492912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TextBox 54"/>
          <p:cNvSpPr/>
          <p:nvPr/>
        </p:nvSpPr>
        <p:spPr>
          <a:xfrm>
            <a:off x="2860560" y="4929120"/>
            <a:ext cx="8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TextBox 55"/>
          <p:cNvSpPr/>
          <p:nvPr/>
        </p:nvSpPr>
        <p:spPr>
          <a:xfrm>
            <a:off x="5361120" y="492912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TextBox 56"/>
          <p:cNvSpPr/>
          <p:nvPr/>
        </p:nvSpPr>
        <p:spPr>
          <a:xfrm>
            <a:off x="7575480" y="492912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TextBox 57"/>
          <p:cNvSpPr/>
          <p:nvPr/>
        </p:nvSpPr>
        <p:spPr>
          <a:xfrm>
            <a:off x="2860560" y="1857240"/>
            <a:ext cx="8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1.Беглость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 (б)– это  продуктивность выполнения задания.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5280" y="2349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яется путем подсчета количества рисунков, независимо от их содерж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ворческие личности работают продуктивно, с этим связана беглость мышл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2. Гибкость (г)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- это число изменений категорий рисунка, считая от первого рисунка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23640" y="1197000"/>
            <a:ext cx="856908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0458c"/>
                </a:solidFill>
                <a:uFillTx/>
                <a:latin typeface="Tahoma"/>
              </a:rPr>
              <a:t>Возможные категории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04480" indent="-204480">
              <a:spcBef>
                <a:spcPts val="700"/>
              </a:spcBef>
              <a:buClr>
                <a:srgbClr val="ffffff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Живое (Ж)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– человек, лицо, цветок, дерево, любое растение, плоды,  животное, насекомое, рыба, птица и т.д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04480" indent="-204480">
              <a:spcBef>
                <a:spcPts val="700"/>
              </a:spcBef>
              <a:buClr>
                <a:srgbClr val="ffffff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ханическое, предметное (М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)- лодка, космический корабль, велосипед, машина, инструмент, игрушка, оборудование, мебель, предметы домашнего обихода, посуда и т.д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04480" indent="-204480">
              <a:spcBef>
                <a:spcPts val="700"/>
              </a:spcBef>
              <a:buClr>
                <a:srgbClr val="ffffff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Символическое (С)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– буква, цифра, название, герб, флаг, символическое обозначени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04480" indent="-204480">
              <a:spcBef>
                <a:spcPts val="700"/>
              </a:spcBef>
              <a:buClr>
                <a:srgbClr val="ffffff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Видовое, жанровое (В)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город, шоссе, дом, двор, парк, космос, горы и т.д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2124000" cy="223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2016000" cy="2160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3"/>
          <a:stretch/>
        </p:blipFill>
        <p:spPr>
          <a:xfrm>
            <a:off x="6012000" y="1052640"/>
            <a:ext cx="2305080" cy="226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4"/>
          <a:stretch/>
        </p:blipFill>
        <p:spPr>
          <a:xfrm>
            <a:off x="6300720" y="4149720"/>
            <a:ext cx="1965240" cy="19288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3355200" y="2852640"/>
            <a:ext cx="204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58c"/>
                </a:solidFill>
                <a:latin typeface="Times New Roman"/>
              </a:rPr>
              <a:t>Живое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1511640" y="28526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Глаз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1538280" y="582444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Какту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7016760" y="3303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Лиц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6834960" y="604044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Гусениц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2303280" cy="230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1800360" cy="1765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3"/>
          <a:stretch/>
        </p:blipFill>
        <p:spPr>
          <a:xfrm>
            <a:off x="5796000" y="2421000"/>
            <a:ext cx="2174760" cy="2376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3854160" y="692280"/>
            <a:ext cx="348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58c"/>
                </a:solidFill>
                <a:latin typeface="Times New Roman"/>
              </a:rPr>
              <a:t>Механическое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58c"/>
                </a:solidFill>
                <a:latin typeface="Times New Roman"/>
              </a:rPr>
              <a:t>(предметное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6049800" y="488952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Конфетница на стол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1128600" y="287352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Автобу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761400" y="60930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Стиральная машин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1835280" y="3429000"/>
            <a:ext cx="2608200" cy="2664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4051800" y="952560"/>
            <a:ext cx="27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58c"/>
                </a:solidFill>
                <a:latin typeface="Times New Roman"/>
              </a:rPr>
              <a:t>Видовое: 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452120" y="50324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Утро в горах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2"/>
          <a:stretch/>
        </p:blipFill>
        <p:spPr>
          <a:xfrm>
            <a:off x="6083280" y="2494080"/>
            <a:ext cx="2160720" cy="2447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3"/>
          <a:stretch/>
        </p:blipFill>
        <p:spPr>
          <a:xfrm>
            <a:off x="826920" y="620640"/>
            <a:ext cx="1524240" cy="1533600"/>
          </a:xfrm>
          <a:prstGeom prst="rect">
            <a:avLst/>
          </a:prstGeom>
          <a:ln w="0">
            <a:noFill/>
          </a:ln>
        </p:spPr>
      </p:pic>
      <p:sp>
        <p:nvSpPr>
          <p:cNvPr id="320" name="Line 9"/>
          <p:cNvSpPr/>
          <p:nvPr/>
        </p:nvSpPr>
        <p:spPr>
          <a:xfrm>
            <a:off x="826920" y="2276640"/>
            <a:ext cx="1584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 flipV="1">
            <a:off x="2411280" y="549360"/>
            <a:ext cx="0" cy="1727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 flipH="1">
            <a:off x="684000" y="549360"/>
            <a:ext cx="17269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684360" y="549360"/>
            <a:ext cx="0" cy="1727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790560" y="2297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Пейзаж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2887920" cy="3384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990720" y="3481560"/>
            <a:ext cx="2484360" cy="2539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1422000" y="61135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Независтимост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1861560" y="1268280"/>
            <a:ext cx="472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58c"/>
                </a:solidFill>
                <a:latin typeface="Times New Roman"/>
              </a:rPr>
              <a:t>Символическое: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7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3. Оригинальность (о)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– местоположение рисун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1557000"/>
            <a:ext cx="853272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ценка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1 балл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рисунок снаружи стимульной фигуры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2 балла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рисунок только внутри стимульной фигуры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3 балла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рисунок как снаружи, так и внутри стимульной фигур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777080" cy="24368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611280" y="1557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1 балл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419640" y="14842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2 балла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227640" y="1628640"/>
            <a:ext cx="21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3 балла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-484200" y="4876920"/>
            <a:ext cx="35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Забавный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клоу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(снаружи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замкнутог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контура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916360" y="4876920"/>
            <a:ext cx="267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Детский куби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(внутри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замкнутог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контура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435640" y="4873680"/>
            <a:ext cx="338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Солнечный необитаемый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остров (синтез: снаружи и внутри замкнутого контура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2323080" y="189000"/>
            <a:ext cx="435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469"/>
                </a:solidFill>
                <a:latin typeface="Times New Roman"/>
              </a:rPr>
              <a:t>Оригинальность: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469"/>
                </a:solidFill>
                <a:latin typeface="Tahoma"/>
              </a:rPr>
              <a:t>В ходе реформ современной школы стало уделяться большее внимание воспитанию таланта, развитию природных задатков и способностей каждого учащегося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1782720" y="2905200"/>
            <a:ext cx="631800" cy="1466640"/>
          </a:xfrm>
          <a:prstGeom prst="rect">
            <a:avLst/>
          </a:prstGeom>
          <a:ln w="0">
            <a:noFill/>
          </a:ln>
        </p:spPr>
      </p:pic>
      <p:sp>
        <p:nvSpPr>
          <p:cNvPr id="340" name="Line 6"/>
          <p:cNvSpPr/>
          <p:nvPr/>
        </p:nvSpPr>
        <p:spPr>
          <a:xfrm>
            <a:off x="630360" y="2689200"/>
            <a:ext cx="0" cy="2016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703440" y="2689200"/>
            <a:ext cx="18716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2575080" y="2689200"/>
            <a:ext cx="0" cy="2016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Line 9"/>
          <p:cNvSpPr/>
          <p:nvPr/>
        </p:nvSpPr>
        <p:spPr>
          <a:xfrm flipH="1">
            <a:off x="630360" y="4705200"/>
            <a:ext cx="1944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630360" y="3841920"/>
            <a:ext cx="1081080" cy="863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867960" y="494172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Муравьиный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праздни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1492920" y="206064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1 бал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7" name="Picture 13" descr=""/>
          <p:cNvPicPr/>
          <p:nvPr/>
        </p:nvPicPr>
        <p:blipFill>
          <a:blip r:embed="rId2"/>
          <a:stretch/>
        </p:blipFill>
        <p:spPr>
          <a:xfrm>
            <a:off x="3295800" y="2760840"/>
            <a:ext cx="2016000" cy="19634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4"/>
          <p:cNvSpPr/>
          <p:nvPr/>
        </p:nvSpPr>
        <p:spPr>
          <a:xfrm>
            <a:off x="3864960" y="206064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2 балл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3415680" y="49417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След на Лун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0" name="Picture 16" descr=""/>
          <p:cNvPicPr/>
          <p:nvPr/>
        </p:nvPicPr>
        <p:blipFill>
          <a:blip r:embed="rId3"/>
          <a:stretch/>
        </p:blipFill>
        <p:spPr>
          <a:xfrm>
            <a:off x="6319800" y="2833560"/>
            <a:ext cx="1944720" cy="1917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7"/>
          <p:cNvSpPr/>
          <p:nvPr/>
        </p:nvSpPr>
        <p:spPr>
          <a:xfrm>
            <a:off x="6765480" y="20415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3 балл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6586560" y="5013360"/>
            <a:ext cx="9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Вес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2015640" y="260280"/>
            <a:ext cx="41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58c"/>
                </a:solidFill>
                <a:latin typeface="Times New Roman"/>
              </a:rPr>
              <a:t>Оригинальность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4. Разработанность  (р) –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симметрия/ асимметрия рисун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39640" y="1557000"/>
            <a:ext cx="82296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цен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0 баллов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– симметрично внутреннее и внешнее пространство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 балл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– ассиметрично вне замкнутого контура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 балла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- ассиметрично внутри замкнутого контура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балла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– ассиметрично полностью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795320" cy="187164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5"/>
          <p:cNvSpPr/>
          <p:nvPr/>
        </p:nvSpPr>
        <p:spPr>
          <a:xfrm>
            <a:off x="983160" y="63972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0 балло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395280" y="3068640"/>
            <a:ext cx="232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Разноцветный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леденец – (все симметрично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2"/>
          <a:stretch/>
        </p:blipFill>
        <p:spPr>
          <a:xfrm rot="206400">
            <a:off x="3132000" y="1196640"/>
            <a:ext cx="1791000" cy="21049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3321720" y="6397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1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бал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2961720" y="3429000"/>
            <a:ext cx="20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(ассиметричн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Снаружи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1755720" cy="18003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1"/>
          <p:cNvSpPr/>
          <p:nvPr/>
        </p:nvSpPr>
        <p:spPr>
          <a:xfrm>
            <a:off x="6117480" y="56844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балл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5475240" y="314172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Дуэль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(ассиметрично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внутри круга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5" name="Picture 13" descr=""/>
          <p:cNvPicPr/>
          <p:nvPr/>
        </p:nvPicPr>
        <p:blipFill>
          <a:blip r:embed="rId4"/>
          <a:stretch/>
        </p:blipFill>
        <p:spPr>
          <a:xfrm>
            <a:off x="1116000" y="479736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4"/>
          <p:cNvSpPr/>
          <p:nvPr/>
        </p:nvSpPr>
        <p:spPr>
          <a:xfrm>
            <a:off x="1096200" y="436572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балл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2916000" y="5392800"/>
            <a:ext cx="37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Шар, по которому течет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(ассиметрично как внутри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так и снаружи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2368080" y="0"/>
            <a:ext cx="40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469"/>
                </a:solidFill>
                <a:latin typeface="Times New Roman"/>
              </a:rPr>
              <a:t>Разработанност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5. Название (н)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– богатство словарного запаса, способность к образной передаче сути изображ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4000" y="2133720"/>
            <a:ext cx="845964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0 баллов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название не дано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1 балл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название состоит из 1 слова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2 балла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словосочетание, которое отражает точно то, что изображено на рисунк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3 балла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образное название, выражающее больше, чем показано на картинке (скрытый смысл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66"/>
                </a:solidFill>
                <a:latin typeface="Tahoma"/>
              </a:rPr>
              <a:t>Нормативные данные для взрослых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24000" y="1484280"/>
          <a:ext cx="8262720" cy="4429080"/>
        </p:xfrm>
        <a:graphic>
          <a:graphicData uri="http://schemas.openxmlformats.org/drawingml/2006/table">
            <a:tbl>
              <a:tblPr/>
              <a:tblGrid>
                <a:gridCol w="2663640"/>
                <a:gridCol w="3024360"/>
                <a:gridCol w="2574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«Сырые»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казатели «нормы»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аксимальные показател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глость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9 до 12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ибкость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5 до 9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игинальность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17  до  33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работанность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5 до 17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11 до 23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52 до 92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7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66"/>
                </a:solidFill>
                <a:latin typeface="Tahoma"/>
              </a:rPr>
              <a:t>Нормативные данные для детей 8-12 лет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68360" y="1484280"/>
          <a:ext cx="8118360" cy="4429080"/>
        </p:xfrm>
        <a:graphic>
          <a:graphicData uri="http://schemas.openxmlformats.org/drawingml/2006/table">
            <a:tbl>
              <a:tblPr/>
              <a:tblGrid>
                <a:gridCol w="2663640"/>
                <a:gridCol w="3116520"/>
                <a:gridCol w="2338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«Сырые»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казатели «нормы»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аксимальные показател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глость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9 до 12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ибкость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5 до 9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игинальность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20  до  32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работанность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3,5 до 15,5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11 до 20,8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 56 до 84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8 балл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6" name="Picture 9" descr=""/>
          <p:cNvPicPr/>
          <p:nvPr/>
        </p:nvPicPr>
        <p:blipFill>
          <a:blip r:embed="rId1"/>
          <a:stretch/>
        </p:blipFill>
        <p:spPr>
          <a:xfrm>
            <a:off x="0" y="-6869160"/>
            <a:ext cx="1743120" cy="17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7" name=""/>
          <p:cNvGraphicFramePr/>
          <p:nvPr/>
        </p:nvGraphicFramePr>
        <p:xfrm>
          <a:off x="0" y="-6869160"/>
          <a:ext cx="208080" cy="1633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Rectangle 21"/>
          <p:cNvSpPr/>
          <p:nvPr/>
        </p:nvSpPr>
        <p:spPr>
          <a:xfrm>
            <a:off x="1800" y="-5373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Rectangle 22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0" name="Picture 8" descr=""/>
          <p:cNvPicPr/>
          <p:nvPr/>
        </p:nvPicPr>
        <p:blipFill>
          <a:blip r:embed="rId2"/>
          <a:stretch/>
        </p:blipFill>
        <p:spPr>
          <a:xfrm>
            <a:off x="0" y="-6869160"/>
            <a:ext cx="176220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0" y="-4319640"/>
          <a:ext cx="208080" cy="18576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Rectangle 33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3"/>
          <a:stretch/>
        </p:blipFill>
        <p:spPr>
          <a:xfrm>
            <a:off x="0" y="-6869160"/>
            <a:ext cx="1809720" cy="43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0" y="-2462040"/>
          <a:ext cx="208080" cy="4116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1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Rectangle 44"/>
          <p:cNvSpPr/>
          <p:nvPr/>
        </p:nvSpPr>
        <p:spPr>
          <a:xfrm>
            <a:off x="1800" y="1516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4"/>
          <a:stretch/>
        </p:blipFill>
        <p:spPr>
          <a:xfrm>
            <a:off x="0" y="-6869160"/>
            <a:ext cx="1733400" cy="470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0" y="2570040"/>
          <a:ext cx="208080" cy="441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Rectangle 56"/>
          <p:cNvSpPr/>
          <p:nvPr/>
        </p:nvSpPr>
        <p:spPr>
          <a:xfrm>
            <a:off x="1800" y="684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Rectangle 57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1" name="Picture 5" descr=""/>
          <p:cNvPicPr/>
          <p:nvPr/>
        </p:nvPicPr>
        <p:blipFill>
          <a:blip r:embed="rId5"/>
          <a:stretch/>
        </p:blipFill>
        <p:spPr>
          <a:xfrm>
            <a:off x="0" y="-6869160"/>
            <a:ext cx="1762200" cy="20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0" y="7897680"/>
          <a:ext cx="208080" cy="1919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9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68"/>
          <p:cNvSpPr/>
          <p:nvPr/>
        </p:nvSpPr>
        <p:spPr>
          <a:xfrm>
            <a:off x="1800" y="9679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Rectangle 69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6"/>
          <a:stretch/>
        </p:blipFill>
        <p:spPr>
          <a:xfrm>
            <a:off x="0" y="-6869160"/>
            <a:ext cx="1743120" cy="21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"/>
          <p:cNvGraphicFramePr/>
          <p:nvPr/>
        </p:nvGraphicFramePr>
        <p:xfrm>
          <a:off x="0" y="10733040"/>
          <a:ext cx="208080" cy="2017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0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Rectangle 80"/>
          <p:cNvSpPr/>
          <p:nvPr/>
        </p:nvSpPr>
        <p:spPr>
          <a:xfrm>
            <a:off x="5760" y="12659040"/>
            <a:ext cx="1064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СТОВАЯ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Rectangle 87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9" name="Picture 86" descr=""/>
          <p:cNvPicPr/>
          <p:nvPr/>
        </p:nvPicPr>
        <p:blipFill>
          <a:blip r:embed="rId7"/>
          <a:stretch/>
        </p:blipFill>
        <p:spPr>
          <a:xfrm>
            <a:off x="0" y="-6869160"/>
            <a:ext cx="1743120" cy="17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0" y="-6869160"/>
          <a:ext cx="208080" cy="1633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Rectangle 98"/>
          <p:cNvSpPr/>
          <p:nvPr/>
        </p:nvSpPr>
        <p:spPr>
          <a:xfrm>
            <a:off x="1800" y="-5373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Rectangle 99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3" name="Picture 85" descr=""/>
          <p:cNvPicPr/>
          <p:nvPr/>
        </p:nvPicPr>
        <p:blipFill>
          <a:blip r:embed="rId8"/>
          <a:stretch/>
        </p:blipFill>
        <p:spPr>
          <a:xfrm>
            <a:off x="0" y="-6869160"/>
            <a:ext cx="176220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0" y="-4319640"/>
          <a:ext cx="208080" cy="18576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Rectangle 110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6" name="Picture 84" descr=""/>
          <p:cNvPicPr/>
          <p:nvPr/>
        </p:nvPicPr>
        <p:blipFill>
          <a:blip r:embed="rId9"/>
          <a:stretch/>
        </p:blipFill>
        <p:spPr>
          <a:xfrm>
            <a:off x="0" y="-6869160"/>
            <a:ext cx="1809720" cy="43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0" y="-2462040"/>
          <a:ext cx="208080" cy="4116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1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Rectangle 121"/>
          <p:cNvSpPr/>
          <p:nvPr/>
        </p:nvSpPr>
        <p:spPr>
          <a:xfrm>
            <a:off x="1800" y="1516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Rectangle 122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10" name="Picture 83" descr=""/>
          <p:cNvPicPr/>
          <p:nvPr/>
        </p:nvPicPr>
        <p:blipFill>
          <a:blip r:embed="rId10"/>
          <a:stretch/>
        </p:blipFill>
        <p:spPr>
          <a:xfrm>
            <a:off x="0" y="-6869160"/>
            <a:ext cx="1733400" cy="470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0" y="2570040"/>
          <a:ext cx="208080" cy="441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133"/>
          <p:cNvSpPr/>
          <p:nvPr/>
        </p:nvSpPr>
        <p:spPr>
          <a:xfrm>
            <a:off x="1800" y="684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Rectangle 134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14" name="Picture 82" descr=""/>
          <p:cNvPicPr/>
          <p:nvPr/>
        </p:nvPicPr>
        <p:blipFill>
          <a:blip r:embed="rId11"/>
          <a:stretch/>
        </p:blipFill>
        <p:spPr>
          <a:xfrm>
            <a:off x="0" y="-6869160"/>
            <a:ext cx="1762200" cy="20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0" y="7897680"/>
          <a:ext cx="208080" cy="1919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9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Rectangle 145"/>
          <p:cNvSpPr/>
          <p:nvPr/>
        </p:nvSpPr>
        <p:spPr>
          <a:xfrm>
            <a:off x="1800" y="9679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Rectangle 146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18" name="Picture 81" descr=""/>
          <p:cNvPicPr/>
          <p:nvPr/>
        </p:nvPicPr>
        <p:blipFill>
          <a:blip r:embed="rId12"/>
          <a:stretch/>
        </p:blipFill>
        <p:spPr>
          <a:xfrm>
            <a:off x="0" y="-6869160"/>
            <a:ext cx="1743120" cy="21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0" y="10733040"/>
          <a:ext cx="208080" cy="2017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0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Rectangle 157"/>
          <p:cNvSpPr/>
          <p:nvPr/>
        </p:nvSpPr>
        <p:spPr>
          <a:xfrm>
            <a:off x="5760" y="12659040"/>
            <a:ext cx="1064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СТОВАЯ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Rectangle 164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2" name="Picture 163" descr=""/>
          <p:cNvPicPr/>
          <p:nvPr/>
        </p:nvPicPr>
        <p:blipFill>
          <a:blip r:embed="rId13"/>
          <a:stretch/>
        </p:blipFill>
        <p:spPr>
          <a:xfrm>
            <a:off x="0" y="-6869160"/>
            <a:ext cx="1743120" cy="17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0" y="-6869160"/>
          <a:ext cx="208080" cy="1633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Rectangle 175"/>
          <p:cNvSpPr/>
          <p:nvPr/>
        </p:nvSpPr>
        <p:spPr>
          <a:xfrm>
            <a:off x="1800" y="-5373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6" name="Picture 162" descr=""/>
          <p:cNvPicPr/>
          <p:nvPr/>
        </p:nvPicPr>
        <p:blipFill>
          <a:blip r:embed="rId14"/>
          <a:stretch/>
        </p:blipFill>
        <p:spPr>
          <a:xfrm>
            <a:off x="0" y="-6869160"/>
            <a:ext cx="176220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0" y="-4319640"/>
          <a:ext cx="208080" cy="18576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Rectangle 187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9" name="Picture 161" descr=""/>
          <p:cNvPicPr/>
          <p:nvPr/>
        </p:nvPicPr>
        <p:blipFill>
          <a:blip r:embed="rId15"/>
          <a:stretch/>
        </p:blipFill>
        <p:spPr>
          <a:xfrm>
            <a:off x="0" y="-6869160"/>
            <a:ext cx="1809720" cy="43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0" y="-2462040"/>
          <a:ext cx="208080" cy="4116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1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Rectangle 198"/>
          <p:cNvSpPr/>
          <p:nvPr/>
        </p:nvSpPr>
        <p:spPr>
          <a:xfrm>
            <a:off x="1800" y="1516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Rectangle 199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3" name="Picture 160" descr=""/>
          <p:cNvPicPr/>
          <p:nvPr/>
        </p:nvPicPr>
        <p:blipFill>
          <a:blip r:embed="rId16"/>
          <a:stretch/>
        </p:blipFill>
        <p:spPr>
          <a:xfrm>
            <a:off x="0" y="-6869160"/>
            <a:ext cx="1733400" cy="470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4" name=""/>
          <p:cNvGraphicFramePr/>
          <p:nvPr/>
        </p:nvGraphicFramePr>
        <p:xfrm>
          <a:off x="0" y="2570040"/>
          <a:ext cx="208080" cy="441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Rectangle 210"/>
          <p:cNvSpPr/>
          <p:nvPr/>
        </p:nvSpPr>
        <p:spPr>
          <a:xfrm>
            <a:off x="1800" y="684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Rectangle 211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7" name="Picture 159" descr=""/>
          <p:cNvPicPr/>
          <p:nvPr/>
        </p:nvPicPr>
        <p:blipFill>
          <a:blip r:embed="rId17"/>
          <a:stretch/>
        </p:blipFill>
        <p:spPr>
          <a:xfrm>
            <a:off x="0" y="-6869160"/>
            <a:ext cx="1762200" cy="20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0" y="7897680"/>
          <a:ext cx="208080" cy="1919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9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Rectangle 222"/>
          <p:cNvSpPr/>
          <p:nvPr/>
        </p:nvSpPr>
        <p:spPr>
          <a:xfrm>
            <a:off x="1800" y="9679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Rectangle 223"/>
          <p:cNvSpPr/>
          <p:nvPr/>
        </p:nvSpPr>
        <p:spPr>
          <a:xfrm>
            <a:off x="0" y="-686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1" name="Picture 158" descr=""/>
          <p:cNvPicPr/>
          <p:nvPr/>
        </p:nvPicPr>
        <p:blipFill>
          <a:blip r:embed="rId18"/>
          <a:stretch/>
        </p:blipFill>
        <p:spPr>
          <a:xfrm>
            <a:off x="0" y="-6869160"/>
            <a:ext cx="1743120" cy="21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0" y="10733040"/>
          <a:ext cx="208080" cy="2017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0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Rectangle 234"/>
          <p:cNvSpPr/>
          <p:nvPr/>
        </p:nvSpPr>
        <p:spPr>
          <a:xfrm>
            <a:off x="5760" y="12659040"/>
            <a:ext cx="1064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СТОВАЯ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4" name="Picture 235" descr=""/>
          <p:cNvPicPr/>
          <p:nvPr/>
        </p:nvPicPr>
        <p:blipFill>
          <a:blip r:embed="rId19"/>
          <a:stretch/>
        </p:blipFill>
        <p:spPr>
          <a:xfrm>
            <a:off x="119160" y="3597120"/>
            <a:ext cx="1847880" cy="2086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36" descr=""/>
          <p:cNvPicPr/>
          <p:nvPr/>
        </p:nvPicPr>
        <p:blipFill>
          <a:blip r:embed="rId20"/>
          <a:stretch/>
        </p:blipFill>
        <p:spPr>
          <a:xfrm>
            <a:off x="2050920" y="1052640"/>
            <a:ext cx="6639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1809720" cy="4391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1743120" cy="1743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1762200" cy="1981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6948360" y="620640"/>
            <a:ext cx="1743120" cy="2152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"/>
          <p:cNvPicPr/>
          <p:nvPr/>
        </p:nvPicPr>
        <p:blipFill>
          <a:blip r:embed="rId5"/>
          <a:stretch/>
        </p:blipFill>
        <p:spPr>
          <a:xfrm>
            <a:off x="6948360" y="3068640"/>
            <a:ext cx="1762200" cy="2048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6"/>
          <a:stretch/>
        </p:blipFill>
        <p:spPr>
          <a:xfrm>
            <a:off x="2627280" y="692280"/>
            <a:ext cx="17337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ктуальност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На уровне учени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На уровне государств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На уровне педагог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4" name="Picture 7" descr="MF31222"/>
          <p:cNvPicPr/>
          <p:nvPr/>
        </p:nvPicPr>
        <p:blipFill>
          <a:blip r:embed="rId4"/>
          <a:stretch/>
        </p:blipFill>
        <p:spPr>
          <a:xfrm>
            <a:off x="468360" y="5661000"/>
            <a:ext cx="7318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7" descr="MF31222"/>
          <p:cNvPicPr/>
          <p:nvPr/>
        </p:nvPicPr>
        <p:blipFill>
          <a:blip r:embed="rId1"/>
          <a:stretch/>
        </p:blipFill>
        <p:spPr>
          <a:xfrm>
            <a:off x="324000" y="5734080"/>
            <a:ext cx="731520" cy="8794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9"/>
          <p:cNvSpPr/>
          <p:nvPr/>
        </p:nvSpPr>
        <p:spPr>
          <a:xfrm>
            <a:off x="468360" y="188640"/>
            <a:ext cx="79912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imes New Roman"/>
              </a:rPr>
              <a:t>Условия формирования творческого мышления учащихс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доминирование  заданий дивергентного типа и  развивающих возможностей учебного материала над его информационной насыщенностью;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развитие личностных функций субъектов через индивидуализацию образовательного процесса;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ориентация на постановку перед детьми проблемных ситуаций т.е., проблематизация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использование системы методических приёмов, направленных на формирование дивергентного мышлени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50560" y="1557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469"/>
                </a:solidFill>
                <a:latin typeface="Tahoma"/>
              </a:rPr>
              <a:t>Будущее поколение должно уметь “добывать” знания и приобретать навыки, необходимые для развития общества, что требует перехода от процесса передачи учащимся готового уровня знаний к приоритетности развития личности, ее способностей к самосовершенствованию, что обеспечивает ей успешность принятия решений, самостоятельного функционирования в постоянно меняющихся социальных условиях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/>
          <p:cNvSpPr/>
          <p:nvPr/>
        </p:nvSpPr>
        <p:spPr>
          <a:xfrm>
            <a:off x="971640" y="30744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imes New Roman"/>
              </a:rPr>
              <a:t>Система заданий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imes New Roman"/>
              </a:rPr>
              <a:t>дивергентного типа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8" name="Picture 4" descr="C:\Users\dns\AppData\Local\Microsoft\Windows\Temporary Internet Files\Content.IE5\7W5FYDNQ\MP900439508[1].jpg"/>
          <p:cNvPicPr/>
          <p:nvPr/>
        </p:nvPicPr>
        <p:blipFill>
          <a:blip r:embed="rId1"/>
          <a:stretch/>
        </p:blipFill>
        <p:spPr>
          <a:xfrm>
            <a:off x="0" y="3297240"/>
            <a:ext cx="2757600" cy="3560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C:\Users\dns\AppData\Local\Microsoft\Windows\Temporary Internet Files\Content.IE5\7W5FYDNQ\MC900415486[1].wmf"/>
          <p:cNvPicPr/>
          <p:nvPr/>
        </p:nvPicPr>
        <p:blipFill>
          <a:blip r:embed="rId2"/>
          <a:stretch/>
        </p:blipFill>
        <p:spPr>
          <a:xfrm>
            <a:off x="5796000" y="260280"/>
            <a:ext cx="3348000" cy="27558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2" descr="C:\Users\dns\AppData\Local\Microsoft\Windows\Temporary Internet Files\Content.IE5\2PZNA3A4\MC900389102[1].wmf"/>
          <p:cNvPicPr/>
          <p:nvPr/>
        </p:nvPicPr>
        <p:blipFill>
          <a:blip r:embed="rId3"/>
          <a:stretch/>
        </p:blipFill>
        <p:spPr>
          <a:xfrm flipH="1">
            <a:off x="6804000" y="5013360"/>
            <a:ext cx="20160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349992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ссмотрев рисунок «на Катке»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дайте любой вопрос, в котором существительное стоит в предложном падеж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еречислите как можно больше причин хорошего настроения дете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дайте как можно больше вопросов о том, чего не видно на картинк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62" name="Picture 4" descr="MF31222"/>
          <p:cNvPicPr/>
          <p:nvPr/>
        </p:nvPicPr>
        <p:blipFill>
          <a:blip r:embed="rId4"/>
          <a:stretch/>
        </p:blipFill>
        <p:spPr>
          <a:xfrm>
            <a:off x="7451640" y="3357720"/>
            <a:ext cx="731880" cy="8794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5"/>
          <a:stretch/>
        </p:blipFill>
        <p:spPr>
          <a:xfrm>
            <a:off x="1476360" y="0"/>
            <a:ext cx="6120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69744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303469"/>
                </a:solidFill>
                <a:latin typeface="Times New Roman"/>
              </a:rPr>
              <a:t>Задача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469"/>
                </a:solidFill>
                <a:latin typeface="Times New Roman"/>
              </a:rPr>
              <a:t>Рабочие должны были посадить 350 саженцев.</a:t>
            </a:r>
            <a:br>
              <a:rPr sz="2800"/>
            </a:br>
            <a:r>
              <a:rPr b="0" lang="ru-RU" sz="2800" spc="-1" strike="noStrike">
                <a:solidFill>
                  <a:srgbClr val="303469"/>
                </a:solidFill>
                <a:latin typeface="Times New Roman"/>
              </a:rPr>
              <a:t> В первый день они посадили 1/7 всех  </a:t>
            </a:r>
            <a:br>
              <a:rPr sz="2800"/>
            </a:br>
            <a:r>
              <a:rPr b="0" lang="ru-RU" sz="2800" spc="-1" strike="noStrike">
                <a:solidFill>
                  <a:srgbClr val="303469"/>
                </a:solidFill>
                <a:latin typeface="Times New Roman"/>
              </a:rPr>
              <a:t> саженцев, а во второй день – 3/7 всех </a:t>
            </a:r>
            <a:br>
              <a:rPr sz="2800"/>
            </a:br>
            <a:r>
              <a:rPr b="0" lang="ru-RU" sz="2800" spc="-1" strike="noStrike">
                <a:solidFill>
                  <a:srgbClr val="303469"/>
                </a:solidFill>
                <a:latin typeface="Times New Roman"/>
              </a:rPr>
              <a:t> саженцев.</a:t>
            </a:r>
            <a:br>
              <a:rPr sz="2800"/>
            </a:br>
            <a:r>
              <a:rPr b="0" lang="ru-RU" sz="2800" spc="-1" strike="noStrike">
                <a:solidFill>
                  <a:srgbClr val="303469"/>
                </a:solidFill>
                <a:latin typeface="Times New Roman"/>
              </a:rPr>
              <a:t>      </a:t>
            </a:r>
            <a:br>
              <a:rPr sz="2800"/>
            </a:br>
            <a:r>
              <a:rPr b="0" lang="ru-RU" sz="2800" spc="-1" strike="noStrike">
                <a:solidFill>
                  <a:srgbClr val="303469"/>
                </a:solidFill>
                <a:latin typeface="Times New Roman"/>
              </a:rPr>
              <a:t>     Поставь вопрос и реши задачу.</a:t>
            </a:r>
            <a:br>
              <a:rPr sz="24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9280" y="328428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Варианты вопросов учащихся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Сколько саженцев посадили в 1-й день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Сколько саженцев посадили во 2-й день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Сколько осталось саженцев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На сколько саженцев в 1-й день посадили меньше чем во второй? И т.д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66" name="Picture 4" descr="MF31222"/>
          <p:cNvPicPr/>
          <p:nvPr/>
        </p:nvPicPr>
        <p:blipFill>
          <a:blip r:embed="rId5"/>
          <a:stretch/>
        </p:blipFill>
        <p:spPr>
          <a:xfrm>
            <a:off x="7885080" y="4797360"/>
            <a:ext cx="731880" cy="8794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dns\AppData\Local\Microsoft\Windows\Temporary Internet Files\Content.IE5\1DXTUYKB\MC900389004[1].wmf"/>
          <p:cNvPicPr/>
          <p:nvPr/>
        </p:nvPicPr>
        <p:blipFill>
          <a:blip r:embed="rId6"/>
          <a:stretch/>
        </p:blipFill>
        <p:spPr>
          <a:xfrm>
            <a:off x="6462720" y="1125360"/>
            <a:ext cx="2681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  <a:ea typeface="Times New Roman"/>
              </a:rPr>
              <a:t>«Разделите квадрат на четыре равные части».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69" name="Picture 4" descr="MF31222"/>
          <p:cNvPicPr/>
          <p:nvPr/>
        </p:nvPicPr>
        <p:blipFill>
          <a:blip r:embed="rId1"/>
          <a:stretch/>
        </p:blipFill>
        <p:spPr>
          <a:xfrm>
            <a:off x="324000" y="5734080"/>
            <a:ext cx="731520" cy="879480"/>
          </a:xfrm>
          <a:prstGeom prst="rect">
            <a:avLst/>
          </a:prstGeom>
          <a:ln w="0">
            <a:noFill/>
          </a:ln>
        </p:spPr>
      </p:pic>
      <p:grpSp>
        <p:nvGrpSpPr>
          <p:cNvPr id="470" name="Group 5"/>
          <p:cNvGrpSpPr/>
          <p:nvPr/>
        </p:nvGrpSpPr>
        <p:grpSpPr>
          <a:xfrm>
            <a:off x="179280" y="3068640"/>
            <a:ext cx="8784720" cy="1149840"/>
            <a:chOff x="179280" y="3068640"/>
            <a:chExt cx="8784720" cy="1149840"/>
          </a:xfrm>
        </p:grpSpPr>
        <p:grpSp>
          <p:nvGrpSpPr>
            <p:cNvPr id="471" name="Group 30"/>
            <p:cNvGrpSpPr/>
            <p:nvPr/>
          </p:nvGrpSpPr>
          <p:grpSpPr>
            <a:xfrm>
              <a:off x="179280" y="3070800"/>
              <a:ext cx="1123920" cy="1119600"/>
              <a:chOff x="179280" y="3070800"/>
              <a:chExt cx="1123920" cy="1119600"/>
            </a:xfrm>
          </p:grpSpPr>
          <p:sp>
            <p:nvSpPr>
              <p:cNvPr id="472" name="Rectangle 33"/>
              <p:cNvSpPr/>
              <p:nvPr/>
            </p:nvSpPr>
            <p:spPr>
              <a:xfrm>
                <a:off x="194760" y="3087000"/>
                <a:ext cx="1108440" cy="1103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3" name="Line 32"/>
              <p:cNvSpPr/>
              <p:nvPr/>
            </p:nvSpPr>
            <p:spPr>
              <a:xfrm>
                <a:off x="742680" y="3070800"/>
                <a:ext cx="0" cy="110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4" name="Line 31"/>
              <p:cNvSpPr/>
              <p:nvPr/>
            </p:nvSpPr>
            <p:spPr>
              <a:xfrm>
                <a:off x="179280" y="3640680"/>
                <a:ext cx="110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26"/>
            <p:cNvGrpSpPr/>
            <p:nvPr/>
          </p:nvGrpSpPr>
          <p:grpSpPr>
            <a:xfrm>
              <a:off x="1734480" y="3068640"/>
              <a:ext cx="1125000" cy="1121040"/>
              <a:chOff x="1734480" y="3068640"/>
              <a:chExt cx="1125000" cy="1121040"/>
            </a:xfrm>
          </p:grpSpPr>
          <p:sp>
            <p:nvSpPr>
              <p:cNvPr id="476" name="Rectangle 29"/>
              <p:cNvSpPr/>
              <p:nvPr/>
            </p:nvSpPr>
            <p:spPr>
              <a:xfrm>
                <a:off x="1749960" y="3084840"/>
                <a:ext cx="1109520" cy="1104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7" name="Line 28"/>
              <p:cNvSpPr/>
              <p:nvPr/>
            </p:nvSpPr>
            <p:spPr>
              <a:xfrm>
                <a:off x="1734480" y="3068640"/>
                <a:ext cx="1109520" cy="1104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8" name="Line 27"/>
              <p:cNvSpPr/>
              <p:nvPr/>
            </p:nvSpPr>
            <p:spPr>
              <a:xfrm flipV="1">
                <a:off x="1778400" y="3114360"/>
                <a:ext cx="1065240" cy="10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21"/>
            <p:cNvGrpSpPr/>
            <p:nvPr/>
          </p:nvGrpSpPr>
          <p:grpSpPr>
            <a:xfrm>
              <a:off x="3295800" y="3070800"/>
              <a:ext cx="1108080" cy="1125360"/>
              <a:chOff x="3295800" y="3070800"/>
              <a:chExt cx="1108080" cy="1125360"/>
            </a:xfrm>
          </p:grpSpPr>
          <p:sp>
            <p:nvSpPr>
              <p:cNvPr id="480" name="Rectangle 25"/>
              <p:cNvSpPr/>
              <p:nvPr/>
            </p:nvSpPr>
            <p:spPr>
              <a:xfrm>
                <a:off x="3295800" y="3087000"/>
                <a:ext cx="1108080" cy="1103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>
                <a:off x="3843360" y="3070800"/>
                <a:ext cx="0" cy="110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Line 23"/>
              <p:cNvSpPr/>
              <p:nvPr/>
            </p:nvSpPr>
            <p:spPr>
              <a:xfrm flipV="1">
                <a:off x="3567240" y="3085920"/>
                <a:ext cx="2520" cy="111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3" name="Line 22"/>
              <p:cNvSpPr/>
              <p:nvPr/>
            </p:nvSpPr>
            <p:spPr>
              <a:xfrm flipV="1">
                <a:off x="4109400" y="3097080"/>
                <a:ext cx="2520" cy="10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7"/>
            <p:cNvGrpSpPr/>
            <p:nvPr/>
          </p:nvGrpSpPr>
          <p:grpSpPr>
            <a:xfrm>
              <a:off x="6368760" y="3099240"/>
              <a:ext cx="1108440" cy="1102680"/>
              <a:chOff x="6368760" y="3099240"/>
              <a:chExt cx="1108440" cy="1102680"/>
            </a:xfrm>
          </p:grpSpPr>
          <p:sp>
            <p:nvSpPr>
              <p:cNvPr id="485" name="Rectangle 20"/>
              <p:cNvSpPr/>
              <p:nvPr/>
            </p:nvSpPr>
            <p:spPr>
              <a:xfrm>
                <a:off x="6368760" y="3099240"/>
                <a:ext cx="1108440" cy="1102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6" name="Line 19"/>
              <p:cNvSpPr/>
              <p:nvPr/>
            </p:nvSpPr>
            <p:spPr>
              <a:xfrm>
                <a:off x="6733440" y="3107880"/>
                <a:ext cx="418320" cy="107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7" name="Line 18"/>
              <p:cNvSpPr/>
              <p:nvPr/>
            </p:nvSpPr>
            <p:spPr>
              <a:xfrm flipV="1">
                <a:off x="6371280" y="3448440"/>
                <a:ext cx="1086840" cy="38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12"/>
            <p:cNvGrpSpPr/>
            <p:nvPr/>
          </p:nvGrpSpPr>
          <p:grpSpPr>
            <a:xfrm>
              <a:off x="4789800" y="3068640"/>
              <a:ext cx="1121400" cy="1102320"/>
              <a:chOff x="4789800" y="3068640"/>
              <a:chExt cx="1121400" cy="1102320"/>
            </a:xfrm>
          </p:grpSpPr>
          <p:sp>
            <p:nvSpPr>
              <p:cNvPr id="489" name="Rectangle 16"/>
              <p:cNvSpPr/>
              <p:nvPr/>
            </p:nvSpPr>
            <p:spPr>
              <a:xfrm>
                <a:off x="4805280" y="3068640"/>
                <a:ext cx="1105920" cy="110232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0" name="Line 15"/>
              <p:cNvSpPr/>
              <p:nvPr/>
            </p:nvSpPr>
            <p:spPr>
              <a:xfrm>
                <a:off x="4805280" y="3095280"/>
                <a:ext cx="1105920" cy="50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1" name="Line 14"/>
              <p:cNvSpPr/>
              <p:nvPr/>
            </p:nvSpPr>
            <p:spPr>
              <a:xfrm>
                <a:off x="4789800" y="3621600"/>
                <a:ext cx="1105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Line 13"/>
              <p:cNvSpPr/>
              <p:nvPr/>
            </p:nvSpPr>
            <p:spPr>
              <a:xfrm>
                <a:off x="4805280" y="3646440"/>
                <a:ext cx="1105920" cy="50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6"/>
            <p:cNvGrpSpPr/>
            <p:nvPr/>
          </p:nvGrpSpPr>
          <p:grpSpPr>
            <a:xfrm>
              <a:off x="7869240" y="3068640"/>
              <a:ext cx="1094760" cy="1149840"/>
              <a:chOff x="7869240" y="3068640"/>
              <a:chExt cx="1094760" cy="1149840"/>
            </a:xfrm>
          </p:grpSpPr>
          <p:sp>
            <p:nvSpPr>
              <p:cNvPr id="494" name="Line 11"/>
              <p:cNvSpPr/>
              <p:nvPr/>
            </p:nvSpPr>
            <p:spPr>
              <a:xfrm>
                <a:off x="7869240" y="3355920"/>
                <a:ext cx="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5" name="Rectangle 10"/>
              <p:cNvSpPr/>
              <p:nvPr/>
            </p:nvSpPr>
            <p:spPr>
              <a:xfrm rot="5400000">
                <a:off x="7842600" y="3112560"/>
                <a:ext cx="1149840" cy="1062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6" name="Line 9"/>
              <p:cNvSpPr/>
              <p:nvPr/>
            </p:nvSpPr>
            <p:spPr>
              <a:xfrm flipH="1">
                <a:off x="7902000" y="3636720"/>
                <a:ext cx="106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Line 8"/>
              <p:cNvSpPr/>
              <p:nvPr/>
            </p:nvSpPr>
            <p:spPr>
              <a:xfrm flipH="1">
                <a:off x="8223120" y="3079800"/>
                <a:ext cx="398160" cy="55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8" name="Line 7"/>
              <p:cNvSpPr/>
              <p:nvPr/>
            </p:nvSpPr>
            <p:spPr>
              <a:xfrm flipH="1">
                <a:off x="8191440" y="3632040"/>
                <a:ext cx="429480" cy="58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9" name="Rectangle 35"/>
          <p:cNvSpPr/>
          <p:nvPr/>
        </p:nvSpPr>
        <p:spPr>
          <a:xfrm>
            <a:off x="6480" y="35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«Что случится , если……»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26920" y="1557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исчезнут комар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ерестанут идти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люди вырубят леса и т.д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2" name="Picture 4" descr="MF31222"/>
          <p:cNvPicPr/>
          <p:nvPr/>
        </p:nvPicPr>
        <p:blipFill>
          <a:blip r:embed="rId4"/>
          <a:stretch/>
        </p:blipFill>
        <p:spPr>
          <a:xfrm>
            <a:off x="8028000" y="5732640"/>
            <a:ext cx="731880" cy="879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экология6"/>
          <p:cNvPicPr/>
          <p:nvPr/>
        </p:nvPicPr>
        <p:blipFill>
          <a:blip r:embed="rId5"/>
          <a:stretch/>
        </p:blipFill>
        <p:spPr>
          <a:xfrm>
            <a:off x="5651640" y="3933720"/>
            <a:ext cx="2287440" cy="2530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C:\Users\dns\AppData\Local\Microsoft\Windows\Temporary Internet Files\Content.IE5\7W5FYDNQ\MC900351006[1].wmf"/>
          <p:cNvPicPr/>
          <p:nvPr/>
        </p:nvPicPr>
        <p:blipFill>
          <a:blip r:embed="rId6"/>
          <a:stretch/>
        </p:blipFill>
        <p:spPr>
          <a:xfrm>
            <a:off x="6875640" y="476280"/>
            <a:ext cx="1560240" cy="1792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C:\Users\dns\AppData\Local\Microsoft\Windows\Temporary Internet Files\Content.IE5\1DXTUYKB\MC900435288[1].wmf"/>
          <p:cNvPicPr/>
          <p:nvPr/>
        </p:nvPicPr>
        <p:blipFill>
          <a:blip r:embed="rId7"/>
          <a:stretch/>
        </p:blipFill>
        <p:spPr>
          <a:xfrm flipH="1" rot="20920800">
            <a:off x="367920" y="4757400"/>
            <a:ext cx="34257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95280" y="1484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.Сравните слова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33109"/>
                </a:solidFill>
                <a:latin typeface="Times New Roman"/>
              </a:rPr>
              <a:t>«ужи, мыши, моржи »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и найдите общие признаки, а также лишнее слово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7" name="Picture 4" descr="MF31222"/>
          <p:cNvPicPr/>
          <p:nvPr/>
        </p:nvPicPr>
        <p:blipFill>
          <a:blip r:embed="rId1"/>
          <a:stretch/>
        </p:blipFill>
        <p:spPr>
          <a:xfrm>
            <a:off x="7956720" y="5978520"/>
            <a:ext cx="731520" cy="87948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5"/>
          <p:cNvSpPr/>
          <p:nvPr/>
        </p:nvSpPr>
        <p:spPr>
          <a:xfrm>
            <a:off x="611280" y="2646360"/>
            <a:ext cx="828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2. Найдите  закономерность и продолжите ряд слов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апример, ребята заметили, что изменяется количество букв в словах, поэтому название следующего животного должно быть из шести букв. Варианты – «корова, собака, сорока» и т. д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324000" y="501840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3. Составьте со всеми этими словами одно предложение, пусть даже фантастическое. Например: «Моржи  и мыши  собрались в гости к ужам»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0" name="Picture 9" descr="C:\Users\dns\AppData\Local\Microsoft\Windows\Temporary Internet Files\Content.IE5\1DXTUYKB\MC900370098[1].wmf"/>
          <p:cNvPicPr/>
          <p:nvPr/>
        </p:nvPicPr>
        <p:blipFill>
          <a:blip r:embed="rId2"/>
          <a:stretch/>
        </p:blipFill>
        <p:spPr>
          <a:xfrm>
            <a:off x="611280" y="260280"/>
            <a:ext cx="1846080" cy="865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C:\Users\dns\AppData\Local\Microsoft\Windows\Temporary Internet Files\Content.IE5\DTFEIC1C\MC900345794[1].wmf"/>
          <p:cNvPicPr/>
          <p:nvPr/>
        </p:nvPicPr>
        <p:blipFill>
          <a:blip r:embed="rId3"/>
          <a:stretch/>
        </p:blipFill>
        <p:spPr>
          <a:xfrm>
            <a:off x="2916360" y="260280"/>
            <a:ext cx="2244600" cy="1511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2" descr="C:\Users\dns\AppData\Local\Microsoft\Windows\Temporary Internet Files\Content.IE5\DTFEIC1C\MC900150307[1].wmf"/>
          <p:cNvPicPr/>
          <p:nvPr/>
        </p:nvPicPr>
        <p:blipFill>
          <a:blip r:embed="rId4"/>
          <a:stretch/>
        </p:blipFill>
        <p:spPr>
          <a:xfrm>
            <a:off x="6443640" y="0"/>
            <a:ext cx="24112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0" y="33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жную роль в формировании дивергентного мышления играет начальная школа. Именно в младшем школьном возрасте формируется  психологическая основа для такой деятельности: развиваются воображение и фантазия, творческое мышление, воспитывается любознательность, формируются умения наблюдать и анализировать явления, проводить сравнения, обобщать факты, делать выводы, практически оценивать деятельность, активность, инициатив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бенок может предложить такое решение, которое уже известно, использовалось  им на практике, но додумался до него он самостоятельно, не копируя известно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WordArt 6" descr=""/>
          <p:cNvPicPr/>
          <p:nvPr/>
        </p:nvPicPr>
        <p:blipFill>
          <a:blip r:embed="rId1"/>
          <a:stretch/>
        </p:blipFill>
        <p:spPr>
          <a:xfrm>
            <a:off x="1158840" y="2786040"/>
            <a:ext cx="71866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11280" y="1483920"/>
            <a:ext cx="83534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469"/>
                </a:solidFill>
                <a:latin typeface="Tahoma"/>
              </a:rPr>
              <a:t>Но ученик в настоящее время зачастую не может осуществить правильное решение той или иной проблемы из-за линейного (одномерного, конвергентного) стиля мышления, предполагающего жёстко определённый ход мысли, однозначную связь между явлениями. Ярко выраженная одномерность мышления препятствует адекватному пониманию ситуации, восприятию других людей и затрудняет межличностное общение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11280" y="231120"/>
            <a:ext cx="820872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3469"/>
                </a:solidFill>
                <a:latin typeface="Times New Roman"/>
              </a:rPr>
              <a:t>Психологический словар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Дивергентное мышление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(от лат. divergere - расходиться) - форма мышления основанная  на стратегии генерирования множества решений одной единственной задачи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онвергентное мышление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(от лат. cоnvergere сходиться) - форма мышления основанная  на стратегии точного использования предварительно усвоенных алгоритмов решения определенной задачи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Picture 7" descr="MF31222"/>
          <p:cNvPicPr/>
          <p:nvPr/>
        </p:nvPicPr>
        <p:blipFill>
          <a:blip r:embed="rId1"/>
          <a:stretch/>
        </p:blipFill>
        <p:spPr>
          <a:xfrm>
            <a:off x="250920" y="5978520"/>
            <a:ext cx="7318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dns\Desktop\шаблонное мышление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469"/>
                </a:solidFill>
                <a:latin typeface="Tahoma"/>
              </a:rPr>
              <a:t>В исследованиях Е. Торранса, Д. Гилфорда, К. Тейлора, Г. Груббера подчеркивается, что </a:t>
            </a:r>
            <a:r>
              <a:rPr b="1" lang="ru-RU" sz="2800" spc="-1" strike="noStrike">
                <a:solidFill>
                  <a:srgbClr val="303469"/>
                </a:solidFill>
                <a:latin typeface="Tahoma"/>
              </a:rPr>
              <a:t>целью дивергентного мышления является развитие исследовательского интереса</a:t>
            </a:r>
            <a:r>
              <a:rPr b="0" lang="ru-RU" sz="2800" spc="-1" strike="noStrike">
                <a:solidFill>
                  <a:srgbClr val="303469"/>
                </a:solidFill>
                <a:latin typeface="Tahoma"/>
              </a:rPr>
              <a:t>, ориентированность на поиск новых форм деятельности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469"/>
                </a:solidFill>
                <a:latin typeface="Tahoma"/>
              </a:rPr>
              <a:t>Кроме этого, дивергентность активизирует способность оценивать, сравнивать, строить гипотезы, анализировать и классифицировать полученный материал.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68000" y="1413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469"/>
                </a:solidFill>
                <a:latin typeface="Tahoma"/>
              </a:rPr>
              <a:t>Дивергентное, многомерное (многовариантное, альтернативное) мышление является противоположностью линейному мышлению.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469"/>
                </a:solidFill>
                <a:latin typeface="Tahoma"/>
              </a:rPr>
              <a:t>Для него характерно отсутствие жёсткой связи между явлениями, причинами и их следствиями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469"/>
                </a:solidFill>
                <a:latin typeface="Tahoma"/>
              </a:rPr>
              <a:t>Дивергентное мышление - расходящееся мышление (мышление в различных направлениях) предполагает несколько или множество ответов на один вопрос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1268280"/>
            <a:ext cx="7707240" cy="246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3469"/>
                </a:solidFill>
                <a:latin typeface="Tahoma"/>
              </a:rPr>
              <a:t>Тест дивергентного (творческого) мышления </a:t>
            </a:r>
            <a:br>
              <a:rPr sz="4400"/>
            </a:br>
            <a:r>
              <a:rPr b="1" lang="ru-RU" sz="4400" spc="-1" strike="noStrike">
                <a:solidFill>
                  <a:srgbClr val="303469"/>
                </a:solidFill>
                <a:latin typeface="Tahoma"/>
              </a:rPr>
              <a:t>Ф. Вильямс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14:19:17Z</dcterms:created>
  <dc:creator>Я</dc:creator>
  <dc:description/>
  <dc:language>en-US</dc:language>
  <cp:lastModifiedBy>dns</cp:lastModifiedBy>
  <dcterms:modified xsi:type="dcterms:W3CDTF">2013-05-12T16:01:41Z</dcterms:modified>
  <cp:revision>126</cp:revision>
  <dc:subject/>
  <dc:title>Презентация PowerPoint</dc:title>
</cp:coreProperties>
</file>