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148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272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60280" y="-360"/>
            <a:ext cx="29530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52200" y="738360"/>
            <a:ext cx="4910040" cy="368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330840"/>
            <a:ext cx="295272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60280" y="9330840"/>
            <a:ext cx="29530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38DA851-EA23-4D2D-8A30-E9BAD87148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0B1CF2-CF32-4998-8EC6-249DD16655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4D8D3AE-98CC-41CC-BB26-E796E6D230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A875277-ED60-4AA3-9409-EE7C20837E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EFF305A-097C-4937-83FD-DC43B1AD4A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64D070B-07CF-4DDB-8F81-11B437A122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9C91FE2-FD8D-4BED-87F5-136971B1D1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6F75097-FBA6-4CF7-AF0E-16858B1029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A87373-EBD9-4C11-87E8-61947C2A4F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DEBE9A2-1743-469B-824A-FE90469449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E909AAC-92A5-4325-84B4-1867E38C25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566636D-32BF-4BD9-9EE1-0B8C061B81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F430E69-9402-442B-8D6B-DE8439EE50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24AF158-92AF-4728-AA76-306E887A82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6185B69-33E7-4D8E-9EB0-EC3225FCA6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0B9787E-F09E-49DC-9E79-5D70461568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FFA1575-BF2C-417A-A0B5-86AEF5C69F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C704D81-4EA5-455F-8D95-39D8086BDE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1CC948D-53D2-48E4-ABAA-B6582635E5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A8D0586-E755-4880-BAC2-38973FD955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60640" y="9331200"/>
            <a:ext cx="2953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49081C2-68F6-41B4-AD97-61B039C3B5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52560" y="7383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45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9D3-9EB9-4D2E-9B64-216C49D7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58480"/>
            <a:ext cx="822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65D-F5F4-451C-99F6-4E1A6A60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5848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5848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A99-EDC7-4258-A740-DFC37026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5848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5848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5848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A50-B870-4E83-871C-E727106F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A72D-6795-4469-9DA8-548C42DA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DBE3-EF7B-4D89-B473-781B122F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8E91-F48B-42B2-87A3-84F814A4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CE1D-AB39-40AF-8A1E-D3890ED9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5580-56F3-415B-AD1C-43AF3077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2607-C6B8-4898-BA8D-6599ED4F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5848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E4D3-CEDA-49BD-8CA2-A82CFA4A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DCA-6A6A-4A54-8AEA-03D2189E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5400" y="385848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376A-C375-4C4A-A534-1A9E1EF4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3858480"/>
            <a:ext cx="822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3870-99B8-4462-8A31-7F5D1FFA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360" y="3858480"/>
            <a:ext cx="822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A8DC-97BA-4F43-90E4-754BA037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360" y="385848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5400" y="385848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8D91-40DB-45A3-88D0-4A717DDB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360" y="385848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50800" y="385848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3240" y="3858480"/>
            <a:ext cx="264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A35D-3CC7-4BBE-95EA-75B5D700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66A-3B07-4A46-B874-62FFB599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CFA-EBE3-48AE-874A-70CD6A15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4C9-4FB4-476D-BA5D-97F1B4A6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616-4B64-40D6-8701-94C26A37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5848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FB5-6147-4AF9-BAB2-CBF586B6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5848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0A7-6A9B-4C4A-8B75-1BE332CE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58480"/>
            <a:ext cx="8229600" cy="22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4E3-285A-40F8-A766-EB58E7F6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2C28-A85D-43EA-B4E1-19196343F8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46040" y="29844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519120" y="37152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>
            <a:off x="539640" y="6237360"/>
            <a:ext cx="82296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611280" y="6308640"/>
            <a:ext cx="8229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7"/>
          <p:cNvSpPr/>
          <p:nvPr/>
        </p:nvSpPr>
        <p:spPr>
          <a:xfrm>
            <a:off x="611280" y="1197000"/>
            <a:ext cx="7924680" cy="914400"/>
          </a:xfrm>
          <a:custGeom>
            <a:avLst/>
            <a:gdLst>
              <a:gd name="textAreaLeft" fmla="*/ 0 w 7924680"/>
              <a:gd name="textAreaRight" fmla="*/ 7925040 w 7924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979640" y="5348160"/>
            <a:ext cx="65120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2050920" y="5421240"/>
            <a:ext cx="65120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2092320" y="5492880"/>
            <a:ext cx="65120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684360" y="1268280"/>
            <a:ext cx="7924680" cy="914400"/>
          </a:xfrm>
          <a:custGeom>
            <a:avLst/>
            <a:gdLst>
              <a:gd name="textAreaLeft" fmla="*/ 0 w 7924680"/>
              <a:gd name="textAreaRight" fmla="*/ 7925040 w 7924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755640" y="1341360"/>
            <a:ext cx="7924680" cy="914400"/>
          </a:xfrm>
          <a:custGeom>
            <a:avLst/>
            <a:gdLst>
              <a:gd name="textAreaLeft" fmla="*/ 0 w 7924680"/>
              <a:gd name="textAreaRight" fmla="*/ 7925040 w 7924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73EE-92A8-4333-85D2-3199CAF21B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77058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26920" y="1268280"/>
            <a:ext cx="770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истема работы с одаренными дет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476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новационные стратегии развития способностей на основе потребностно-инструменталь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84360" y="2498760"/>
            <a:ext cx="799128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одаренными детьми на основе этого подхода строится 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вух направлен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. обсуждение доминантного жизненного проек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частности, его: реалистичности, конкретности (особенно для «дальних» целей), соотношение «ближних» и «дальних» целей (соответствие будущей и сегодняшней деятельности), соответствие доминантного проекта творческой и личностной индивидуальности подро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11280" y="47628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новационные стратегии развития способностей на основе потребностно-инструменталь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684360" y="2492280"/>
            <a:ext cx="799128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. Анализ инструментальной готовности к реализации доминантного жизненного проекта, т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произвольной саморегуля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творческих возможност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пути профессионального стан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дея гармоничного развития в противовес идее приоритетов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11280" y="476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овые подходы к организации работы с одаренн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4360" y="1428840"/>
            <a:ext cx="799128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тод развивающего дискомф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встресс и дистресс Г. Сел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ерантность к стрессу как условие реализации ДЖ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зисные ситуации как перелом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ология и навыки преодоления стресса (бихевиористический подх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зрешимые задачи (интеллектуальные и эмоциональ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11280" y="476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овые подходы к организации работы с одаренн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84360" y="1357200"/>
            <a:ext cx="799128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тод приорите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шение к общей успешности обучения («система козырей» и «санитарная норм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озыри» личности: интеллектуальные способности, лидерские качества, эмоциональный интеллект, спор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ы личности  с позиций ДЖ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лексия интересов и уровня реальных возм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84360" y="1214280"/>
            <a:ext cx="79912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тод приоритетного обучения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из учебной деятельности с позиций ДЖП («дерево» т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носимость целей, интересов и занятий с позиции ДЖ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476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овые подходы к организации работы с одаренн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84360" y="1500120"/>
            <a:ext cx="79912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тод  «Модель научной лаборатор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деятельности как основа делового и личностного взаимодейств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льные и неформальные навыки делового сотрудниче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ное (ситуативное) 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476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ичностно-развивающая стратегия педагогического взаимодействия предполаг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84360" y="1882800"/>
            <a:ext cx="799128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тод «Модель научной лаборатории»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ие ролей в деловом коллек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как коллега (подлинное сотрудничество учителя и уче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476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то дает потребностно-инструментальный подх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84360" y="1714680"/>
            <a:ext cx="799128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37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вые представления об одаренном ребен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е об особой иерархии потребностей, в которой значительное место занимает потребность в самовозрастании (самоактуализации) и другие потребности развит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оминантного жизненного проекта как особого проекта будущей творческой деятельности одаренного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11280" y="476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то дает потребностно-инструментальный подх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13000"/>
            <a:ext cx="7991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вые подходы к организации работы с одаренными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работы с одаренным ребенком на основе его потре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всей работы с ребенком с позиций реализации «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раза потребного будуще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, заложенного в ДЖ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11280" y="476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то дает потребностно-инструментальный подх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4360" y="1428840"/>
            <a:ext cx="799128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вые возможности прогноза развития одар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строится на анализе доминантного жизненного проекта и наличия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ответствующих инструмент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его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58340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т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природные предпосылки развития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устойчивые способы умственной, 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ар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характеристика уровня развития способностей (в сравнении со статистической нор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социально-психологическая характеристика результатов человека в той или и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11280" y="4762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стема понятий теории способностей и одар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1128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Благодарю за вним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11280" y="476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руктура способностей (одарен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1738440"/>
            <a:ext cx="79912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бщие способности – специальные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иды способност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одаренности): 1. интеллектуальная одаренность, 2. академическая одаренность, 3. социальная одаренность, 4. художественная одаренность, 5. практическая одаренность, 6. психомоторная одаренность (спортив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11280" y="476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нцепции творческой одар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84360" y="1954080"/>
            <a:ext cx="799128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ция Гилфо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ция Ренз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ция Торр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есты диагностики творческих спосо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11280" y="476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новные законы развития способностей (одарен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4360" y="1700280"/>
            <a:ext cx="79912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кон 1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еобходимость биохимического коррелята (выраженных положительных эмоций) для развития любых способ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кон 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обходимость повышения уровня оптимальной сложности 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кон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высокий ранг ценности развития (саморазвития) в общей системе ценностей личности 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11280" y="476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оль потребностей в развитии способ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84360" y="2057400"/>
            <a:ext cx="799128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треб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мотор» развития способностей и личности у любого ребенка. «Сформировать» у ребенка ничего нельзя, если у него нет соответствующих потре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разование ребен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оздание условий, специальной  развивающей среды, в которых у ребенка появляется потребность в движении именно в том направлении, которое эта среда з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60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081080" y="260280"/>
            <a:ext cx="69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стема основные потребностей одаренных детей и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11280" y="1197000"/>
            <a:ext cx="748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вательная потре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ребность в интеллектуальной сложности (потребность в повышенной трудности умственной деятель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ребность в креативности (творческой деятель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ребность в самовозрастании (самореализац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11280" y="476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минантный жизненны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1711440"/>
            <a:ext cx="7991280" cy="50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одаренных детей с высокой потребностью в самовозрастании обнаружива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обый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«доминантный жизненный проект»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зующийся 1) «скошенной» в сторону будущего и сглаженной по отношению к настоящему временной перспективой, 2) повышенной напряженностью и негармоничной конкретизацией целей, относящихся к творческой деятельности в будущем, 3) субъектным отношением к собственному обучению и развитию, 4) стремлением к познанию себя с позиций высоких  творческих достижений в будущ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11280" y="476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сточники построения и перестроения ДЖП ребенком, подрост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413000"/>
            <a:ext cx="799128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и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флексия (интроспекция) – днев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ние со сверстниками (дружб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рослый как Уч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инантный жизненный проект как прогноз личностного и твор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7:32:41Z</dcterms:created>
  <dc:creator>Мама</dc:creator>
  <dc:description/>
  <cp:keywords/>
  <dc:language>en-US</dc:language>
  <cp:lastModifiedBy>PiluginaSA</cp:lastModifiedBy>
  <dcterms:modified xsi:type="dcterms:W3CDTF">2014-01-30T08:03:55Z</dcterms:modified>
  <cp:revision>135</cp:revision>
  <dc:subject/>
  <dc:title>Формирование гражданской идент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49</vt:lpwstr>
  </property>
</Properties>
</file>