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DB7-75CC-4E36-A4B2-94CE566E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C80-C2AF-45D0-9B12-0DB3EF61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F66-6E1E-4666-9FB1-1C69C276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D8E-6D9B-49E4-932F-97C8F3FD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FF4-414C-47DD-8373-5B179A94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0B4-3F3E-49FF-8235-A0C0EE5F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333-D855-4C46-A8A2-78BCD638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F5F-4C3B-4935-B928-C2A64F9C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D34-80B9-42BB-BE6A-3D4E6C81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63C-B60F-48B5-8FEB-2C458014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DCB-5F60-47F5-A2F5-FF719BB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A5E-6905-4FD0-9083-F69376FE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FE94-4AAC-42CF-AD85-B36F855FC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hyperlink" Target="http://www.vedomosti.ru/photogallery/38881/38981#title" TargetMode="External"/><Relationship Id="rId4" Type="http://schemas.openxmlformats.org/officeDocument/2006/relationships/hyperlink" Target="http://www.vedomosti.ru/photogallery/38881/38971#title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330"/>
          <p:cNvPicPr/>
          <p:nvPr/>
        </p:nvPicPr>
        <p:blipFill>
          <a:blip r:embed="rId1"/>
          <a:stretch/>
        </p:blipFill>
        <p:spPr>
          <a:xfrm>
            <a:off x="1763640" y="260280"/>
            <a:ext cx="6100920" cy="4392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50920" y="4724280"/>
            <a:ext cx="41767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262673"/>
                </a:solidFill>
                <a:latin typeface="Times New Roman"/>
              </a:rPr>
              <a:t>СТЕРХ -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262673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Picture 6" descr="fond_"/>
          <p:cNvPicPr/>
          <p:nvPr/>
        </p:nvPicPr>
        <p:blipFill>
          <a:blip r:embed="rId2"/>
          <a:stretch/>
        </p:blipFill>
        <p:spPr>
          <a:xfrm>
            <a:off x="179280" y="189000"/>
            <a:ext cx="1440000" cy="128880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7" descr=""/>
          <p:cNvPicPr/>
          <p:nvPr/>
        </p:nvPicPr>
        <p:blipFill>
          <a:blip r:embed="rId3"/>
          <a:stretch/>
        </p:blipFill>
        <p:spPr>
          <a:xfrm>
            <a:off x="4559400" y="4998960"/>
            <a:ext cx="437184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2349360" y="5877000"/>
            <a:ext cx="6732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КТ-проект  выполнен воспитанниками 7 «б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Нартас 2015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Мой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1965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_08"/>
          <p:cNvPicPr/>
          <p:nvPr/>
        </p:nvPicPr>
        <p:blipFill>
          <a:blip r:embed="rId1"/>
          <a:stretch/>
        </p:blipFill>
        <p:spPr>
          <a:xfrm>
            <a:off x="1835280" y="1125360"/>
            <a:ext cx="5832360" cy="350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fond_"/>
          <p:cNvPicPr/>
          <p:nvPr/>
        </p:nvPicPr>
        <p:blipFill>
          <a:blip r:embed="rId2"/>
          <a:stretch/>
        </p:blipFill>
        <p:spPr>
          <a:xfrm>
            <a:off x="179280" y="189000"/>
            <a:ext cx="1440000" cy="1288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468360" y="4797360"/>
            <a:ext cx="8424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юда прилетают СТЕРХИ для того, чтобы вывести потомство, а с наступлением осенних холодов стерхи со стершатами полетят в теплые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908000" y="333360"/>
            <a:ext cx="612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НОВАТСКИЙ ЗАПОВЕДНИК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fond_"/>
          <p:cNvPicPr/>
          <p:nvPr/>
        </p:nvPicPr>
        <p:blipFill>
          <a:blip r:embed="rId1"/>
          <a:stretch/>
        </p:blipFill>
        <p:spPr>
          <a:xfrm>
            <a:off x="7704000" y="5568840"/>
            <a:ext cx="1440000" cy="1289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68360" y="-3420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рх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журавль, гнездящийся только на Севере Западной Сибири и Якутии, входит в число наиболее угрожаемых видов птиц мировой фау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хантов и манси стерх – священная птица,часто родовой тотем, непременный ритуализированный персонаж и действующее лицо национальных праз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http://festival.1september.ru/articles/583100/Image960.gif"/>
          <p:cNvPicPr/>
          <p:nvPr/>
        </p:nvPicPr>
        <p:blipFill>
          <a:blip r:embed="rId2"/>
          <a:stretch/>
        </p:blipFill>
        <p:spPr>
          <a:xfrm>
            <a:off x="3132000" y="2276640"/>
            <a:ext cx="2952720" cy="3520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 flipV="1" rot="10800000">
            <a:off x="1547640" y="580680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ходки с жертвенного места Усть-Полуй, возраст – около 2000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179280" y="189000"/>
            <a:ext cx="8713800" cy="60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 вы знаете кто такой стер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рх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это белый журав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тят  стерхи  в  небе.  Громко и дружно курлыкают: «Курлы – курлы!» Ладный хор, многоголосый. А летят журавли на север в низовья  рек Колымы  и  Оби, чтобы  вывести  своё  потомство. Высоченный  журавль. С метр высотой. Весь ослепительно  белый. Только  концы крыльев  смолянисто – чёрные. А  ноги что сапожки  красные. Будто из сказки заявился  журавл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.. Быстро пролетели летние  дни.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ень напомнила о близости зимы. Стершата  окрепли, научились летать. Улетать птицам  на  юг  придётся в Индию, Афганистан, И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–то  было много белых  журавлей, стерхов, а сейчас  их очень мало. Никто  точно не знает, сколько  их. Одни  предполагают – двести, другие – немного 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ещё  находятся такие  охотники,  которые стреляют  в  эту редкостную  птицу, занесённую  в  Красную книгу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нты  правдиво  говорят : «Кто  увидит  стерха, тот  счастливый  человек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0" y="1227240"/>
            <a:ext cx="4067280" cy="563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878280" y="0"/>
            <a:ext cx="5265720" cy="44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ond_"/>
          <p:cNvPicPr/>
          <p:nvPr/>
        </p:nvPicPr>
        <p:blipFill>
          <a:blip r:embed="rId3"/>
          <a:stretch/>
        </p:blipFill>
        <p:spPr>
          <a:xfrm>
            <a:off x="0" y="0"/>
            <a:ext cx="14400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rcRect l="0" t="3212" r="1832" b="0"/>
          <a:stretch/>
        </p:blipFill>
        <p:spPr>
          <a:xfrm>
            <a:off x="1258920" y="404640"/>
            <a:ext cx="6737400" cy="5384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fond_"/>
          <p:cNvPicPr/>
          <p:nvPr/>
        </p:nvPicPr>
        <p:blipFill>
          <a:blip r:embed="rId2"/>
          <a:stretch/>
        </p:blipFill>
        <p:spPr>
          <a:xfrm>
            <a:off x="179280" y="189000"/>
            <a:ext cx="1440000" cy="12888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826920" y="5805360"/>
            <a:ext cx="7345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26267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аленькие стершата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26267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6" descr="Путин на «Полете надежды» "/>
          <p:cNvPicPr/>
          <p:nvPr/>
        </p:nvPicPr>
        <p:blipFill>
          <a:blip r:embed="rId1"/>
          <a:stretch/>
        </p:blipFill>
        <p:spPr>
          <a:xfrm>
            <a:off x="3778200" y="0"/>
            <a:ext cx="5365800" cy="357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6" descr="fond_"/>
          <p:cNvPicPr/>
          <p:nvPr/>
        </p:nvPicPr>
        <p:blipFill>
          <a:blip r:embed="rId2"/>
          <a:stretch/>
        </p:blipFill>
        <p:spPr>
          <a:xfrm>
            <a:off x="0" y="0"/>
            <a:ext cx="1440000" cy="12891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4"/>
          <p:cNvSpPr/>
          <p:nvPr/>
        </p:nvSpPr>
        <p:spPr>
          <a:xfrm>
            <a:off x="179280" y="0"/>
            <a:ext cx="500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тин на «Полете надеж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сентября 2012 года Владимир Путин принял участие в научном эксперименте в рамках направленного на сохранение редкого вида журавлей — стерхов проекта «Полет надежды», цель которого — показать выращенным в питомнике птицам маршрут перелета. Находясь за штурвалом мотодельтаплана, который птицы принимают за своего вожака, Владимир Путин совершил три полета — первый ознакомительный, а два других — с пти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9"/>
          <p:cNvSpPr/>
          <p:nvPr/>
        </p:nvSpPr>
        <p:spPr>
          <a:xfrm>
            <a:off x="2356200" y="-2558880"/>
            <a:ext cx="4431240" cy="5118480"/>
          </a:xfrm>
          <a:prstGeom prst="rect">
            <a:avLst/>
          </a:prstGeom>
          <a:solidFill>
            <a:srgbClr val="a6a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trl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9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0" descr="Путин на «Полете надежды» "/>
          <p:cNvPicPr/>
          <p:nvPr/>
        </p:nvPicPr>
        <p:blipFill>
          <a:blip r:embed="rId5"/>
          <a:stretch/>
        </p:blipFill>
        <p:spPr>
          <a:xfrm>
            <a:off x="5940360" y="3429000"/>
            <a:ext cx="2303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ond_"/>
          <p:cNvPicPr/>
          <p:nvPr/>
        </p:nvPicPr>
        <p:blipFill>
          <a:blip r:embed="rId1"/>
          <a:stretch/>
        </p:blipFill>
        <p:spPr>
          <a:xfrm>
            <a:off x="0" y="5300640"/>
            <a:ext cx="1440000" cy="1289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4356000" y="0"/>
            <a:ext cx="45720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тят журав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овь весна пришла на Север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огреет скоро землю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ещё тепло несут нам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уравлиной стаи к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дальних странствий возвращаясь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 с востока принося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ичут солнце птицы счастья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 природа ож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Алдан ещё белеет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шумит своей волной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ьдиканка и озёра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щают вам по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 недолго здесь гостите: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тра дальше будет путь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ьдикан вы навестили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бы счастье не спугну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ecology.skyportal.ru/wp-content/uploads/2012/09/sterh.jpg"/>
          <p:cNvPicPr/>
          <p:nvPr/>
        </p:nvPicPr>
        <p:blipFill>
          <a:blip r:embed="rId2"/>
          <a:stretch/>
        </p:blipFill>
        <p:spPr>
          <a:xfrm>
            <a:off x="250920" y="1341360"/>
            <a:ext cx="40068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http://im4-tub-ru.yandex.net/i?id=10508789-28-72&amp;n=21"/>
          <p:cNvPicPr/>
          <p:nvPr/>
        </p:nvPicPr>
        <p:blipFill>
          <a:blip r:embed="rId1"/>
          <a:stretch/>
        </p:blipFill>
        <p:spPr>
          <a:xfrm>
            <a:off x="3095640" y="40464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ond_"/>
          <p:cNvPicPr/>
          <p:nvPr/>
        </p:nvPicPr>
        <p:blipFill>
          <a:blip r:embed="rId2"/>
          <a:stretch/>
        </p:blipFill>
        <p:spPr>
          <a:xfrm>
            <a:off x="0" y="0"/>
            <a:ext cx="1440000" cy="12891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9"/>
          <p:cNvSpPr/>
          <p:nvPr/>
        </p:nvSpPr>
        <p:spPr>
          <a:xfrm>
            <a:off x="250920" y="14130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во встречу с вами верю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ю в счастье и добро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, как в сказке, взмахом крыльев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 разрушите всё зл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цветёт земля родная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осенью опять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уравлиной стае милой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мог из нас с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роз и ночи длинные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етели и дожди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дать будем дни весенние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увидеть вновь: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тят к нам журавли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вковская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7:55:12Z</dcterms:created>
  <dc:creator>1</dc:creator>
  <dc:description/>
  <dc:language>en-US</dc:language>
  <cp:lastModifiedBy>ASI</cp:lastModifiedBy>
  <cp:lastPrinted>2014-03-25T11:06:55Z</cp:lastPrinted>
  <dcterms:modified xsi:type="dcterms:W3CDTF">2017-12-24T20:34:23Z</dcterms:modified>
  <cp:revision>37</cp:revision>
  <dc:subject/>
  <dc:title>Слайд 1</dc:title>
</cp:coreProperties>
</file>