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00A0-C208-4164-B444-7718753B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11B0-4876-4EFA-83AE-D810786D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BBED-AB14-4FF6-832A-CAF0BB338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9D06-CB78-41A8-BBDD-F392ED25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8D81-2DAD-4D68-A9E3-D957BF3C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E978-D09E-4E2B-BFFA-3F90DE6E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3FAB-371E-4EDA-9AD1-16F3B839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8B6F-90D0-48D8-9E78-F4B471A6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5D54-B11C-4FD7-A953-7B9726D1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4C98-A687-4AFB-834D-B44C97E4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A6C0-B88D-4AE0-BDB4-1A55FC37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D85D-0ECD-4E14-811F-9E89917C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64F7-C14B-4975-8564-212B48C6CD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6" descr=""/>
          <p:cNvPicPr/>
          <p:nvPr/>
        </p:nvPicPr>
        <p:blipFill>
          <a:blip r:embed="rId2"/>
          <a:stretch/>
        </p:blipFill>
        <p:spPr>
          <a:xfrm>
            <a:off x="2457360" y="781200"/>
            <a:ext cx="4327560" cy="981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2115720" y="2727360"/>
            <a:ext cx="59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03864"/>
                </a:solidFill>
                <a:latin typeface="Cambria Math"/>
              </a:rPr>
              <a:t>Правописание приста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171960" y="40752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"/>
          <p:cNvSpPr/>
          <p:nvPr/>
        </p:nvSpPr>
        <p:spPr>
          <a:xfrm>
            <a:off x="738360" y="688680"/>
            <a:ext cx="7667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(4)И лишь повзрослев, понял, что это задание дала маме её сове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(5)Больных она определяла сразу: по цвету лица, по воспалённому блеску глаз, по движению и походке. (6)Она не могла пройти мимо человека, который недомога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(7)Это уж моя болезнь, –  говорила ма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(8)У-у, как вы дышите! –  обращалась она к одному. – (9)Не помогать сердцу  –  это варварство, бескультурье</a:t>
            </a:r>
            <a:r>
              <a:rPr b="0" lang="ru-RU" sz="1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779400" y="2558880"/>
            <a:ext cx="748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3864"/>
                </a:solidFill>
                <a:latin typeface="Calibri"/>
              </a:rPr>
              <a:t>4.   </a:t>
            </a:r>
            <a:r>
              <a:rPr b="0" lang="ru-RU" sz="1800" spc="-1" strike="noStrike">
                <a:solidFill>
                  <a:srgbClr val="203864"/>
                </a:solidFill>
                <a:latin typeface="Calibri"/>
              </a:rPr>
              <a:t>Из предложений 4 – 9  выпишите слово, в котором правописание приставки ОПРЕДЕЛЯЕТСЯ  правилом: «В приставках на -3/-С </a:t>
            </a:r>
            <a:r>
              <a:rPr b="1" lang="ru-RU" sz="1800" spc="-1" strike="noStrike">
                <a:solidFill>
                  <a:srgbClr val="203864"/>
                </a:solidFill>
                <a:latin typeface="Calibri"/>
              </a:rPr>
              <a:t>перед </a:t>
            </a:r>
            <a:r>
              <a:rPr b="0" lang="ru-RU" sz="1800" spc="-1" strike="noStrike">
                <a:solidFill>
                  <a:srgbClr val="203864"/>
                </a:solidFill>
                <a:latin typeface="Calibri"/>
              </a:rPr>
              <a:t>звонкими согласными пишется -3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46280" y="3563280"/>
            <a:ext cx="7667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(5)Однажды он принёс воды, когда медвежонок разлил полное ведро, и с тех пор она разрешала Тимофею помогать 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(6)Он видел всё в розовом свете рядом с этой Машей. (7)Он очень хотел сделать что-нибудь такое невиданное, огромное, чтобы она была не просто удивлена, а потрясе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771480" y="5069880"/>
            <a:ext cx="760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3864"/>
                </a:solidFill>
                <a:latin typeface="Bookman Old Style"/>
                <a:ea typeface="Times New Roman"/>
              </a:rPr>
              <a:t>4.   </a:t>
            </a:r>
            <a:r>
              <a:rPr b="0" lang="ru-RU" sz="1800" spc="-1" strike="noStrike">
                <a:solidFill>
                  <a:srgbClr val="203864"/>
                </a:solidFill>
                <a:latin typeface="Calibri"/>
                <a:ea typeface="Times New Roman"/>
              </a:rPr>
              <a:t>Из предложений 5–7 выпишите слово, в котором правописание согласного на конце приставки не зависит от звонкости-глухости </a:t>
            </a:r>
            <a:r>
              <a:rPr b="0" lang="ru-RU" sz="1800" spc="-1" strike="noStrike">
                <a:solidFill>
                  <a:srgbClr val="203864"/>
                </a:solidFill>
                <a:latin typeface="Bookman Old Style"/>
                <a:ea typeface="Times New Roman"/>
              </a:rPr>
              <a:t>последующего согласного зву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"/>
          <p:cNvSpPr/>
          <p:nvPr/>
        </p:nvSpPr>
        <p:spPr>
          <a:xfrm>
            <a:off x="749160" y="648720"/>
            <a:ext cx="7513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(39)Я ведь не хотел, чтобы тебе было больно, – сказал Маленький принц. –  (40)Ты сам пожелал, чтобы я тебя приручил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– 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(41)Да, конечно, –  сказал Лис. (42)Он умолк. (43)Потом прибави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– 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(44)Поди взгляни ещё раз на розы, а когда вернёшься, чтобы проститься со мной, я открою тебе один секр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82640" y="2029680"/>
            <a:ext cx="760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3864"/>
                </a:solidFill>
                <a:latin typeface="Calibri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203864"/>
                </a:solidFill>
                <a:latin typeface="Calibri"/>
                <a:ea typeface="Times New Roman"/>
              </a:rPr>
              <a:t>4.</a:t>
            </a:r>
            <a:r>
              <a:rPr b="0" lang="ru-RU" sz="1800" spc="-1" strike="noStrike">
                <a:solidFill>
                  <a:srgbClr val="203864"/>
                </a:solidFill>
                <a:latin typeface="Calibri"/>
                <a:ea typeface="Times New Roman"/>
              </a:rPr>
              <a:t> Из предложений 39–44 выпишите слово, в котором правописание </a:t>
            </a:r>
            <a:r>
              <a:rPr b="0" lang="ru-RU" sz="1800" spc="-1" strike="noStrike">
                <a:solidFill>
                  <a:srgbClr val="203864"/>
                </a:solidFill>
                <a:latin typeface="Bookman Old Style"/>
                <a:ea typeface="Times New Roman"/>
              </a:rPr>
              <a:t>согласной в </a:t>
            </a:r>
            <a:r>
              <a:rPr b="1" lang="ru-RU" sz="1800" spc="-1" strike="noStrike">
                <a:solidFill>
                  <a:srgbClr val="203864"/>
                </a:solidFill>
                <a:latin typeface="Bookman Old Style"/>
                <a:ea typeface="Times New Roman"/>
              </a:rPr>
              <a:t>приставке </a:t>
            </a:r>
            <a:r>
              <a:rPr b="0" lang="ru-RU" sz="1800" spc="-1" strike="noStrike">
                <a:solidFill>
                  <a:srgbClr val="203864"/>
                </a:solidFill>
                <a:latin typeface="Bookman Old Style"/>
                <a:ea typeface="Times New Roman"/>
              </a:rPr>
              <a:t>не зависит от последующего согласного зву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803160" y="2971800"/>
            <a:ext cx="759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36)Ребята ушли, в доме стало подчеркнуто тихо. 37)А баба Настасья стояла перед закрытой дверью с письмом в руке, словно только что приходил почтальон. 38)Потом она подошла к столу и вдруг почувствовала тупую неодолимую устал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955800" y="4393080"/>
            <a:ext cx="742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. Из предложений 36-38 выпишите слово, правописание приставки в котором зависит от его лексического значения</a:t>
            </a:r>
            <a:r>
              <a:rPr b="0" lang="ru-RU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ttp://samarus-school.ru/wp-content/uploads/2015/03/%D0%9F%D0%A0%D0%90%D0%92%D0%9E%D0%9F%D0%98%D0%A1%D0%90%D0%9D%D0%98%D0%95-%D0%9F%D0%A0%D0%98%D0%A1%D0%A2%D0%90%D0%92%D0%9E%D0%9A-%D0%9F%D0%A0%D0%95-%D0%98-%D0%9F%D0%A0%D0%98.png"/>
          <p:cNvPicPr/>
          <p:nvPr/>
        </p:nvPicPr>
        <p:blipFill>
          <a:blip r:embed="rId2"/>
          <a:stretch/>
        </p:blipFill>
        <p:spPr>
          <a:xfrm>
            <a:off x="831960" y="812880"/>
            <a:ext cx="761184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lib.podelise.ru/tw_files2/urls_10/5/d-4610/img2.jpg"/>
          <p:cNvPicPr/>
          <p:nvPr/>
        </p:nvPicPr>
        <p:blipFill>
          <a:blip r:embed="rId2"/>
          <a:stretch/>
        </p:blipFill>
        <p:spPr>
          <a:xfrm>
            <a:off x="757080" y="725400"/>
            <a:ext cx="757872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uslide.ru/images/10/17041/736/img6.jpg"/>
          <p:cNvPicPr/>
          <p:nvPr/>
        </p:nvPicPr>
        <p:blipFill>
          <a:blip r:embed="rId2"/>
          <a:stretch/>
        </p:blipFill>
        <p:spPr>
          <a:xfrm>
            <a:off x="995400" y="73188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img3.proshkolu.ru/content/media/pic/std/3000000/2439000/2438080-7ecd7c9390b73b61.jpg"/>
          <p:cNvPicPr/>
          <p:nvPr/>
        </p:nvPicPr>
        <p:blipFill>
          <a:blip r:embed="rId2"/>
          <a:stretch/>
        </p:blipFill>
        <p:spPr>
          <a:xfrm>
            <a:off x="739800" y="660240"/>
            <a:ext cx="7704000" cy="578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mypresentation.ru/documents/b6c534bf5706ea83d69862d0b69f73f4/img8.jpg"/>
          <p:cNvPicPr/>
          <p:nvPr/>
        </p:nvPicPr>
        <p:blipFill>
          <a:blip r:embed="rId2"/>
          <a:stretch/>
        </p:blipFill>
        <p:spPr>
          <a:xfrm>
            <a:off x="912960" y="56844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school.xvatit.com/images/thumb/d/d4/111345111.jpg/800px-111345111.jpg"/>
          <p:cNvPicPr/>
          <p:nvPr/>
        </p:nvPicPr>
        <p:blipFill>
          <a:blip r:embed="rId2"/>
          <a:stretch/>
        </p:blipFill>
        <p:spPr>
          <a:xfrm>
            <a:off x="690480" y="636480"/>
            <a:ext cx="774540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http://kapral.loveplanet.ru/16/foto/fc/ed/fcedda7f/8/b_post12328568.jpg"/>
          <p:cNvPicPr/>
          <p:nvPr/>
        </p:nvPicPr>
        <p:blipFill>
          <a:blip r:embed="rId2"/>
          <a:stretch/>
        </p:blipFill>
        <p:spPr>
          <a:xfrm>
            <a:off x="692280" y="576360"/>
            <a:ext cx="7718400" cy="58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"/>
          <p:cNvSpPr/>
          <p:nvPr/>
        </p:nvSpPr>
        <p:spPr>
          <a:xfrm>
            <a:off x="797040" y="761400"/>
            <a:ext cx="7575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(15)А дома судьёй была мама. (16)Она никогда не давала громкого свистка,  никогда не напоминала вслух о правилах жизни, но отец и Колька всегда весело и добровольно подчинялись её решениям, потому что эти решения были справедливы. (17)Если мама задерживалась, Колька и отец чувствовали себя какими-то удивительно неустроенными, словно они сидели на вокзале в ожидании приближающегося поезда, который опаздывал и неизвестно когда должен был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прийти. (18)Мамино возвращение с работы неожиданно преображало всё: зажигался всюду свет, утолялся голод, комната становилась уютной и чистой... (19)Словом, мама умела делать достижимым всё, что нужно было отцу и Коль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746280" y="4395960"/>
            <a:ext cx="76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203864"/>
                </a:solidFill>
                <a:latin typeface="Calibri"/>
              </a:rPr>
              <a:t>Из предложений 15–19 выпишите слово, в котором правописание приставки определяется её значением – «</a:t>
            </a:r>
            <a:r>
              <a:rPr b="0" i="1" lang="ru-RU" sz="1800" spc="-1" strike="noStrike">
                <a:solidFill>
                  <a:srgbClr val="203864"/>
                </a:solidFill>
                <a:latin typeface="Calibri"/>
              </a:rPr>
              <a:t>приближение</a:t>
            </a:r>
            <a:r>
              <a:rPr b="0" lang="ru-RU" sz="1800" spc="-1" strike="noStrike">
                <a:solidFill>
                  <a:srgbClr val="203864"/>
                </a:solidFill>
                <a:latin typeface="Calibri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5:52:05Z</dcterms:created>
  <dc:creator>Михаил Горяйнов</dc:creator>
  <dc:description/>
  <dc:language>en-US</dc:language>
  <cp:lastModifiedBy>Admin</cp:lastModifiedBy>
  <dcterms:modified xsi:type="dcterms:W3CDTF">2017-12-24T15:39:29Z</dcterms:modified>
  <cp:revision>28</cp:revision>
  <dc:subject/>
  <dc:title>Презентация PowerPoint</dc:title>
</cp:coreProperties>
</file>