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7CE-763A-4923-928B-CFE06DD9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E24-018D-4A47-82F8-BDED0322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AF5-7502-4226-8DF3-5F69D0D4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64A-8477-49D7-B4E7-539053F6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44D-51D1-4ECA-97E7-AECB8AF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D08-1AEC-44CB-B951-966C936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826-3914-42B9-B147-9A371533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3E7-F20A-422D-A9C9-A9E8C97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028-CD4A-4DAA-BEA9-EB1D772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DCB-47A1-47AD-A291-E876E742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A47-DFCA-40CE-9715-A02950FD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74B-A526-4CB7-9307-CA0AFA3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7C9-F380-4AD2-AB7A-CFE183110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они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ка к ГИА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67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929800" cy="430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928960" y="32148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п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37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57184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асшед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87904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643120" y="307188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0" y="1857240"/>
            <a:ext cx="910584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2714760" y="35719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м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309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2928960" y="300024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стлив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7221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7860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н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229600" cy="67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314316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3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4257720" cy="723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2571840" y="34290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29600" cy="5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264312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хватился, заволно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8786880" cy="558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571840" y="33577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ихо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4929120" cy="79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786200" y="1357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ая выноска 7"/>
          <p:cNvSpPr/>
          <p:nvPr/>
        </p:nvSpPr>
        <p:spPr>
          <a:xfrm>
            <a:off x="3714840" y="3571920"/>
            <a:ext cx="2571840" cy="857160"/>
          </a:xfrm>
          <a:prstGeom prst="wedgeRectCallout">
            <a:avLst>
              <a:gd name="adj1" fmla="val 45277"/>
              <a:gd name="adj2" fmla="val -22416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ая выноска 8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ая выноска 9"/>
          <p:cNvSpPr/>
          <p:nvPr/>
        </p:nvSpPr>
        <p:spPr>
          <a:xfrm>
            <a:off x="6572160" y="3071880"/>
            <a:ext cx="2571840" cy="857160"/>
          </a:xfrm>
          <a:prstGeom prst="wedgeRectCallout">
            <a:avLst>
              <a:gd name="adj1" fmla="val -55305"/>
              <a:gd name="adj2" fmla="val -16862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229600" cy="70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rcRect l="0" t="0" r="0" b="22185"/>
          <a:stretch/>
        </p:blipFill>
        <p:spPr>
          <a:xfrm>
            <a:off x="214200" y="1714680"/>
            <a:ext cx="8643960" cy="475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42892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0536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357280" y="335772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1305000"/>
            <a:ext cx="8850240" cy="1909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50020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929800" cy="58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786040" y="3000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раи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22960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608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858160" cy="938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57184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храна, наблюдение, об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2405160"/>
            <a:ext cx="9144000" cy="950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10191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62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929800" cy="8492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ничали, важнич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286840" cy="965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раска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21496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истически окраш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о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ая выноска 7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ая выноска 8"/>
          <p:cNvSpPr/>
          <p:nvPr/>
        </p:nvSpPr>
        <p:spPr>
          <a:xfrm>
            <a:off x="6215040" y="3714840"/>
            <a:ext cx="2928960" cy="857160"/>
          </a:xfrm>
          <a:prstGeom prst="wedgeRectCallout">
            <a:avLst>
              <a:gd name="adj1" fmla="val -36254"/>
              <a:gd name="adj2" fmla="val -23416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р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ПЕНЕВШИ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данного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весь пароход все-таки представлялся легко и стройно выросшим кораблем-привидением, оцепеневшим на этой бледно освещенной прогалине среди тума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95640" y="5589720"/>
            <a:ext cx="453708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тыв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индивидуально-авторско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РЕШЕ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этого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яхивается запевала и понадд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дворе собака бреш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 хозяин пузо чешет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3132000" y="5589720"/>
            <a:ext cx="504036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РЫШ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данного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 дома приносили огромный барыш домовладельцам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3924360" y="5661000"/>
            <a:ext cx="43927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КУДЕВАЕ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предложения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училось несчастье: он оскудевает и мертвеет на наших глазах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3924360" y="5589720"/>
            <a:ext cx="4103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едн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ЛИНАЛ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этого предложения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росила его взмахнуть крылышками, заклинала спастись, повторяя на человеческом языке, наверное, то же самое, что непрерывно щебетала ему м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3348000" y="5157720"/>
            <a:ext cx="40831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ждала, уговари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ЛАЩЕН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жалуй, больше всего ему помогали леса, лесной дом, где он гостил этим летом, просеки, заросли, заброшенные дороги, в колеях которых, налитых дождем, отражался в сумерках серп месяца, этот удивительный воздух и всегда немного печальные русские закаты, и он был уверен, что не променяет эти туманные зори ни на какие великолепные позлащенные закаты Итали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3851280" y="5805360"/>
            <a:ext cx="446580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олоч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ЗВ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данного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жды в «Последних Новостях» я напечатал коротенькое воззвание – просьбу помочь молодой женщине, матери двух детей, попавшей в тяжелое положение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348000" y="5373720"/>
            <a:ext cx="482436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ЗН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разрушу все клетки и освобожу несчастных узник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356000" y="5734080"/>
            <a:ext cx="403236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ё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ВЕТШАЛ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этого предложения  стилистически нейтра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полюбил в ней все: каменные мосты, заросшие плющом, обветшалые мраморные фасады зданий, оборванных смуглых детей, померанцевые рощи, «отцветающий лотос» – Венецию, статуи Латерана, осенний воздух, холодноватый и пьянящий, мерцание куполов над Римом, старинные холсты, ласкающее солнце и то множество плодотворных мыслей, которые рождала Италия в его серд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4572000" y="5661000"/>
            <a:ext cx="403236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ите 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РВЛЕ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данного предложения стилистически нейтральным общеупотребительным синонимом. Напишите этот синоним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776 году Козельску был присвоен герб, причем в указе императрицы Екатерины II сказано, что козельцы своей смертью засвидетельствовали верность и в память об их подвиге им полагается герб, на котором на «червленом поле, знаменующем кровопролитие, накрест расположенные пять серебряных щитов с черными крестами», свидетельствующие о храбрости и несчастной судьбе горожан, и «четыре златые креста», показывающие их вер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5076720" y="5943600"/>
            <a:ext cx="3456000" cy="725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4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04564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271476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о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из предложений присутствует разговорная лекс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34960" y="1447560"/>
            <a:ext cx="7499520" cy="23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3000240" y="1500120"/>
            <a:ext cx="5715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) Но вот вопрос, сделала ли техника более могучим просто человека, одного человека, человека как таков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4) Могуч был библейский Моисей, выведший свой народ из чужой земли, могучи были Гарибальди и Рафаэль, Спартак и Шекспир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6) Открыватели новых земель, первые популярные путешественники, великие ваятели, живописцы и поэты, гиганты мысли и дух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Но ведь и духовное ничтожество, трусишка может дёрнуть за нужный рычажок или нажать нужную кно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7-конечная звезда 4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из предложений присутствует общеупотребительная лекс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34960" y="1447560"/>
            <a:ext cx="7499520" cy="23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000240" y="150012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4) И ещё сказывают, что брал он за постой не только живую денежку, но и не брезговал ни освсом, ни нательным кре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 Однако вскорости смекнули, что кузницу палили з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Правда был случай, имеющий самое непосредственное отношение к нашему повествованию, когда кузница в Малых Серпилках вдруг умол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) Как начнут с молотобойцем Ванюшкой отбивать – что соборная звонница: колоколят молотки на всевозможные гол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7-конечная звезда 4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из предложений присутствует книжная лекс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34960" y="1447560"/>
            <a:ext cx="7499520" cy="23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932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000240" y="1500120"/>
            <a:ext cx="5715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) «Всё у нас чужое, одно лишь время наш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 И не было на горизонте даже отдельных признаков грядущей научно-технической революции или хотя бы информационного б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6) Такое крохоборство скорее к лицу вечно спешащим трудягам, мечтающим выкроить наконец часок-другой, чтобы спокойно заняться настоящим д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) Тот же Сенека утверждает, что большая часть нашей жизни уходит на ошибки и дурные поступки, значительная часть протекает в безделье и почти всегда вся жизнь в том, что мы делаем не то, то на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7-конечная звезда 4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, в каком значении употребляется в тексте слово ПРИМИТИВ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-третьих, я бы вспомнил о представлениях души примитивным человеком как некоей сущности, обитающей в те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й, несложный по устройству, неискусно и грубо сдела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зкий по степени развития, совершен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чно образованный, малокультур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ящий на низших ступенях развития, первобы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7-конечная звезда 3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, в каком значении употребляется в тексте слово Б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 не было на горизонте даже отдельных признаков грядущей научно-технической революции или хотя бы информационного бу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умиха, ожи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мнастический снаря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коренный рост произв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жиот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7-конечная звезда 3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, в каком значении употребляется в тексте слово НЕМОЩ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иблия сообщает нам, что совесть может быть непорочной, доброй, чистой, а может быть немощной, осквернённой, порочной и даже сожжён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яхл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аб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омощ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7-конечная звезда 3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предложение(я), в котором(ых) используются антони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,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,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3429000" y="1357200"/>
            <a:ext cx="542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И моё страстное желание присоединиться ко всем, быть как все не может произойти иначе, как через раскрытие в глазах всех себя сам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2) (13) А сколько всего мы храним недостойного среди сокровищ нашей души! Как-то давно мне подарили зимой превосходный непромокаемый плащ сер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) (18) Потом в следующий год было опять сухо, и, когда вышел и третий год сухим, заговорили о том, что климат меняется в связи с особым расположением солнечных пятен. Только в четвёртом году вышла сырая весна, и в конце апреля, когда прилетают вальдшнепы, лил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0) И тогда оказалось, я напрасно стерёг домашний уют, где три года хранился непромокаемый плащ: при встрече с первым дождём мой плащ про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7-конечная звезда 4"/>
          <p:cNvSpPr/>
          <p:nvPr/>
        </p:nvSpPr>
        <p:spPr>
          <a:xfrm>
            <a:off x="357120" y="1143000"/>
            <a:ext cx="914400" cy="9144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контекстные антони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Если любой школьник вам скажет, что сорок пять минут порой тянутся целую вечность, то пожившие люди утверждают, будто не замечают, как пролетают целые годы, и объяснить это современная наука не в состоя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1857240" y="5072040"/>
            <a:ext cx="60724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кольник – пожившие 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янутся – пролет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рок пять минут -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ите слово СТРАСТНЫЙ из предложения стилистически нейтраль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моё страстное желание присоединиться ко всем, быть как все не может произойти иначе, как через раскрытие в глазах всех себя сам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428920" y="4143240"/>
            <a:ext cx="421488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ольш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ишите фразеологический обор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юди решили, что ночью никто не отличит молоко от воды, и без зазрения совести лили в бассейн обыкновенную в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2428920" y="4143240"/>
            <a:ext cx="421488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з зазрения сов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71524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2714760" y="28576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296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8001000" cy="4474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143160" y="278604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, не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0002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714760" y="407196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296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643040"/>
            <a:ext cx="8821800" cy="5000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228600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равда, сказка, выд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9:33:38Z</dcterms:created>
  <dc:creator>Инна</dc:creator>
  <dc:description/>
  <dc:language>en-US</dc:language>
  <cp:lastModifiedBy>Admin</cp:lastModifiedBy>
  <dcterms:modified xsi:type="dcterms:W3CDTF">2017-12-24T15:52:10Z</dcterms:modified>
  <cp:revision>11</cp:revision>
  <dc:subject/>
  <dc:title>В1 Лексика, стилистическая окраска слов</dc:title>
</cp:coreProperties>
</file>