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12CD-2545-49F1-A889-8657B8C5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A951-9A88-458A-B5FD-00F90C95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69BA-0124-46BC-834F-BB74B917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091A-E9EE-45FC-A404-B4AEEEE5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47D1-631A-4BAB-AD01-96F7EA67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A2D1-F4A4-489C-BC90-5E0ED153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2219-6A1D-4FB6-B429-CC101E9B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9C8C-B222-4D8C-A1A3-372010EF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6447-FEC9-4C04-8332-747B1862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C175-2DDC-4335-A863-D7A63D12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5551-BDAA-4083-ADA4-BF131FF0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97DB-E445-443D-9924-6D2EAB10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409A-5C89-46E1-B304-7E7A4201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2816-40D8-4D31-90A8-72F075D5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E7DF-E900-42BC-A900-466E863A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D9A1-8BF0-4AF8-BB07-59A3FCB0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BB2C-1F61-4D11-A463-70AB1EA9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8B3A-2D31-47B5-9E1F-007A143D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4C62-B7E7-4AAC-B955-358EDDE9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D31E-158F-418F-996E-379F07CB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EAEC-13C6-4D2F-AD57-86E34E2F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5DE6-A403-4544-9528-9EEAE6A1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BE82-F5D0-4DFC-8EB2-1A11853B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424F-8A8B-429A-B568-D007FD24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89CA-4AF4-4386-AB69-04F518D23C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B1FD-22B1-4A0E-9264-F5FED58A5A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allaklein.ucoz.ru/_ld/1/74605829.jpg" TargetMode="External"/><Relationship Id="rId2" Type="http://schemas.openxmlformats.org/officeDocument/2006/relationships/hyperlink" Target="http://stranamasterov.ru/node/3885594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tranamasterov.ru/node/3885594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820728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ппликация «СОВУШКА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 технике- вязание крючком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Прямоугольник 6"/>
          <p:cNvSpPr/>
          <p:nvPr/>
        </p:nvSpPr>
        <p:spPr>
          <a:xfrm>
            <a:off x="179280" y="2781360"/>
            <a:ext cx="8713800" cy="38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униципальное бюджетное общеобразовательное учреждение Поселковая средняя 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.Новополтавский Азовского района Ростовской обла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ahoma"/>
              </a:rPr>
              <a:t>Подготовил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ahoma"/>
              </a:rPr>
              <a:t>Коврикова Валентина Васильевн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ahoma"/>
              </a:rPr>
              <a:t>учитель технологии  1-категор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ahoma"/>
              </a:rPr>
              <a:t>Для учащихся 6 класс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яжем ушки «Совушки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1752480"/>
            <a:ext cx="4140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Вот такой круг должен получиться в итог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Соединяем. Вяжем 3 ВП подъема +1 итого 4 ВП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Вводим крючок во вторую петлю от крючка, вяжем столбик без накида (СБН) . В следующую петлю полу столбик, в последнюю петлю СБН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Получаем вот такой треугольни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1" descr="C:\Users\Валентина\Desktop\picsart_1402598704334.jpg"/>
          <p:cNvPicPr/>
          <p:nvPr/>
        </p:nvPicPr>
        <p:blipFill>
          <a:blip r:embed="rId1"/>
          <a:stretch/>
        </p:blipFill>
        <p:spPr>
          <a:xfrm>
            <a:off x="4140360" y="17002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канчиваем вязание уше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1752480"/>
            <a:ext cx="4211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Пропускаем петельку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Соединяем, только уже СБН. Вводим крючок в петлю, указанную на фото, вытаскиваем рабочую нить. На крючке теперь две петл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Цепляем крючком рабочую нить и протаскиваем ее через две петли на крючке. У нас получился СБН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Вяжем еще 3 СБН. Повторяем пункт 5. В итоге должно получиться еще одно ушк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1" descr="C:\Users\Валентина\Desktop\picsart_1402600477287.jpg"/>
          <p:cNvPicPr/>
          <p:nvPr/>
        </p:nvPicPr>
        <p:blipFill>
          <a:blip r:embed="rId1"/>
          <a:stretch/>
        </p:blipFill>
        <p:spPr>
          <a:xfrm>
            <a:off x="4211640" y="17002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яжем крылья «Совушки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1752480"/>
            <a:ext cx="4284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ылья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Пропускаем одну петельку. Присоединяем нить другого цвета. Вяжем так: 3 ВП, 1 полу столбик, 8 ССН, 1 полу столбик, 1 соединительная петля (пункт 5). Отрезать и закрепить ни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Пропустить три петли, присоединить нить другого цвета и вязать как первое крыл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1" descr="C:\Users\Валентина\Desktop\picsart_1402601603389.jpg"/>
          <p:cNvPicPr/>
          <p:nvPr/>
        </p:nvPicPr>
        <p:blipFill>
          <a:blip r:embed="rId1"/>
          <a:stretch/>
        </p:blipFill>
        <p:spPr>
          <a:xfrm>
            <a:off x="4284720" y="17002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яжем Лапки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«Совушки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1752480"/>
            <a:ext cx="392436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апки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Вот 3 петли которые мы пропустили в прошлом пункт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Лапки вяжутся в петли указанные на фот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яжем так их с помощью пико:.3 ВП, вводим крючок к ту петлю, откуда начинали вязание, повторяем 3 раз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Вот уже что-то похожее на сов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1" descr="C:\Users\Валентина\Desktop\picsart_1402602793423.jpg"/>
          <p:cNvPicPr/>
          <p:nvPr/>
        </p:nvPicPr>
        <p:blipFill>
          <a:blip r:embed="rId1"/>
          <a:stretch/>
        </p:blipFill>
        <p:spPr>
          <a:xfrm>
            <a:off x="3924360" y="1700280"/>
            <a:ext cx="495288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яжем веточк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752480"/>
            <a:ext cx="414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 вяжем коричневым цвет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хема 1 – клю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хема 2 – листь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яжем зеленым цветом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хема 3 - веточ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2" descr="C:\Users\Валентина\Desktop\img_20140609_232309_0.jpg"/>
          <p:cNvPicPr/>
          <p:nvPr/>
        </p:nvPicPr>
        <p:blipFill>
          <a:blip r:embed="rId1"/>
          <a:stretch/>
        </p:blipFill>
        <p:spPr>
          <a:xfrm>
            <a:off x="3924360" y="1700280"/>
            <a:ext cx="47880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яжем глаза и клю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752480"/>
            <a:ext cx="4284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 вязать круги мы рассматривали в п.5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вязать клюв по схеме 1 п.10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юв и глаза вяжем крючком 1,5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тали пришиваем на сов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рачки-бусинки. У меня бусин не было под ручкой, сложила обычные швейные нитки в 4 раза, взяла крючок 1, и связала СБ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2" descr="C:\Users\Валентина\Desktop\picsart_1402603573010.jpg"/>
          <p:cNvPicPr/>
          <p:nvPr/>
        </p:nvPicPr>
        <p:blipFill>
          <a:blip r:embed="rId1"/>
          <a:stretch/>
        </p:blipFill>
        <p:spPr>
          <a:xfrm>
            <a:off x="4643280" y="1773360"/>
            <a:ext cx="398808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1752120"/>
            <a:ext cx="414036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Вяжем 13 ВП, вводим крючок во вторую петлю от крючка и вяжем 6 СБН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Связав 6 СБН, продолжаем вязать 21 ВП. Связав 21 ВП, ввести крючок во вторую петлю от крючка и связать 13 СБН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После связанных 13 СБН, вяжем 6 ВП, так же крючок во вторую петлю от крючка и вяжем 5СБН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2" descr="C:\Users\Валентина\Desktop\picsart_1402604256818.jpg"/>
          <p:cNvPicPr/>
          <p:nvPr/>
        </p:nvPicPr>
        <p:blipFill>
          <a:blip r:embed="rId1"/>
          <a:stretch/>
        </p:blipFill>
        <p:spPr>
          <a:xfrm>
            <a:off x="4643280" y="1557360"/>
            <a:ext cx="40784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1752480"/>
            <a:ext cx="4284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Далее вяжем по схеме до конца, закрепляем нить СХЕМА УСЛОВНАЯ, можно менять по длинней и количеству веток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Присоединить нить зеленого цвета и связать листья по схеме 2 ( 7 СБН, крючок во вторую петлю от крючка, СБН, полу столбик, 2 ССН, полу столбик, СБН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Пришить аппликацию на издел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2" descr="C:\Users\Валентина\Desktop\УЧИТЕЛЬ ГОДА\10040277_17359nothumb650.jpg"/>
          <p:cNvPicPr/>
          <p:nvPr/>
        </p:nvPicPr>
        <p:blipFill>
          <a:blip r:embed="rId1"/>
          <a:srcRect l="0" t="0" r="36444" b="47214"/>
          <a:stretch/>
        </p:blipFill>
        <p:spPr>
          <a:xfrm>
            <a:off x="5076720" y="1752480"/>
            <a:ext cx="362124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спользованные ресурс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Шаблон презентации – </a:t>
            </a: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allaklein.ucoz.ru/_ld/1/74605829.jpg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дея для мастер-класса взята с сайта</a:t>
            </a:r>
            <a:r>
              <a:rPr b="0" lang="ru-RU" sz="3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 http://stranamasterov.ru/node/3885594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Calibri"/>
              </a:rPr>
              <a:t>Автор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ahoma"/>
              </a:rPr>
              <a:t>Коврикова Валентина Васильевна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ahoma"/>
              </a:rPr>
              <a:t>учитель технологии  1-категори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66640" y="2349360"/>
            <a:ext cx="8253360" cy="36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Calibri"/>
              </a:rPr>
              <a:t>Мастер-класс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Calibri"/>
              </a:rPr>
              <a:t>рассчитан на учебное занятие для учащихся  6 - 12 лет, педагогов, родителей.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Calibri"/>
              </a:rPr>
              <a:t>Назначение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Calibri"/>
              </a:rPr>
              <a:t> данная работа - это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ппликация, ее можно использовать для украшения одежды и головных убор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Calibri"/>
              </a:rPr>
              <a:t>украшение, сделанное своими рук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мастер-класса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4000" y="1773000"/>
            <a:ext cx="8064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творческих способностей, фантазии.</a:t>
            </a: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ысить  мотивацию детей и взрослых к овладению техникой вязания крючком для  изготовления украшений  одежды и головных уборов в виде аппликации из пряжи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СОВУШКА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мастер-класс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1267920"/>
            <a:ext cx="91440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знакомить с историей изготовления, разновидностью украшений в технике вязания крючко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изготовит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аппликацию «СОВУШКА»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,следуя пошаговой инструкци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обеспечить усвоение новой информации посредством      выполнения работы ,  следуя показу  педагога и пошаговой инструкции в сопровождении фото 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бучить технике технике вязания крючком , амигурум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декорированию  с помощью аппликации из пряж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казать актуальность использования в декоративном творчестве , использовать полученные знания в своей работе при изготовлении украшений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ппликация «СОВУШКА»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 технике- вязание крючком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0" y="4869000"/>
            <a:ext cx="439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ппликацию можно использовать для украшения одежды и головных убор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8" descr="C:\Users\Валентина\Desktop\picsart_1402344420763_0.jpg"/>
          <p:cNvPicPr/>
          <p:nvPr/>
        </p:nvPicPr>
        <p:blipFill>
          <a:blip r:embed="rId1"/>
          <a:srcRect l="62197" t="3535" r="7575" b="68866"/>
          <a:stretch/>
        </p:blipFill>
        <p:spPr>
          <a:xfrm>
            <a:off x="6012000" y="1628640"/>
            <a:ext cx="2447640" cy="280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Users\Валентина\Desktop\УЧИТЕЛЬ ГОДА\aZfb1ATpBkM.jpg"/>
          <p:cNvPicPr/>
          <p:nvPr/>
        </p:nvPicPr>
        <p:blipFill>
          <a:blip r:embed="rId2"/>
          <a:stretch/>
        </p:blipFill>
        <p:spPr>
          <a:xfrm>
            <a:off x="468360" y="1773360"/>
            <a:ext cx="5040360" cy="25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Валентина\Desktop\УЧИТЕЛЬ ГОДА\10039456_23731nothumb650.jpg"/>
          <p:cNvPicPr/>
          <p:nvPr/>
        </p:nvPicPr>
        <p:blipFill>
          <a:blip r:embed="rId3"/>
          <a:srcRect l="0" t="8984" r="0" b="10918"/>
          <a:stretch/>
        </p:blipFill>
        <p:spPr>
          <a:xfrm>
            <a:off x="250920" y="4005360"/>
            <a:ext cx="4321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Технологические услов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2276640"/>
            <a:ext cx="38512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ппликацию будем вязать из ниток vita coco. Аппликацию вяжем крючком №2, глазки и нос совы - крючком №1,5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5" descr="шапочку можно связать по любой схеме. для примера можно использовать вот эту http://www.liveinternet.ru/users/5038409/post298181717 .&#10;Как рассчитать размер донышка и высоту шапки вы найдете здесь http://stranamasterov.ru/node/388559&#10;Схема обвязки здесь http://stranamasterov.ru/node/384955 у меня шапочка на размер 45 см. 45/3,14=14,3. так как вязка хорошо тянется и может растянутся в процессе вязки то отнимаем один см. 14,3-1=13,3 см. высота шапки будет 16 см. фото 2"/>
          <p:cNvPicPr/>
          <p:nvPr/>
        </p:nvPicPr>
        <p:blipFill>
          <a:blip r:embed="rId1"/>
          <a:stretch/>
        </p:blipFill>
        <p:spPr>
          <a:xfrm>
            <a:off x="4284720" y="2060640"/>
            <a:ext cx="42829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язание «Амигуруми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1752480"/>
            <a:ext cx="428472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ступим к аппликаци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Делаем петельку, как показано на фото . Короткая ниточка должна быть сверху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Вводим крючок в петлю и протаскиваем основную нить через петлю, придерживая нашу петельку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Вот что должно получить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Вяжет 3 воздушные петли (далее ВП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1" descr="C:\Users\Валентина\Desktop\picsart_1402522484344.jpg"/>
          <p:cNvPicPr/>
          <p:nvPr/>
        </p:nvPicPr>
        <p:blipFill>
          <a:blip r:embed="rId1"/>
          <a:stretch/>
        </p:blipFill>
        <p:spPr>
          <a:xfrm>
            <a:off x="4284720" y="177336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яжем серединку туловищ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2565360"/>
            <a:ext cx="399564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Вяжет 12 столбиков с накидом (далее ССН), при этом не затягиваем нашу петлю. Короткую ниточку обвязываем под столби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Связав 12 ССН, затягиваем нашу петлю за короткую н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1" descr="C:\Users\Валентина\Desktop\picsart_1402521876592.jpg"/>
          <p:cNvPicPr/>
          <p:nvPr/>
        </p:nvPicPr>
        <p:blipFill>
          <a:blip r:embed="rId1"/>
          <a:stretch/>
        </p:blipFill>
        <p:spPr>
          <a:xfrm>
            <a:off x="4067280" y="162864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канчиваем  1 - ря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1752480"/>
            <a:ext cx="4211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Соединяем наши столбики в круг. Вводим крючок в петлю, на фото обозначена стрелко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Вятягиваем нить из петл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И протаскиваем ее через петлю на крючке. Делаем подъем из 3 ВП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лее вяжем 3 ряд ССН.. Схема прибаво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stranamasterov.ru/node/388559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1" descr="C:\Users\Валентина\Desktop\picsart_1402522163838.jpg"/>
          <p:cNvPicPr/>
          <p:nvPr/>
        </p:nvPicPr>
        <p:blipFill>
          <a:blip r:embed="rId2"/>
          <a:stretch/>
        </p:blipFill>
        <p:spPr>
          <a:xfrm>
            <a:off x="4211640" y="17002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1:57:19Z</dcterms:created>
  <dc:creator>Домашний</dc:creator>
  <dc:description/>
  <dc:language>en-US</dc:language>
  <cp:lastModifiedBy>Валентина</cp:lastModifiedBy>
  <dcterms:modified xsi:type="dcterms:W3CDTF">2017-12-24T10:38:09Z</dcterms:modified>
  <cp:revision>23</cp:revision>
  <dc:subject/>
  <dc:title>Аппликация</dc:title>
</cp:coreProperties>
</file>