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6CFF7-9B3E-40EF-A8B4-ED366B80C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FCD20-8203-4D03-A495-057E4A86B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FDAA3-2112-4DCA-96E1-86443318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D572A-FBE4-47AE-AFB0-F51C23FC3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D0408-A217-4614-B198-5F64ABD20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7EBA2-0097-4F9A-A92B-D4561B0CA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3FF23-BB75-40C0-9B63-C29B1DFDC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9A59A-AD73-414E-ABCA-75C55C2A0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1A9A6-F014-4557-B368-64B112EDE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739BE-8C4D-4606-B7F9-C68FFA0BC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AA189-23C5-4BE8-B3AB-98817C164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44311-2726-49DC-8E0E-B34C504B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3B4FC-852A-4D8B-BAD4-5A57989D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4F6E-E870-43C1-A18B-82A4D8B1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F57A9-984D-46A6-A70D-9EA971995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F4787-A73D-4AD1-862A-28FC9D926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45BC4-2900-4AFB-876D-3BB86926D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4772-431D-471B-BE39-D9D2AE159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BDD45-5175-4375-84B3-399C0F51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F2436-EAC4-4950-8144-5BAB3574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49E5F-D5DE-4566-8702-245ED1BC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FF33-0CBC-47C7-B8C9-4D7264CC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7166-4355-4EC0-B6B8-BBC9251D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1F572-5008-4C84-983E-E23ED1F04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9697-3C1B-44CC-BAE2-64D61C8DEB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BB2A-C1B7-4AB4-9824-9BFF3ECDA3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333000"/>
            <a:ext cx="8447040" cy="604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33"/>
                </a:solidFill>
                <a:latin typeface="Times New Roman"/>
              </a:rPr>
              <a:t>Специфика  </a:t>
            </a:r>
            <a:br>
              <a:rPr sz="4400"/>
            </a:br>
            <a:r>
              <a:rPr b="1" lang="ru-RU" sz="4400" spc="-1" strike="noStrike">
                <a:solidFill>
                  <a:srgbClr val="ccff33"/>
                </a:solidFill>
                <a:latin typeface="Times New Roman"/>
              </a:rPr>
              <a:t>коррекционной работы с детьми, </a:t>
            </a:r>
            <a:br>
              <a:rPr sz="4400"/>
            </a:br>
            <a:r>
              <a:rPr b="1" lang="ru-RU" sz="4400" spc="-1" strike="noStrike">
                <a:solidFill>
                  <a:srgbClr val="ccff33"/>
                </a:solidFill>
                <a:latin typeface="Times New Roman"/>
              </a:rPr>
              <a:t>имеющими нарушения зрения</a:t>
            </a:r>
            <a:br>
              <a:rPr sz="4400"/>
            </a:br>
            <a:br>
              <a:rPr sz="4400"/>
            </a:br>
            <a:r>
              <a:rPr b="1" lang="ru-RU" sz="4400" spc="-1" strike="noStrike">
                <a:solidFill>
                  <a:srgbClr val="ccff33"/>
                </a:solidFill>
                <a:latin typeface="Times New Roman"/>
              </a:rPr>
              <a:t>                           </a:t>
            </a:r>
            <a:r>
              <a:rPr b="1" lang="ru-RU" sz="3600" spc="-1" strike="noStrike">
                <a:solidFill>
                  <a:srgbClr val="ccff33"/>
                </a:solidFill>
                <a:latin typeface="Times New Roman"/>
              </a:rPr>
              <a:t>подготовила</a:t>
            </a:r>
            <a:br>
              <a:rPr sz="3600"/>
            </a:br>
            <a:r>
              <a:rPr b="1" lang="ru-RU" sz="3600" spc="-1" strike="noStrike">
                <a:solidFill>
                  <a:srgbClr val="ccff33"/>
                </a:solidFill>
                <a:latin typeface="Times New Roman"/>
              </a:rPr>
              <a:t>                                       Варламова Е.В.</a:t>
            </a:r>
            <a:br>
              <a:rPr sz="4400"/>
            </a:b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457200" indent="-45720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ff33"/>
                </a:solidFill>
                <a:latin typeface="Arial"/>
              </a:rPr>
              <a:t> </a:t>
            </a:r>
            <a:r>
              <a:rPr b="1" lang="ru-RU" sz="2200" spc="-1" strike="noStrike">
                <a:solidFill>
                  <a:srgbClr val="ccff33"/>
                </a:solidFill>
                <a:latin typeface="Times New Roman"/>
              </a:rPr>
              <a:t>Шестой ступенью</a:t>
            </a:r>
            <a:r>
              <a:rPr b="1" lang="ru-RU" sz="2200" spc="-1" strike="noStrike">
                <a:solidFill>
                  <a:srgbClr val="ffffff"/>
                </a:solidFill>
                <a:latin typeface="Times New Roman"/>
              </a:rPr>
              <a:t> сенсорного воспитания является </a:t>
            </a:r>
            <a:r>
              <a:rPr b="1" lang="ru-RU" sz="2200" spc="-1" strike="noStrike">
                <a:solidFill>
                  <a:srgbClr val="ccff33"/>
                </a:solidFill>
                <a:latin typeface="Times New Roman"/>
              </a:rPr>
              <a:t>подготовка незрячего ребенка к изобразительной деятельности.</a:t>
            </a:r>
            <a:r>
              <a:rPr b="1" lang="ru-RU" sz="2200" spc="-1" strike="noStrike">
                <a:solidFill>
                  <a:srgbClr val="ffffff"/>
                </a:solidFill>
                <a:latin typeface="Times New Roman"/>
              </a:rPr>
              <a:t> </a:t>
            </a:r>
            <a:endParaRPr b="0" lang="en-US" sz="2200" spc="-1" strike="noStrike">
              <a:solidFill>
                <a:srgbClr val="ffffff"/>
              </a:solidFill>
              <a:latin typeface="Arial"/>
            </a:endParaRPr>
          </a:p>
          <a:p>
            <a:pPr marL="457200" indent="-45720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Здесь помогут лепка, аппликационное конструирование, рисование и конструирование.</a:t>
            </a:r>
            <a:endParaRPr b="0" lang="en-US" sz="2200" spc="-1" strike="noStrike">
              <a:solidFill>
                <a:srgbClr val="ffffff"/>
              </a:solidFill>
              <a:latin typeface="Arial"/>
            </a:endParaRPr>
          </a:p>
          <a:p>
            <a:pPr marL="457200" indent="-45720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Начинать занятия необходимо с простейших упражнений для рук и пальчиков, при этом стараться, чтобы обе руки выполняли  движения. </a:t>
            </a:r>
            <a:endParaRPr b="0" lang="en-US" sz="2200" spc="-1" strike="noStrike">
              <a:solidFill>
                <a:srgbClr val="ffffff"/>
              </a:solidFill>
              <a:latin typeface="Arial"/>
            </a:endParaRPr>
          </a:p>
          <a:p>
            <a:pPr marL="457200" indent="-45720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Добиться этого поможет работа с пластилином. Младшим детям сначала показывают, как изготовить из пластилина палочку, колбаску, затем шарики, лепешечки. Овладение приемами лепки является одной из важных ступеней в подготовке слепого ребенка к письму и чтению по Брайлю. </a:t>
            </a:r>
            <a:endParaRPr b="0" lang="en-US" sz="2200" spc="-1" strike="noStrike">
              <a:solidFill>
                <a:srgbClr val="ffffff"/>
              </a:solidFill>
              <a:latin typeface="Arial"/>
            </a:endParaRPr>
          </a:p>
          <a:p>
            <a:pPr marL="457200" indent="-45720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ff33"/>
                </a:solidFill>
                <a:latin typeface="Times New Roman"/>
              </a:rPr>
              <a:t>Особое внимание нужно обращать на то, чтобы пластилин незрячие дети разминали и лепили нужную форму в руках, а не на доске,</a:t>
            </a:r>
            <a:r>
              <a:rPr b="1" lang="ru-RU" sz="2200" spc="-1" strike="noStrike">
                <a:solidFill>
                  <a:srgbClr val="ffffff"/>
                </a:solidFill>
                <a:latin typeface="Times New Roman"/>
              </a:rPr>
              <a:t> так как сила осязающей руки является важным условием овладения приемами и способами сенсорного восприятия.  Все это пригодится для аппликационного конструирования в старшем возрасте, которое  разовьет осязание, простраственную ориентировку на плоскости, обогатит представление.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560" y="188640"/>
            <a:ext cx="8713800" cy="6553080"/>
          </a:xfrm>
          <a:prstGeom prst="rect">
            <a:avLst/>
          </a:prstGeom>
          <a:noFill/>
          <a:ln w="0">
            <a:noFill/>
          </a:ln>
        </p:spPr>
        <p:txBody>
          <a:bodyPr lIns="90000" rIns="90000" tIns="46800" bIns="46800" anchor="t">
            <a:normAutofit/>
          </a:bodyPr>
          <a:p>
            <a:pPr marL="380880" indent="-380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Совершенствованию ручных умений способствуют занятия с мозаикой,</a:t>
            </a:r>
            <a:r>
              <a:rPr b="1" lang="ru-RU" sz="2400" spc="-1" strike="noStrike">
                <a:solidFill>
                  <a:srgbClr val="ffffff"/>
                </a:solidFill>
                <a:latin typeface="Times New Roman"/>
              </a:rPr>
              <a:t> которые развивают не только осязание, но, что особенно важно, тонкость и точность движения пальцев рук слепого ребенка, вырабатывают умения ориентироваться правой и левой рукой. </a:t>
            </a:r>
            <a:endParaRPr b="0" lang="en-US" sz="2400" spc="-1" strike="noStrike">
              <a:solidFill>
                <a:srgbClr val="ffffff"/>
              </a:solidFill>
              <a:latin typeface="Arial"/>
            </a:endParaRPr>
          </a:p>
          <a:p>
            <a:pPr marL="380880" indent="-380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Эти приемы будут затем закреплены при работе на брайлевской линейке (колодочке), где будут строиться узоры, изучаться названия точек брайлевского алфавита, а затем уже в работе на приборе для письма. На грибковой мозаике можно составлять узоры, рамочки, цветы и многое другое. Она хороша тем, что шрифты плотно входят в дырочки и не выходят из них при прикосновении пальчиков. </a:t>
            </a:r>
            <a:endParaRPr b="0" lang="en-US" sz="2400" spc="-1" strike="noStrike">
              <a:solidFill>
                <a:srgbClr val="ffffff"/>
              </a:solidFill>
              <a:latin typeface="Arial"/>
            </a:endParaRPr>
          </a:p>
          <a:p>
            <a:pPr marL="380880" indent="-380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Необходимо все время напоминать детям о легкости и точности движения рук при проверке правильности своей работы.</a:t>
            </a:r>
            <a:r>
              <a:rPr b="1" lang="ru-RU" sz="2400" spc="-1" strike="noStrike">
                <a:solidFill>
                  <a:srgbClr val="ffffff"/>
                </a:solidFill>
                <a:latin typeface="Times New Roman"/>
              </a:rPr>
              <a:t> Такие легкие прикосновения пальчиков нужны в дальнейшем для быстрого чтения художественной литературы, чтения контурных карт, обследования чучел и муляжей, чтения рельефного рисун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79280" y="189000"/>
            <a:ext cx="8964720" cy="64800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ccff33"/>
                </a:solidFill>
                <a:latin typeface="Times New Roman"/>
              </a:rPr>
              <a:t>Типологическая характеристика зрительного восприятия частичнозрячих дошкольников:</a:t>
            </a:r>
            <a:endParaRPr b="0" lang="en-US" sz="2800" spc="-1" strike="noStrike">
              <a:solidFill>
                <a:srgbClr val="ffffff"/>
              </a:solidFill>
              <a:latin typeface="Arial"/>
            </a:endParaRPr>
          </a:p>
          <a:p>
            <a:pPr marL="380880" indent="-3808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ериод дошкольного детства частичнозрячих характеризуется возникновением, </a:t>
            </a:r>
            <a:r>
              <a:rPr b="1" lang="ru-RU" sz="2800" spc="-1" strike="noStrike">
                <a:solidFill>
                  <a:srgbClr val="ccff33"/>
                </a:solidFill>
                <a:latin typeface="Times New Roman"/>
              </a:rPr>
              <a:t>становлением компенсаторных процессов в зрительной системе на биологическом уровне;</a:t>
            </a:r>
            <a:endParaRPr b="0" lang="en-US" sz="2800" spc="-1" strike="noStrike">
              <a:solidFill>
                <a:srgbClr val="ffffff"/>
              </a:solidFill>
              <a:latin typeface="Arial"/>
            </a:endParaRPr>
          </a:p>
          <a:p>
            <a:pPr marL="380880" indent="-3808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олжно произойти </a:t>
            </a:r>
            <a:r>
              <a:rPr b="1" lang="ru-RU" sz="2800" spc="-1" strike="noStrike">
                <a:solidFill>
                  <a:srgbClr val="ccff33"/>
                </a:solidFill>
                <a:latin typeface="Times New Roman"/>
              </a:rPr>
              <a:t>включение индивидуально развивающейся зрительной системы в жизнедеятельности ребенка;</a:t>
            </a:r>
            <a:endParaRPr b="0" lang="en-US" sz="2800" spc="-1" strike="noStrike">
              <a:solidFill>
                <a:srgbClr val="ffffff"/>
              </a:solidFill>
              <a:latin typeface="Arial"/>
            </a:endParaRPr>
          </a:p>
          <a:p>
            <a:pPr marL="380880" indent="-3808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оисходит </a:t>
            </a:r>
            <a:r>
              <a:rPr b="1" lang="ru-RU" sz="2800" spc="-1" strike="noStrike">
                <a:solidFill>
                  <a:srgbClr val="ccff33"/>
                </a:solidFill>
                <a:latin typeface="Times New Roman"/>
              </a:rPr>
              <a:t>развитие зрительного восприятия как сенсорно-перцептивного процесса,</a:t>
            </a:r>
            <a:r>
              <a:rPr b="1" lang="ru-RU" sz="2800" spc="-1" strike="noStrike">
                <a:solidFill>
                  <a:srgbClr val="ffffff"/>
                </a:solidFill>
                <a:latin typeface="Times New Roman"/>
              </a:rPr>
              <a:t> осуществляемого на фоне типологических особенностей остаточного зрения, обозначенных А. И. Капла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260280"/>
            <a:ext cx="8424720" cy="640872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   </a:t>
            </a:r>
            <a:r>
              <a:rPr b="1" lang="ru-RU" sz="2200" spc="-1" strike="noStrike">
                <a:solidFill>
                  <a:srgbClr val="ccff33"/>
                </a:solidFill>
                <a:latin typeface="Times New Roman"/>
              </a:rPr>
              <a:t>Для подготовки слепого или слабовидящего к систематическому обучению родному языку необходимо развить его слух.</a:t>
            </a:r>
            <a:endParaRPr b="0" lang="en-US" sz="2200" spc="-1" strike="noStrike">
              <a:solidFill>
                <a:srgbClr val="ffffff"/>
              </a:solidFill>
              <a:latin typeface="Arial"/>
            </a:endParaRPr>
          </a:p>
          <a:p>
            <a:pPr marL="343080" indent="-3430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Мы должны помочь ребенку  разобраться в том многообразии звуков и шумов, которые окружают его, и не только разобраться, но и научиться копировать их.</a:t>
            </a:r>
            <a:endParaRPr b="0" lang="en-US" sz="2200" spc="-1" strike="noStrike">
              <a:solidFill>
                <a:srgbClr val="ffffff"/>
              </a:solidFill>
              <a:latin typeface="Arial"/>
            </a:endParaRPr>
          </a:p>
          <a:p>
            <a:pPr marL="343080" indent="-3430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Наш родной язык имеет огромные возможности для передачи различных звуков окружающей жизни – пения и щелкания птиц, кваканья лягушек, журчания ручейка и т. д. </a:t>
            </a:r>
            <a:endParaRPr b="0" lang="en-US" sz="2200" spc="-1" strike="noStrike">
              <a:solidFill>
                <a:srgbClr val="ffffff"/>
              </a:solidFill>
              <a:latin typeface="Arial"/>
            </a:endParaRPr>
          </a:p>
          <a:p>
            <a:pPr marL="343080" indent="-3430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Подражание, а в дальнейшем и дифференциация этих звуков способствуют развитию фонематического слуха при подготовке ребенка к школе. </a:t>
            </a:r>
            <a:endParaRPr b="0" lang="en-US" sz="2200" spc="-1" strike="noStrike">
              <a:solidFill>
                <a:srgbClr val="ffffff"/>
              </a:solidFill>
              <a:latin typeface="Arial"/>
            </a:endParaRPr>
          </a:p>
          <a:p>
            <a:pPr marL="343080" indent="-34308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Развитие фонематического слуха нельзя рассматривать вне связи его с речедвигательными процессами, которыми сопровождается произношение и выделение звуков речи. </a:t>
            </a:r>
            <a:endParaRPr b="0" lang="en-US" sz="2200" spc="-1" strike="noStrike">
              <a:solidFill>
                <a:srgbClr val="ffffff"/>
              </a:solidFill>
              <a:latin typeface="Arial"/>
            </a:endParaRPr>
          </a:p>
          <a:p>
            <a:pPr marL="343080" indent="-343080">
              <a:lnSpc>
                <a:spcPct val="80000"/>
              </a:lnSpc>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Возникающие при этом слуховые и кинестетические ощущения выступают в качестве взаимно определяющих друг друга компонентов. Поэтому необходимо привлекать внимание детей не только к звучанию слов, но и к их артикуляци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260280"/>
            <a:ext cx="8569080" cy="63374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При обучении письму</a:t>
            </a:r>
            <a:r>
              <a:rPr b="1" lang="en-US" sz="2400" spc="-1" strike="noStrike">
                <a:solidFill>
                  <a:srgbClr val="ffffff"/>
                </a:solidFill>
                <a:latin typeface="Times New Roman"/>
              </a:rPr>
              <a:t> слепого ребенка очень важно подготовить, развить осязающую руку.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ециальное внимание уделяется упражнениям, способствующим развитию координации движений кисти и пальцев руки.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В качестве первоначальных упражнений следует использовать различные виды ручного труда: лепку из пластилина, вырезывание из бумаги, шитье по проколам или по контуру, а также игры с мозаикой и т. д. Надо научить ребенка легко и нежно ощупывать предметы, прикасаясь к ним кончиками пальцев, не надавливая и не нажимая.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громную роль при этом играют трудовые операции самообслуживания, в которых слепой ребенок овладевает навыками осязательного восприятия и распознания своей одежды, ее лицевой и изнаночной, передней и задней стороны, отдельных детал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79280" y="189000"/>
            <a:ext cx="8964720" cy="6480000"/>
          </a:xfrm>
          <a:prstGeom prst="rect">
            <a:avLst/>
          </a:prstGeom>
          <a:noFill/>
          <a:ln w="0">
            <a:noFill/>
          </a:ln>
        </p:spPr>
        <p:txBody>
          <a:bodyPr lIns="90000" rIns="90000" tIns="46800" bIns="46800"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ccff33"/>
                </a:solidFill>
                <a:latin typeface="Times New Roman"/>
              </a:rPr>
              <a:t>Все изложенное позволяет обозначить генеральные линии воздействия на зрительное восприятие частичнозрячих детей:</a:t>
            </a:r>
            <a:endParaRPr b="0" lang="en-US" sz="2400" spc="-1" strike="noStrike">
              <a:solidFill>
                <a:srgbClr val="ffffff"/>
              </a:solidFill>
              <a:latin typeface="Arial"/>
            </a:endParaRPr>
          </a:p>
          <a:p>
            <a:pPr marL="380880" indent="-3808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стимуляция биопотенциалов мозга в целом и зрительной системы</a:t>
            </a:r>
            <a:r>
              <a:rPr b="1" lang="ru-RU" sz="2400" spc="-1" strike="noStrike">
                <a:solidFill>
                  <a:srgbClr val="ffffff"/>
                </a:solidFill>
                <a:latin typeface="Times New Roman"/>
              </a:rPr>
              <a:t> в частности с целью улучшения функционирования ее различных структур;</a:t>
            </a:r>
            <a:endParaRPr b="0" lang="en-US" sz="2400" spc="-1" strike="noStrike">
              <a:solidFill>
                <a:srgbClr val="ffffff"/>
              </a:solidFill>
              <a:latin typeface="Arial"/>
            </a:endParaRPr>
          </a:p>
          <a:p>
            <a:pPr marL="380880" indent="-3808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налаживание и развитие моторно-визуальньгх связей</a:t>
            </a:r>
            <a:r>
              <a:rPr b="1" lang="ru-RU" sz="2400" spc="-1" strike="noStrike">
                <a:solidFill>
                  <a:srgbClr val="ffffff"/>
                </a:solidFill>
                <a:latin typeface="Times New Roman"/>
              </a:rPr>
              <a:t> как отправной точки возникновения потребностей у частичнозрячего малыша использовать свои зрительные возможности;</a:t>
            </a:r>
            <a:endParaRPr b="0" lang="en-US" sz="2400" spc="-1" strike="noStrike">
              <a:solidFill>
                <a:srgbClr val="ffffff"/>
              </a:solidFill>
              <a:latin typeface="Arial"/>
            </a:endParaRPr>
          </a:p>
          <a:p>
            <a:pPr marL="380880" indent="-3808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поддержание и воспитание у ребенка потребности включать зрение</a:t>
            </a:r>
            <a:r>
              <a:rPr b="1" lang="ru-RU" sz="2400" spc="-1" strike="noStrike">
                <a:solidFill>
                  <a:srgbClr val="ffffff"/>
                </a:solidFill>
                <a:latin typeface="Times New Roman"/>
              </a:rPr>
              <a:t> в сенсорно-перцептивный процесс;</a:t>
            </a:r>
            <a:endParaRPr b="0" lang="en-US" sz="2400" spc="-1" strike="noStrike">
              <a:solidFill>
                <a:srgbClr val="ffffff"/>
              </a:solidFill>
              <a:latin typeface="Arial"/>
            </a:endParaRPr>
          </a:p>
          <a:p>
            <a:pPr marL="380880" indent="-380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развитие отражательных функций зрительной системы,</a:t>
            </a:r>
            <a:r>
              <a:rPr b="1" lang="ru-RU" sz="2400" spc="-1" strike="noStrike">
                <a:solidFill>
                  <a:srgbClr val="ffffff"/>
                </a:solidFill>
                <a:latin typeface="Times New Roman"/>
              </a:rPr>
              <a:t> стимулирование ее регулирующей роли в поведении и познавательном процессе;</a:t>
            </a:r>
            <a:endParaRPr b="0" lang="en-US" sz="2400" spc="-1" strike="noStrike">
              <a:solidFill>
                <a:srgbClr val="ffffff"/>
              </a:solidFill>
              <a:latin typeface="Arial"/>
            </a:endParaRPr>
          </a:p>
          <a:p>
            <a:pPr marL="380880" indent="-3808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развитие зрительного восприятия как психического познавательного процесса</a:t>
            </a:r>
            <a:r>
              <a:rPr b="1" lang="ru-RU" sz="2400" spc="-1" strike="noStrike">
                <a:solidFill>
                  <a:srgbClr val="ffffff"/>
                </a:solidFill>
                <a:latin typeface="Times New Roman"/>
              </a:rPr>
              <a:t> в целостной сенсорной системе при индивидуальном решении доминантности зрительной системы, свойственной зрячи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ccff33"/>
                </a:solidFill>
                <a:latin typeface="Times New Roman"/>
              </a:rPr>
              <a:t>Генеральные линии коррекционного воздействия: </a:t>
            </a: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стимулирование работы зрительной системы с целью упрочения и качественного улучшения связи функциональных и операционных механизмов;</a:t>
            </a: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стимуляция с целью улучшения функционирования различных отделов зрительной системы;</a:t>
            </a: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создание условий и целенаправленная помощь в формировании у слабовидящих детей зрительных полноценных представлений об окружающей действительности;</a:t>
            </a: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развитие мотивационного механизма как компенсаторного фактора в становлении зрительного восприятия;</a:t>
            </a:r>
            <a:endParaRPr b="0" lang="en-US" sz="2400" spc="-1" strike="noStrike">
              <a:solidFill>
                <a:srgbClr val="ffffff"/>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формирование понятий и приучение слабовидящих детей к умению распределять зрительные нагрузки в процессе познания и жизнедеятельност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a:bodyPr>
          <a:p>
            <a:pPr marL="3808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200" spc="-1" strike="noStrike">
                <a:solidFill>
                  <a:srgbClr val="ccff33"/>
                </a:solidFill>
                <a:latin typeface="Times New Roman"/>
              </a:rPr>
              <a:t>Создание условий по научению слабовидящего ребенка эффективно использовать свое зрительное восприятие в ориентировочно-исследовательской деятельности и жизнедеятельности в целом — объединяющее начало интеграции методик.</a:t>
            </a:r>
            <a:endParaRPr b="0" lang="en-US" sz="2200" spc="-1" strike="noStrike">
              <a:solidFill>
                <a:srgbClr val="ffffff"/>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     </a:t>
            </a:r>
            <a:r>
              <a:rPr b="1" lang="ru-RU" sz="2200" spc="-1" strike="noStrike">
                <a:solidFill>
                  <a:srgbClr val="ffffff"/>
                </a:solidFill>
                <a:latin typeface="Times New Roman"/>
              </a:rPr>
              <a:t>Составные части:</a:t>
            </a:r>
            <a:endParaRPr b="0" lang="en-US" sz="2200" spc="-1" strike="noStrike">
              <a:solidFill>
                <a:srgbClr val="ffffff"/>
              </a:solidFill>
              <a:latin typeface="Arial"/>
            </a:endParaRPr>
          </a:p>
          <a:p>
            <a:pPr marL="380880" indent="-38088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ff33"/>
                </a:solidFill>
                <a:latin typeface="Times New Roman"/>
              </a:rPr>
              <a:t>педагогические методы,</a:t>
            </a:r>
            <a:r>
              <a:rPr b="1" lang="ru-RU" sz="2200" spc="-1" strike="noStrike">
                <a:solidFill>
                  <a:srgbClr val="ffffff"/>
                </a:solidFill>
                <a:latin typeface="Times New Roman"/>
              </a:rPr>
              <a:t> направленные на воспитание познавательного интереса об окружающей действительности, </a:t>
            </a:r>
            <a:endParaRPr b="0" lang="en-US" sz="2200" spc="-1" strike="noStrike">
              <a:solidFill>
                <a:srgbClr val="ffffff"/>
              </a:solidFill>
              <a:latin typeface="Arial"/>
            </a:endParaRPr>
          </a:p>
          <a:p>
            <a:pPr marL="380880" indent="-38088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ff33"/>
                </a:solidFill>
                <a:latin typeface="Times New Roman"/>
              </a:rPr>
              <a:t>неинвазивные методы электростимуляции глаз;</a:t>
            </a:r>
            <a:endParaRPr b="0" lang="en-US" sz="2200" spc="-1" strike="noStrike">
              <a:solidFill>
                <a:srgbClr val="ffffff"/>
              </a:solidFill>
              <a:latin typeface="Arial"/>
            </a:endParaRPr>
          </a:p>
          <a:p>
            <a:pPr marL="380880" indent="-3808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параллельное использование </a:t>
            </a:r>
            <a:r>
              <a:rPr b="1" lang="ru-RU" sz="2200" spc="-1" strike="noStrike">
                <a:solidFill>
                  <a:srgbClr val="ccff33"/>
                </a:solidFill>
                <a:latin typeface="Times New Roman"/>
              </a:rPr>
              <a:t>психофизиологических методик;</a:t>
            </a:r>
            <a:endParaRPr b="0" lang="en-US" sz="2200" spc="-1" strike="noStrike">
              <a:solidFill>
                <a:srgbClr val="ffffff"/>
              </a:solidFill>
              <a:latin typeface="Arial"/>
            </a:endParaRPr>
          </a:p>
          <a:p>
            <a:pPr marL="380880" indent="-38088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ff33"/>
                </a:solidFill>
                <a:latin typeface="Times New Roman"/>
              </a:rPr>
              <a:t>тифлопедагогические методы</a:t>
            </a:r>
            <a:r>
              <a:rPr b="1" lang="ru-RU" sz="2200" spc="-1" strike="noStrike">
                <a:solidFill>
                  <a:srgbClr val="ffffff"/>
                </a:solidFill>
                <a:latin typeface="Times New Roman"/>
              </a:rPr>
              <a:t> развития зрительного восприятия как психологического, познавательного процесса. </a:t>
            </a:r>
            <a:endParaRPr b="0" lang="en-US" sz="2200" spc="-1" strike="noStrike">
              <a:solidFill>
                <a:srgbClr val="ffffff"/>
              </a:solidFill>
              <a:latin typeface="Arial"/>
            </a:endParaRPr>
          </a:p>
          <a:p>
            <a:pPr marL="380880" indent="-38088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параллельное использование </a:t>
            </a:r>
            <a:r>
              <a:rPr b="1" lang="ru-RU" sz="2200" spc="-1" strike="noStrike">
                <a:solidFill>
                  <a:srgbClr val="ccff33"/>
                </a:solidFill>
                <a:latin typeface="Times New Roman"/>
              </a:rPr>
              <a:t>методик по снятию зрительного утомления;</a:t>
            </a:r>
            <a:endParaRPr b="0" lang="en-US" sz="2200" spc="-1" strike="noStrike">
              <a:solidFill>
                <a:srgbClr val="ffffff"/>
              </a:solidFill>
              <a:latin typeface="Arial"/>
            </a:endParaRPr>
          </a:p>
          <a:p>
            <a:pPr marL="380880" indent="-38088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использование </a:t>
            </a:r>
            <a:r>
              <a:rPr b="1" lang="ru-RU" sz="2200" spc="-1" strike="noStrike">
                <a:solidFill>
                  <a:srgbClr val="ccff33"/>
                </a:solidFill>
                <a:latin typeface="Times New Roman"/>
              </a:rPr>
              <a:t>методов физического воспитания,</a:t>
            </a:r>
            <a:r>
              <a:rPr b="1" lang="ru-RU" sz="2200" spc="-1" strike="noStrike">
                <a:solidFill>
                  <a:srgbClr val="ffffff"/>
                </a:solidFill>
                <a:latin typeface="Times New Roman"/>
              </a:rPr>
              <a:t> направленного на улучшение деятельности сердечно-сосудистой системы, т. е. целый ряд оздоровительных методик, направленных на уточнение двигательных умений в макро- и микропространствах.</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8000" y="189000"/>
            <a:ext cx="8856720" cy="640872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ccff33"/>
                </a:solidFill>
                <a:latin typeface="Times New Roman"/>
              </a:rPr>
              <a:t>Типологическая характеристика зрительного восприятия детей с амблиопией и косоглазием:</a:t>
            </a:r>
            <a:endParaRPr b="0" lang="en-US" sz="2800" spc="-1" strike="noStrike">
              <a:solidFill>
                <a:srgbClr val="ffffff"/>
              </a:solidFill>
              <a:latin typeface="Arial"/>
            </a:endParaRPr>
          </a:p>
          <a:p>
            <a:pPr marL="533520" indent="-53352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ложительная динамика улучшения функциональных механизмов зрительного восприятия;</a:t>
            </a:r>
            <a:endParaRPr b="0" lang="en-US" sz="2800" spc="-1" strike="noStrike">
              <a:solidFill>
                <a:srgbClr val="ffffff"/>
              </a:solidFill>
              <a:latin typeface="Arial"/>
            </a:endParaRPr>
          </a:p>
          <a:p>
            <a:pPr marL="533520" indent="-53352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новление зрительной системы как доминантной в сенсорной организации ребенка;</a:t>
            </a:r>
            <a:endParaRPr b="0" lang="en-US" sz="2800" spc="-1" strike="noStrike">
              <a:solidFill>
                <a:srgbClr val="ffffff"/>
              </a:solidFill>
              <a:latin typeface="Arial"/>
            </a:endParaRPr>
          </a:p>
          <a:p>
            <a:pPr marL="533520" indent="-53352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знание и орентировка в окружающей действительности с использованием зрительного восприятия как полноценного психического процесса;</a:t>
            </a:r>
            <a:endParaRPr b="0" lang="en-US" sz="2800" spc="-1" strike="noStrike">
              <a:solidFill>
                <a:srgbClr val="ffffff"/>
              </a:solidFill>
              <a:latin typeface="Arial"/>
            </a:endParaRPr>
          </a:p>
          <a:p>
            <a:pPr marL="533520" indent="-53352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личие некоторых особенностей становления зрительного восприятия у детей с  амблиопие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189000"/>
            <a:ext cx="8447040" cy="6408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200" spc="-1" strike="noStrike">
                <a:solidFill>
                  <a:srgbClr val="ccff33"/>
                </a:solidFill>
                <a:latin typeface="Times New Roman"/>
              </a:rPr>
              <a:t>В связи с этим генеральные линии воздействия:</a:t>
            </a:r>
            <a:endParaRPr b="0" lang="en-US" sz="2200" spc="-1" strike="noStrike">
              <a:solidFill>
                <a:srgbClr val="ffffff"/>
              </a:solidFill>
              <a:latin typeface="Arial"/>
            </a:endParaRPr>
          </a:p>
          <a:p>
            <a:pPr marL="343080" indent="-3430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коррекция особенностей зрительного восприятия как психического процесса;</a:t>
            </a:r>
            <a:endParaRPr b="0" lang="en-US" sz="2200" spc="-1" strike="noStrike">
              <a:solidFill>
                <a:srgbClr val="ffffff"/>
              </a:solidFill>
              <a:latin typeface="Arial"/>
            </a:endParaRPr>
          </a:p>
          <a:p>
            <a:pPr marL="343080" indent="-3430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развитие зрительного восприятия как составной части единой сенсорно-перцептивной организации, включенной в общую структуру человеческого развития;</a:t>
            </a:r>
            <a:endParaRPr b="0" lang="en-US" sz="2200" spc="-1" strike="noStrike">
              <a:solidFill>
                <a:srgbClr val="ffffff"/>
              </a:solidFill>
              <a:latin typeface="Arial"/>
            </a:endParaRPr>
          </a:p>
          <a:p>
            <a:pPr marL="343080" indent="-3430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тимуляция зрительной системы с целью улучшения функционирования ее различных отделов;</a:t>
            </a:r>
            <a:endParaRPr b="0" lang="en-US" sz="2200" spc="-1" strike="noStrike">
              <a:solidFill>
                <a:srgbClr val="ffffff"/>
              </a:solidFill>
              <a:latin typeface="Arial"/>
            </a:endParaRPr>
          </a:p>
          <a:p>
            <a:pPr marL="343080" indent="-34308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оздание условий постоянно повышающегося качества зрительного восприятия как психического познавательного процесса; </a:t>
            </a:r>
            <a:endParaRPr b="0" lang="en-US" sz="2200" spc="-1" strike="noStrike">
              <a:solidFill>
                <a:srgbClr val="ffffff"/>
              </a:solidFill>
              <a:latin typeface="Arial"/>
            </a:endParaRPr>
          </a:p>
          <a:p>
            <a:pPr marL="343080" indent="-343080">
              <a:lnSpc>
                <a:spcPct val="80000"/>
              </a:lnSpc>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тифлопедагогические методы целенаправленного формирования операционных механизмов зрительного восприятия активизацией функциональных и мотивационных механизмов;</a:t>
            </a:r>
            <a:endParaRPr b="0" lang="en-US" sz="2200" spc="-1" strike="noStrike">
              <a:solidFill>
                <a:srgbClr val="ffffff"/>
              </a:solidFill>
              <a:latin typeface="Arial"/>
            </a:endParaRPr>
          </a:p>
          <a:p>
            <a:pPr marL="343080" indent="-343080">
              <a:lnSpc>
                <a:spcPct val="80000"/>
              </a:lnSpc>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тифлопедагогические методы и общие педагогические методы по включению зрительного сенсорно-перцептивного опыта в различные виды детской деятельности с целью создания условий произвольного качественного функционирования зрительной системы.</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94920" y="260280"/>
            <a:ext cx="8497800" cy="64087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Чем раньше начаты систематические коррекционные занятия, тем больше вероятность восстановления зрительных функций к школьному возрасту.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imes New Roman"/>
              </a:rPr>
              <a:t>Лечебно-коррекционные мероприятия, начатые после 5-6 лет, малоэффективны.</a:t>
            </a:r>
            <a:r>
              <a:rPr b="1"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Увеличение числа детей с тяжелой врожденной зрительной патологией, не получивших своевременного лечения и тифлопедагогической помощи, становится основной причиной появления в дальнейшем слабовидящих дошкольников и школьников с сочетанной патологие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3640" y="260280"/>
            <a:ext cx="8569080" cy="6337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imes New Roman"/>
              </a:rPr>
              <a:t>Независимость и самостоятельность слепых</a:t>
            </a:r>
            <a:r>
              <a:rPr b="1" lang="en-US" sz="2800" spc="-1" strike="noStrike">
                <a:solidFill>
                  <a:srgbClr val="ffffff"/>
                </a:solidFill>
                <a:latin typeface="Times New Roman"/>
              </a:rPr>
              <a:t>, сокращение разрыва между возможностями слепых и зрячих в общественной, трудовой, бытовой, культурной и других сферах человеческой жизни </a:t>
            </a:r>
            <a:r>
              <a:rPr b="1" lang="en-US" sz="2800" spc="-1" strike="noStrike">
                <a:solidFill>
                  <a:srgbClr val="ccff33"/>
                </a:solidFill>
                <a:latin typeface="Times New Roman"/>
              </a:rPr>
              <a:t>определяются уровнем овладения инвалидами по зрению навыками пространственной ориентировки,</a:t>
            </a:r>
            <a:r>
              <a:rPr b="1" lang="en-US" sz="2800" spc="-1" strike="noStrike">
                <a:solidFill>
                  <a:srgbClr val="ffffff"/>
                </a:solidFill>
                <a:latin typeface="Times New Roman"/>
              </a:rPr>
              <a:t> где немаловажную роль играют адекватные пространственные представления.</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В. С. Сверлов определяет </a:t>
            </a:r>
            <a:r>
              <a:rPr b="1" lang="en-US" sz="2800" spc="-1" strike="noStrike">
                <a:solidFill>
                  <a:srgbClr val="ccff33"/>
                </a:solidFill>
                <a:latin typeface="Times New Roman"/>
              </a:rPr>
              <a:t>пространственную ориентировку</a:t>
            </a:r>
            <a:r>
              <a:rPr b="1" lang="en-US" sz="2800" spc="-1" strike="noStrike">
                <a:solidFill>
                  <a:srgbClr val="ffffff"/>
                </a:solidFill>
                <a:latin typeface="Times New Roman"/>
              </a:rPr>
              <a:t> как способность человека в каждый данный момент правильно представлять себе пространственные соотношения окружающих предметов и свое положение относительно каждого из ни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260280"/>
            <a:ext cx="8424720" cy="63374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ыпадение зрения как ведущего анализатора приводит </a:t>
            </a:r>
            <a:r>
              <a:rPr b="1" lang="ru-RU" sz="2400" spc="-1" strike="noStrike">
                <a:solidFill>
                  <a:srgbClr val="ccff33"/>
                </a:solidFill>
                <a:latin typeface="Times New Roman"/>
              </a:rPr>
              <a:t>к сенсорной перестройке.</a:t>
            </a:r>
            <a:r>
              <a:rPr b="1" lang="ru-RU" sz="2400" spc="-1" strike="noStrike">
                <a:solidFill>
                  <a:srgbClr val="ffffff"/>
                </a:solidFill>
                <a:latin typeface="Times New Roman"/>
              </a:rPr>
              <a:t> Исследования отечественных психологов (А. Г. Литвак, М. И. Земцова) выявили, что </a:t>
            </a:r>
            <a:r>
              <a:rPr b="1" lang="ru-RU" sz="2400" spc="-1" strike="noStrike">
                <a:solidFill>
                  <a:srgbClr val="ccff33"/>
                </a:solidFill>
                <a:latin typeface="Times New Roman"/>
              </a:rPr>
              <a:t>у большинства людей даже с серьезными нарушениями зрения сохраняется зрительно-двигательный тип восприятия.</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 восприятии большого пространства слепыми немаловажное значение имеют слуходвигательные рефлекторные связи, которые характерны и для зрячих, но в повседневной жизни ими не реализуются.</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У инвалидов по зрению с остротой зрения от 0,03 до 0,02 и ниже в организации сенсорной сферы доминируют тактильно-кинестезические ощущения.</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нвалиды по зрению способны к симультантному (одновременному использованию нескольких органов чувств) восприятию пространст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94920" y="188640"/>
            <a:ext cx="8497800" cy="6335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ccff33"/>
                </a:solidFill>
                <a:latin typeface="Times New Roman"/>
              </a:rPr>
              <a:t>Приведенные данные позволяют сделать выводы:</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лепые обладают широкими возможностями перестройки восприятия пространства.</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инестезическое</a:t>
            </a:r>
            <a:r>
              <a:rPr b="1" lang="ru-RU" sz="3200" spc="-1" strike="noStrike">
                <a:solidFill>
                  <a:srgbClr val="ffffff"/>
                </a:solidFill>
                <a:latin typeface="Times New Roman"/>
              </a:rPr>
              <a:t> </a:t>
            </a:r>
            <a:r>
              <a:rPr b="0" lang="ru-RU" sz="3200" spc="-1" strike="noStrike">
                <a:solidFill>
                  <a:srgbClr val="ffffff"/>
                </a:solidFill>
                <a:latin typeface="Times New Roman"/>
              </a:rPr>
              <a:t>ядро является составной частью рефлекторных связей в сенсорной</a:t>
            </a:r>
            <a:r>
              <a:rPr b="1" lang="ru-RU" sz="3200" spc="-1" strike="noStrike">
                <a:solidFill>
                  <a:srgbClr val="ffffff"/>
                </a:solidFill>
                <a:latin typeface="Times New Roman"/>
              </a:rPr>
              <a:t> </a:t>
            </a:r>
            <a:r>
              <a:rPr b="0" lang="ru-RU" sz="3200" spc="-1" strike="noStrike">
                <a:solidFill>
                  <a:srgbClr val="ffffff"/>
                </a:solidFill>
                <a:latin typeface="Times New Roman"/>
              </a:rPr>
              <a:t>организации любого типа.</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коррекционной работе с инвалидами</a:t>
            </a:r>
            <a:r>
              <a:rPr b="1" lang="ru-RU" sz="3200" spc="-1" strike="noStrike">
                <a:solidFill>
                  <a:srgbClr val="ffffff"/>
                </a:solidFill>
                <a:latin typeface="Times New Roman"/>
              </a:rPr>
              <a:t> </a:t>
            </a:r>
            <a:r>
              <a:rPr b="0" lang="ru-RU" sz="3200" spc="-1" strike="noStrike">
                <a:solidFill>
                  <a:srgbClr val="ffffff"/>
                </a:solidFill>
                <a:latin typeface="Times New Roman"/>
              </a:rPr>
              <a:t>по зрению следует учитывать специфику </a:t>
            </a:r>
            <a:r>
              <a:rPr b="0" lang="ru-RU" sz="3200" spc="-1" strike="noStrike">
                <a:solidFill>
                  <a:srgbClr val="ccff33"/>
                </a:solidFill>
                <a:latin typeface="Times New Roman"/>
              </a:rPr>
              <a:t>влияния дефекта зрения</a:t>
            </a:r>
            <a:r>
              <a:rPr b="1" lang="ru-RU" sz="3200" spc="-1" strike="noStrike">
                <a:solidFill>
                  <a:srgbClr val="ccff33"/>
                </a:solidFill>
                <a:latin typeface="Times New Roman"/>
              </a:rPr>
              <a:t> </a:t>
            </a:r>
            <a:r>
              <a:rPr b="0" lang="ru-RU" sz="3200" spc="-1" strike="noStrike">
                <a:solidFill>
                  <a:srgbClr val="ccff33"/>
                </a:solidFill>
                <a:latin typeface="Times New Roman"/>
              </a:rPr>
              <a:t>на формирование двигательных навык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89000"/>
            <a:ext cx="8280360" cy="640872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ак известно, компенсация зрительных нарушений обеспечивается системой коррекционных мероприятий, благоприятствующих психическому и физическому развитию, а также деятельности сохранных анализаторов.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Так как в сенсорной организации человека отражается его образ жизни и деятельности, то именно от этого зависит сложившееся взаимоотношение анализаторов.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 процессе жизнедеятельности нормально видящего человека сформировались зрительно-тактильно-кинестезические связи и оптико-вестибулярная установка восприятия.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 этой причине серьезные нарушения или утрата функции зрения полностью или частично разрушают сложившиеся межанализаторные связи, перестраивают взаимоотношения органов чувств, образуют новые внутри — и межанализаторные связи, вызывают доминирование иных, чем у нормально видящего человека, анализаторных систем, приводят к образованию нового ядра сенсорной организаци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0560" y="260280"/>
            <a:ext cx="8713800" cy="633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ccff33"/>
                </a:solidFill>
                <a:latin typeface="Arial"/>
              </a:rPr>
              <a:t>Учитывая эти обстоятельства, а также задачу адекватного отражения в сознании слепого явлений и предметов объективной реальности, организуется коррекционно-компенсаторная работа с детьми младшего возраста с опорой</a:t>
            </a:r>
            <a:r>
              <a:rPr b="1" lang="en-US" sz="2000" spc="-1" strike="noStrike">
                <a:solidFill>
                  <a:srgbClr val="ccff33"/>
                </a:solidFill>
                <a:latin typeface="Arial"/>
              </a:rPr>
              <a:t> </a:t>
            </a:r>
            <a:r>
              <a:rPr b="0" lang="en-US" sz="2000" spc="-1" strike="noStrike">
                <a:solidFill>
                  <a:srgbClr val="ccff33"/>
                </a:solidFill>
                <a:latin typeface="Arial"/>
              </a:rPr>
              <a:t>на ведущие положения физиологии и психологии человека:</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развивается только</a:t>
            </a:r>
            <a:r>
              <a:rPr b="1" lang="en-US" sz="2000" spc="-1" strike="noStrike">
                <a:solidFill>
                  <a:srgbClr val="ffffff"/>
                </a:solidFill>
                <a:latin typeface="Arial"/>
              </a:rPr>
              <a:t> </a:t>
            </a:r>
            <a:r>
              <a:rPr b="0" lang="en-US" sz="2000" spc="-1" strike="noStrike">
                <a:solidFill>
                  <a:srgbClr val="ffffff"/>
                </a:solidFill>
                <a:latin typeface="Arial"/>
              </a:rPr>
              <a:t>тот орган, который вовлечен в деятель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 процессе формирования обобщенных способов деятельности необходимо подходить к этому целостно, т. е. обращаться к личности, интеллекту, интересам, потребностям ребенка, интенсифицировать его мышлени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формирование обобщенных способов деятельности предусматривает также проведение серии специальных занятий, так как овладевать обобщенными способами деятельности в процессе усвоения программного материала детям очень трудно;</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коррекционно-педагогическая работа со слепыми и слабовидящими детьми должна учитывать и индивидуальные особенности, физические и интеллектуальные возможности детей с  нарушениями зре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5280" y="260280"/>
            <a:ext cx="8424720" cy="640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ЛИТЕРАТУР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исимова Н. Л. Совместная работа семьи и детского сада по воспитанию и развитию детей с нарушением зрения. // Дефектология, 1999, № 1, С. 56-62.</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рамбринг М. Воспитание слепого ребенка раннего возраста в семье. Пер. с нем. Б.Т. Алтухова. Научн. ред. рус. текста Н.М. Назарова.– М.: Издательский центр «Академия», 2003.</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Воспитание слепых детей дошкольного возраста в семье. Библиотечка для родителей. Под ред. В. А. Феоктистовой.– М., Логос, 1993.</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Воспитательная работа в школе слепых”. Под ред. Л. И. Солнцевой.– М., “Просвещение”, 1964.</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андер В. А. Первоначальное воспитание и обучение слепых детей. М., Учпедгиз, 1934.</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ыдина П. М., Леушева А. М., Музалевская Т. В. Из опыта работы по обучению чтению и письму в первых классах школы слепых. // “Специальная школа”, 1963, № 2.</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растова Е. А. Воспитание слепых детей в семье. М., Учпедгиз, 1956.</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емцова М. И. Пути компенсации слепоты. М., Изд-во АПН РСФСР, 1956.</a:t>
            </a:r>
            <a:endParaRPr b="0" lang="en-US" sz="1800" spc="-1" strike="noStrike">
              <a:solidFill>
                <a:srgbClr val="ffffff"/>
              </a:solidFill>
              <a:latin typeface="Arial"/>
            </a:endParaRPr>
          </a:p>
          <a:p>
            <a:pPr marL="343080" indent="-3430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нилова И.Г. Игра и творчество в психокоррекции. Развитие общения старших дошкольников с нарушением зрения в креативной игре-драматизации. М., 2000.</a:t>
            </a:r>
            <a:endParaRPr b="0" lang="en-US" sz="1800" spc="-1" strike="noStrike">
              <a:solidFill>
                <a:srgbClr val="ffffff"/>
              </a:solidFill>
              <a:latin typeface="Arial"/>
            </a:endParaRPr>
          </a:p>
          <a:p>
            <a:pPr marL="343080" indent="-3430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ллаев Д. М. Игры для слепых и слабовидящих. М., Советский спорт,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68360" y="260280"/>
            <a:ext cx="8424720" cy="640872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бучение и коррекция развития дошкольников с нарушенным зрением. СПб., Образование, 1995</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лаксина Л. И. Теоретические основы коррекционной работы в детских садах для детей с нарушениями зрения. М., 1998</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дколзина Е. Н. Некоторые особенности коррекционного обучения детей с нарушением зрения // Дефектология.– 2001 –№ 2.– С. 84-88.</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дколзина Е. Н. О семейном воспитании дошкольника с нарушением зрения // Физическое воспитание детей с нарушением зрения.– 2002.– № 2.– С. 56-59.</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верлов В. С. Дошкольное воспитание слепых детей и тифлотехника. В кн.: “Вопросы учебно-воспитательной работы в школах слепых и слабовидящих”. “Ученые записки ЛГПИ им. А. И. Герцена”, т. 253, 1964.</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еченов И. М. Участие органов чувств в работе рук у зрячего и слепого. Осязание, как чувство, соответствующее зрению. В кн.: “Избранные философские и психологические произведения”. М., Огиз, 1949.</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лепой ребенок в семье. Книга для родителей. Под ред. Л. И. Солнцевой. М., 1989</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лнцева Л. И. Введение в тифлопсихологию раннего, дошкольного и школьного возраста. М., Полиграф Сервис, 1997</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лнцева Л. И. О некоторых особенностях восприятия окружающего мира слепыми детьми дошкольного возраста. “Специальная школа”, 1967, №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лнцева Л. И. Семейное воспитание слепых детей. “Специальная школа”, 1965, № 2.</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лнцева Л. И. Тифлопсихология детства. М., Полиграф Сервис, 2000</a:t>
            </a:r>
            <a:endParaRPr b="0" lang="en-US" sz="1600" spc="-1" strike="noStrike">
              <a:solidFill>
                <a:srgbClr val="ffffff"/>
              </a:solidFill>
              <a:latin typeface="Arial"/>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пециальные коррекционные программы для дошкольников с тяжелыми нарушениями зрения. Под ред. В. А. Феоктистовой. СПб.: Образование, 1995</a:t>
            </a:r>
            <a:endParaRPr b="0" lang="en-US" sz="1600" spc="-1" strike="noStrike">
              <a:solidFill>
                <a:srgbClr val="ffffff"/>
              </a:solidFill>
              <a:latin typeface="Arial"/>
            </a:endParaRPr>
          </a:p>
          <a:p>
            <a:pPr marL="343080" indent="-343080">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Якобсон С. Г. Соотношение зрения и осязания в восприятии формы детьми дошкольного возраста. “Вопросы психологии”, 1957, № 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260280"/>
            <a:ext cx="8713800" cy="63374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Сенсорное воспитание незрячего или слабовидящего ребенка – это один из видов обучения, без которого невозможен в дальнейшем весь процесс обучения.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Поэтому чем раньше систематически и целенаправленно развивать двигательные возможности  ребенка, компенсируя нарушения зрения осязанием, моторикой, слухом, тем успешнее будет протекать дальнейшее развитие ребён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560" y="260280"/>
            <a:ext cx="8713800" cy="6408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ccff33"/>
                </a:solidFill>
                <a:latin typeface="Times New Roman"/>
              </a:rPr>
              <a:t>Сенсорное воспитание предполагает несколько ступеней, исходя из возрастных особенностей детей.</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Первая ступень познания</a:t>
            </a:r>
            <a:r>
              <a:rPr b="1" lang="ru-RU" sz="2400" spc="-1" strike="noStrike">
                <a:solidFill>
                  <a:srgbClr val="ffffff"/>
                </a:solidFill>
                <a:latin typeface="Times New Roman"/>
              </a:rPr>
              <a:t> </a:t>
            </a:r>
            <a:r>
              <a:rPr b="1" lang="ru-RU" sz="2400" spc="-1" strike="noStrike">
                <a:solidFill>
                  <a:srgbClr val="ccff33"/>
                </a:solidFill>
                <a:latin typeface="Times New Roman"/>
              </a:rPr>
              <a:t>начинается</a:t>
            </a:r>
            <a:r>
              <a:rPr b="1" lang="ru-RU" sz="2400" spc="-1" strike="noStrike">
                <a:solidFill>
                  <a:srgbClr val="ffffff"/>
                </a:solidFill>
                <a:latin typeface="Times New Roman"/>
              </a:rPr>
              <a:t> </a:t>
            </a:r>
            <a:r>
              <a:rPr b="1" lang="ru-RU" sz="2400" spc="-1" strike="noStrike">
                <a:solidFill>
                  <a:srgbClr val="ccff33"/>
                </a:solidFill>
                <a:latin typeface="Times New Roman"/>
              </a:rPr>
              <a:t>через стимуляцию</a:t>
            </a:r>
            <a:r>
              <a:rPr b="1" lang="ru-RU" sz="2400" spc="-1" strike="noStrike">
                <a:solidFill>
                  <a:srgbClr val="ffffff"/>
                </a:solidFill>
                <a:latin typeface="Times New Roman"/>
              </a:rPr>
              <a:t> </a:t>
            </a:r>
            <a:r>
              <a:rPr b="1" lang="ru-RU" sz="2400" spc="-1" strike="noStrike">
                <a:solidFill>
                  <a:srgbClr val="ccff33"/>
                </a:solidFill>
                <a:latin typeface="Times New Roman"/>
              </a:rPr>
              <a:t>движения руки.</a:t>
            </a:r>
            <a:r>
              <a:rPr b="1" lang="ru-RU" sz="2400" spc="-1" strike="noStrike">
                <a:solidFill>
                  <a:srgbClr val="ffffff"/>
                </a:solidFill>
                <a:latin typeface="Times New Roman"/>
              </a:rPr>
              <a:t> Рука компенсирует зрение. Родители должны научить ребенка различным движениям руки и в первую очередь хватательным движениям.</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гда ребенок приобретет держательные навыки, необходимо вовлекать в работу и большой палец, вкладывая в руку разные предметы.</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гда ребенок научится держать игрушку, можно развивать такую деятельность: одна рука держит, а другая – манипулирует. Например, малыш держит в одной руке коробочку, а другой складывает туда кубики, колечки и другие мелкие предметы. (переключаемость)</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ff33"/>
                </a:solidFill>
                <a:latin typeface="Times New Roman"/>
              </a:rPr>
              <a:t>Действия двумя руками одновременно – это развитие обоих полушарий головного моз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5280" y="259920"/>
            <a:ext cx="8424720" cy="62643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Вторая ступень –</a:t>
            </a:r>
            <a:r>
              <a:rPr b="1" lang="en-US" sz="2400" spc="-1" strike="noStrike">
                <a:solidFill>
                  <a:srgbClr val="ffffff"/>
                </a:solidFill>
                <a:latin typeface="Times New Roman"/>
              </a:rPr>
              <a:t> </a:t>
            </a:r>
            <a:r>
              <a:rPr b="1" lang="en-US" sz="2400" spc="-1" strike="noStrike">
                <a:solidFill>
                  <a:srgbClr val="ccff33"/>
                </a:solidFill>
                <a:latin typeface="Times New Roman"/>
              </a:rPr>
              <a:t>развитие у ребенка чувственного восприятия окружающего мира</a:t>
            </a:r>
            <a:r>
              <a:rPr b="1" lang="en-US" sz="2400" spc="-1" strike="noStrike">
                <a:solidFill>
                  <a:srgbClr val="ffffff"/>
                </a:solidFill>
                <a:latin typeface="Times New Roman"/>
              </a:rPr>
              <a:t> через передвижение в пространстве и действия с предметами-игрушками. Так как он сам не может это сделать, подражая кому-то, начинается его деловой контакт с родителями </a:t>
            </a:r>
            <a:r>
              <a:rPr b="1" lang="en-US" sz="2400" spc="-1" strike="noStrike">
                <a:solidFill>
                  <a:srgbClr val="ccff33"/>
                </a:solidFill>
                <a:latin typeface="Times New Roman"/>
              </a:rPr>
              <a:t>через совместные действия руки взрослого с рукой ребенка.</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Формирование навыков правильного действия (игры) с предметом через совместные действия происходит, прежде всего, в естественных потребностях (одевание, кормление, гигиена, игры).</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Все предметы нужно давать ребенку в руки. Пусть он пощупает, понюхает, даже попробует их на вкус. При совместных действиях (рука взрослого и рука ребенка) необходимо не только показывать действия с этим предметом, но и сопровождать их словесным описанием.</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новное здесь не просто ощупать и узнать предмет-игрушку, а </a:t>
            </a:r>
            <a:r>
              <a:rPr b="1" lang="en-US" sz="2400" spc="-1" strike="noStrike">
                <a:solidFill>
                  <a:srgbClr val="ccff33"/>
                </a:solidFill>
                <a:latin typeface="Times New Roman"/>
              </a:rPr>
              <a:t>побудить ребенка к действию с данным предметом, к овладению способом употребления ег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3640" y="260280"/>
            <a:ext cx="8569080" cy="63374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Третья ступень познания</a:t>
            </a:r>
            <a:r>
              <a:rPr b="1" lang="en-US" sz="2400" spc="-1" strike="noStrike">
                <a:solidFill>
                  <a:srgbClr val="ffffff"/>
                </a:solidFill>
                <a:latin typeface="Times New Roman"/>
              </a:rPr>
              <a:t> – </a:t>
            </a:r>
            <a:r>
              <a:rPr b="1" lang="en-US" sz="2400" spc="-1" strike="noStrike">
                <a:solidFill>
                  <a:srgbClr val="ccff33"/>
                </a:solidFill>
                <a:latin typeface="Times New Roman"/>
              </a:rPr>
              <a:t>игра,</a:t>
            </a:r>
            <a:r>
              <a:rPr b="1" lang="en-US" sz="2400" spc="-1" strike="noStrike">
                <a:solidFill>
                  <a:srgbClr val="ffffff"/>
                </a:solidFill>
                <a:latin typeface="Times New Roman"/>
              </a:rPr>
              <a:t> которая является основной деятельностью ребенка. В игре он реализует свое желание участвовать в жизни окружающих людей. Слепой ребенок, не видя игр и играющих детей, не может им подражать, поэтому его игры бедны по отражению и содержанию окружающей жизни. Слепые дети не могут самостоятельно обучиться играть. В игре ведущую роль должен взять на себя взрослы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         </a:t>
            </a:r>
            <a:r>
              <a:rPr b="1" lang="en-US" sz="2400" spc="-1" strike="noStrike">
                <a:solidFill>
                  <a:srgbClr val="ccff33"/>
                </a:solidFill>
                <a:latin typeface="Times New Roman"/>
              </a:rPr>
              <a:t>Игра будет средством:</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познания окружающей среды,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особом компенсации недостатков, связанных со слепотой,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развитием стремления к движению,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реодолению чувства страха перед неизвестными предметами, </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хорошей ориентиров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f87a"/>
                </a:solidFill>
                <a:latin typeface="Arial"/>
              </a:rPr>
              <a:t>   </a:t>
            </a:r>
            <a:r>
              <a:rPr b="1" lang="en-US" sz="2800" spc="-1" strike="noStrike">
                <a:solidFill>
                  <a:srgbClr val="ffffff"/>
                </a:solidFill>
                <a:latin typeface="Times New Roman"/>
              </a:rPr>
              <a:t>В этот период начинается планомерное ведение слепого ребенка к знакомству с игрушкой, обучение правильно ее применять.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Но прежде чем показать действие с игрушкой, необходимо познакомить его с ней, т. е. научить узнавать ее на ощупь, рассказать о ней, о том, что она изображает, затем познакомить со всеми ее составными частями, характерными особенностями.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А если есть возможность, то познакомить с реальным предметом, который изображает игрушка.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Очень важно обыграть игрушку, т. е. включить ее в какую-то ситуацию и показать, какие действия с ней можно выполнят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560" y="260280"/>
            <a:ext cx="8435880" cy="633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f87a"/>
                </a:solidFill>
                <a:latin typeface="Arial"/>
              </a:rPr>
              <a:t>    </a:t>
            </a:r>
            <a:r>
              <a:rPr b="1" lang="en-US" sz="2800" spc="-1" strike="noStrike">
                <a:solidFill>
                  <a:srgbClr val="ffffff"/>
                </a:solidFill>
                <a:latin typeface="Times New Roman"/>
              </a:rPr>
              <a:t>Сам процесс обследования игрушки и игровая деятельность подводит слепого ребенка к </a:t>
            </a:r>
            <a:r>
              <a:rPr b="1" lang="en-US" sz="2800" spc="-1" strike="noStrike">
                <a:solidFill>
                  <a:srgbClr val="ccff33"/>
                </a:solidFill>
                <a:latin typeface="Times New Roman"/>
              </a:rPr>
              <a:t>поисково-практическим</a:t>
            </a:r>
            <a:r>
              <a:rPr b="1" lang="en-US" sz="2800" spc="-1" strike="noStrike">
                <a:solidFill>
                  <a:srgbClr val="ffffff"/>
                </a:solidFill>
                <a:latin typeface="Times New Roman"/>
              </a:rPr>
              <a:t> </a:t>
            </a:r>
            <a:r>
              <a:rPr b="1" lang="en-US" sz="2800" spc="-1" strike="noStrike">
                <a:solidFill>
                  <a:srgbClr val="ccff33"/>
                </a:solidFill>
                <a:latin typeface="Times New Roman"/>
              </a:rPr>
              <a:t>действиям,</a:t>
            </a:r>
            <a:r>
              <a:rPr b="1" lang="en-US" sz="2800" spc="-1" strike="noStrike">
                <a:solidFill>
                  <a:srgbClr val="ffffff"/>
                </a:solidFill>
                <a:latin typeface="Times New Roman"/>
              </a:rPr>
              <a:t> – </a:t>
            </a:r>
            <a:r>
              <a:rPr b="1" lang="en-US" sz="2800" spc="-1" strike="noStrike">
                <a:solidFill>
                  <a:srgbClr val="ccff33"/>
                </a:solidFill>
                <a:latin typeface="Times New Roman"/>
              </a:rPr>
              <a:t>четвертому этапу</a:t>
            </a:r>
            <a:r>
              <a:rPr b="1" lang="en-US" sz="2800" spc="-1" strike="noStrike">
                <a:solidFill>
                  <a:srgbClr val="ffffff"/>
                </a:solidFill>
                <a:latin typeface="Times New Roman"/>
              </a:rPr>
              <a:t> сенсорного воспитания.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Это уже ближе к учебным занятиям.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Здесь пользуются игрушками учебными (дидактическими),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ccff33"/>
                </a:solidFill>
                <a:latin typeface="Times New Roman"/>
              </a:rPr>
              <a:t>когда в процессе игры ребенок учитс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сравнивать, подбирать,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пробует из частей составить целое (матрешки, различные пирамиды, кубики),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путем осязания постигает форму, размеры,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развивает мотори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79280" y="-360"/>
            <a:ext cx="8785440" cy="6597720"/>
          </a:xfrm>
          <a:prstGeom prst="rect">
            <a:avLst/>
          </a:prstGeom>
          <a:noFill/>
          <a:ln w="0">
            <a:noFill/>
          </a:ln>
        </p:spPr>
        <p:txBody>
          <a:bodyPr lIns="90000" rIns="90000" tIns="46800" bIns="46800" anchor="t">
            <a:normAutofit/>
          </a:bodyPr>
          <a:p>
            <a:pPr marL="380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Times New Roman"/>
              </a:rPr>
              <a:t>Этот период незаметно сливается с </a:t>
            </a:r>
            <a:r>
              <a:rPr b="1" lang="en-US" sz="2400" spc="-1" strike="noStrike">
                <a:solidFill>
                  <a:srgbClr val="ccff33"/>
                </a:solidFill>
                <a:latin typeface="Times New Roman"/>
              </a:rPr>
              <a:t>пятым этапом</a:t>
            </a:r>
            <a:r>
              <a:rPr b="1" lang="en-US" sz="2400" spc="-1" strike="noStrike">
                <a:solidFill>
                  <a:srgbClr val="ffffff"/>
                </a:solidFill>
                <a:latin typeface="Times New Roman"/>
              </a:rPr>
              <a:t> сенсорного воспитания – </a:t>
            </a:r>
            <a:r>
              <a:rPr b="1" lang="en-US" sz="2400" spc="-1" strike="noStrike">
                <a:solidFill>
                  <a:srgbClr val="ccff33"/>
                </a:solidFill>
                <a:latin typeface="Times New Roman"/>
              </a:rPr>
              <a:t>соединения сенсорного опыта с практической деятельностью. </a:t>
            </a:r>
            <a:endParaRPr b="0" lang="en-US" sz="24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Ребенок подготовлен к обследованию игрушки, правильно употребляет ее в действии, может участвовать в тематической игре, понимает, что игра может быть средством обучения. </a:t>
            </a:r>
            <a:endParaRPr b="0" lang="en-US" sz="24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ccff33"/>
                </a:solidFill>
                <a:latin typeface="Times New Roman"/>
              </a:rPr>
              <a:t>Круг учебных игрушек можно расширить, употреблять в игре учебную терминологию</a:t>
            </a:r>
            <a:r>
              <a:rPr b="1" lang="en-US" sz="2400" spc="-1" strike="noStrike">
                <a:solidFill>
                  <a:srgbClr val="ffffff"/>
                </a:solidFill>
                <a:latin typeface="Times New Roman"/>
              </a:rPr>
              <a:t> (круг, квадрат, треугольник, овал, прямоугольник; прямая линия, точечная, пунктирная, длинная – короткая; высокая – низкая, большой – маленький). </a:t>
            </a:r>
            <a:endParaRPr b="0" lang="en-US" sz="24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Эти дидактические игры развивают внимание, наблюдательность, помогают обобщать, сравнивать (“Чудесный мешочек”, “Подбери по форме”, “Что лишнее?”, “Что изменилось?”, “Сделай сам по образцу”, “Подбери по форме, величине (размеру)”, “Какая поверхность на осязание?”, “Что ты чувствуешь в руке?” (бумага, ткань, железо, пластмасс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5:45:27Z</dcterms:created>
  <dc:creator>Андрей</dc:creator>
  <dc:description/>
  <dc:language>en-US</dc:language>
  <cp:lastModifiedBy>user</cp:lastModifiedBy>
  <dcterms:modified xsi:type="dcterms:W3CDTF">2017-12-24T14:48:37Z</dcterms:modified>
  <cp:revision>108</cp:revision>
  <dc:subject/>
  <dc:title>ПСИХОЛОГИЧЕСКИЕ ПРОБЛЕМЫ РАЗВИТИЯ  МЛАДШИХ ШКОЛЬНИКОВ </dc:title>
</cp:coreProperties>
</file>