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D2D9E-2880-4FD6-863D-E616AE097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D37EF-22E1-410D-AF2B-C3475EF57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5E012-5A7B-4A38-865E-57E57E272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B96D0-C87A-45D3-96F6-943CFF880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CF264-CCDF-43F3-86E2-8AEB9B606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EE972-F1C0-422D-BCFA-7835B3162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0A091-8F45-4E1E-93A2-8FA91FAD4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CB4B7-24BA-428A-A8D8-A9B765FB3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77FB5-EE50-42FE-877E-84BF37B9B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43146-A1DA-4C17-81D8-B0EE6B530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C74C6-BE26-45A1-A66F-7A1159AD2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0C5E1-015F-4F92-9A10-9E9326B3C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8FB94-A0E2-4D72-B0E8-FC89433C55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g B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Buckingham Pal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uble Decker B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ower of Lond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wer Brid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falgar Squ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ndon Ey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89200" y="33300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ndon fo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stminster Abbe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ckingham Pal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9360"/>
            <a:ext cx="9144000" cy="683928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yal H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5T12:15:09Z</dcterms:created>
  <dc:creator>Admin</dc:creator>
  <dc:description/>
  <dc:language>en-US</dc:language>
  <cp:lastModifiedBy>Admin</cp:lastModifiedBy>
  <dcterms:modified xsi:type="dcterms:W3CDTF">2010-05-15T14:37:17Z</dcterms:modified>
  <cp:revision>3</cp:revision>
  <dc:subject/>
  <dc:title>Слайд 1</dc:title>
</cp:coreProperties>
</file>