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2871-D199-4A85-99E1-8559A8066A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3D52-5C7D-4695-B413-A05D5BF9E65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6BD6-A8CD-45B1-97CE-AC3D456943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3177-48FD-4315-AA3B-EAACC1FDD9B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368E-D90B-4736-80F9-DB9343BC24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0A5C-3488-4CD5-9803-6AF1FEE1EE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AE29-1E5D-4482-B4B1-DF74F5A425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DADE-EB9F-4A25-9C2D-68A41ADFE1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150-9159-45DB-B35E-B0E1D7A1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E67-AAA2-4763-BE8B-10AA9529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19A-330C-4086-8869-121F7EE0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41A-2E9F-48D5-B4F7-935B331D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4FF1-A29D-4D73-90F3-16894D37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5232-DF19-49DB-A1B4-0F035343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0447-1FCE-4A70-BAA3-9C3025AC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F0E5-32FB-448D-A2F7-5383CC1F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55E5-D24B-4596-B01E-B9801195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B590-3091-4F78-BBEA-3535A0D1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8093-B65A-4CF2-93F4-7467FCA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6A8-15AD-45CA-8F11-3E3F8B80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83BE-884F-4C45-B463-CEE4C24F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A675-A551-4028-9E9B-4BFC2FE5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18CE-5FB9-4811-B03E-A96C553B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62A9-D304-4940-970D-50AD6A7E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C33E-05B7-435E-8C70-9E079F91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4C36-349A-44E3-A047-A28D25E7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9FF7-34E8-4E12-8B1E-FBC42464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DAD1-FA92-43CA-973B-84FFAEBD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E982-885B-47E5-8453-A5345944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22CC8-6F3C-4326-83E8-E81DC9FF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CD9-5898-40E9-9B5E-EA0A2D4C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0434-44AC-4C9F-8F5A-0A5C7EBE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CE88-6398-4F88-8062-6BAE3FB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F423-4CF3-4FF9-B39C-451B75E6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BDF4-BD05-4290-9CDC-FC1BA8C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4841-044C-4996-894E-B58FD07C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A413-DBC7-42A0-8389-D1BE6A45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F8C0-CD93-4720-8543-871F719C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9299-9B9E-4E64-B75E-66BC5FCA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5E6E-E5A8-4F2D-B726-E9D4B9C4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0BE91-50AA-4CE2-A267-55FF0C43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734-A614-42E4-8D54-6B699A84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A32BA-D688-432E-A75C-4DDE1349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6BA96-8BF9-4E91-9408-4AA4C8C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3E313-718A-49EB-8C1E-EE4FB3F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86FC-9193-4EDD-B5E4-E6370DE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4132A-F6D9-4B09-815B-27187B70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0CC1-5B50-4C94-B40E-11842B03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9B0E-73BD-48A1-9E05-B78D6EC2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F00A6-FDB3-4719-862B-BB5D6816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AB2A-9F88-4483-A029-A8080E93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3B6E-E130-481F-A45E-35BD1EEB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D79-DE1F-4654-A95A-DCC3F24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E09EE-D409-4931-932A-83EDFA1A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7B889-B88E-4016-B9CD-1704FF57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51D1-A8D0-46C2-884C-CB1038E8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AF462-114D-45CD-8EBA-A29F6461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E8E56-7E85-432A-A69E-232E764C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1A225-6573-47A1-BBB2-BD0C6FD4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CDF0-E20A-4129-AF11-841AA7FD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6FA3-CC22-462F-82FB-C82CF863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CFC2B-72F4-4543-A1C7-A8381B82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1D81-FD7B-49DA-A673-EE3AF4E7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223-9983-4EF2-B148-AB343F13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CE76-7BB6-41D9-ABC1-BFDC9EB5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ADB9A-6639-4F34-8DAA-740484A9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29882-4859-474C-8D2C-6D7F8763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B3A24-2133-4C43-ACF8-C97B107B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B5350-7B03-48BF-9BD9-CB58B82A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B75B-772A-40E1-9E49-647A84F1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6C4B4-8F45-4A39-A8F0-8B301E6F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CC3A2-601E-4548-9872-5DD464E0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60250-B4A9-4475-A371-C0859FFC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BD875-DC47-4E07-B9D6-3BF1C458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9FF-FE84-4E60-909B-79C1CB53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3848-AABC-4EE8-A45B-EB0CCC2A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4DE0A-6D42-41B3-96C0-A2E65E40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7A66-DC36-4737-8649-6AC871B6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6CA37-E81E-4113-90AA-E0A59BE3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6A11-25A7-4A3F-A084-77B24347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20CC-0404-404D-A841-868743A8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D316-9145-4DCC-B08C-3D3755E7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A1CE9-728C-46C1-A8A1-073B6505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51B45-16AA-4828-9861-EB7FAA6A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02095-C91E-4A3C-B1D8-77F99DE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050-C1E2-4EB0-A040-A42A0589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979CC-071C-4FD4-A390-B476DD74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25B5-F78C-4975-A54B-490A8E4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7BF9-CE24-464C-9F87-DDB28595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6101F-945C-4A91-9815-EB276391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1036-897B-4752-8DCE-EA30BEA3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7A6-32B0-4ED0-A1A0-3F661C38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B212-4E93-429D-A3D6-1BD5AEB1921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B5C1-B216-4D68-8CAE-58CC338D6423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86E8-E5DC-4258-AA20-09D057440B8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D025-42A5-46CF-B162-3948CDC4527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70E-7A14-4611-AACD-F0DFB5201F7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A8CB-7F90-4187-B615-F8DF7FE7D71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9A63-D650-4039-8CB8-734F1386AA3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442360" cy="207360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сприят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знакомл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тандартизаци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арьирова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 данном этапе ученикам предлагается самостоятельно ответить на поставленные вопрос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2195640" y="3429000"/>
            <a:ext cx="4539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04280" cy="1547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24000" y="134136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Ученики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ытаютс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пределит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жанровы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азличие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пираяс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а лексически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грамматические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структуры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2428920" y="1851120"/>
            <a:ext cx="67150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ченики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детально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аботают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 прочитанными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текстами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ыполняя зада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610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Данное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упражнение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азвивает как языковую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догадку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ак и наглядно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демонстрирует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обходимость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спользования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ен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нформаци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4500720" y="1765440"/>
            <a:ext cx="43909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вык чтения на среднем этапе при работе с данным учебником формируется согласно выполнению заданий, соответствующие трем этапам работы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Аутентичный текст позволяет не только увеличить словарный запас учащийся, но и развить навыки логического прогнозирования, предугадывания, а также навыки просмотрово-поискового чтен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6:00:25Z</dcterms:created>
  <dc:creator>Лесточка</dc:creator>
  <dc:description/>
  <dc:language>en-US</dc:language>
  <cp:lastModifiedBy>Олеся</cp:lastModifiedBy>
  <dcterms:modified xsi:type="dcterms:W3CDTF">2017-12-25T15:43:24Z</dcterms:modified>
  <cp:revision>3</cp:revision>
  <dc:subject/>
  <dc:title>Формирование навыка чтения на среднем этапе обучения</dc:title>
</cp:coreProperties>
</file>