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311-1192-4F0E-B634-CDCD6346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8D0-BA12-4F2F-A38F-385B40F1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C25-ACEE-4EBF-A3C4-7CC2ED5C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E33-C432-4E52-873E-31AF744C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53F-29BB-414D-9509-50FAEDB2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7D8-5B90-4D6E-9410-01BD1A75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56C-46F2-4B90-9A44-521D4757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C08-3184-4C81-80EC-6CC9D004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0BF-6D5B-4BFE-AE9C-D61D478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434-51E1-478E-93F5-206FDEB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93E-6A76-4650-A371-CFA89A7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BA5-DC9C-4928-A5EA-1161C54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532-E49E-4B85-8F1E-2B15CD30C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riumphchepassione.com/immagini/union-jack-flag-bandie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ebloger.ru/data/original2/a6d6f333ceZBOKVEX_10217_8d299c94d9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lidaym.ru/english/london/map_london_m_circle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llmembers.com/uploads/buckingham_palace_2_1238931849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s49.radikal.ru/i125/1010/6d/063fd53a5599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0.tqn.com/d/golondon/1/0/R/7/-/-/8500043_GSC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ssets1.lookatme.ru/1279887282/assets/article_image-image/1c/5d/1005171/article_image-image-article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02.fsimg.ru/4/tlog_box/1496/1496422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8454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8880" y="5137920"/>
            <a:ext cx="47847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0_5e94_2408096a_XL"/>
          <p:cNvPicPr/>
          <p:nvPr/>
        </p:nvPicPr>
        <p:blipFill>
          <a:blip r:embed="rId1"/>
          <a:stretch/>
        </p:blipFill>
        <p:spPr>
          <a:xfrm rot="20974800">
            <a:off x="5508720" y="404640"/>
            <a:ext cx="3228840" cy="235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i-84"/>
          <p:cNvPicPr/>
          <p:nvPr/>
        </p:nvPicPr>
        <p:blipFill>
          <a:blip r:embed="rId2"/>
          <a:stretch/>
        </p:blipFill>
        <p:spPr>
          <a:xfrm rot="21337800">
            <a:off x="747720" y="4505040"/>
            <a:ext cx="294336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Картинка 5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052640"/>
            <a:ext cx="5077080" cy="33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Картинка 6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3141720"/>
            <a:ext cx="507672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0-london_master"/>
          <p:cNvPicPr/>
          <p:nvPr/>
        </p:nvPicPr>
        <p:blipFill>
          <a:blip r:embed="rId7"/>
          <a:stretch/>
        </p:blipFill>
        <p:spPr>
          <a:xfrm rot="20730000">
            <a:off x="324000" y="259920"/>
            <a:ext cx="30193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guard the Tower are the Warders or the Beefea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Картинка 63 из 18393"/>
          <p:cNvPicPr/>
          <p:nvPr/>
        </p:nvPicPr>
        <p:blipFill>
          <a:blip r:embed="rId1"/>
          <a:stretch/>
        </p:blipFill>
        <p:spPr>
          <a:xfrm>
            <a:off x="1403280" y="2637000"/>
            <a:ext cx="246708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артинка 5 из 3734"/>
          <p:cNvPicPr/>
          <p:nvPr/>
        </p:nvPicPr>
        <p:blipFill>
          <a:blip r:embed="rId2"/>
          <a:stretch/>
        </p:blipFill>
        <p:spPr>
          <a:xfrm>
            <a:off x="4572000" y="263700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ers believe that the city will be rich while black ravens live in the Tower of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Безимени-1"/>
          <p:cNvPicPr/>
          <p:nvPr/>
        </p:nvPicPr>
        <p:blipFill>
          <a:blip r:embed="rId1"/>
          <a:stretch/>
        </p:blipFill>
        <p:spPr>
          <a:xfrm>
            <a:off x="1979640" y="2708280"/>
            <a:ext cx="49561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24300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Brid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er Bridge is a tall structure. It was built across the Thames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Безимени-1"/>
          <p:cNvPicPr/>
          <p:nvPr/>
        </p:nvPicPr>
        <p:blipFill>
          <a:blip r:embed="rId1"/>
          <a:stretch/>
        </p:blipFill>
        <p:spPr>
          <a:xfrm>
            <a:off x="1476360" y="2060640"/>
            <a:ext cx="642780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the Conqu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he Conqueror invaded Britain in 1066 and became King of Eng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Картинка 15 из 851"/>
          <p:cNvPicPr/>
          <p:nvPr/>
        </p:nvPicPr>
        <p:blipFill>
          <a:blip r:embed="rId1"/>
          <a:stretch/>
        </p:blipFill>
        <p:spPr>
          <a:xfrm>
            <a:off x="3276720" y="2852640"/>
            <a:ext cx="3109680" cy="349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а 6 из 851"/>
          <p:cNvPicPr/>
          <p:nvPr/>
        </p:nvPicPr>
        <p:blipFill>
          <a:blip r:embed="rId2"/>
          <a:stretch/>
        </p:blipFill>
        <p:spPr>
          <a:xfrm>
            <a:off x="250920" y="2708280"/>
            <a:ext cx="280008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220px-William_the_Conqueror_invades_England"/>
          <p:cNvPicPr/>
          <p:nvPr/>
        </p:nvPicPr>
        <p:blipFill>
          <a:blip r:embed="rId3"/>
          <a:stretch/>
        </p:blipFill>
        <p:spPr>
          <a:xfrm>
            <a:off x="6588000" y="3429000"/>
            <a:ext cx="22669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9152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 is the capital of Great Brit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 the South East of England on the river Th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артинка 1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068640"/>
            <a:ext cx="507672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alace_of_westminster_arp"/>
          <p:cNvPicPr/>
          <p:nvPr/>
        </p:nvPicPr>
        <p:blipFill>
          <a:blip r:embed="rId3"/>
          <a:stretch/>
        </p:blipFill>
        <p:spPr>
          <a:xfrm>
            <a:off x="395280" y="4221000"/>
            <a:ext cx="30765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18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ingham palace is the London home of the kings and queens of this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Безимени-2"/>
          <p:cNvPicPr/>
          <p:nvPr/>
        </p:nvPicPr>
        <p:blipFill>
          <a:blip r:embed="rId1"/>
          <a:stretch/>
        </p:blipFill>
        <p:spPr>
          <a:xfrm>
            <a:off x="1332000" y="2133720"/>
            <a:ext cx="667224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9912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Buckingham palace  there is the Queen Victoria Memo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Безимени-2"/>
          <p:cNvPicPr/>
          <p:nvPr/>
        </p:nvPicPr>
        <p:blipFill>
          <a:blip r:embed="rId1"/>
          <a:stretch/>
        </p:blipFill>
        <p:spPr>
          <a:xfrm>
            <a:off x="971640" y="256536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state rooms of Buckingham Palace are open to visitors during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ртинка 15 из 9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573360"/>
            <a:ext cx="3965760" cy="308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38 из 91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492280"/>
            <a:ext cx="2752560" cy="390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Картинка 16 из 913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2276640"/>
            <a:ext cx="2712960" cy="33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he Changing of the Gua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front of Buckingham palac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ay a new guard of 30 guardsmen marches to the palace and takes the place of the old guard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10 из 9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924280"/>
            <a:ext cx="4592880" cy="305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Безимени-2"/>
          <p:cNvPicPr/>
          <p:nvPr/>
        </p:nvPicPr>
        <p:blipFill>
          <a:blip r:embed="rId3"/>
          <a:stretch/>
        </p:blipFill>
        <p:spPr>
          <a:xfrm>
            <a:off x="179280" y="3573360"/>
            <a:ext cx="484056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cient Tower of London has a long and cruel hi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Безимени-2"/>
          <p:cNvPicPr/>
          <p:nvPr/>
        </p:nvPicPr>
        <p:blipFill>
          <a:blip r:embed="rId1"/>
          <a:stretch/>
        </p:blipFill>
        <p:spPr>
          <a:xfrm>
            <a:off x="1547640" y="2276640"/>
            <a:ext cx="617076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building in the Tower of London is the White tower which is the old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Безимени-2"/>
          <p:cNvPicPr/>
          <p:nvPr/>
        </p:nvPicPr>
        <p:blipFill>
          <a:blip r:embed="rId1"/>
          <a:stretch/>
        </p:blipFill>
        <p:spPr>
          <a:xfrm>
            <a:off x="2771640" y="2421000"/>
            <a:ext cx="3519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hite tow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Jewel House, which contains the famous Crown Jewel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артинка 9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63700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4:17:35Z</dcterms:created>
  <dc:creator>User</dc:creator>
  <dc:description/>
  <dc:language>en-US</dc:language>
  <cp:lastModifiedBy>2</cp:lastModifiedBy>
  <dcterms:modified xsi:type="dcterms:W3CDTF">2017-12-25T18:34:11Z</dcterms:modified>
  <cp:revision>30</cp:revision>
  <dc:subject/>
  <dc:title>London </dc:title>
</cp:coreProperties>
</file>