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F18-41D6-4763-B5D2-DB39555A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1F1-F6F3-4B20-9D49-4699D51D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0A8-BAE1-4158-9796-5005D8BF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745-BE5D-4948-8463-51FA45C4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4BC-2925-4041-8DA5-95A6404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51F-6D82-48C0-8DB8-66899983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A11-B3A5-49FB-89A4-AB312BC9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A0F-E735-4F17-A2BA-2902118E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9FB-6F67-4130-B581-85FBB9E2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2F9-9659-4841-A08F-181B749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B82-B155-4857-BD53-1E8D38DB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441-85EA-4FAE-83E0-A4EB72A7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DAD4-63FE-48FE-A80A-006F5BE60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"Средняя общеобразовательная школа №11 с углубленным изучением отдельных предметов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енодольского муниципального района РТ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9720" y="2071440"/>
            <a:ext cx="73580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ТЕР –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Конструирование современного урока с использованием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nd-maps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ехнолог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485784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Учитель информатики и физи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исматуллина Дина Фаат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428760" y="500040"/>
            <a:ext cx="8143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"Средняя общеобразовательная школа №11 с углубленным изучением отдельных предметов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енодольского муниципального района РТ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ЕМУ ВЫ НАУЧИЛИСЬ НА МАСТЕР-КЛАСС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АМ ИНТЕРЕСНО БЫЛО УЧАВСТВОВАТЬ НА МАСТЕР-КЛАССЕ?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УДЕТЕ ЛИ ВЫ ПРИМЕНЯТЬ ДАННУЮ ТЕХНОЛОГИЮ В СВОЕЙ ДЕЯТЕЛЬ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71680" y="3143160"/>
            <a:ext cx="3614760" cy="2982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rcRect l="24219" t="19444" r="21094" b="4164"/>
          <a:stretch/>
        </p:blipFill>
        <p:spPr>
          <a:xfrm>
            <a:off x="785880" y="357120"/>
            <a:ext cx="75470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нная технология применима практически в любой сфере деятельности и направлена на развитие не только креативного мышления с использованием информационных ресурсов, а также формирует у современного ученика самые важные УУ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2420640"/>
            <a:ext cx="7848720" cy="208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42976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ужно, чтобы дети по возможности учились самостоятельно, а учитель руководил этим самостоятельным процессом и давал для него материал…»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.Д.Уш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Картинки по запросу дети учатся самостоятельно с помощью интернет технологий"/>
          <p:cNvPicPr/>
          <p:nvPr/>
        </p:nvPicPr>
        <p:blipFill>
          <a:blip r:embed="rId1"/>
          <a:stretch/>
        </p:blipFill>
        <p:spPr>
          <a:xfrm>
            <a:off x="357120" y="3286080"/>
            <a:ext cx="4452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071600" y="4071600"/>
            <a:ext cx="55148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нкт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нкт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нкт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685800" y="158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головок слайд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44360" y="-884160"/>
            <a:ext cx="2476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Картинки по запросу системно-деятельностный подход предполагает"/>
          <p:cNvPicPr/>
          <p:nvPr/>
        </p:nvPicPr>
        <p:blipFill>
          <a:blip r:embed="rId1"/>
          <a:stretch/>
        </p:blipFill>
        <p:spPr>
          <a:xfrm>
            <a:off x="642960" y="57168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Похожее изображение"/>
          <p:cNvPicPr/>
          <p:nvPr/>
        </p:nvPicPr>
        <p:blipFill>
          <a:blip r:embed="rId1"/>
          <a:stretch/>
        </p:blipFill>
        <p:spPr>
          <a:xfrm>
            <a:off x="1571760" y="500040"/>
            <a:ext cx="621504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а конспектирования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44360" y="-1600200"/>
            <a:ext cx="50007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144360" y="-1600200"/>
            <a:ext cx="50007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44360" y="-1600200"/>
            <a:ext cx="50007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трелка вниз 10"/>
          <p:cNvSpPr/>
          <p:nvPr/>
        </p:nvSpPr>
        <p:spPr>
          <a:xfrm>
            <a:off x="4143240" y="3429000"/>
            <a:ext cx="1285920" cy="14288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7964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Круглая лента лицом вверх 11"/>
          <p:cNvSpPr/>
          <p:nvPr/>
        </p:nvSpPr>
        <p:spPr>
          <a:xfrm>
            <a:off x="857160" y="4857840"/>
            <a:ext cx="8072640" cy="1500120"/>
          </a:xfrm>
          <a:custGeom>
            <a:avLst/>
            <a:gdLst>
              <a:gd name="textAreaLeft" fmla="*/ 2018160 w 8072640"/>
              <a:gd name="textAreaRight" fmla="*/ 6054480 w 8072640"/>
              <a:gd name="textAreaTop" fmla="*/ 44280 h 1500120"/>
              <a:gd name="textAreaBottom" fmla="*/ 1125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928960" y="50007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D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PS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Интеллект-карта», «карта ума», «ментальная карт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28760" y="179784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d-maps один из лучших инструментов структурированного представления информации. Ментальные карты позволяют четко фиксировать идеи, находить взаимосвязи. С помощью ментальной карты можно наглядно визуализировать свои мысли. Ментальная карта - это мощнейший инструмент развития критического и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44360" y="-228600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44360" y="-228600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144360" y="-228600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YDWiLuZe.jpg"/>
          <p:cNvPicPr/>
          <p:nvPr/>
        </p:nvPicPr>
        <p:blipFill>
          <a:blip r:embed="rId1"/>
          <a:stretch/>
        </p:blipFill>
        <p:spPr>
          <a:xfrm>
            <a:off x="3571920" y="414324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горитм построения ментальной карты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000080"/>
            <a:ext cx="81151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и Бьюзен предлагает действовать следующим образ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ыделяется главная идея текста в виде центрального образа, который размещается в центре листа. Это основная цель создания ментальной  кар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етви 1-го уровня, непосредственно связанные с объектом внимания изображаем расходящимися от центрального образа, в виде плавных линий. Обозначаем их ключевыми словами или образами. Создавать и читать следует по часовой стрелке, начиная от правого верхнего уг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торичные идеи также изображаем в виде ветвей, отходящих от ветвей более высокого порядка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Делаем карту более привлекательной с помощью использования множества цветов, добавляем рисунки, симв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составляется Интеллект-ка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Картинки по запросу этапы создания ментальной карты"/>
          <p:cNvPicPr/>
          <p:nvPr/>
        </p:nvPicPr>
        <p:blipFill>
          <a:blip r:embed="rId1"/>
          <a:stretch/>
        </p:blipFill>
        <p:spPr>
          <a:xfrm>
            <a:off x="214200" y="1357200"/>
            <a:ext cx="8560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нет - 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15823" t="13361" r="8860" b="10128"/>
          <a:stretch/>
        </p:blipFill>
        <p:spPr>
          <a:xfrm>
            <a:off x="428760" y="1143000"/>
            <a:ext cx="85071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авление ментальной к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ед Вами находится текст  на тему «Информация и ее свойства» (7 класс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конспектируйте его в виде интеллект -карты на бумаге, а также с помощью интернет- приложения.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ttps://app.mindmup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user</dc:creator>
  <dc:description/>
  <dc:language>en-US</dc:language>
  <cp:lastModifiedBy>user</cp:lastModifiedBy>
  <dcterms:modified xsi:type="dcterms:W3CDTF">2017-12-25T11:47:29Z</dcterms:modified>
  <cp:revision>58</cp:revision>
  <dc:subject/>
  <dc:title>МБОУ "Средняя общеобразовательная школа №11 с углубленным изучением отдельных предметов  Зеленодольского муниципального района РТ"</dc:title>
</cp:coreProperties>
</file>