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9B7F-AD08-4843-9C3C-78C90E52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E7A1-1B25-4772-9B22-093500FE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E47C-DC9D-40FB-8103-84F18A14A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8D57-66FD-4067-B65B-64EF9F600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E808-6594-4273-ABF4-3E4CE0366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84A6-AE7E-41E2-985C-C22A7157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4031-74E0-46DE-9657-3464D5CB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6DFD-6262-4596-A924-FA21EF9F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8080-3313-494E-B012-A11A0EA6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4B6B-59CF-40AC-9C89-9463D49B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CFD0-2E51-4853-BDCF-CCBB10E2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DF6B-7F72-4C68-8B74-375DBD1F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02A3-0771-46AA-AC87-131E1673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CBD2-8B5B-40A6-A998-C58F1ADD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B788-CEF9-4CFD-B8DC-0E40E6E4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F0B3-D69F-46AB-AA35-A6177AB44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1789-9751-4EC9-B5FE-4D79B059A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EEFC-7602-4901-9593-DC3D8707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19CA-6805-4B3F-A8DD-755469ED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2B50-0CED-4072-ABDB-80291948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6176-263C-431B-BC37-1B6642FB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2F4E-5FC8-4CF2-8420-58C84A04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5974-10CE-4850-B6DE-69325918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B12C-CF5A-4C6A-832A-5A736172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90E2-07E8-47F4-B51E-ED728989A52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A1B6-723A-4338-94AB-5156E13333F5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olympichistory.info/s1920.htm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99"/>
                </a:solidFill>
                <a:latin typeface="Arial"/>
              </a:rPr>
              <a:t>Олимпийские игры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211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Picture 14" descr=""/>
          <p:cNvPicPr/>
          <p:nvPr/>
        </p:nvPicPr>
        <p:blipFill>
          <a:blip r:embed="rId1"/>
          <a:stretch/>
        </p:blipFill>
        <p:spPr>
          <a:xfrm>
            <a:off x="3059280" y="2421000"/>
            <a:ext cx="5113080" cy="30240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1"/>
          <p:cNvSpPr/>
          <p:nvPr/>
        </p:nvSpPr>
        <p:spPr>
          <a:xfrm>
            <a:off x="5238360" y="5877000"/>
            <a:ext cx="389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70"/>
                </a:solidFill>
                <a:latin typeface="Arial"/>
              </a:rPr>
              <a:t>Инструктор по ФК МАДОУ д\с №5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70"/>
                </a:solidFill>
                <a:latin typeface="Arial"/>
              </a:rPr>
              <a:t>Шашко Н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Родина Олимпийских игр – Древняя Греция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611280" y="1838160"/>
            <a:ext cx="820872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Виды спорта первых Олимпийских игр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7" name="Picture 8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705636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-630360"/>
            <a:ext cx="8229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Олимпийский флаг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4038480" cy="2621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48320" y="907560"/>
            <a:ext cx="40384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первые флаг появился на </a:t>
            </a: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Олимпийских играх 1920 года в Антверпене (Бельгия)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 Олимпийский флаг используется в церемониях открытия и закрытия каждой Олимпиады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3"/>
          <a:stretch/>
        </p:blipFill>
        <p:spPr>
          <a:xfrm>
            <a:off x="3780000" y="3645000"/>
            <a:ext cx="521964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Олимпийский огонь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08000" y="1700280"/>
            <a:ext cx="3925800" cy="2736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2"/>
          <a:stretch/>
        </p:blipFill>
        <p:spPr>
          <a:xfrm>
            <a:off x="4427640" y="3321000"/>
            <a:ext cx="45370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Летние Олимпийские игры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108000" y="971640"/>
            <a:ext cx="3959280" cy="2170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2"/>
          <a:stretch/>
        </p:blipFill>
        <p:spPr>
          <a:xfrm>
            <a:off x="5292720" y="971640"/>
            <a:ext cx="2735280" cy="2170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3"/>
          <a:stretch/>
        </p:blipFill>
        <p:spPr>
          <a:xfrm>
            <a:off x="142920" y="3754440"/>
            <a:ext cx="3489120" cy="2521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4"/>
          <a:stretch/>
        </p:blipFill>
        <p:spPr>
          <a:xfrm>
            <a:off x="4392720" y="3789360"/>
            <a:ext cx="432576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99"/>
                </a:solidFill>
                <a:latin typeface="Arial"/>
              </a:rPr>
              <a:t>Медали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3059280" y="1125360"/>
            <a:ext cx="3322440" cy="2938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2664000" cy="2880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"/>
          <p:cNvPicPr/>
          <p:nvPr/>
        </p:nvPicPr>
        <p:blipFill>
          <a:blip r:embed="rId3"/>
          <a:stretch/>
        </p:blipFill>
        <p:spPr>
          <a:xfrm>
            <a:off x="6012000" y="4149720"/>
            <a:ext cx="2381040" cy="2475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"/>
          <p:cNvPicPr/>
          <p:nvPr/>
        </p:nvPicPr>
        <p:blipFill>
          <a:blip r:embed="rId4"/>
          <a:stretch/>
        </p:blipFill>
        <p:spPr>
          <a:xfrm>
            <a:off x="3276720" y="4221000"/>
            <a:ext cx="2447640" cy="2397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"/>
          <p:cNvPicPr/>
          <p:nvPr/>
        </p:nvPicPr>
        <p:blipFill>
          <a:blip r:embed="rId5"/>
          <a:stretch/>
        </p:blipFill>
        <p:spPr>
          <a:xfrm>
            <a:off x="684360" y="4221000"/>
            <a:ext cx="2381040" cy="23814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6"/>
          <a:stretch/>
        </p:blipFill>
        <p:spPr>
          <a:xfrm>
            <a:off x="6516720" y="126828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04:18:35Z</dcterms:created>
  <dc:creator>Учитель</dc:creator>
  <dc:description/>
  <dc:language>en-US</dc:language>
  <cp:lastModifiedBy>User</cp:lastModifiedBy>
  <dcterms:modified xsi:type="dcterms:W3CDTF">2017-12-25T10:34:23Z</dcterms:modified>
  <cp:revision>34</cp:revision>
  <dc:subject/>
  <dc:title>Олимпийские игры</dc:title>
</cp:coreProperties>
</file>