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83DA6-27BA-4165-A046-BD78E9A8B5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3CBA5-9ED3-4E3D-9DCF-13BC862028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BE46-168F-4211-8731-4CBAD3B54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980C-A531-4F71-A9FA-5FFD538F6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5C86-BFA5-421E-90A5-F76948575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3B24-D588-4801-8456-78E3FA1D5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A92D-623D-4637-9A3F-B2874564B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5631-9270-42EC-81AD-FC591CDC5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867B-8D3B-43B1-B95B-6932321AF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6CC4-F54C-40F9-94EF-B8C04E7FB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F4A6-44E2-4066-98F3-5E444DFF9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BC8D-7BA5-448E-B45A-AACF85DB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B15E-D1D8-4E8F-90BB-CCDBA572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D889-5588-4901-BF1B-05245ACA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B9417-3294-4FF0-98F7-FEF9D0F9D23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632720" cy="453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сударственное бюджетное образовательное учреждение Вешняковская Лингвистическая гимназия №1389 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сквы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лимпийские игры и войн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торы:      Воскресенский Н., Руснак  Д.(5Б)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Грамм И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5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5"/>
          <p:cNvSpPr/>
          <p:nvPr/>
        </p:nvSpPr>
        <p:spPr>
          <a:xfrm>
            <a:off x="4716360" y="5805360"/>
            <a:ext cx="41752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"/>
          <p:cNvSpPr/>
          <p:nvPr/>
        </p:nvSpPr>
        <p:spPr>
          <a:xfrm>
            <a:off x="4556160" y="4869000"/>
            <a:ext cx="449568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уководител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br>
              <a:rPr sz="4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едорова Елена Викторовн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ель истории и обществозн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ше предположение подтвердилось лишь частично. В древности в дни проведения олимпиад на всей земле воцарялось согласие и примирение. 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еке олимпийское движение преодолело много препятствий. В результате двух мировых войн мир не увидел Олимпийские игры 1916, 1940, 1944 годов. В 1992 году МОК попытался возродить традицию «олимпийского мира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 2003 году Генеральная Ассамблея ООН единогласно утвердила соответствующую резолю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аши дни олимпиады одно из крупнейших событий в мире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исок использованных источник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Гик Е., Гупало Е. История Олимпийских игр. – М., Эксмо,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Голденков М. История зимних Олимпиад. Дорога в Сочи. Издательство: Тетро-Систем с, 201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Емельянова Э. Расскажите детям об Олимпийских Играх. Издательство: Мозаика-Синтез, 201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Трескин А., Штейнбах В. История Олимпийских игр. Издательство: АСТ, Русь-Олимп, 200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Штейнбах В. Большая олимпийская энциклопедия. Издательство: Олимпия-Пресс,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 Спортивный калейдоскоп. Альманах для детей среднего школьного возраста. Клепа в Москве. -  М, ООО Клепа, 2013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тернет-ресурсы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nsportal.ru/shkola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lassnoe-rukovodstvo/library/istoriya-olimpiyskih-igr-v-istorii-strany-klassnyy-c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lib.znate.ru/docs/index-153238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festival.1september.ru/articles/595049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heida.ru/forum/index.php?showtopic=7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otvet.mail.ru/question/131673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знакомиться с историей возникновения и развития Олимпийских игр, исследовать  роль Игр в укреплении мира на планете, их значение в истории человеч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рать информацию об Олимпийских играх древ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Изучить принципы, правила и символику современных Олимпийских иг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Изучить историю возрождения Олимпийских игр современ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обрать информацию, иллюстрирующую связь политики и Олимпийских иг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Собрать информацию о подготовке к зимним Олимпийским играм в Со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Представить работу в виде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ипотез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 считаем, что Олимпийские игры возникли в глубокой древности в Греции,  проходили на протяжении веков, останавливали военные действия, способствовали укреплению мира между народ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од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Изучение и анализ книг, словарей, энциклопедий в районной и школь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блиоте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Изучение материалов Интернета по те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Виртуальные экскур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76 год до н.э – первые Олимпийские игры – праздник мира, мужества и красоты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https://mediasole.ru/data/images/136/136013/original.jpg"/>
          <p:cNvPicPr/>
          <p:nvPr/>
        </p:nvPicPr>
        <p:blipFill>
          <a:blip r:embed="rId2"/>
          <a:stretch/>
        </p:blipFill>
        <p:spPr>
          <a:xfrm>
            <a:off x="250920" y="4292640"/>
            <a:ext cx="4249800" cy="2376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7" descr="olimp-776"/>
          <p:cNvPicPr/>
          <p:nvPr/>
        </p:nvPicPr>
        <p:blipFill>
          <a:blip r:embed="rId3"/>
          <a:stretch/>
        </p:blipFill>
        <p:spPr>
          <a:xfrm>
            <a:off x="5076720" y="1484280"/>
            <a:ext cx="3167280" cy="2413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http://dmirix.ru/wp-content/uploads/2015/10/%D0%B3%D1%80%D0%B5%D1%86%D0%B8%D1%8F.jpg"/>
          <p:cNvPicPr/>
          <p:nvPr/>
        </p:nvPicPr>
        <p:blipFill>
          <a:blip r:embed="rId4"/>
          <a:stretch/>
        </p:blipFill>
        <p:spPr>
          <a:xfrm>
            <a:off x="250920" y="1484280"/>
            <a:ext cx="4236840" cy="2514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0" descr="Ancient-Greek-Olympics-Games"/>
          <p:cNvPicPr/>
          <p:nvPr/>
        </p:nvPicPr>
        <p:blipFill>
          <a:blip r:embed="rId5"/>
          <a:stretch/>
        </p:blipFill>
        <p:spPr>
          <a:xfrm>
            <a:off x="5003640" y="4221000"/>
            <a:ext cx="3237120" cy="244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лимп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юг Греции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сто игр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384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время Олимпийских игр заключалось перемирие (экехерия) между всеми воюющими греческими государствами. Представители враждующих полисов проводили в Олимпии мирные переговоры с целью уладить конфлик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Untitled-3"/>
          <p:cNvPicPr/>
          <p:nvPr/>
        </p:nvPicPr>
        <p:blipFill>
          <a:blip r:embed="rId2"/>
          <a:stretch/>
        </p:blipFill>
        <p:spPr>
          <a:xfrm>
            <a:off x="4500720" y="2421000"/>
            <a:ext cx="4357440" cy="2879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896 г. по инициативе Пьера де Кубертена в Греции прошли  первые Олимпийские игры современности 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аствовали 285 спортсменов из 13 стран. Россия участия не приним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100m-sprint-Athens-1896"/>
          <p:cNvPicPr/>
          <p:nvPr/>
        </p:nvPicPr>
        <p:blipFill>
          <a:blip r:embed="rId2"/>
          <a:stretch/>
        </p:blipFill>
        <p:spPr>
          <a:xfrm>
            <a:off x="228600" y="2276640"/>
            <a:ext cx="3768840" cy="3384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1896-olympic-opening-ceremony_14542563211"/>
          <p:cNvPicPr/>
          <p:nvPr/>
        </p:nvPicPr>
        <p:blipFill>
          <a:blip r:embed="rId3"/>
          <a:stretch/>
        </p:blipFill>
        <p:spPr>
          <a:xfrm>
            <a:off x="4211640" y="2060640"/>
            <a:ext cx="4451400" cy="3816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мволы современных Олимпийских иг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ь колец олицетворяют единство пяти континентов и встречу мира на Олимпийских играх. Белый цвет символизирует мир во время Иг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время Игр зажигают олимпийский огонь – символ дружбы и честной спортивной борьб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виз Игр: Быстрее, выше, сильне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image014_5"/>
          <p:cNvPicPr/>
          <p:nvPr/>
        </p:nvPicPr>
        <p:blipFill>
          <a:blip r:embed="rId2"/>
          <a:stretch/>
        </p:blipFill>
        <p:spPr>
          <a:xfrm>
            <a:off x="4782960" y="1413000"/>
            <a:ext cx="3461040" cy="2376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xQuRSii3t9I"/>
          <p:cNvPicPr/>
          <p:nvPr/>
        </p:nvPicPr>
        <p:blipFill>
          <a:blip r:embed="rId3"/>
          <a:stretch/>
        </p:blipFill>
        <p:spPr>
          <a:xfrm>
            <a:off x="4824360" y="3933720"/>
            <a:ext cx="3456000" cy="2303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50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территории России Игры проводились два раз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78920" y="177336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1980 летние игры в Моск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итогам соревнования российским атлетам достало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0 золотых медалей, а также 69 серебряных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6 бронзовых наград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2014 году зимние игры в Со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ссия выиграла 13 золотых, 11 серебряных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 бронзовых медалей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https://img-s3.onedio.com/id-57bae013bd2bd74e369c2ce6/rev-0/raw/s-5765c46607a9e1ed97e111445bfac1b3b2fd8469.jpg"/>
          <p:cNvPicPr/>
          <p:nvPr/>
        </p:nvPicPr>
        <p:blipFill>
          <a:blip r:embed="rId2"/>
          <a:stretch/>
        </p:blipFill>
        <p:spPr>
          <a:xfrm>
            <a:off x="7159680" y="1758960"/>
            <a:ext cx="1542960" cy="2371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http://www.proza.ru/pics/2014/03/05/955.jpg"/>
          <p:cNvPicPr/>
          <p:nvPr/>
        </p:nvPicPr>
        <p:blipFill>
          <a:blip r:embed="rId3"/>
          <a:stretch/>
        </p:blipFill>
        <p:spPr>
          <a:xfrm>
            <a:off x="6335640" y="4149720"/>
            <a:ext cx="2562120" cy="20667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128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временные игры имеют ряд отличий от древних.</a:t>
            </a:r>
            <a:br>
              <a:rPr sz="24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0" y="528480"/>
          <a:ext cx="9144000" cy="6329520"/>
        </p:xfrm>
        <a:graphic>
          <a:graphicData uri="http://schemas.openxmlformats.org/drawingml/2006/table">
            <a:tbl>
              <a:tblPr/>
              <a:tblGrid>
                <a:gridCol w="398520"/>
                <a:gridCol w="4195800"/>
                <a:gridCol w="454968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ревняя Гре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времен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576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лимпийцами могли стать только греки по происхождению, причём только свободные люди и только мужчины. Чужестранцы, женщины и рабы к соревнованиям не допускалис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ускается участвовать от одной страны в каждом номере программы игр не более трём спортсменам. Возраст участников не ограничен. Спортсмены могут представлять интересы только той страны, гражданами которой они являютс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одились в Греции.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очерёдно во всех странах мир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511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лько летние игр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тние, зимние, параолимпийски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граждали лавровым венцо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граждают медалям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1870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дисциплин: стадиодром, диаулос, долиходром, борьба, пентатлон, кулачный бой, гонки на колесницах, панкратион и скачк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программу Олимпийских игр входят 28 летних (41 дисциплина) и 7 зимних (15 дисциплин) видов спорт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Elena</cp:lastModifiedBy>
  <dcterms:modified xsi:type="dcterms:W3CDTF">2017-12-25T18:23:24Z</dcterms:modified>
  <cp:revision>745</cp:revision>
  <dc:subject/>
  <dc:title>Diapositiva 1</dc:title>
</cp:coreProperties>
</file>