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40A1-4591-4347-B24D-B7DC724D3D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C38-10A2-433B-8AD3-0EABAF93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78C9-AFAE-4362-A5E0-BEF1E14D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5C5-DDDA-4CDC-99AF-03AE51AA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AC3D-0C26-4D24-8346-A13F0EBB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B04B-F0EC-4867-9B32-3B91B36F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0580-E032-4E52-8D21-8C64B914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A964-29BC-4B9E-8FB1-AB75CD8E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68E-4600-4D3E-A24E-92D971AA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80F9-DEFC-41CF-B144-3803564D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43A-EB63-406E-8E2D-4906EC11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AE3-0187-429A-B6C7-7C189ABA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CE0-2D40-4907-8E83-F31EBD1A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16B9-9021-4607-B3C5-8EC631B253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49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 txBox="1"/>
          <p:nvPr/>
        </p:nvSpPr>
        <p:spPr>
          <a:xfrm>
            <a:off x="3429000" y="2286000"/>
            <a:ext cx="2133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 класс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3048120"/>
            <a:ext cx="8229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одобные треугольники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1981080"/>
            <a:ext cx="3429000" cy="221004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2362320"/>
            <a:ext cx="5562720" cy="358128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4080" y="4114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35520" y="1676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83440" y="41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0240" y="579132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89000" y="190512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79120" y="571500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6320" y="76320"/>
            <a:ext cx="90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 неизвестные стороны и углы подобных треуголь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2280" y="609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а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143000" y="533520"/>
            <a:ext cx="3342960" cy="579600"/>
            <a:chOff x="1143000" y="533520"/>
            <a:chExt cx="3342960" cy="579600"/>
          </a:xfrm>
        </p:grpSpPr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1143000" y="53352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"/>
            <p:cNvSpPr/>
            <p:nvPr/>
          </p:nvSpPr>
          <p:spPr>
            <a:xfrm>
              <a:off x="1450080" y="53352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05800">
              <a:off x="2434680" y="684000"/>
              <a:ext cx="460440" cy="230400"/>
            </a:xfrm>
            <a:custGeom>
              <a:avLst/>
              <a:gdLst/>
              <a:ahLst/>
              <a:rect l="l" t="t" r="r" b="b"/>
              <a:pathLst>
                <a:path w="540" h="205">
                  <a:moveTo>
                    <a:pt x="203" y="138"/>
                  </a:moveTo>
                  <a:cubicBezTo>
                    <a:pt x="196" y="145"/>
                    <a:pt x="182" y="171"/>
                    <a:pt x="160" y="181"/>
                  </a:cubicBezTo>
                  <a:cubicBezTo>
                    <a:pt x="139" y="191"/>
                    <a:pt x="98" y="205"/>
                    <a:pt x="73" y="199"/>
                  </a:cubicBezTo>
                  <a:cubicBezTo>
                    <a:pt x="48" y="194"/>
                    <a:pt x="21" y="170"/>
                    <a:pt x="11" y="148"/>
                  </a:cubicBezTo>
                  <a:cubicBezTo>
                    <a:pt x="0" y="126"/>
                    <a:pt x="1" y="86"/>
                    <a:pt x="11" y="66"/>
                  </a:cubicBezTo>
                  <a:cubicBezTo>
                    <a:pt x="20" y="45"/>
                    <a:pt x="43" y="31"/>
                    <a:pt x="68" y="26"/>
                  </a:cubicBezTo>
                  <a:cubicBezTo>
                    <a:pt x="93" y="22"/>
                    <a:pt x="124" y="24"/>
                    <a:pt x="160" y="39"/>
                  </a:cubicBezTo>
                  <a:cubicBezTo>
                    <a:pt x="197" y="53"/>
                    <a:pt x="249" y="88"/>
                    <a:pt x="285" y="110"/>
                  </a:cubicBezTo>
                  <a:cubicBezTo>
                    <a:pt x="322" y="133"/>
                    <a:pt x="345" y="162"/>
                    <a:pt x="378" y="172"/>
                  </a:cubicBezTo>
                  <a:cubicBezTo>
                    <a:pt x="411" y="182"/>
                    <a:pt x="459" y="177"/>
                    <a:pt x="485" y="167"/>
                  </a:cubicBezTo>
                  <a:cubicBezTo>
                    <a:pt x="511" y="158"/>
                    <a:pt x="530" y="136"/>
                    <a:pt x="535" y="113"/>
                  </a:cubicBezTo>
                  <a:cubicBezTo>
                    <a:pt x="540" y="90"/>
                    <a:pt x="534" y="49"/>
                    <a:pt x="517" y="31"/>
                  </a:cubicBezTo>
                  <a:cubicBezTo>
                    <a:pt x="500" y="13"/>
                    <a:pt x="461" y="0"/>
                    <a:pt x="433" y="3"/>
                  </a:cubicBezTo>
                  <a:cubicBezTo>
                    <a:pt x="405" y="6"/>
                    <a:pt x="366" y="40"/>
                    <a:pt x="348" y="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2895480" y="53352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"/>
            <p:cNvSpPr/>
            <p:nvPr/>
          </p:nvSpPr>
          <p:spPr>
            <a:xfrm>
              <a:off x="3233520" y="533520"/>
              <a:ext cx="1252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42520" y="37958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43</a:t>
            </a:r>
            <a:r>
              <a:rPr b="1" lang="en-US" sz="2400" spc="-1" strike="noStrike" baseline="30000">
                <a:solidFill>
                  <a:srgbClr val="660066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81200" y="25765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70</a:t>
            </a:r>
            <a:r>
              <a:rPr b="1" lang="en-US" sz="2400" spc="-1" strike="noStrike" baseline="30000">
                <a:solidFill>
                  <a:srgbClr val="660066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068840" y="2652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97840" y="3795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02560" y="2805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059560" y="4176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42520" y="37958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43</a:t>
            </a:r>
            <a:r>
              <a:rPr b="1" lang="en-US" sz="2400" spc="-1" strike="noStrike" baseline="30000">
                <a:solidFill>
                  <a:srgbClr val="660066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81200" y="25765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70</a:t>
            </a:r>
            <a:r>
              <a:rPr b="1" lang="en-US" sz="2400" spc="-1" strike="noStrike" baseline="30000">
                <a:solidFill>
                  <a:srgbClr val="660066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857720" y="547200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67</a:t>
            </a:r>
            <a:r>
              <a:rPr b="1" lang="en-US" sz="2400" spc="-1" strike="noStrike" baseline="30000">
                <a:solidFill>
                  <a:srgbClr val="660066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33440" y="37958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67</a:t>
            </a:r>
            <a:r>
              <a:rPr b="1" lang="en-US" sz="2400" spc="-1" strike="noStrike" baseline="30000">
                <a:solidFill>
                  <a:srgbClr val="660066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45960" y="3795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41200" y="5929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22222E-006 L -0.43333 -0.05555 E">
                                      <p:cBhvr>
                                        <p:cTn id="490" dur="1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3 0.24444 E">
                                      <p:cBhvr>
                                        <p:cTn id="494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 flipH="1">
            <a:off x="380160" y="2757600"/>
            <a:ext cx="3429000" cy="220968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54080" y="48909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49720" y="2300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83440" y="49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580240" y="58816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22320" y="237636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517200" y="595800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6320" y="76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Блиц-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280" y="609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а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143000" y="533520"/>
            <a:ext cx="3342960" cy="579600"/>
            <a:chOff x="1143000" y="533520"/>
            <a:chExt cx="3342960" cy="579600"/>
          </a:xfrm>
        </p:grpSpPr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1143000" y="53352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"/>
            <p:cNvSpPr/>
            <p:nvPr/>
          </p:nvSpPr>
          <p:spPr>
            <a:xfrm>
              <a:off x="1450080" y="53352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205800">
              <a:off x="2434680" y="684000"/>
              <a:ext cx="460440" cy="230400"/>
            </a:xfrm>
            <a:custGeom>
              <a:avLst/>
              <a:gdLst/>
              <a:ahLst/>
              <a:rect l="l" t="t" r="r" b="b"/>
              <a:pathLst>
                <a:path w="540" h="205">
                  <a:moveTo>
                    <a:pt x="203" y="138"/>
                  </a:moveTo>
                  <a:cubicBezTo>
                    <a:pt x="196" y="145"/>
                    <a:pt x="182" y="171"/>
                    <a:pt x="160" y="181"/>
                  </a:cubicBezTo>
                  <a:cubicBezTo>
                    <a:pt x="139" y="191"/>
                    <a:pt x="98" y="205"/>
                    <a:pt x="73" y="199"/>
                  </a:cubicBezTo>
                  <a:cubicBezTo>
                    <a:pt x="48" y="194"/>
                    <a:pt x="21" y="170"/>
                    <a:pt x="11" y="148"/>
                  </a:cubicBezTo>
                  <a:cubicBezTo>
                    <a:pt x="0" y="126"/>
                    <a:pt x="1" y="86"/>
                    <a:pt x="11" y="66"/>
                  </a:cubicBezTo>
                  <a:cubicBezTo>
                    <a:pt x="20" y="45"/>
                    <a:pt x="43" y="31"/>
                    <a:pt x="68" y="26"/>
                  </a:cubicBezTo>
                  <a:cubicBezTo>
                    <a:pt x="93" y="22"/>
                    <a:pt x="124" y="24"/>
                    <a:pt x="160" y="39"/>
                  </a:cubicBezTo>
                  <a:cubicBezTo>
                    <a:pt x="197" y="53"/>
                    <a:pt x="249" y="88"/>
                    <a:pt x="285" y="110"/>
                  </a:cubicBezTo>
                  <a:cubicBezTo>
                    <a:pt x="322" y="133"/>
                    <a:pt x="345" y="162"/>
                    <a:pt x="378" y="172"/>
                  </a:cubicBezTo>
                  <a:cubicBezTo>
                    <a:pt x="411" y="182"/>
                    <a:pt x="459" y="177"/>
                    <a:pt x="485" y="167"/>
                  </a:cubicBezTo>
                  <a:cubicBezTo>
                    <a:pt x="511" y="158"/>
                    <a:pt x="530" y="136"/>
                    <a:pt x="535" y="113"/>
                  </a:cubicBezTo>
                  <a:cubicBezTo>
                    <a:pt x="540" y="90"/>
                    <a:pt x="534" y="49"/>
                    <a:pt x="517" y="31"/>
                  </a:cubicBezTo>
                  <a:cubicBezTo>
                    <a:pt x="500" y="13"/>
                    <a:pt x="461" y="0"/>
                    <a:pt x="433" y="3"/>
                  </a:cubicBezTo>
                  <a:cubicBezTo>
                    <a:pt x="405" y="6"/>
                    <a:pt x="366" y="40"/>
                    <a:pt x="348" y="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2895480" y="53352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"/>
            <p:cNvSpPr/>
            <p:nvPr/>
          </p:nvSpPr>
          <p:spPr>
            <a:xfrm>
              <a:off x="3233520" y="533520"/>
              <a:ext cx="1252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30760" y="3595680"/>
            <a:ext cx="7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6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593080" y="3519360"/>
            <a:ext cx="7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7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26400" y="4967280"/>
            <a:ext cx="7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8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533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дите: х, у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1981080" y="1219320"/>
                <a:ext cx="150336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442152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31700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02172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88720" y="4038480"/>
            <a:ext cx="91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12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5440" y="4114800"/>
            <a:ext cx="91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14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93840" y="5943600"/>
            <a:ext cx="91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16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885480" y="2909880"/>
            <a:ext cx="4724280" cy="3048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54080" y="48909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49720" y="2300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583440" y="49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580240" y="58816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422320" y="237636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17200" y="595800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320" y="76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Блиц-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609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а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143000" y="533520"/>
            <a:ext cx="3342960" cy="579600"/>
            <a:chOff x="1143000" y="533520"/>
            <a:chExt cx="3342960" cy="579600"/>
          </a:xfrm>
        </p:grpSpPr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143000" y="53352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4" name=""/>
            <p:cNvSpPr/>
            <p:nvPr/>
          </p:nvSpPr>
          <p:spPr>
            <a:xfrm>
              <a:off x="1450080" y="53352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05800">
              <a:off x="2434680" y="684000"/>
              <a:ext cx="460440" cy="230400"/>
            </a:xfrm>
            <a:custGeom>
              <a:avLst/>
              <a:gdLst/>
              <a:ahLst/>
              <a:rect l="l" t="t" r="r" b="b"/>
              <a:pathLst>
                <a:path w="540" h="205">
                  <a:moveTo>
                    <a:pt x="203" y="138"/>
                  </a:moveTo>
                  <a:cubicBezTo>
                    <a:pt x="196" y="145"/>
                    <a:pt x="182" y="171"/>
                    <a:pt x="160" y="181"/>
                  </a:cubicBezTo>
                  <a:cubicBezTo>
                    <a:pt x="139" y="191"/>
                    <a:pt x="98" y="205"/>
                    <a:pt x="73" y="199"/>
                  </a:cubicBezTo>
                  <a:cubicBezTo>
                    <a:pt x="48" y="194"/>
                    <a:pt x="21" y="170"/>
                    <a:pt x="11" y="148"/>
                  </a:cubicBezTo>
                  <a:cubicBezTo>
                    <a:pt x="0" y="126"/>
                    <a:pt x="1" y="86"/>
                    <a:pt x="11" y="66"/>
                  </a:cubicBezTo>
                  <a:cubicBezTo>
                    <a:pt x="20" y="45"/>
                    <a:pt x="43" y="31"/>
                    <a:pt x="68" y="26"/>
                  </a:cubicBezTo>
                  <a:cubicBezTo>
                    <a:pt x="93" y="22"/>
                    <a:pt x="124" y="24"/>
                    <a:pt x="160" y="39"/>
                  </a:cubicBezTo>
                  <a:cubicBezTo>
                    <a:pt x="197" y="53"/>
                    <a:pt x="249" y="88"/>
                    <a:pt x="285" y="110"/>
                  </a:cubicBezTo>
                  <a:cubicBezTo>
                    <a:pt x="322" y="133"/>
                    <a:pt x="345" y="162"/>
                    <a:pt x="378" y="172"/>
                  </a:cubicBezTo>
                  <a:cubicBezTo>
                    <a:pt x="411" y="182"/>
                    <a:pt x="459" y="177"/>
                    <a:pt x="485" y="167"/>
                  </a:cubicBezTo>
                  <a:cubicBezTo>
                    <a:pt x="511" y="158"/>
                    <a:pt x="530" y="136"/>
                    <a:pt x="535" y="113"/>
                  </a:cubicBezTo>
                  <a:cubicBezTo>
                    <a:pt x="540" y="90"/>
                    <a:pt x="534" y="49"/>
                    <a:pt x="517" y="31"/>
                  </a:cubicBezTo>
                  <a:cubicBezTo>
                    <a:pt x="500" y="13"/>
                    <a:pt x="461" y="0"/>
                    <a:pt x="433" y="3"/>
                  </a:cubicBezTo>
                  <a:cubicBezTo>
                    <a:pt x="405" y="6"/>
                    <a:pt x="366" y="40"/>
                    <a:pt x="348" y="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2895480" y="53352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7" name=""/>
            <p:cNvSpPr/>
            <p:nvPr/>
          </p:nvSpPr>
          <p:spPr>
            <a:xfrm>
              <a:off x="3233520" y="533520"/>
              <a:ext cx="1252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888720" y="403848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18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89120" y="41148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21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793840" y="59436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24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533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дите: х, у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981080" y="1219320"/>
                <a:ext cx="150336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687600" y="358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6690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54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3720" y="3505320"/>
            <a:ext cx="744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9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17120" y="3429000"/>
            <a:ext cx="116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10,5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526760" y="4952880"/>
            <a:ext cx="91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12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885480" y="2909880"/>
            <a:ext cx="4724280" cy="3048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80160" y="2757600"/>
            <a:ext cx="3429000" cy="220968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54080" y="4267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9720" y="1676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583440" y="4281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580240" y="525780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422320" y="17524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517200" y="533412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320" y="76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Блиц-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2280" y="609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а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143000" y="533520"/>
            <a:ext cx="3342960" cy="579600"/>
            <a:chOff x="1143000" y="533520"/>
            <a:chExt cx="3342960" cy="579600"/>
          </a:xfrm>
        </p:grpSpPr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1143000" y="53352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1" name=""/>
            <p:cNvSpPr/>
            <p:nvPr/>
          </p:nvSpPr>
          <p:spPr>
            <a:xfrm>
              <a:off x="1450080" y="53352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205800">
              <a:off x="2434680" y="684000"/>
              <a:ext cx="460440" cy="230400"/>
            </a:xfrm>
            <a:custGeom>
              <a:avLst/>
              <a:gdLst/>
              <a:ahLst/>
              <a:rect l="l" t="t" r="r" b="b"/>
              <a:pathLst>
                <a:path w="540" h="205">
                  <a:moveTo>
                    <a:pt x="203" y="138"/>
                  </a:moveTo>
                  <a:cubicBezTo>
                    <a:pt x="196" y="145"/>
                    <a:pt x="182" y="171"/>
                    <a:pt x="160" y="181"/>
                  </a:cubicBezTo>
                  <a:cubicBezTo>
                    <a:pt x="139" y="191"/>
                    <a:pt x="98" y="205"/>
                    <a:pt x="73" y="199"/>
                  </a:cubicBezTo>
                  <a:cubicBezTo>
                    <a:pt x="48" y="194"/>
                    <a:pt x="21" y="170"/>
                    <a:pt x="11" y="148"/>
                  </a:cubicBezTo>
                  <a:cubicBezTo>
                    <a:pt x="0" y="126"/>
                    <a:pt x="1" y="86"/>
                    <a:pt x="11" y="66"/>
                  </a:cubicBezTo>
                  <a:cubicBezTo>
                    <a:pt x="20" y="45"/>
                    <a:pt x="43" y="31"/>
                    <a:pt x="68" y="26"/>
                  </a:cubicBezTo>
                  <a:cubicBezTo>
                    <a:pt x="93" y="22"/>
                    <a:pt x="124" y="24"/>
                    <a:pt x="160" y="39"/>
                  </a:cubicBezTo>
                  <a:cubicBezTo>
                    <a:pt x="197" y="53"/>
                    <a:pt x="249" y="88"/>
                    <a:pt x="285" y="110"/>
                  </a:cubicBezTo>
                  <a:cubicBezTo>
                    <a:pt x="322" y="133"/>
                    <a:pt x="345" y="162"/>
                    <a:pt x="378" y="172"/>
                  </a:cubicBezTo>
                  <a:cubicBezTo>
                    <a:pt x="411" y="182"/>
                    <a:pt x="459" y="177"/>
                    <a:pt x="485" y="167"/>
                  </a:cubicBezTo>
                  <a:cubicBezTo>
                    <a:pt x="511" y="158"/>
                    <a:pt x="530" y="136"/>
                    <a:pt x="535" y="113"/>
                  </a:cubicBezTo>
                  <a:cubicBezTo>
                    <a:pt x="540" y="90"/>
                    <a:pt x="534" y="49"/>
                    <a:pt x="517" y="31"/>
                  </a:cubicBezTo>
                  <a:cubicBezTo>
                    <a:pt x="500" y="13"/>
                    <a:pt x="461" y="0"/>
                    <a:pt x="433" y="3"/>
                  </a:cubicBezTo>
                  <a:cubicBezTo>
                    <a:pt x="405" y="6"/>
                    <a:pt x="366" y="40"/>
                    <a:pt x="348" y="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2895480" y="53352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4" name=""/>
            <p:cNvSpPr/>
            <p:nvPr/>
          </p:nvSpPr>
          <p:spPr>
            <a:xfrm>
              <a:off x="3233520" y="533520"/>
              <a:ext cx="1252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3888720" y="34290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18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669400" y="2895480"/>
            <a:ext cx="7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7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7080" y="2895480"/>
            <a:ext cx="7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6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105520" y="533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дите: х, 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335268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9804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13160" y="3352680"/>
            <a:ext cx="91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21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70160" y="5410080"/>
            <a:ext cx="91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24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885480" y="2286000"/>
            <a:ext cx="4724280" cy="3048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80160" y="2133720"/>
            <a:ext cx="3429000" cy="220968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55000" y="4343400"/>
            <a:ext cx="7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8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11280" y="3505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821320" y="114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973960" y="4876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708680" y="601992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32000" y="99072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79320" y="44956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6320" y="76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Блиц-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52280" y="609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а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143000" y="533520"/>
            <a:ext cx="3342960" cy="579600"/>
            <a:chOff x="1143000" y="533520"/>
            <a:chExt cx="3342960" cy="579600"/>
          </a:xfrm>
        </p:grpSpPr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1143000" y="53352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6" name=""/>
            <p:cNvSpPr/>
            <p:nvPr/>
          </p:nvSpPr>
          <p:spPr>
            <a:xfrm>
              <a:off x="1450080" y="53352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205800">
              <a:off x="2434680" y="684000"/>
              <a:ext cx="460440" cy="230400"/>
            </a:xfrm>
            <a:custGeom>
              <a:avLst/>
              <a:gdLst/>
              <a:ahLst/>
              <a:rect l="l" t="t" r="r" b="b"/>
              <a:pathLst>
                <a:path w="540" h="205">
                  <a:moveTo>
                    <a:pt x="203" y="138"/>
                  </a:moveTo>
                  <a:cubicBezTo>
                    <a:pt x="196" y="145"/>
                    <a:pt x="182" y="171"/>
                    <a:pt x="160" y="181"/>
                  </a:cubicBezTo>
                  <a:cubicBezTo>
                    <a:pt x="139" y="191"/>
                    <a:pt x="98" y="205"/>
                    <a:pt x="73" y="199"/>
                  </a:cubicBezTo>
                  <a:cubicBezTo>
                    <a:pt x="48" y="194"/>
                    <a:pt x="21" y="170"/>
                    <a:pt x="11" y="148"/>
                  </a:cubicBezTo>
                  <a:cubicBezTo>
                    <a:pt x="0" y="126"/>
                    <a:pt x="1" y="86"/>
                    <a:pt x="11" y="66"/>
                  </a:cubicBezTo>
                  <a:cubicBezTo>
                    <a:pt x="20" y="45"/>
                    <a:pt x="43" y="31"/>
                    <a:pt x="68" y="26"/>
                  </a:cubicBezTo>
                  <a:cubicBezTo>
                    <a:pt x="93" y="22"/>
                    <a:pt x="124" y="24"/>
                    <a:pt x="160" y="39"/>
                  </a:cubicBezTo>
                  <a:cubicBezTo>
                    <a:pt x="197" y="53"/>
                    <a:pt x="249" y="88"/>
                    <a:pt x="285" y="110"/>
                  </a:cubicBezTo>
                  <a:cubicBezTo>
                    <a:pt x="322" y="133"/>
                    <a:pt x="345" y="162"/>
                    <a:pt x="378" y="172"/>
                  </a:cubicBezTo>
                  <a:cubicBezTo>
                    <a:pt x="411" y="182"/>
                    <a:pt x="459" y="177"/>
                    <a:pt x="485" y="167"/>
                  </a:cubicBezTo>
                  <a:cubicBezTo>
                    <a:pt x="511" y="158"/>
                    <a:pt x="530" y="136"/>
                    <a:pt x="535" y="113"/>
                  </a:cubicBezTo>
                  <a:cubicBezTo>
                    <a:pt x="540" y="90"/>
                    <a:pt x="534" y="49"/>
                    <a:pt x="517" y="31"/>
                  </a:cubicBezTo>
                  <a:cubicBezTo>
                    <a:pt x="500" y="13"/>
                    <a:pt x="461" y="0"/>
                    <a:pt x="433" y="3"/>
                  </a:cubicBezTo>
                  <a:cubicBezTo>
                    <a:pt x="405" y="6"/>
                    <a:pt x="366" y="40"/>
                    <a:pt x="348" y="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2895480" y="53352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9" name=""/>
            <p:cNvSpPr/>
            <p:nvPr/>
          </p:nvSpPr>
          <p:spPr>
            <a:xfrm>
              <a:off x="3233520" y="533520"/>
              <a:ext cx="1252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412960" y="518148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16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774920" y="35053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14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50080" y="4191120"/>
            <a:ext cx="7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8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105520" y="533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дите: х, 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2480" y="220968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35484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202560" y="3124080"/>
            <a:ext cx="744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7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42880" y="2209680"/>
            <a:ext cx="919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6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rot="16200000">
            <a:off x="3885120" y="2286000"/>
            <a:ext cx="4724280" cy="3048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 rot="16200000">
            <a:off x="380880" y="2133360"/>
            <a:ext cx="3429000" cy="220968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12960" y="25909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12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611280" y="4495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2720" y="1752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02560" y="50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013600" y="5867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717600" y="121932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31600" y="502920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6320" y="76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Блиц-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52280" y="609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а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143000" y="533520"/>
            <a:ext cx="3342960" cy="579600"/>
            <a:chOff x="1143000" y="533520"/>
            <a:chExt cx="3342960" cy="579600"/>
          </a:xfrm>
        </p:grpSpPr>
        <mc:AlternateContent>
          <mc:Choice xmlns:a14="http://schemas.microsoft.com/office/drawing/2010/main" Requires="a14">
            <p:sp>
              <p:nvSpPr>
                <p:cNvPr id="450" name=""/>
                <p:cNvSpPr txBox="1"/>
                <p:nvPr/>
              </p:nvSpPr>
              <p:spPr>
                <a:xfrm>
                  <a:off x="1143000" y="53352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1" name=""/>
            <p:cNvSpPr/>
            <p:nvPr/>
          </p:nvSpPr>
          <p:spPr>
            <a:xfrm>
              <a:off x="1450080" y="53352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205800">
              <a:off x="2434680" y="684000"/>
              <a:ext cx="460440" cy="230400"/>
            </a:xfrm>
            <a:custGeom>
              <a:avLst/>
              <a:gdLst/>
              <a:ahLst/>
              <a:rect l="l" t="t" r="r" b="b"/>
              <a:pathLst>
                <a:path w="540" h="205">
                  <a:moveTo>
                    <a:pt x="203" y="138"/>
                  </a:moveTo>
                  <a:cubicBezTo>
                    <a:pt x="196" y="145"/>
                    <a:pt x="182" y="171"/>
                    <a:pt x="160" y="181"/>
                  </a:cubicBezTo>
                  <a:cubicBezTo>
                    <a:pt x="139" y="191"/>
                    <a:pt x="98" y="205"/>
                    <a:pt x="73" y="199"/>
                  </a:cubicBezTo>
                  <a:cubicBezTo>
                    <a:pt x="48" y="194"/>
                    <a:pt x="21" y="170"/>
                    <a:pt x="11" y="148"/>
                  </a:cubicBezTo>
                  <a:cubicBezTo>
                    <a:pt x="0" y="126"/>
                    <a:pt x="1" y="86"/>
                    <a:pt x="11" y="66"/>
                  </a:cubicBezTo>
                  <a:cubicBezTo>
                    <a:pt x="20" y="45"/>
                    <a:pt x="43" y="31"/>
                    <a:pt x="68" y="26"/>
                  </a:cubicBezTo>
                  <a:cubicBezTo>
                    <a:pt x="93" y="22"/>
                    <a:pt x="124" y="24"/>
                    <a:pt x="160" y="39"/>
                  </a:cubicBezTo>
                  <a:cubicBezTo>
                    <a:pt x="197" y="53"/>
                    <a:pt x="249" y="88"/>
                    <a:pt x="285" y="110"/>
                  </a:cubicBezTo>
                  <a:cubicBezTo>
                    <a:pt x="322" y="133"/>
                    <a:pt x="345" y="162"/>
                    <a:pt x="378" y="172"/>
                  </a:cubicBezTo>
                  <a:cubicBezTo>
                    <a:pt x="411" y="182"/>
                    <a:pt x="459" y="177"/>
                    <a:pt x="485" y="167"/>
                  </a:cubicBezTo>
                  <a:cubicBezTo>
                    <a:pt x="511" y="158"/>
                    <a:pt x="530" y="136"/>
                    <a:pt x="535" y="113"/>
                  </a:cubicBezTo>
                  <a:cubicBezTo>
                    <a:pt x="540" y="90"/>
                    <a:pt x="534" y="49"/>
                    <a:pt x="517" y="31"/>
                  </a:cubicBezTo>
                  <a:cubicBezTo>
                    <a:pt x="500" y="13"/>
                    <a:pt x="461" y="0"/>
                    <a:pt x="433" y="3"/>
                  </a:cubicBezTo>
                  <a:cubicBezTo>
                    <a:pt x="405" y="6"/>
                    <a:pt x="366" y="40"/>
                    <a:pt x="348" y="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3" name=""/>
                <p:cNvSpPr txBox="1"/>
                <p:nvPr/>
              </p:nvSpPr>
              <p:spPr>
                <a:xfrm>
                  <a:off x="2895480" y="53352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4" name=""/>
            <p:cNvSpPr/>
            <p:nvPr/>
          </p:nvSpPr>
          <p:spPr>
            <a:xfrm>
              <a:off x="3233520" y="533520"/>
              <a:ext cx="1252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4955760" y="312408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12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46320" y="3276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14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916560" y="2971800"/>
            <a:ext cx="7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6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029200" y="533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дите: х, 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95480" y="312408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326640" y="5486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21680" y="3200400"/>
            <a:ext cx="744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7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5562720"/>
            <a:ext cx="91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16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rot="14989800">
            <a:off x="3732480" y="2590560"/>
            <a:ext cx="4724640" cy="3048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 rot="15042600">
            <a:off x="151560" y="2743200"/>
            <a:ext cx="3429000" cy="22093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602360" y="4800600"/>
            <a:ext cx="7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8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№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547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Отношение периметров дв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подобных треуг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равно коэффициенту подоб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4724280" y="90360"/>
            <a:ext cx="4327560" cy="1115640"/>
            <a:chOff x="4724280" y="90360"/>
            <a:chExt cx="4327560" cy="1115640"/>
          </a:xfrm>
        </p:grpSpPr>
        <p:sp>
          <p:nvSpPr>
            <p:cNvPr id="468" name=""/>
            <p:cNvSpPr/>
            <p:nvPr/>
          </p:nvSpPr>
          <p:spPr>
            <a:xfrm>
              <a:off x="4724280" y="380880"/>
              <a:ext cx="432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эффициент подоб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5638680" y="90360"/>
              <a:ext cx="3342960" cy="579600"/>
              <a:chOff x="5638680" y="90360"/>
              <a:chExt cx="3342960" cy="579600"/>
            </a:xfrm>
          </p:grpSpPr>
          <mc:AlternateContent>
            <mc:Choice xmlns:a14="http://schemas.microsoft.com/office/drawing/2010/main" Requires="a14">
              <p:sp>
                <p:nvSpPr>
                  <p:cNvPr id="470" name=""/>
                  <p:cNvSpPr txBox="1"/>
                  <p:nvPr/>
                </p:nvSpPr>
                <p:spPr>
                  <a:xfrm>
                    <a:off x="5638680" y="9036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1" name=""/>
              <p:cNvSpPr/>
              <p:nvPr/>
            </p:nvSpPr>
            <p:spPr>
              <a:xfrm>
                <a:off x="5945760" y="90360"/>
                <a:ext cx="90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205800">
                <a:off x="6930360" y="240840"/>
                <a:ext cx="460440" cy="2304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73" name=""/>
                  <p:cNvSpPr txBox="1"/>
                  <p:nvPr/>
                </p:nvSpPr>
                <p:spPr>
                  <a:xfrm>
                    <a:off x="7391160" y="9036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4" name=""/>
              <p:cNvSpPr/>
              <p:nvPr/>
            </p:nvSpPr>
            <p:spPr>
              <a:xfrm>
                <a:off x="7729200" y="90360"/>
                <a:ext cx="1252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4724280" y="152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н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5257800" y="1066680"/>
            <a:ext cx="3693600" cy="1332000"/>
            <a:chOff x="5257800" y="1066680"/>
            <a:chExt cx="3693600" cy="1332000"/>
          </a:xfrm>
        </p:grpSpPr>
        <p:sp>
          <p:nvSpPr>
            <p:cNvPr id="477" name=""/>
            <p:cNvSpPr/>
            <p:nvPr/>
          </p:nvSpPr>
          <p:spPr>
            <a:xfrm>
              <a:off x="5257800" y="1447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казать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8" name=""/>
                <p:cNvSpPr txBox="1"/>
                <p:nvPr/>
              </p:nvSpPr>
              <p:spPr>
                <a:xfrm>
                  <a:off x="6989400" y="1066680"/>
                  <a:ext cx="1962000" cy="13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Р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Р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152280" y="1828800"/>
                <a:ext cx="150336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152280" y="4419720"/>
                <a:ext cx="15368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52280" y="3124080"/>
                <a:ext cx="153684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2514600" y="2057400"/>
                <a:ext cx="2138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438280" y="3276720"/>
                <a:ext cx="22050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2514600" y="4648320"/>
                <a:ext cx="2171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438280" y="3657600"/>
                <a:ext cx="534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1983240" y="259092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514600" y="4267080"/>
                <a:ext cx="484344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514600" y="4876920"/>
                <a:ext cx="26384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89" name=""/>
          <p:cNvGrpSpPr/>
          <p:nvPr/>
        </p:nvGrpSpPr>
        <p:grpSpPr>
          <a:xfrm>
            <a:off x="5168880" y="4876920"/>
            <a:ext cx="1442880" cy="635040"/>
            <a:chOff x="5168880" y="4876920"/>
            <a:chExt cx="1442880" cy="635040"/>
          </a:xfrm>
        </p:grpSpPr>
        <p:sp>
          <p:nvSpPr>
            <p:cNvPr id="490" name=""/>
            <p:cNvSpPr/>
            <p:nvPr/>
          </p:nvSpPr>
          <p:spPr>
            <a:xfrm>
              <a:off x="5168880" y="4876920"/>
              <a:ext cx="330120" cy="635040"/>
            </a:xfrm>
            <a:custGeom>
              <a:avLst/>
              <a:gdLst/>
              <a:ahLst/>
              <a:rect l="l" t="t" r="r" b="b"/>
              <a:pathLst>
                <a:path w="208" h="400">
                  <a:moveTo>
                    <a:pt x="208" y="0"/>
                  </a:moveTo>
                  <a:lnTo>
                    <a:pt x="0" y="40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5410080" y="4876920"/>
                  <a:ext cx="120168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sSub>
                        <m:e>
                          <m:r>
                            <m:t xml:space="preserve">Р</m:t>
                          </m:r>
                        </m:e>
                        <m:sub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362320" y="5410080"/>
                <a:ext cx="182880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2438280" y="3733920"/>
            <a:ext cx="2590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2.96296E-006 L 6.11111E-006 -0.1 E">
                                      <p:cBhvr>
                                        <p:cTn id="736" dur="1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7407E-006 L -0.00209 -0.23032 E">
                                      <p:cBhvr>
                                        <p:cTn id="738" dur="1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6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3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54080" y="4267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49720" y="1676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583440" y="4281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580240" y="525780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422320" y="17524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517200" y="533412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76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Блиц-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52280" y="609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а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143000" y="533520"/>
            <a:ext cx="3342960" cy="579600"/>
            <a:chOff x="1143000" y="533520"/>
            <a:chExt cx="3342960" cy="579600"/>
          </a:xfrm>
        </p:grpSpPr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1143000" y="53352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4" name=""/>
            <p:cNvSpPr/>
            <p:nvPr/>
          </p:nvSpPr>
          <p:spPr>
            <a:xfrm>
              <a:off x="1450080" y="53352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205800">
              <a:off x="2434680" y="684000"/>
              <a:ext cx="460440" cy="230400"/>
            </a:xfrm>
            <a:custGeom>
              <a:avLst/>
              <a:gdLst/>
              <a:ahLst/>
              <a:rect l="l" t="t" r="r" b="b"/>
              <a:pathLst>
                <a:path w="540" h="205">
                  <a:moveTo>
                    <a:pt x="203" y="138"/>
                  </a:moveTo>
                  <a:cubicBezTo>
                    <a:pt x="196" y="145"/>
                    <a:pt x="182" y="171"/>
                    <a:pt x="160" y="181"/>
                  </a:cubicBezTo>
                  <a:cubicBezTo>
                    <a:pt x="139" y="191"/>
                    <a:pt x="98" y="205"/>
                    <a:pt x="73" y="199"/>
                  </a:cubicBezTo>
                  <a:cubicBezTo>
                    <a:pt x="48" y="194"/>
                    <a:pt x="21" y="170"/>
                    <a:pt x="11" y="148"/>
                  </a:cubicBezTo>
                  <a:cubicBezTo>
                    <a:pt x="0" y="126"/>
                    <a:pt x="1" y="86"/>
                    <a:pt x="11" y="66"/>
                  </a:cubicBezTo>
                  <a:cubicBezTo>
                    <a:pt x="20" y="45"/>
                    <a:pt x="43" y="31"/>
                    <a:pt x="68" y="26"/>
                  </a:cubicBezTo>
                  <a:cubicBezTo>
                    <a:pt x="93" y="22"/>
                    <a:pt x="124" y="24"/>
                    <a:pt x="160" y="39"/>
                  </a:cubicBezTo>
                  <a:cubicBezTo>
                    <a:pt x="197" y="53"/>
                    <a:pt x="249" y="88"/>
                    <a:pt x="285" y="110"/>
                  </a:cubicBezTo>
                  <a:cubicBezTo>
                    <a:pt x="322" y="133"/>
                    <a:pt x="345" y="162"/>
                    <a:pt x="378" y="172"/>
                  </a:cubicBezTo>
                  <a:cubicBezTo>
                    <a:pt x="411" y="182"/>
                    <a:pt x="459" y="177"/>
                    <a:pt x="485" y="167"/>
                  </a:cubicBezTo>
                  <a:cubicBezTo>
                    <a:pt x="511" y="158"/>
                    <a:pt x="530" y="136"/>
                    <a:pt x="535" y="113"/>
                  </a:cubicBezTo>
                  <a:cubicBezTo>
                    <a:pt x="540" y="90"/>
                    <a:pt x="534" y="49"/>
                    <a:pt x="517" y="31"/>
                  </a:cubicBezTo>
                  <a:cubicBezTo>
                    <a:pt x="500" y="13"/>
                    <a:pt x="461" y="0"/>
                    <a:pt x="433" y="3"/>
                  </a:cubicBezTo>
                  <a:cubicBezTo>
                    <a:pt x="405" y="6"/>
                    <a:pt x="366" y="40"/>
                    <a:pt x="348" y="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6" name=""/>
                <p:cNvSpPr txBox="1"/>
                <p:nvPr/>
              </p:nvSpPr>
              <p:spPr>
                <a:xfrm>
                  <a:off x="2895480" y="53352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7" name=""/>
            <p:cNvSpPr/>
            <p:nvPr/>
          </p:nvSpPr>
          <p:spPr>
            <a:xfrm>
              <a:off x="3233520" y="533520"/>
              <a:ext cx="1252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2669400" y="2895480"/>
            <a:ext cx="7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7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07080" y="2895480"/>
            <a:ext cx="7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6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981080" y="1143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дите: х, 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z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43400" y="342900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9768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93840" y="5410080"/>
            <a:ext cx="91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40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380160" y="2133720"/>
            <a:ext cx="3429000" cy="220968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55000" y="4343400"/>
            <a:ext cx="7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8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5410080" y="457200"/>
                <a:ext cx="2590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7" name=""/>
          <p:cNvSpPr/>
          <p:nvPr/>
        </p:nvSpPr>
        <p:spPr>
          <a:xfrm>
            <a:off x="7010280" y="335268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838080" y="3352680"/>
                <a:ext cx="21337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762120" y="5181480"/>
                <a:ext cx="192564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"/>
          <p:cNvSpPr/>
          <p:nvPr/>
        </p:nvSpPr>
        <p:spPr>
          <a:xfrm>
            <a:off x="3888720" y="3505320"/>
            <a:ext cx="91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30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936840" y="3352680"/>
            <a:ext cx="91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35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885480" y="2286000"/>
            <a:ext cx="4724280" cy="3048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 flipV="1">
            <a:off x="3581280" y="3123360"/>
            <a:ext cx="4724640" cy="3048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8120" y="2514600"/>
            <a:ext cx="3866040" cy="2973240"/>
            <a:chOff x="78120" y="2514600"/>
            <a:chExt cx="3866040" cy="2973240"/>
          </a:xfrm>
        </p:grpSpPr>
        <p:sp>
          <p:nvSpPr>
            <p:cNvPr id="525" name=""/>
            <p:cNvSpPr/>
            <p:nvPr/>
          </p:nvSpPr>
          <p:spPr>
            <a:xfrm>
              <a:off x="304920" y="2819520"/>
              <a:ext cx="3429000" cy="220968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8120" y="49528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59560" y="25146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07480" y="4967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354840" y="2590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21720" y="2590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74360" y="609588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2280" y="763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оказ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114800" y="914400"/>
                <a:ext cx="5349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770360" y="941400"/>
                <a:ext cx="90324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761080" y="941400"/>
                <a:ext cx="9018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6808680" y="124632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1752480" y="0"/>
            <a:ext cx="3009600" cy="520560"/>
            <a:chOff x="1752480" y="0"/>
            <a:chExt cx="3009600" cy="520560"/>
          </a:xfrm>
        </p:grpSpPr>
        <mc:AlternateContent>
          <mc:Choice xmlns:a14="http://schemas.microsoft.com/office/drawing/2010/main" Requires="a14">
            <p:sp>
              <p:nvSpPr>
                <p:cNvPr id="538" name=""/>
                <p:cNvSpPr txBox="1"/>
                <p:nvPr/>
              </p:nvSpPr>
              <p:spPr>
                <a:xfrm>
                  <a:off x="1752480" y="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9" name=""/>
            <p:cNvSpPr/>
            <p:nvPr/>
          </p:nvSpPr>
          <p:spPr>
            <a:xfrm>
              <a:off x="2059560" y="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5800">
              <a:off x="3044160" y="150480"/>
              <a:ext cx="460440" cy="230400"/>
            </a:xfrm>
            <a:custGeom>
              <a:avLst/>
              <a:gdLst/>
              <a:ahLst/>
              <a:rect l="l" t="t" r="r" b="b"/>
              <a:pathLst>
                <a:path w="540" h="205">
                  <a:moveTo>
                    <a:pt x="203" y="138"/>
                  </a:moveTo>
                  <a:cubicBezTo>
                    <a:pt x="196" y="145"/>
                    <a:pt x="182" y="171"/>
                    <a:pt x="160" y="181"/>
                  </a:cubicBezTo>
                  <a:cubicBezTo>
                    <a:pt x="139" y="191"/>
                    <a:pt x="98" y="205"/>
                    <a:pt x="73" y="199"/>
                  </a:cubicBezTo>
                  <a:cubicBezTo>
                    <a:pt x="48" y="194"/>
                    <a:pt x="21" y="170"/>
                    <a:pt x="11" y="148"/>
                  </a:cubicBezTo>
                  <a:cubicBezTo>
                    <a:pt x="0" y="126"/>
                    <a:pt x="1" y="86"/>
                    <a:pt x="11" y="66"/>
                  </a:cubicBezTo>
                  <a:cubicBezTo>
                    <a:pt x="20" y="45"/>
                    <a:pt x="43" y="31"/>
                    <a:pt x="68" y="26"/>
                  </a:cubicBezTo>
                  <a:cubicBezTo>
                    <a:pt x="93" y="22"/>
                    <a:pt x="124" y="24"/>
                    <a:pt x="160" y="39"/>
                  </a:cubicBezTo>
                  <a:cubicBezTo>
                    <a:pt x="197" y="53"/>
                    <a:pt x="249" y="88"/>
                    <a:pt x="285" y="110"/>
                  </a:cubicBezTo>
                  <a:cubicBezTo>
                    <a:pt x="322" y="133"/>
                    <a:pt x="345" y="162"/>
                    <a:pt x="378" y="172"/>
                  </a:cubicBezTo>
                  <a:cubicBezTo>
                    <a:pt x="411" y="182"/>
                    <a:pt x="459" y="177"/>
                    <a:pt x="485" y="167"/>
                  </a:cubicBezTo>
                  <a:cubicBezTo>
                    <a:pt x="511" y="158"/>
                    <a:pt x="530" y="136"/>
                    <a:pt x="535" y="113"/>
                  </a:cubicBezTo>
                  <a:cubicBezTo>
                    <a:pt x="540" y="90"/>
                    <a:pt x="534" y="49"/>
                    <a:pt x="517" y="31"/>
                  </a:cubicBezTo>
                  <a:cubicBezTo>
                    <a:pt x="500" y="13"/>
                    <a:pt x="461" y="0"/>
                    <a:pt x="433" y="3"/>
                  </a:cubicBezTo>
                  <a:cubicBezTo>
                    <a:pt x="405" y="6"/>
                    <a:pt x="366" y="40"/>
                    <a:pt x="348" y="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1" name=""/>
                <p:cNvSpPr txBox="1"/>
                <p:nvPr/>
              </p:nvSpPr>
              <p:spPr>
                <a:xfrm>
                  <a:off x="3504960" y="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2" name=""/>
            <p:cNvSpPr/>
            <p:nvPr/>
          </p:nvSpPr>
          <p:spPr>
            <a:xfrm>
              <a:off x="3813120" y="0"/>
              <a:ext cx="94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M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3125880" y="3657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068480" y="350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830600" y="5029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50120" y="45720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421760" y="4343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381880" y="266688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257520" y="548640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81</a:t>
            </a:r>
            <a:r>
              <a:rPr b="1" lang="en-US" sz="2400" spc="-1" strike="noStrike" baseline="30000">
                <a:solidFill>
                  <a:srgbClr val="660066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552800" y="31240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60</a:t>
            </a:r>
            <a:r>
              <a:rPr b="1" lang="en-US" sz="2400" spc="-1" strike="noStrike" baseline="30000">
                <a:solidFill>
                  <a:srgbClr val="660066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142720" y="30481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81</a:t>
            </a:r>
            <a:r>
              <a:rPr b="1" lang="en-US" sz="2400" spc="-1" strike="noStrike" baseline="30000">
                <a:solidFill>
                  <a:srgbClr val="660066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895200" y="31240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39</a:t>
            </a:r>
            <a:r>
              <a:rPr b="1" lang="en-US" sz="2400" spc="-1" strike="noStrike" baseline="30000">
                <a:solidFill>
                  <a:srgbClr val="ff00ff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152280" y="609480"/>
                <a:ext cx="18288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28600" y="1219320"/>
                <a:ext cx="1725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228600" y="1828800"/>
                <a:ext cx="1758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542520" y="46483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39</a:t>
            </a:r>
            <a:r>
              <a:rPr b="1" lang="en-US" sz="2400" spc="-1" strike="noStrike" baseline="30000">
                <a:solidFill>
                  <a:srgbClr val="660066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030120" y="46483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Arial"/>
                <a:ea typeface="Arial"/>
              </a:rPr>
              <a:t>60</a:t>
            </a:r>
            <a:r>
              <a:rPr b="1" lang="en-US" sz="2400" spc="-1" strike="noStrike" baseline="30000">
                <a:solidFill>
                  <a:srgbClr val="00cc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 rot="1828800">
            <a:off x="1447560" y="3809520"/>
            <a:ext cx="1800000" cy="9763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 rot="19786800">
            <a:off x="5866920" y="3505320"/>
            <a:ext cx="1800360" cy="97632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 flipH="1" rot="19771200">
            <a:off x="837720" y="3886200"/>
            <a:ext cx="1800360" cy="9763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 flipH="1" rot="1267200">
            <a:off x="4266720" y="3276360"/>
            <a:ext cx="1800360" cy="9763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5"/>
          <a:stretch/>
        </p:blipFill>
        <p:spPr>
          <a:xfrm rot="17080800">
            <a:off x="1340280" y="3764160"/>
            <a:ext cx="1800360" cy="9763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6"/>
          <a:stretch/>
        </p:blipFill>
        <p:spPr>
          <a:xfrm flipH="1" rot="15319200">
            <a:off x="5455440" y="4296960"/>
            <a:ext cx="1800360" cy="9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9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6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1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8.51852E-006 L -0.075 0.05555 E">
                                      <p:cBhvr>
                                        <p:cTn id="900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3000"/>
                            </p:stCondLst>
                            <p:childTnLst>
                              <p:par>
                                <p:cTn id="9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6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9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1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96296E-006 L 0.04167 -0.02222 E">
                                      <p:cBhvr>
                                        <p:cTn id="933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59259E-006 L 0.16823 0.0956 E">
                                      <p:cBhvr>
                                        <p:cTn id="935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000"/>
                            </p:stCondLst>
                            <p:childTnLst>
                              <p:par>
                                <p:cTn id="937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9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2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4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11111E-006 L -0.00833 -0.1 E">
                                      <p:cBhvr>
                                        <p:cTn id="968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3000"/>
                            </p:stCondLst>
                            <p:childTnLst>
                              <p:par>
                                <p:cTn id="970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4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0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7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295280"/>
            <a:ext cx="8915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резки АВ и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опорциональны отрезкам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304920"/>
            <a:ext cx="46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Пропорциональные отре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12952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848720" y="12952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048120"/>
            <a:ext cx="609480" cy="1440"/>
          </a:xfrm>
          <a:custGeom>
            <a:avLst/>
            <a:gdLst/>
            <a:ahLst/>
            <a:rect l="l" t="t" r="r" b="b"/>
            <a:pathLst>
              <a:path w="384" h="1">
                <a:moveTo>
                  <a:pt x="0" y="0"/>
                </a:moveTo>
                <a:lnTo>
                  <a:pt x="38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3048120"/>
            <a:ext cx="609480" cy="1440"/>
          </a:xfrm>
          <a:custGeom>
            <a:avLst/>
            <a:gdLst/>
            <a:ahLst/>
            <a:rect l="l" t="t" r="r" b="b"/>
            <a:pathLst>
              <a:path w="384" h="1">
                <a:moveTo>
                  <a:pt x="0" y="0"/>
                </a:moveTo>
                <a:lnTo>
                  <a:pt x="38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4267080"/>
            <a:ext cx="891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резки АВ и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опорциональны отрезкам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3962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24680" y="3962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5715000"/>
            <a:ext cx="457200" cy="1440"/>
          </a:xfrm>
          <a:custGeom>
            <a:avLst/>
            <a:gdLst/>
            <a:ahLst/>
            <a:rect l="l" t="t" r="r" b="b"/>
            <a:pathLst>
              <a:path w="288" h="1">
                <a:moveTo>
                  <a:pt x="0" y="0"/>
                </a:moveTo>
                <a:lnTo>
                  <a:pt x="28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5715000"/>
            <a:ext cx="609840" cy="1440"/>
          </a:xfrm>
          <a:custGeom>
            <a:avLst/>
            <a:gdLst/>
            <a:ahLst/>
            <a:rect l="l" t="t" r="r" b="b"/>
            <a:pathLst>
              <a:path w="384" h="1">
                <a:moveTo>
                  <a:pt x="0" y="0"/>
                </a:moveTo>
                <a:lnTo>
                  <a:pt x="38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78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167 0.17778 E">
                                      <p:cBhvr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0.27916 0.17778 E">
                                      <p:cBhvr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-0.35 0.26667 E">
                                      <p:cBhvr>
                                        <p:cTn id="33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25 0.26667 E">
                                      <p:cBhvr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167 0.17778 E">
                                      <p:cBhvr>
                                        <p:cTn id="85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29584 0.17777 E">
                                      <p:cBhvr>
                                        <p:cTn id="87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34166 0.26666 E">
                                      <p:cBhvr>
                                        <p:cTn id="89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25 0.26667 E">
                                      <p:cBhvr>
                                        <p:cTn id="91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2209680"/>
            <a:ext cx="89154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рез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,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опорциональны отрезкам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858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нятие пропорциональности вводится и для большего числа отрез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971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971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29718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29718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4267080"/>
            <a:ext cx="609840" cy="1800"/>
          </a:xfrm>
          <a:custGeom>
            <a:avLst/>
            <a:gdLst/>
            <a:ahLst/>
            <a:rect l="l" t="t" r="r" b="b"/>
            <a:pathLst>
              <a:path w="384" h="1">
                <a:moveTo>
                  <a:pt x="0" y="0"/>
                </a:moveTo>
                <a:lnTo>
                  <a:pt x="38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4267080"/>
            <a:ext cx="609840" cy="1800"/>
          </a:xfrm>
          <a:custGeom>
            <a:avLst/>
            <a:gdLst/>
            <a:ahLst/>
            <a:rect l="l" t="t" r="r" b="b"/>
            <a:pathLst>
              <a:path w="384" h="1">
                <a:moveTo>
                  <a:pt x="0" y="0"/>
                </a:moveTo>
                <a:lnTo>
                  <a:pt x="38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4267080"/>
            <a:ext cx="609480" cy="1800"/>
          </a:xfrm>
          <a:custGeom>
            <a:avLst/>
            <a:gdLst/>
            <a:ahLst/>
            <a:rect l="l" t="t" r="r" b="b"/>
            <a:pathLst>
              <a:path w="384" h="1">
                <a:moveTo>
                  <a:pt x="0" y="0"/>
                </a:moveTo>
                <a:lnTo>
                  <a:pt x="38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2971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24680" y="29718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100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3889E-018 -3.33333E-006 L 0.2375 0.11111 E">
                                      <p:cBhvr>
                                        <p:cTn id="131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30417 0.11111 E">
                                      <p:cBhvr>
                                        <p:cTn id="133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40834 0.2 E">
                                      <p:cBhvr>
                                        <p:cTn id="135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375 0.2 E">
                                      <p:cBhvr>
                                        <p:cTn id="137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3.33333E-006 L 0.34583 0.11111 E">
                                      <p:cBhvr>
                                        <p:cTn id="139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-0.34583 0.2 E">
                                      <p:cBhvr>
                                        <p:cTn id="141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2286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 геометрии фигуры одинаковой формы принято называть подоб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4400" y="533520"/>
            <a:ext cx="7695000" cy="4347000"/>
            <a:chOff x="914400" y="533520"/>
            <a:chExt cx="7695000" cy="4347000"/>
          </a:xfrm>
        </p:grpSpPr>
        <p:grpSp>
          <p:nvGrpSpPr>
            <p:cNvPr id="110" name=""/>
            <p:cNvGrpSpPr/>
            <p:nvPr/>
          </p:nvGrpSpPr>
          <p:grpSpPr>
            <a:xfrm>
              <a:off x="914400" y="1143000"/>
              <a:ext cx="1592280" cy="1528920"/>
              <a:chOff x="914400" y="1143000"/>
              <a:chExt cx="1592280" cy="1528920"/>
            </a:xfrm>
          </p:grpSpPr>
          <p:sp>
            <p:nvSpPr>
              <p:cNvPr id="111" name=""/>
              <p:cNvSpPr/>
              <p:nvPr/>
            </p:nvSpPr>
            <p:spPr>
              <a:xfrm>
                <a:off x="1647720" y="1241280"/>
                <a:ext cx="858960" cy="866880"/>
              </a:xfrm>
              <a:custGeom>
                <a:avLst/>
                <a:gdLst/>
                <a:ahLst/>
                <a:rect l="l" t="t" r="r" b="b"/>
                <a:pathLst>
                  <a:path w="1080" h="1092">
                    <a:moveTo>
                      <a:pt x="741" y="6"/>
                    </a:moveTo>
                    <a:lnTo>
                      <a:pt x="738" y="24"/>
                    </a:lnTo>
                    <a:lnTo>
                      <a:pt x="735" y="45"/>
                    </a:lnTo>
                    <a:lnTo>
                      <a:pt x="731" y="66"/>
                    </a:lnTo>
                    <a:lnTo>
                      <a:pt x="727" y="87"/>
                    </a:lnTo>
                    <a:lnTo>
                      <a:pt x="722" y="107"/>
                    </a:lnTo>
                    <a:lnTo>
                      <a:pt x="717" y="126"/>
                    </a:lnTo>
                    <a:lnTo>
                      <a:pt x="712" y="142"/>
                    </a:lnTo>
                    <a:lnTo>
                      <a:pt x="706" y="154"/>
                    </a:lnTo>
                    <a:lnTo>
                      <a:pt x="698" y="171"/>
                    </a:lnTo>
                    <a:lnTo>
                      <a:pt x="690" y="189"/>
                    </a:lnTo>
                    <a:lnTo>
                      <a:pt x="679" y="207"/>
                    </a:lnTo>
                    <a:lnTo>
                      <a:pt x="669" y="225"/>
                    </a:lnTo>
                    <a:lnTo>
                      <a:pt x="656" y="239"/>
                    </a:lnTo>
                    <a:lnTo>
                      <a:pt x="644" y="249"/>
                    </a:lnTo>
                    <a:lnTo>
                      <a:pt x="630" y="254"/>
                    </a:lnTo>
                    <a:lnTo>
                      <a:pt x="615" y="251"/>
                    </a:lnTo>
                    <a:lnTo>
                      <a:pt x="597" y="241"/>
                    </a:lnTo>
                    <a:lnTo>
                      <a:pt x="582" y="227"/>
                    </a:lnTo>
                    <a:lnTo>
                      <a:pt x="568" y="211"/>
                    </a:lnTo>
                    <a:lnTo>
                      <a:pt x="556" y="194"/>
                    </a:lnTo>
                    <a:lnTo>
                      <a:pt x="546" y="174"/>
                    </a:lnTo>
                    <a:lnTo>
                      <a:pt x="534" y="156"/>
                    </a:lnTo>
                    <a:lnTo>
                      <a:pt x="524" y="136"/>
                    </a:lnTo>
                    <a:lnTo>
                      <a:pt x="512" y="118"/>
                    </a:lnTo>
                    <a:lnTo>
                      <a:pt x="509" y="130"/>
                    </a:lnTo>
                    <a:lnTo>
                      <a:pt x="502" y="148"/>
                    </a:lnTo>
                    <a:lnTo>
                      <a:pt x="493" y="169"/>
                    </a:lnTo>
                    <a:lnTo>
                      <a:pt x="483" y="194"/>
                    </a:lnTo>
                    <a:lnTo>
                      <a:pt x="471" y="217"/>
                    </a:lnTo>
                    <a:lnTo>
                      <a:pt x="459" y="237"/>
                    </a:lnTo>
                    <a:lnTo>
                      <a:pt x="448" y="254"/>
                    </a:lnTo>
                    <a:lnTo>
                      <a:pt x="438" y="264"/>
                    </a:lnTo>
                    <a:lnTo>
                      <a:pt x="423" y="272"/>
                    </a:lnTo>
                    <a:lnTo>
                      <a:pt x="408" y="279"/>
                    </a:lnTo>
                    <a:lnTo>
                      <a:pt x="393" y="283"/>
                    </a:lnTo>
                    <a:lnTo>
                      <a:pt x="378" y="287"/>
                    </a:lnTo>
                    <a:lnTo>
                      <a:pt x="363" y="288"/>
                    </a:lnTo>
                    <a:lnTo>
                      <a:pt x="348" y="288"/>
                    </a:lnTo>
                    <a:lnTo>
                      <a:pt x="334" y="287"/>
                    </a:lnTo>
                    <a:lnTo>
                      <a:pt x="320" y="283"/>
                    </a:lnTo>
                    <a:lnTo>
                      <a:pt x="305" y="278"/>
                    </a:lnTo>
                    <a:lnTo>
                      <a:pt x="291" y="272"/>
                    </a:lnTo>
                    <a:lnTo>
                      <a:pt x="278" y="264"/>
                    </a:lnTo>
                    <a:lnTo>
                      <a:pt x="264" y="255"/>
                    </a:lnTo>
                    <a:lnTo>
                      <a:pt x="250" y="243"/>
                    </a:lnTo>
                    <a:lnTo>
                      <a:pt x="236" y="232"/>
                    </a:lnTo>
                    <a:lnTo>
                      <a:pt x="223" y="218"/>
                    </a:lnTo>
                    <a:lnTo>
                      <a:pt x="210" y="203"/>
                    </a:lnTo>
                    <a:lnTo>
                      <a:pt x="200" y="221"/>
                    </a:lnTo>
                    <a:lnTo>
                      <a:pt x="187" y="243"/>
                    </a:lnTo>
                    <a:lnTo>
                      <a:pt x="170" y="265"/>
                    </a:lnTo>
                    <a:lnTo>
                      <a:pt x="153" y="288"/>
                    </a:lnTo>
                    <a:lnTo>
                      <a:pt x="136" y="308"/>
                    </a:lnTo>
                    <a:lnTo>
                      <a:pt x="122" y="325"/>
                    </a:lnTo>
                    <a:lnTo>
                      <a:pt x="112" y="335"/>
                    </a:lnTo>
                    <a:lnTo>
                      <a:pt x="108" y="340"/>
                    </a:lnTo>
                    <a:lnTo>
                      <a:pt x="100" y="348"/>
                    </a:lnTo>
                    <a:lnTo>
                      <a:pt x="91" y="357"/>
                    </a:lnTo>
                    <a:lnTo>
                      <a:pt x="83" y="365"/>
                    </a:lnTo>
                    <a:lnTo>
                      <a:pt x="78" y="370"/>
                    </a:lnTo>
                    <a:lnTo>
                      <a:pt x="101" y="388"/>
                    </a:lnTo>
                    <a:lnTo>
                      <a:pt x="123" y="408"/>
                    </a:lnTo>
                    <a:lnTo>
                      <a:pt x="144" y="431"/>
                    </a:lnTo>
                    <a:lnTo>
                      <a:pt x="162" y="456"/>
                    </a:lnTo>
                    <a:lnTo>
                      <a:pt x="178" y="484"/>
                    </a:lnTo>
                    <a:lnTo>
                      <a:pt x="191" y="513"/>
                    </a:lnTo>
                    <a:lnTo>
                      <a:pt x="200" y="544"/>
                    </a:lnTo>
                    <a:lnTo>
                      <a:pt x="206" y="577"/>
                    </a:lnTo>
                    <a:lnTo>
                      <a:pt x="220" y="559"/>
                    </a:lnTo>
                    <a:lnTo>
                      <a:pt x="235" y="543"/>
                    </a:lnTo>
                    <a:lnTo>
                      <a:pt x="251" y="528"/>
                    </a:lnTo>
                    <a:lnTo>
                      <a:pt x="268" y="517"/>
                    </a:lnTo>
                    <a:lnTo>
                      <a:pt x="286" y="512"/>
                    </a:lnTo>
                    <a:lnTo>
                      <a:pt x="303" y="509"/>
                    </a:lnTo>
                    <a:lnTo>
                      <a:pt x="320" y="514"/>
                    </a:lnTo>
                    <a:lnTo>
                      <a:pt x="337" y="525"/>
                    </a:lnTo>
                    <a:lnTo>
                      <a:pt x="349" y="538"/>
                    </a:lnTo>
                    <a:lnTo>
                      <a:pt x="359" y="552"/>
                    </a:lnTo>
                    <a:lnTo>
                      <a:pt x="367" y="568"/>
                    </a:lnTo>
                    <a:lnTo>
                      <a:pt x="374" y="585"/>
                    </a:lnTo>
                    <a:lnTo>
                      <a:pt x="379" y="604"/>
                    </a:lnTo>
                    <a:lnTo>
                      <a:pt x="380" y="622"/>
                    </a:lnTo>
                    <a:lnTo>
                      <a:pt x="380" y="642"/>
                    </a:lnTo>
                    <a:lnTo>
                      <a:pt x="378" y="662"/>
                    </a:lnTo>
                    <a:lnTo>
                      <a:pt x="372" y="684"/>
                    </a:lnTo>
                    <a:lnTo>
                      <a:pt x="363" y="710"/>
                    </a:lnTo>
                    <a:lnTo>
                      <a:pt x="350" y="736"/>
                    </a:lnTo>
                    <a:lnTo>
                      <a:pt x="337" y="763"/>
                    </a:lnTo>
                    <a:lnTo>
                      <a:pt x="324" y="786"/>
                    </a:lnTo>
                    <a:lnTo>
                      <a:pt x="313" y="806"/>
                    </a:lnTo>
                    <a:lnTo>
                      <a:pt x="304" y="820"/>
                    </a:lnTo>
                    <a:lnTo>
                      <a:pt x="301" y="826"/>
                    </a:lnTo>
                    <a:lnTo>
                      <a:pt x="318" y="837"/>
                    </a:lnTo>
                    <a:lnTo>
                      <a:pt x="333" y="852"/>
                    </a:lnTo>
                    <a:lnTo>
                      <a:pt x="347" y="871"/>
                    </a:lnTo>
                    <a:lnTo>
                      <a:pt x="359" y="890"/>
                    </a:lnTo>
                    <a:lnTo>
                      <a:pt x="368" y="911"/>
                    </a:lnTo>
                    <a:lnTo>
                      <a:pt x="377" y="934"/>
                    </a:lnTo>
                    <a:lnTo>
                      <a:pt x="382" y="957"/>
                    </a:lnTo>
                    <a:lnTo>
                      <a:pt x="385" y="981"/>
                    </a:lnTo>
                    <a:lnTo>
                      <a:pt x="385" y="981"/>
                    </a:lnTo>
                    <a:lnTo>
                      <a:pt x="385" y="980"/>
                    </a:lnTo>
                    <a:lnTo>
                      <a:pt x="385" y="980"/>
                    </a:lnTo>
                    <a:lnTo>
                      <a:pt x="386" y="980"/>
                    </a:lnTo>
                    <a:lnTo>
                      <a:pt x="404" y="966"/>
                    </a:lnTo>
                    <a:lnTo>
                      <a:pt x="424" y="954"/>
                    </a:lnTo>
                    <a:lnTo>
                      <a:pt x="445" y="946"/>
                    </a:lnTo>
                    <a:lnTo>
                      <a:pt x="466" y="939"/>
                    </a:lnTo>
                    <a:lnTo>
                      <a:pt x="488" y="937"/>
                    </a:lnTo>
                    <a:lnTo>
                      <a:pt x="510" y="937"/>
                    </a:lnTo>
                    <a:lnTo>
                      <a:pt x="531" y="940"/>
                    </a:lnTo>
                    <a:lnTo>
                      <a:pt x="550" y="947"/>
                    </a:lnTo>
                    <a:lnTo>
                      <a:pt x="553" y="939"/>
                    </a:lnTo>
                    <a:lnTo>
                      <a:pt x="556" y="923"/>
                    </a:lnTo>
                    <a:lnTo>
                      <a:pt x="563" y="901"/>
                    </a:lnTo>
                    <a:lnTo>
                      <a:pt x="571" y="874"/>
                    </a:lnTo>
                    <a:lnTo>
                      <a:pt x="580" y="846"/>
                    </a:lnTo>
                    <a:lnTo>
                      <a:pt x="592" y="819"/>
                    </a:lnTo>
                    <a:lnTo>
                      <a:pt x="602" y="794"/>
                    </a:lnTo>
                    <a:lnTo>
                      <a:pt x="614" y="775"/>
                    </a:lnTo>
                    <a:lnTo>
                      <a:pt x="625" y="760"/>
                    </a:lnTo>
                    <a:lnTo>
                      <a:pt x="639" y="748"/>
                    </a:lnTo>
                    <a:lnTo>
                      <a:pt x="654" y="737"/>
                    </a:lnTo>
                    <a:lnTo>
                      <a:pt x="669" y="729"/>
                    </a:lnTo>
                    <a:lnTo>
                      <a:pt x="685" y="723"/>
                    </a:lnTo>
                    <a:lnTo>
                      <a:pt x="703" y="720"/>
                    </a:lnTo>
                    <a:lnTo>
                      <a:pt x="719" y="719"/>
                    </a:lnTo>
                    <a:lnTo>
                      <a:pt x="735" y="721"/>
                    </a:lnTo>
                    <a:lnTo>
                      <a:pt x="753" y="728"/>
                    </a:lnTo>
                    <a:lnTo>
                      <a:pt x="767" y="740"/>
                    </a:lnTo>
                    <a:lnTo>
                      <a:pt x="777" y="755"/>
                    </a:lnTo>
                    <a:lnTo>
                      <a:pt x="784" y="773"/>
                    </a:lnTo>
                    <a:lnTo>
                      <a:pt x="788" y="794"/>
                    </a:lnTo>
                    <a:lnTo>
                      <a:pt x="789" y="817"/>
                    </a:lnTo>
                    <a:lnTo>
                      <a:pt x="788" y="840"/>
                    </a:lnTo>
                    <a:lnTo>
                      <a:pt x="784" y="863"/>
                    </a:lnTo>
                    <a:lnTo>
                      <a:pt x="797" y="854"/>
                    </a:lnTo>
                    <a:lnTo>
                      <a:pt x="808" y="844"/>
                    </a:lnTo>
                    <a:lnTo>
                      <a:pt x="821" y="837"/>
                    </a:lnTo>
                    <a:lnTo>
                      <a:pt x="833" y="831"/>
                    </a:lnTo>
                    <a:lnTo>
                      <a:pt x="844" y="825"/>
                    </a:lnTo>
                    <a:lnTo>
                      <a:pt x="856" y="819"/>
                    </a:lnTo>
                    <a:lnTo>
                      <a:pt x="867" y="816"/>
                    </a:lnTo>
                    <a:lnTo>
                      <a:pt x="880" y="813"/>
                    </a:lnTo>
                    <a:lnTo>
                      <a:pt x="893" y="812"/>
                    </a:lnTo>
                    <a:lnTo>
                      <a:pt x="906" y="811"/>
                    </a:lnTo>
                    <a:lnTo>
                      <a:pt x="921" y="812"/>
                    </a:lnTo>
                    <a:lnTo>
                      <a:pt x="936" y="814"/>
                    </a:lnTo>
                    <a:lnTo>
                      <a:pt x="952" y="818"/>
                    </a:lnTo>
                    <a:lnTo>
                      <a:pt x="971" y="823"/>
                    </a:lnTo>
                    <a:lnTo>
                      <a:pt x="989" y="828"/>
                    </a:lnTo>
                    <a:lnTo>
                      <a:pt x="1010" y="835"/>
                    </a:lnTo>
                    <a:lnTo>
                      <a:pt x="1008" y="828"/>
                    </a:lnTo>
                    <a:lnTo>
                      <a:pt x="1004" y="814"/>
                    </a:lnTo>
                    <a:lnTo>
                      <a:pt x="1001" y="799"/>
                    </a:lnTo>
                    <a:lnTo>
                      <a:pt x="999" y="788"/>
                    </a:lnTo>
                    <a:lnTo>
                      <a:pt x="1000" y="783"/>
                    </a:lnTo>
                    <a:lnTo>
                      <a:pt x="1002" y="772"/>
                    </a:lnTo>
                    <a:lnTo>
                      <a:pt x="1007" y="756"/>
                    </a:lnTo>
                    <a:lnTo>
                      <a:pt x="1011" y="734"/>
                    </a:lnTo>
                    <a:lnTo>
                      <a:pt x="1017" y="712"/>
                    </a:lnTo>
                    <a:lnTo>
                      <a:pt x="1024" y="689"/>
                    </a:lnTo>
                    <a:lnTo>
                      <a:pt x="1032" y="667"/>
                    </a:lnTo>
                    <a:lnTo>
                      <a:pt x="1039" y="650"/>
                    </a:lnTo>
                    <a:lnTo>
                      <a:pt x="1025" y="643"/>
                    </a:lnTo>
                    <a:lnTo>
                      <a:pt x="1011" y="636"/>
                    </a:lnTo>
                    <a:lnTo>
                      <a:pt x="996" y="628"/>
                    </a:lnTo>
                    <a:lnTo>
                      <a:pt x="981" y="620"/>
                    </a:lnTo>
                    <a:lnTo>
                      <a:pt x="966" y="611"/>
                    </a:lnTo>
                    <a:lnTo>
                      <a:pt x="952" y="603"/>
                    </a:lnTo>
                    <a:lnTo>
                      <a:pt x="937" y="592"/>
                    </a:lnTo>
                    <a:lnTo>
                      <a:pt x="924" y="582"/>
                    </a:lnTo>
                    <a:lnTo>
                      <a:pt x="911" y="570"/>
                    </a:lnTo>
                    <a:lnTo>
                      <a:pt x="898" y="559"/>
                    </a:lnTo>
                    <a:lnTo>
                      <a:pt x="887" y="546"/>
                    </a:lnTo>
                    <a:lnTo>
                      <a:pt x="876" y="532"/>
                    </a:lnTo>
                    <a:lnTo>
                      <a:pt x="867" y="517"/>
                    </a:lnTo>
                    <a:lnTo>
                      <a:pt x="859" y="501"/>
                    </a:lnTo>
                    <a:lnTo>
                      <a:pt x="853" y="485"/>
                    </a:lnTo>
                    <a:lnTo>
                      <a:pt x="849" y="467"/>
                    </a:lnTo>
                    <a:lnTo>
                      <a:pt x="849" y="452"/>
                    </a:lnTo>
                    <a:lnTo>
                      <a:pt x="852" y="431"/>
                    </a:lnTo>
                    <a:lnTo>
                      <a:pt x="859" y="408"/>
                    </a:lnTo>
                    <a:lnTo>
                      <a:pt x="868" y="383"/>
                    </a:lnTo>
                    <a:lnTo>
                      <a:pt x="878" y="358"/>
                    </a:lnTo>
                    <a:lnTo>
                      <a:pt x="887" y="336"/>
                    </a:lnTo>
                    <a:lnTo>
                      <a:pt x="895" y="319"/>
                    </a:lnTo>
                    <a:lnTo>
                      <a:pt x="902" y="309"/>
                    </a:lnTo>
                    <a:lnTo>
                      <a:pt x="891" y="310"/>
                    </a:lnTo>
                    <a:lnTo>
                      <a:pt x="881" y="311"/>
                    </a:lnTo>
                    <a:lnTo>
                      <a:pt x="870" y="312"/>
                    </a:lnTo>
                    <a:lnTo>
                      <a:pt x="858" y="315"/>
                    </a:lnTo>
                    <a:lnTo>
                      <a:pt x="847" y="316"/>
                    </a:lnTo>
                    <a:lnTo>
                      <a:pt x="835" y="318"/>
                    </a:lnTo>
                    <a:lnTo>
                      <a:pt x="822" y="318"/>
                    </a:lnTo>
                    <a:lnTo>
                      <a:pt x="810" y="319"/>
                    </a:lnTo>
                    <a:lnTo>
                      <a:pt x="797" y="318"/>
                    </a:lnTo>
                    <a:lnTo>
                      <a:pt x="783" y="317"/>
                    </a:lnTo>
                    <a:lnTo>
                      <a:pt x="770" y="313"/>
                    </a:lnTo>
                    <a:lnTo>
                      <a:pt x="757" y="309"/>
                    </a:lnTo>
                    <a:lnTo>
                      <a:pt x="743" y="303"/>
                    </a:lnTo>
                    <a:lnTo>
                      <a:pt x="729" y="296"/>
                    </a:lnTo>
                    <a:lnTo>
                      <a:pt x="714" y="286"/>
                    </a:lnTo>
                    <a:lnTo>
                      <a:pt x="700" y="274"/>
                    </a:lnTo>
                    <a:lnTo>
                      <a:pt x="741" y="237"/>
                    </a:lnTo>
                    <a:lnTo>
                      <a:pt x="752" y="252"/>
                    </a:lnTo>
                    <a:lnTo>
                      <a:pt x="766" y="264"/>
                    </a:lnTo>
                    <a:lnTo>
                      <a:pt x="782" y="273"/>
                    </a:lnTo>
                    <a:lnTo>
                      <a:pt x="799" y="279"/>
                    </a:lnTo>
                    <a:lnTo>
                      <a:pt x="818" y="282"/>
                    </a:lnTo>
                    <a:lnTo>
                      <a:pt x="838" y="283"/>
                    </a:lnTo>
                    <a:lnTo>
                      <a:pt x="859" y="282"/>
                    </a:lnTo>
                    <a:lnTo>
                      <a:pt x="880" y="281"/>
                    </a:lnTo>
                    <a:lnTo>
                      <a:pt x="902" y="279"/>
                    </a:lnTo>
                    <a:lnTo>
                      <a:pt x="923" y="277"/>
                    </a:lnTo>
                    <a:lnTo>
                      <a:pt x="943" y="273"/>
                    </a:lnTo>
                    <a:lnTo>
                      <a:pt x="963" y="271"/>
                    </a:lnTo>
                    <a:lnTo>
                      <a:pt x="981" y="269"/>
                    </a:lnTo>
                    <a:lnTo>
                      <a:pt x="997" y="267"/>
                    </a:lnTo>
                    <a:lnTo>
                      <a:pt x="1012" y="269"/>
                    </a:lnTo>
                    <a:lnTo>
                      <a:pt x="1025" y="271"/>
                    </a:lnTo>
                    <a:lnTo>
                      <a:pt x="1008" y="281"/>
                    </a:lnTo>
                    <a:lnTo>
                      <a:pt x="988" y="293"/>
                    </a:lnTo>
                    <a:lnTo>
                      <a:pt x="966" y="307"/>
                    </a:lnTo>
                    <a:lnTo>
                      <a:pt x="946" y="324"/>
                    </a:lnTo>
                    <a:lnTo>
                      <a:pt x="926" y="343"/>
                    </a:lnTo>
                    <a:lnTo>
                      <a:pt x="909" y="366"/>
                    </a:lnTo>
                    <a:lnTo>
                      <a:pt x="896" y="393"/>
                    </a:lnTo>
                    <a:lnTo>
                      <a:pt x="887" y="423"/>
                    </a:lnTo>
                    <a:lnTo>
                      <a:pt x="887" y="455"/>
                    </a:lnTo>
                    <a:lnTo>
                      <a:pt x="890" y="483"/>
                    </a:lnTo>
                    <a:lnTo>
                      <a:pt x="898" y="505"/>
                    </a:lnTo>
                    <a:lnTo>
                      <a:pt x="910" y="520"/>
                    </a:lnTo>
                    <a:lnTo>
                      <a:pt x="929" y="535"/>
                    </a:lnTo>
                    <a:lnTo>
                      <a:pt x="949" y="548"/>
                    </a:lnTo>
                    <a:lnTo>
                      <a:pt x="970" y="561"/>
                    </a:lnTo>
                    <a:lnTo>
                      <a:pt x="992" y="573"/>
                    </a:lnTo>
                    <a:lnTo>
                      <a:pt x="1012" y="582"/>
                    </a:lnTo>
                    <a:lnTo>
                      <a:pt x="1035" y="591"/>
                    </a:lnTo>
                    <a:lnTo>
                      <a:pt x="1057" y="599"/>
                    </a:lnTo>
                    <a:lnTo>
                      <a:pt x="1080" y="606"/>
                    </a:lnTo>
                    <a:lnTo>
                      <a:pt x="1061" y="647"/>
                    </a:lnTo>
                    <a:lnTo>
                      <a:pt x="1047" y="690"/>
                    </a:lnTo>
                    <a:lnTo>
                      <a:pt x="1037" y="732"/>
                    </a:lnTo>
                    <a:lnTo>
                      <a:pt x="1032" y="772"/>
                    </a:lnTo>
                    <a:lnTo>
                      <a:pt x="1028" y="808"/>
                    </a:lnTo>
                    <a:lnTo>
                      <a:pt x="1027" y="839"/>
                    </a:lnTo>
                    <a:lnTo>
                      <a:pt x="1027" y="862"/>
                    </a:lnTo>
                    <a:lnTo>
                      <a:pt x="1027" y="876"/>
                    </a:lnTo>
                    <a:lnTo>
                      <a:pt x="1012" y="870"/>
                    </a:lnTo>
                    <a:lnTo>
                      <a:pt x="997" y="865"/>
                    </a:lnTo>
                    <a:lnTo>
                      <a:pt x="981" y="861"/>
                    </a:lnTo>
                    <a:lnTo>
                      <a:pt x="965" y="857"/>
                    </a:lnTo>
                    <a:lnTo>
                      <a:pt x="948" y="855"/>
                    </a:lnTo>
                    <a:lnTo>
                      <a:pt x="932" y="854"/>
                    </a:lnTo>
                    <a:lnTo>
                      <a:pt x="914" y="854"/>
                    </a:lnTo>
                    <a:lnTo>
                      <a:pt x="897" y="855"/>
                    </a:lnTo>
                    <a:lnTo>
                      <a:pt x="881" y="856"/>
                    </a:lnTo>
                    <a:lnTo>
                      <a:pt x="864" y="859"/>
                    </a:lnTo>
                    <a:lnTo>
                      <a:pt x="848" y="864"/>
                    </a:lnTo>
                    <a:lnTo>
                      <a:pt x="830" y="870"/>
                    </a:lnTo>
                    <a:lnTo>
                      <a:pt x="814" y="877"/>
                    </a:lnTo>
                    <a:lnTo>
                      <a:pt x="799" y="886"/>
                    </a:lnTo>
                    <a:lnTo>
                      <a:pt x="784" y="896"/>
                    </a:lnTo>
                    <a:lnTo>
                      <a:pt x="769" y="908"/>
                    </a:lnTo>
                    <a:lnTo>
                      <a:pt x="768" y="900"/>
                    </a:lnTo>
                    <a:lnTo>
                      <a:pt x="766" y="884"/>
                    </a:lnTo>
                    <a:lnTo>
                      <a:pt x="762" y="862"/>
                    </a:lnTo>
                    <a:lnTo>
                      <a:pt x="757" y="837"/>
                    </a:lnTo>
                    <a:lnTo>
                      <a:pt x="750" y="813"/>
                    </a:lnTo>
                    <a:lnTo>
                      <a:pt x="742" y="791"/>
                    </a:lnTo>
                    <a:lnTo>
                      <a:pt x="734" y="775"/>
                    </a:lnTo>
                    <a:lnTo>
                      <a:pt x="723" y="768"/>
                    </a:lnTo>
                    <a:lnTo>
                      <a:pt x="681" y="772"/>
                    </a:lnTo>
                    <a:lnTo>
                      <a:pt x="646" y="795"/>
                    </a:lnTo>
                    <a:lnTo>
                      <a:pt x="620" y="832"/>
                    </a:lnTo>
                    <a:lnTo>
                      <a:pt x="599" y="876"/>
                    </a:lnTo>
                    <a:lnTo>
                      <a:pt x="585" y="922"/>
                    </a:lnTo>
                    <a:lnTo>
                      <a:pt x="577" y="964"/>
                    </a:lnTo>
                    <a:lnTo>
                      <a:pt x="574" y="996"/>
                    </a:lnTo>
                    <a:lnTo>
                      <a:pt x="574" y="1013"/>
                    </a:lnTo>
                    <a:lnTo>
                      <a:pt x="555" y="993"/>
                    </a:lnTo>
                    <a:lnTo>
                      <a:pt x="536" y="980"/>
                    </a:lnTo>
                    <a:lnTo>
                      <a:pt x="515" y="973"/>
                    </a:lnTo>
                    <a:lnTo>
                      <a:pt x="495" y="972"/>
                    </a:lnTo>
                    <a:lnTo>
                      <a:pt x="476" y="976"/>
                    </a:lnTo>
                    <a:lnTo>
                      <a:pt x="456" y="983"/>
                    </a:lnTo>
                    <a:lnTo>
                      <a:pt x="436" y="993"/>
                    </a:lnTo>
                    <a:lnTo>
                      <a:pt x="419" y="1006"/>
                    </a:lnTo>
                    <a:lnTo>
                      <a:pt x="402" y="1019"/>
                    </a:lnTo>
                    <a:lnTo>
                      <a:pt x="387" y="1033"/>
                    </a:lnTo>
                    <a:lnTo>
                      <a:pt x="373" y="1048"/>
                    </a:lnTo>
                    <a:lnTo>
                      <a:pt x="362" y="1062"/>
                    </a:lnTo>
                    <a:lnTo>
                      <a:pt x="351" y="1074"/>
                    </a:lnTo>
                    <a:lnTo>
                      <a:pt x="344" y="1084"/>
                    </a:lnTo>
                    <a:lnTo>
                      <a:pt x="340" y="1090"/>
                    </a:lnTo>
                    <a:lnTo>
                      <a:pt x="339" y="1092"/>
                    </a:lnTo>
                    <a:lnTo>
                      <a:pt x="339" y="1025"/>
                    </a:lnTo>
                    <a:lnTo>
                      <a:pt x="332" y="972"/>
                    </a:lnTo>
                    <a:lnTo>
                      <a:pt x="319" y="932"/>
                    </a:lnTo>
                    <a:lnTo>
                      <a:pt x="304" y="901"/>
                    </a:lnTo>
                    <a:lnTo>
                      <a:pt x="287" y="879"/>
                    </a:lnTo>
                    <a:lnTo>
                      <a:pt x="268" y="863"/>
                    </a:lnTo>
                    <a:lnTo>
                      <a:pt x="250" y="851"/>
                    </a:lnTo>
                    <a:lnTo>
                      <a:pt x="235" y="842"/>
                    </a:lnTo>
                    <a:lnTo>
                      <a:pt x="246" y="833"/>
                    </a:lnTo>
                    <a:lnTo>
                      <a:pt x="267" y="812"/>
                    </a:lnTo>
                    <a:lnTo>
                      <a:pt x="291" y="780"/>
                    </a:lnTo>
                    <a:lnTo>
                      <a:pt x="314" y="742"/>
                    </a:lnTo>
                    <a:lnTo>
                      <a:pt x="333" y="699"/>
                    </a:lnTo>
                    <a:lnTo>
                      <a:pt x="341" y="656"/>
                    </a:lnTo>
                    <a:lnTo>
                      <a:pt x="334" y="613"/>
                    </a:lnTo>
                    <a:lnTo>
                      <a:pt x="307" y="574"/>
                    </a:lnTo>
                    <a:lnTo>
                      <a:pt x="296" y="569"/>
                    </a:lnTo>
                    <a:lnTo>
                      <a:pt x="280" y="571"/>
                    </a:lnTo>
                    <a:lnTo>
                      <a:pt x="260" y="578"/>
                    </a:lnTo>
                    <a:lnTo>
                      <a:pt x="239" y="588"/>
                    </a:lnTo>
                    <a:lnTo>
                      <a:pt x="219" y="598"/>
                    </a:lnTo>
                    <a:lnTo>
                      <a:pt x="201" y="608"/>
                    </a:lnTo>
                    <a:lnTo>
                      <a:pt x="189" y="615"/>
                    </a:lnTo>
                    <a:lnTo>
                      <a:pt x="183" y="620"/>
                    </a:lnTo>
                    <a:lnTo>
                      <a:pt x="177" y="581"/>
                    </a:lnTo>
                    <a:lnTo>
                      <a:pt x="162" y="544"/>
                    </a:lnTo>
                    <a:lnTo>
                      <a:pt x="143" y="509"/>
                    </a:lnTo>
                    <a:lnTo>
                      <a:pt x="117" y="478"/>
                    </a:lnTo>
                    <a:lnTo>
                      <a:pt x="89" y="450"/>
                    </a:lnTo>
                    <a:lnTo>
                      <a:pt x="59" y="426"/>
                    </a:lnTo>
                    <a:lnTo>
                      <a:pt x="29" y="404"/>
                    </a:lnTo>
                    <a:lnTo>
                      <a:pt x="0" y="386"/>
                    </a:lnTo>
                    <a:lnTo>
                      <a:pt x="9" y="381"/>
                    </a:lnTo>
                    <a:lnTo>
                      <a:pt x="19" y="373"/>
                    </a:lnTo>
                    <a:lnTo>
                      <a:pt x="31" y="365"/>
                    </a:lnTo>
                    <a:lnTo>
                      <a:pt x="45" y="354"/>
                    </a:lnTo>
                    <a:lnTo>
                      <a:pt x="60" y="341"/>
                    </a:lnTo>
                    <a:lnTo>
                      <a:pt x="76" y="327"/>
                    </a:lnTo>
                    <a:lnTo>
                      <a:pt x="92" y="311"/>
                    </a:lnTo>
                    <a:lnTo>
                      <a:pt x="108" y="294"/>
                    </a:lnTo>
                    <a:lnTo>
                      <a:pt x="124" y="275"/>
                    </a:lnTo>
                    <a:lnTo>
                      <a:pt x="140" y="257"/>
                    </a:lnTo>
                    <a:lnTo>
                      <a:pt x="157" y="236"/>
                    </a:lnTo>
                    <a:lnTo>
                      <a:pt x="170" y="216"/>
                    </a:lnTo>
                    <a:lnTo>
                      <a:pt x="183" y="194"/>
                    </a:lnTo>
                    <a:lnTo>
                      <a:pt x="195" y="172"/>
                    </a:lnTo>
                    <a:lnTo>
                      <a:pt x="205" y="150"/>
                    </a:lnTo>
                    <a:lnTo>
                      <a:pt x="212" y="127"/>
                    </a:lnTo>
                    <a:lnTo>
                      <a:pt x="229" y="153"/>
                    </a:lnTo>
                    <a:lnTo>
                      <a:pt x="245" y="176"/>
                    </a:lnTo>
                    <a:lnTo>
                      <a:pt x="263" y="195"/>
                    </a:lnTo>
                    <a:lnTo>
                      <a:pt x="280" y="211"/>
                    </a:lnTo>
                    <a:lnTo>
                      <a:pt x="298" y="224"/>
                    </a:lnTo>
                    <a:lnTo>
                      <a:pt x="318" y="233"/>
                    </a:lnTo>
                    <a:lnTo>
                      <a:pt x="340" y="241"/>
                    </a:lnTo>
                    <a:lnTo>
                      <a:pt x="362" y="247"/>
                    </a:lnTo>
                    <a:lnTo>
                      <a:pt x="371" y="248"/>
                    </a:lnTo>
                    <a:lnTo>
                      <a:pt x="380" y="247"/>
                    </a:lnTo>
                    <a:lnTo>
                      <a:pt x="389" y="244"/>
                    </a:lnTo>
                    <a:lnTo>
                      <a:pt x="400" y="240"/>
                    </a:lnTo>
                    <a:lnTo>
                      <a:pt x="410" y="234"/>
                    </a:lnTo>
                    <a:lnTo>
                      <a:pt x="421" y="226"/>
                    </a:lnTo>
                    <a:lnTo>
                      <a:pt x="432" y="216"/>
                    </a:lnTo>
                    <a:lnTo>
                      <a:pt x="443" y="204"/>
                    </a:lnTo>
                    <a:lnTo>
                      <a:pt x="456" y="159"/>
                    </a:lnTo>
                    <a:lnTo>
                      <a:pt x="458" y="107"/>
                    </a:lnTo>
                    <a:lnTo>
                      <a:pt x="454" y="55"/>
                    </a:lnTo>
                    <a:lnTo>
                      <a:pt x="447" y="11"/>
                    </a:lnTo>
                    <a:lnTo>
                      <a:pt x="477" y="24"/>
                    </a:lnTo>
                    <a:lnTo>
                      <a:pt x="502" y="42"/>
                    </a:lnTo>
                    <a:lnTo>
                      <a:pt x="524" y="61"/>
                    </a:lnTo>
                    <a:lnTo>
                      <a:pt x="542" y="83"/>
                    </a:lnTo>
                    <a:lnTo>
                      <a:pt x="559" y="106"/>
                    </a:lnTo>
                    <a:lnTo>
                      <a:pt x="572" y="129"/>
                    </a:lnTo>
                    <a:lnTo>
                      <a:pt x="585" y="152"/>
                    </a:lnTo>
                    <a:lnTo>
                      <a:pt x="595" y="173"/>
                    </a:lnTo>
                    <a:lnTo>
                      <a:pt x="602" y="188"/>
                    </a:lnTo>
                    <a:lnTo>
                      <a:pt x="610" y="202"/>
                    </a:lnTo>
                    <a:lnTo>
                      <a:pt x="617" y="212"/>
                    </a:lnTo>
                    <a:lnTo>
                      <a:pt x="623" y="220"/>
                    </a:lnTo>
                    <a:lnTo>
                      <a:pt x="630" y="226"/>
                    </a:lnTo>
                    <a:lnTo>
                      <a:pt x="638" y="228"/>
                    </a:lnTo>
                    <a:lnTo>
                      <a:pt x="646" y="226"/>
                    </a:lnTo>
                    <a:lnTo>
                      <a:pt x="654" y="220"/>
                    </a:lnTo>
                    <a:lnTo>
                      <a:pt x="656" y="216"/>
                    </a:lnTo>
                    <a:lnTo>
                      <a:pt x="661" y="204"/>
                    </a:lnTo>
                    <a:lnTo>
                      <a:pt x="668" y="188"/>
                    </a:lnTo>
                    <a:lnTo>
                      <a:pt x="677" y="166"/>
                    </a:lnTo>
                    <a:lnTo>
                      <a:pt x="685" y="143"/>
                    </a:lnTo>
                    <a:lnTo>
                      <a:pt x="693" y="119"/>
                    </a:lnTo>
                    <a:lnTo>
                      <a:pt x="700" y="95"/>
                    </a:lnTo>
                    <a:lnTo>
                      <a:pt x="704" y="74"/>
                    </a:lnTo>
                    <a:lnTo>
                      <a:pt x="704" y="57"/>
                    </a:lnTo>
                    <a:lnTo>
                      <a:pt x="704" y="36"/>
                    </a:lnTo>
                    <a:lnTo>
                      <a:pt x="704" y="16"/>
                    </a:lnTo>
                    <a:lnTo>
                      <a:pt x="703" y="0"/>
                    </a:lnTo>
                    <a:lnTo>
                      <a:pt x="741" y="6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81240" y="1143000"/>
                <a:ext cx="131760" cy="117360"/>
              </a:xfrm>
              <a:custGeom>
                <a:avLst/>
                <a:gdLst/>
                <a:ahLst/>
                <a:rect l="l" t="t" r="r" b="b"/>
                <a:pathLst>
                  <a:path w="166" h="148">
                    <a:moveTo>
                      <a:pt x="70" y="129"/>
                    </a:moveTo>
                    <a:lnTo>
                      <a:pt x="68" y="113"/>
                    </a:lnTo>
                    <a:lnTo>
                      <a:pt x="66" y="94"/>
                    </a:lnTo>
                    <a:lnTo>
                      <a:pt x="64" y="77"/>
                    </a:lnTo>
                    <a:lnTo>
                      <a:pt x="60" y="66"/>
                    </a:lnTo>
                    <a:lnTo>
                      <a:pt x="63" y="63"/>
                    </a:lnTo>
                    <a:lnTo>
                      <a:pt x="68" y="56"/>
                    </a:lnTo>
                    <a:lnTo>
                      <a:pt x="78" y="48"/>
                    </a:lnTo>
                    <a:lnTo>
                      <a:pt x="88" y="40"/>
                    </a:lnTo>
                    <a:lnTo>
                      <a:pt x="101" y="34"/>
                    </a:lnTo>
                    <a:lnTo>
                      <a:pt x="112" y="31"/>
                    </a:lnTo>
                    <a:lnTo>
                      <a:pt x="124" y="33"/>
                    </a:lnTo>
                    <a:lnTo>
                      <a:pt x="134" y="41"/>
                    </a:lnTo>
                    <a:lnTo>
                      <a:pt x="134" y="52"/>
                    </a:lnTo>
                    <a:lnTo>
                      <a:pt x="132" y="75"/>
                    </a:lnTo>
                    <a:lnTo>
                      <a:pt x="126" y="106"/>
                    </a:lnTo>
                    <a:lnTo>
                      <a:pt x="119" y="140"/>
                    </a:lnTo>
                    <a:lnTo>
                      <a:pt x="154" y="148"/>
                    </a:lnTo>
                    <a:lnTo>
                      <a:pt x="157" y="127"/>
                    </a:lnTo>
                    <a:lnTo>
                      <a:pt x="161" y="100"/>
                    </a:lnTo>
                    <a:lnTo>
                      <a:pt x="163" y="72"/>
                    </a:lnTo>
                    <a:lnTo>
                      <a:pt x="165" y="48"/>
                    </a:lnTo>
                    <a:lnTo>
                      <a:pt x="166" y="36"/>
                    </a:lnTo>
                    <a:lnTo>
                      <a:pt x="163" y="24"/>
                    </a:lnTo>
                    <a:lnTo>
                      <a:pt x="158" y="15"/>
                    </a:lnTo>
                    <a:lnTo>
                      <a:pt x="150" y="8"/>
                    </a:lnTo>
                    <a:lnTo>
                      <a:pt x="146" y="6"/>
                    </a:lnTo>
                    <a:lnTo>
                      <a:pt x="140" y="3"/>
                    </a:lnTo>
                    <a:lnTo>
                      <a:pt x="134" y="1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14" y="1"/>
                    </a:lnTo>
                    <a:lnTo>
                      <a:pt x="106" y="1"/>
                    </a:lnTo>
                    <a:lnTo>
                      <a:pt x="99" y="3"/>
                    </a:lnTo>
                    <a:lnTo>
                      <a:pt x="76" y="11"/>
                    </a:lnTo>
                    <a:lnTo>
                      <a:pt x="57" y="18"/>
                    </a:lnTo>
                    <a:lnTo>
                      <a:pt x="40" y="26"/>
                    </a:lnTo>
                    <a:lnTo>
                      <a:pt x="26" y="33"/>
                    </a:lnTo>
                    <a:lnTo>
                      <a:pt x="14" y="40"/>
                    </a:lnTo>
                    <a:lnTo>
                      <a:pt x="6" y="45"/>
                    </a:lnTo>
                    <a:lnTo>
                      <a:pt x="2" y="48"/>
                    </a:lnTo>
                    <a:lnTo>
                      <a:pt x="0" y="49"/>
                    </a:lnTo>
                    <a:lnTo>
                      <a:pt x="4" y="56"/>
                    </a:lnTo>
                    <a:lnTo>
                      <a:pt x="12" y="74"/>
                    </a:lnTo>
                    <a:lnTo>
                      <a:pt x="22" y="98"/>
                    </a:lnTo>
                    <a:lnTo>
                      <a:pt x="32" y="123"/>
                    </a:lnTo>
                    <a:lnTo>
                      <a:pt x="70" y="129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00320" y="1254240"/>
                <a:ext cx="103320" cy="185760"/>
              </a:xfrm>
              <a:custGeom>
                <a:avLst/>
                <a:gdLst/>
                <a:ahLst/>
                <a:rect l="l" t="t" r="r" b="b"/>
                <a:pathLst>
                  <a:path w="131" h="233">
                    <a:moveTo>
                      <a:pt x="131" y="8"/>
                    </a:moveTo>
                    <a:lnTo>
                      <a:pt x="113" y="58"/>
                    </a:lnTo>
                    <a:lnTo>
                      <a:pt x="93" y="103"/>
                    </a:lnTo>
                    <a:lnTo>
                      <a:pt x="71" y="141"/>
                    </a:lnTo>
                    <a:lnTo>
                      <a:pt x="50" y="173"/>
                    </a:lnTo>
                    <a:lnTo>
                      <a:pt x="30" y="199"/>
                    </a:lnTo>
                    <a:lnTo>
                      <a:pt x="15" y="218"/>
                    </a:lnTo>
                    <a:lnTo>
                      <a:pt x="4" y="230"/>
                    </a:lnTo>
                    <a:lnTo>
                      <a:pt x="0" y="233"/>
                    </a:lnTo>
                    <a:lnTo>
                      <a:pt x="18" y="202"/>
                    </a:lnTo>
                    <a:lnTo>
                      <a:pt x="33" y="170"/>
                    </a:lnTo>
                    <a:lnTo>
                      <a:pt x="48" y="139"/>
                    </a:lnTo>
                    <a:lnTo>
                      <a:pt x="60" y="108"/>
                    </a:lnTo>
                    <a:lnTo>
                      <a:pt x="71" y="78"/>
                    </a:lnTo>
                    <a:lnTo>
                      <a:pt x="81" y="49"/>
                    </a:lnTo>
                    <a:lnTo>
                      <a:pt x="89" y="23"/>
                    </a:lnTo>
                    <a:lnTo>
                      <a:pt x="96" y="0"/>
                    </a:lnTo>
                    <a:lnTo>
                      <a:pt x="131" y="8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963800" y="1471680"/>
                <a:ext cx="387360" cy="487440"/>
              </a:xfrm>
              <a:custGeom>
                <a:avLst/>
                <a:gdLst/>
                <a:ahLst/>
                <a:rect l="l" t="t" r="r" b="b"/>
                <a:pathLst>
                  <a:path w="488" h="615">
                    <a:moveTo>
                      <a:pt x="329" y="287"/>
                    </a:moveTo>
                    <a:lnTo>
                      <a:pt x="349" y="306"/>
                    </a:lnTo>
                    <a:lnTo>
                      <a:pt x="369" y="323"/>
                    </a:lnTo>
                    <a:lnTo>
                      <a:pt x="386" y="339"/>
                    </a:lnTo>
                    <a:lnTo>
                      <a:pt x="401" y="355"/>
                    </a:lnTo>
                    <a:lnTo>
                      <a:pt x="415" y="369"/>
                    </a:lnTo>
                    <a:lnTo>
                      <a:pt x="428" y="383"/>
                    </a:lnTo>
                    <a:lnTo>
                      <a:pt x="439" y="394"/>
                    </a:lnTo>
                    <a:lnTo>
                      <a:pt x="448" y="406"/>
                    </a:lnTo>
                    <a:lnTo>
                      <a:pt x="462" y="423"/>
                    </a:lnTo>
                    <a:lnTo>
                      <a:pt x="471" y="438"/>
                    </a:lnTo>
                    <a:lnTo>
                      <a:pt x="478" y="451"/>
                    </a:lnTo>
                    <a:lnTo>
                      <a:pt x="483" y="461"/>
                    </a:lnTo>
                    <a:lnTo>
                      <a:pt x="485" y="469"/>
                    </a:lnTo>
                    <a:lnTo>
                      <a:pt x="488" y="474"/>
                    </a:lnTo>
                    <a:lnTo>
                      <a:pt x="488" y="477"/>
                    </a:lnTo>
                    <a:lnTo>
                      <a:pt x="488" y="478"/>
                    </a:lnTo>
                    <a:lnTo>
                      <a:pt x="473" y="455"/>
                    </a:lnTo>
                    <a:lnTo>
                      <a:pt x="455" y="433"/>
                    </a:lnTo>
                    <a:lnTo>
                      <a:pt x="437" y="413"/>
                    </a:lnTo>
                    <a:lnTo>
                      <a:pt x="417" y="392"/>
                    </a:lnTo>
                    <a:lnTo>
                      <a:pt x="398" y="374"/>
                    </a:lnTo>
                    <a:lnTo>
                      <a:pt x="376" y="355"/>
                    </a:lnTo>
                    <a:lnTo>
                      <a:pt x="355" y="338"/>
                    </a:lnTo>
                    <a:lnTo>
                      <a:pt x="333" y="321"/>
                    </a:lnTo>
                    <a:lnTo>
                      <a:pt x="312" y="301"/>
                    </a:lnTo>
                    <a:lnTo>
                      <a:pt x="295" y="283"/>
                    </a:lnTo>
                    <a:lnTo>
                      <a:pt x="281" y="264"/>
                    </a:lnTo>
                    <a:lnTo>
                      <a:pt x="270" y="246"/>
                    </a:lnTo>
                    <a:lnTo>
                      <a:pt x="262" y="227"/>
                    </a:lnTo>
                    <a:lnTo>
                      <a:pt x="256" y="210"/>
                    </a:lnTo>
                    <a:lnTo>
                      <a:pt x="251" y="192"/>
                    </a:lnTo>
                    <a:lnTo>
                      <a:pt x="248" y="173"/>
                    </a:lnTo>
                    <a:lnTo>
                      <a:pt x="238" y="198"/>
                    </a:lnTo>
                    <a:lnTo>
                      <a:pt x="227" y="222"/>
                    </a:lnTo>
                    <a:lnTo>
                      <a:pt x="217" y="243"/>
                    </a:lnTo>
                    <a:lnTo>
                      <a:pt x="206" y="263"/>
                    </a:lnTo>
                    <a:lnTo>
                      <a:pt x="197" y="279"/>
                    </a:lnTo>
                    <a:lnTo>
                      <a:pt x="189" y="293"/>
                    </a:lnTo>
                    <a:lnTo>
                      <a:pt x="183" y="303"/>
                    </a:lnTo>
                    <a:lnTo>
                      <a:pt x="179" y="309"/>
                    </a:lnTo>
                    <a:lnTo>
                      <a:pt x="137" y="362"/>
                    </a:lnTo>
                    <a:lnTo>
                      <a:pt x="102" y="416"/>
                    </a:lnTo>
                    <a:lnTo>
                      <a:pt x="72" y="467"/>
                    </a:lnTo>
                    <a:lnTo>
                      <a:pt x="46" y="514"/>
                    </a:lnTo>
                    <a:lnTo>
                      <a:pt x="26" y="556"/>
                    </a:lnTo>
                    <a:lnTo>
                      <a:pt x="12" y="587"/>
                    </a:lnTo>
                    <a:lnTo>
                      <a:pt x="4" y="609"/>
                    </a:lnTo>
                    <a:lnTo>
                      <a:pt x="0" y="615"/>
                    </a:lnTo>
                    <a:lnTo>
                      <a:pt x="11" y="573"/>
                    </a:lnTo>
                    <a:lnTo>
                      <a:pt x="22" y="534"/>
                    </a:lnTo>
                    <a:lnTo>
                      <a:pt x="34" y="498"/>
                    </a:lnTo>
                    <a:lnTo>
                      <a:pt x="49" y="463"/>
                    </a:lnTo>
                    <a:lnTo>
                      <a:pt x="65" y="430"/>
                    </a:lnTo>
                    <a:lnTo>
                      <a:pt x="84" y="395"/>
                    </a:lnTo>
                    <a:lnTo>
                      <a:pt x="109" y="361"/>
                    </a:lnTo>
                    <a:lnTo>
                      <a:pt x="137" y="323"/>
                    </a:lnTo>
                    <a:lnTo>
                      <a:pt x="162" y="288"/>
                    </a:lnTo>
                    <a:lnTo>
                      <a:pt x="185" y="246"/>
                    </a:lnTo>
                    <a:lnTo>
                      <a:pt x="205" y="200"/>
                    </a:lnTo>
                    <a:lnTo>
                      <a:pt x="223" y="152"/>
                    </a:lnTo>
                    <a:lnTo>
                      <a:pt x="238" y="109"/>
                    </a:lnTo>
                    <a:lnTo>
                      <a:pt x="248" y="69"/>
                    </a:lnTo>
                    <a:lnTo>
                      <a:pt x="254" y="40"/>
                    </a:lnTo>
                    <a:lnTo>
                      <a:pt x="253" y="21"/>
                    </a:lnTo>
                    <a:lnTo>
                      <a:pt x="284" y="0"/>
                    </a:lnTo>
                    <a:lnTo>
                      <a:pt x="285" y="23"/>
                    </a:lnTo>
                    <a:lnTo>
                      <a:pt x="284" y="48"/>
                    </a:lnTo>
                    <a:lnTo>
                      <a:pt x="279" y="73"/>
                    </a:lnTo>
                    <a:lnTo>
                      <a:pt x="273" y="98"/>
                    </a:lnTo>
                    <a:lnTo>
                      <a:pt x="273" y="125"/>
                    </a:lnTo>
                    <a:lnTo>
                      <a:pt x="274" y="150"/>
                    </a:lnTo>
                    <a:lnTo>
                      <a:pt x="277" y="175"/>
                    </a:lnTo>
                    <a:lnTo>
                      <a:pt x="282" y="200"/>
                    </a:lnTo>
                    <a:lnTo>
                      <a:pt x="289" y="224"/>
                    </a:lnTo>
                    <a:lnTo>
                      <a:pt x="300" y="247"/>
                    </a:lnTo>
                    <a:lnTo>
                      <a:pt x="312" y="268"/>
                    </a:lnTo>
                    <a:lnTo>
                      <a:pt x="329" y="287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60400" y="1436760"/>
                <a:ext cx="371520" cy="158760"/>
              </a:xfrm>
              <a:custGeom>
                <a:avLst/>
                <a:gdLst/>
                <a:ahLst/>
                <a:rect l="l" t="t" r="r" b="b"/>
                <a:pathLst>
                  <a:path w="468" h="199">
                    <a:moveTo>
                      <a:pt x="442" y="116"/>
                    </a:moveTo>
                    <a:lnTo>
                      <a:pt x="448" y="111"/>
                    </a:lnTo>
                    <a:lnTo>
                      <a:pt x="455" y="107"/>
                    </a:lnTo>
                    <a:lnTo>
                      <a:pt x="462" y="102"/>
                    </a:lnTo>
                    <a:lnTo>
                      <a:pt x="468" y="98"/>
                    </a:lnTo>
                    <a:lnTo>
                      <a:pt x="448" y="147"/>
                    </a:lnTo>
                    <a:lnTo>
                      <a:pt x="436" y="154"/>
                    </a:lnTo>
                    <a:lnTo>
                      <a:pt x="423" y="161"/>
                    </a:lnTo>
                    <a:lnTo>
                      <a:pt x="410" y="168"/>
                    </a:lnTo>
                    <a:lnTo>
                      <a:pt x="398" y="175"/>
                    </a:lnTo>
                    <a:lnTo>
                      <a:pt x="385" y="181"/>
                    </a:lnTo>
                    <a:lnTo>
                      <a:pt x="374" y="185"/>
                    </a:lnTo>
                    <a:lnTo>
                      <a:pt x="361" y="190"/>
                    </a:lnTo>
                    <a:lnTo>
                      <a:pt x="348" y="193"/>
                    </a:lnTo>
                    <a:lnTo>
                      <a:pt x="334" y="197"/>
                    </a:lnTo>
                    <a:lnTo>
                      <a:pt x="321" y="198"/>
                    </a:lnTo>
                    <a:lnTo>
                      <a:pt x="306" y="199"/>
                    </a:lnTo>
                    <a:lnTo>
                      <a:pt x="290" y="199"/>
                    </a:lnTo>
                    <a:lnTo>
                      <a:pt x="273" y="197"/>
                    </a:lnTo>
                    <a:lnTo>
                      <a:pt x="255" y="194"/>
                    </a:lnTo>
                    <a:lnTo>
                      <a:pt x="237" y="190"/>
                    </a:lnTo>
                    <a:lnTo>
                      <a:pt x="216" y="184"/>
                    </a:lnTo>
                    <a:lnTo>
                      <a:pt x="203" y="179"/>
                    </a:lnTo>
                    <a:lnTo>
                      <a:pt x="189" y="175"/>
                    </a:lnTo>
                    <a:lnTo>
                      <a:pt x="177" y="170"/>
                    </a:lnTo>
                    <a:lnTo>
                      <a:pt x="163" y="166"/>
                    </a:lnTo>
                    <a:lnTo>
                      <a:pt x="150" y="161"/>
                    </a:lnTo>
                    <a:lnTo>
                      <a:pt x="136" y="158"/>
                    </a:lnTo>
                    <a:lnTo>
                      <a:pt x="124" y="153"/>
                    </a:lnTo>
                    <a:lnTo>
                      <a:pt x="110" y="150"/>
                    </a:lnTo>
                    <a:lnTo>
                      <a:pt x="96" y="146"/>
                    </a:lnTo>
                    <a:lnTo>
                      <a:pt x="83" y="143"/>
                    </a:lnTo>
                    <a:lnTo>
                      <a:pt x="70" y="140"/>
                    </a:lnTo>
                    <a:lnTo>
                      <a:pt x="56" y="138"/>
                    </a:lnTo>
                    <a:lnTo>
                      <a:pt x="42" y="136"/>
                    </a:lnTo>
                    <a:lnTo>
                      <a:pt x="28" y="135"/>
                    </a:lnTo>
                    <a:lnTo>
                      <a:pt x="14" y="133"/>
                    </a:lnTo>
                    <a:lnTo>
                      <a:pt x="0" y="133"/>
                    </a:lnTo>
                    <a:lnTo>
                      <a:pt x="2" y="133"/>
                    </a:lnTo>
                    <a:lnTo>
                      <a:pt x="4" y="132"/>
                    </a:lnTo>
                    <a:lnTo>
                      <a:pt x="7" y="131"/>
                    </a:lnTo>
                    <a:lnTo>
                      <a:pt x="13" y="130"/>
                    </a:lnTo>
                    <a:lnTo>
                      <a:pt x="20" y="129"/>
                    </a:lnTo>
                    <a:lnTo>
                      <a:pt x="29" y="129"/>
                    </a:lnTo>
                    <a:lnTo>
                      <a:pt x="41" y="128"/>
                    </a:lnTo>
                    <a:lnTo>
                      <a:pt x="55" y="128"/>
                    </a:lnTo>
                    <a:lnTo>
                      <a:pt x="70" y="129"/>
                    </a:lnTo>
                    <a:lnTo>
                      <a:pt x="88" y="130"/>
                    </a:lnTo>
                    <a:lnTo>
                      <a:pt x="109" y="133"/>
                    </a:lnTo>
                    <a:lnTo>
                      <a:pt x="132" y="137"/>
                    </a:lnTo>
                    <a:lnTo>
                      <a:pt x="157" y="143"/>
                    </a:lnTo>
                    <a:lnTo>
                      <a:pt x="186" y="150"/>
                    </a:lnTo>
                    <a:lnTo>
                      <a:pt x="218" y="159"/>
                    </a:lnTo>
                    <a:lnTo>
                      <a:pt x="253" y="169"/>
                    </a:lnTo>
                    <a:lnTo>
                      <a:pt x="273" y="173"/>
                    </a:lnTo>
                    <a:lnTo>
                      <a:pt x="293" y="173"/>
                    </a:lnTo>
                    <a:lnTo>
                      <a:pt x="313" y="171"/>
                    </a:lnTo>
                    <a:lnTo>
                      <a:pt x="332" y="168"/>
                    </a:lnTo>
                    <a:lnTo>
                      <a:pt x="352" y="162"/>
                    </a:lnTo>
                    <a:lnTo>
                      <a:pt x="371" y="155"/>
                    </a:lnTo>
                    <a:lnTo>
                      <a:pt x="390" y="147"/>
                    </a:lnTo>
                    <a:lnTo>
                      <a:pt x="408" y="137"/>
                    </a:lnTo>
                    <a:lnTo>
                      <a:pt x="399" y="132"/>
                    </a:lnTo>
                    <a:lnTo>
                      <a:pt x="391" y="126"/>
                    </a:lnTo>
                    <a:lnTo>
                      <a:pt x="384" y="120"/>
                    </a:lnTo>
                    <a:lnTo>
                      <a:pt x="377" y="113"/>
                    </a:lnTo>
                    <a:lnTo>
                      <a:pt x="371" y="105"/>
                    </a:lnTo>
                    <a:lnTo>
                      <a:pt x="367" y="95"/>
                    </a:lnTo>
                    <a:lnTo>
                      <a:pt x="362" y="85"/>
                    </a:lnTo>
                    <a:lnTo>
                      <a:pt x="359" y="75"/>
                    </a:lnTo>
                    <a:lnTo>
                      <a:pt x="358" y="50"/>
                    </a:lnTo>
                    <a:lnTo>
                      <a:pt x="364" y="26"/>
                    </a:lnTo>
                    <a:lnTo>
                      <a:pt x="372" y="7"/>
                    </a:lnTo>
                    <a:lnTo>
                      <a:pt x="376" y="0"/>
                    </a:lnTo>
                    <a:lnTo>
                      <a:pt x="375" y="7"/>
                    </a:lnTo>
                    <a:lnTo>
                      <a:pt x="372" y="19"/>
                    </a:lnTo>
                    <a:lnTo>
                      <a:pt x="372" y="35"/>
                    </a:lnTo>
                    <a:lnTo>
                      <a:pt x="376" y="54"/>
                    </a:lnTo>
                    <a:lnTo>
                      <a:pt x="383" y="72"/>
                    </a:lnTo>
                    <a:lnTo>
                      <a:pt x="394" y="91"/>
                    </a:lnTo>
                    <a:lnTo>
                      <a:pt x="414" y="106"/>
                    </a:lnTo>
                    <a:lnTo>
                      <a:pt x="442" y="116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914400" y="1511280"/>
                <a:ext cx="111240" cy="130320"/>
              </a:xfrm>
              <a:custGeom>
                <a:avLst/>
                <a:gdLst/>
                <a:ahLst/>
                <a:rect l="l" t="t" r="r" b="b"/>
                <a:pathLst>
                  <a:path w="139" h="164">
                    <a:moveTo>
                      <a:pt x="129" y="55"/>
                    </a:moveTo>
                    <a:lnTo>
                      <a:pt x="107" y="58"/>
                    </a:lnTo>
                    <a:lnTo>
                      <a:pt x="86" y="65"/>
                    </a:lnTo>
                    <a:lnTo>
                      <a:pt x="68" y="75"/>
                    </a:lnTo>
                    <a:lnTo>
                      <a:pt x="51" y="89"/>
                    </a:lnTo>
                    <a:lnTo>
                      <a:pt x="36" y="105"/>
                    </a:lnTo>
                    <a:lnTo>
                      <a:pt x="22" y="123"/>
                    </a:lnTo>
                    <a:lnTo>
                      <a:pt x="10" y="143"/>
                    </a:lnTo>
                    <a:lnTo>
                      <a:pt x="0" y="164"/>
                    </a:lnTo>
                    <a:lnTo>
                      <a:pt x="7" y="93"/>
                    </a:lnTo>
                    <a:lnTo>
                      <a:pt x="22" y="68"/>
                    </a:lnTo>
                    <a:lnTo>
                      <a:pt x="38" y="48"/>
                    </a:lnTo>
                    <a:lnTo>
                      <a:pt x="53" y="33"/>
                    </a:lnTo>
                    <a:lnTo>
                      <a:pt x="68" y="21"/>
                    </a:lnTo>
                    <a:lnTo>
                      <a:pt x="84" y="13"/>
                    </a:lnTo>
                    <a:lnTo>
                      <a:pt x="101" y="7"/>
                    </a:lnTo>
                    <a:lnTo>
                      <a:pt x="120" y="2"/>
                    </a:lnTo>
                    <a:lnTo>
                      <a:pt x="139" y="0"/>
                    </a:lnTo>
                    <a:lnTo>
                      <a:pt x="129" y="55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17720" y="1511280"/>
                <a:ext cx="826920" cy="961920"/>
              </a:xfrm>
              <a:custGeom>
                <a:avLst/>
                <a:gdLst/>
                <a:ahLst/>
                <a:rect l="l" t="t" r="r" b="b"/>
                <a:pathLst>
                  <a:path w="1044" h="1213">
                    <a:moveTo>
                      <a:pt x="840" y="1213"/>
                    </a:moveTo>
                    <a:lnTo>
                      <a:pt x="833" y="1189"/>
                    </a:lnTo>
                    <a:lnTo>
                      <a:pt x="826" y="1165"/>
                    </a:lnTo>
                    <a:lnTo>
                      <a:pt x="819" y="1143"/>
                    </a:lnTo>
                    <a:lnTo>
                      <a:pt x="812" y="1123"/>
                    </a:lnTo>
                    <a:lnTo>
                      <a:pt x="806" y="1106"/>
                    </a:lnTo>
                    <a:lnTo>
                      <a:pt x="802" y="1093"/>
                    </a:lnTo>
                    <a:lnTo>
                      <a:pt x="798" y="1085"/>
                    </a:lnTo>
                    <a:lnTo>
                      <a:pt x="797" y="1082"/>
                    </a:lnTo>
                    <a:lnTo>
                      <a:pt x="813" y="1085"/>
                    </a:lnTo>
                    <a:lnTo>
                      <a:pt x="829" y="1087"/>
                    </a:lnTo>
                    <a:lnTo>
                      <a:pt x="845" y="1089"/>
                    </a:lnTo>
                    <a:lnTo>
                      <a:pt x="862" y="1090"/>
                    </a:lnTo>
                    <a:lnTo>
                      <a:pt x="878" y="1089"/>
                    </a:lnTo>
                    <a:lnTo>
                      <a:pt x="893" y="1087"/>
                    </a:lnTo>
                    <a:lnTo>
                      <a:pt x="908" y="1084"/>
                    </a:lnTo>
                    <a:lnTo>
                      <a:pt x="921" y="1080"/>
                    </a:lnTo>
                    <a:lnTo>
                      <a:pt x="935" y="1075"/>
                    </a:lnTo>
                    <a:lnTo>
                      <a:pt x="948" y="1069"/>
                    </a:lnTo>
                    <a:lnTo>
                      <a:pt x="958" y="1061"/>
                    </a:lnTo>
                    <a:lnTo>
                      <a:pt x="969" y="1052"/>
                    </a:lnTo>
                    <a:lnTo>
                      <a:pt x="977" y="1041"/>
                    </a:lnTo>
                    <a:lnTo>
                      <a:pt x="983" y="1029"/>
                    </a:lnTo>
                    <a:lnTo>
                      <a:pt x="988" y="1016"/>
                    </a:lnTo>
                    <a:lnTo>
                      <a:pt x="991" y="1001"/>
                    </a:lnTo>
                    <a:lnTo>
                      <a:pt x="995" y="976"/>
                    </a:lnTo>
                    <a:lnTo>
                      <a:pt x="996" y="953"/>
                    </a:lnTo>
                    <a:lnTo>
                      <a:pt x="994" y="932"/>
                    </a:lnTo>
                    <a:lnTo>
                      <a:pt x="988" y="911"/>
                    </a:lnTo>
                    <a:lnTo>
                      <a:pt x="979" y="892"/>
                    </a:lnTo>
                    <a:lnTo>
                      <a:pt x="965" y="872"/>
                    </a:lnTo>
                    <a:lnTo>
                      <a:pt x="947" y="854"/>
                    </a:lnTo>
                    <a:lnTo>
                      <a:pt x="923" y="833"/>
                    </a:lnTo>
                    <a:lnTo>
                      <a:pt x="903" y="818"/>
                    </a:lnTo>
                    <a:lnTo>
                      <a:pt x="880" y="801"/>
                    </a:lnTo>
                    <a:lnTo>
                      <a:pt x="856" y="783"/>
                    </a:lnTo>
                    <a:lnTo>
                      <a:pt x="830" y="765"/>
                    </a:lnTo>
                    <a:lnTo>
                      <a:pt x="809" y="749"/>
                    </a:lnTo>
                    <a:lnTo>
                      <a:pt x="790" y="735"/>
                    </a:lnTo>
                    <a:lnTo>
                      <a:pt x="779" y="726"/>
                    </a:lnTo>
                    <a:lnTo>
                      <a:pt x="775" y="722"/>
                    </a:lnTo>
                    <a:lnTo>
                      <a:pt x="790" y="712"/>
                    </a:lnTo>
                    <a:lnTo>
                      <a:pt x="806" y="700"/>
                    </a:lnTo>
                    <a:lnTo>
                      <a:pt x="821" y="688"/>
                    </a:lnTo>
                    <a:lnTo>
                      <a:pt x="836" y="674"/>
                    </a:lnTo>
                    <a:lnTo>
                      <a:pt x="850" y="657"/>
                    </a:lnTo>
                    <a:lnTo>
                      <a:pt x="862" y="638"/>
                    </a:lnTo>
                    <a:lnTo>
                      <a:pt x="871" y="617"/>
                    </a:lnTo>
                    <a:lnTo>
                      <a:pt x="878" y="594"/>
                    </a:lnTo>
                    <a:lnTo>
                      <a:pt x="879" y="569"/>
                    </a:lnTo>
                    <a:lnTo>
                      <a:pt x="874" y="547"/>
                    </a:lnTo>
                    <a:lnTo>
                      <a:pt x="866" y="526"/>
                    </a:lnTo>
                    <a:lnTo>
                      <a:pt x="854" y="508"/>
                    </a:lnTo>
                    <a:lnTo>
                      <a:pt x="837" y="492"/>
                    </a:lnTo>
                    <a:lnTo>
                      <a:pt x="819" y="479"/>
                    </a:lnTo>
                    <a:lnTo>
                      <a:pt x="798" y="469"/>
                    </a:lnTo>
                    <a:lnTo>
                      <a:pt x="776" y="461"/>
                    </a:lnTo>
                    <a:lnTo>
                      <a:pt x="764" y="458"/>
                    </a:lnTo>
                    <a:lnTo>
                      <a:pt x="752" y="456"/>
                    </a:lnTo>
                    <a:lnTo>
                      <a:pt x="739" y="455"/>
                    </a:lnTo>
                    <a:lnTo>
                      <a:pt x="728" y="455"/>
                    </a:lnTo>
                    <a:lnTo>
                      <a:pt x="715" y="455"/>
                    </a:lnTo>
                    <a:lnTo>
                      <a:pt x="704" y="456"/>
                    </a:lnTo>
                    <a:lnTo>
                      <a:pt x="692" y="457"/>
                    </a:lnTo>
                    <a:lnTo>
                      <a:pt x="681" y="460"/>
                    </a:lnTo>
                    <a:lnTo>
                      <a:pt x="668" y="463"/>
                    </a:lnTo>
                    <a:lnTo>
                      <a:pt x="657" y="467"/>
                    </a:lnTo>
                    <a:lnTo>
                      <a:pt x="646" y="470"/>
                    </a:lnTo>
                    <a:lnTo>
                      <a:pt x="635" y="475"/>
                    </a:lnTo>
                    <a:lnTo>
                      <a:pt x="623" y="479"/>
                    </a:lnTo>
                    <a:lnTo>
                      <a:pt x="613" y="484"/>
                    </a:lnTo>
                    <a:lnTo>
                      <a:pt x="601" y="488"/>
                    </a:lnTo>
                    <a:lnTo>
                      <a:pt x="591" y="494"/>
                    </a:lnTo>
                    <a:lnTo>
                      <a:pt x="585" y="452"/>
                    </a:lnTo>
                    <a:lnTo>
                      <a:pt x="584" y="402"/>
                    </a:lnTo>
                    <a:lnTo>
                      <a:pt x="584" y="349"/>
                    </a:lnTo>
                    <a:lnTo>
                      <a:pt x="583" y="298"/>
                    </a:lnTo>
                    <a:lnTo>
                      <a:pt x="577" y="251"/>
                    </a:lnTo>
                    <a:lnTo>
                      <a:pt x="563" y="212"/>
                    </a:lnTo>
                    <a:lnTo>
                      <a:pt x="540" y="184"/>
                    </a:lnTo>
                    <a:lnTo>
                      <a:pt x="503" y="173"/>
                    </a:lnTo>
                    <a:lnTo>
                      <a:pt x="471" y="173"/>
                    </a:lnTo>
                    <a:lnTo>
                      <a:pt x="445" y="177"/>
                    </a:lnTo>
                    <a:lnTo>
                      <a:pt x="424" y="187"/>
                    </a:lnTo>
                    <a:lnTo>
                      <a:pt x="408" y="198"/>
                    </a:lnTo>
                    <a:lnTo>
                      <a:pt x="396" y="211"/>
                    </a:lnTo>
                    <a:lnTo>
                      <a:pt x="387" y="226"/>
                    </a:lnTo>
                    <a:lnTo>
                      <a:pt x="379" y="241"/>
                    </a:lnTo>
                    <a:lnTo>
                      <a:pt x="373" y="256"/>
                    </a:lnTo>
                    <a:lnTo>
                      <a:pt x="381" y="270"/>
                    </a:lnTo>
                    <a:lnTo>
                      <a:pt x="389" y="283"/>
                    </a:lnTo>
                    <a:lnTo>
                      <a:pt x="397" y="297"/>
                    </a:lnTo>
                    <a:lnTo>
                      <a:pt x="405" y="311"/>
                    </a:lnTo>
                    <a:lnTo>
                      <a:pt x="412" y="326"/>
                    </a:lnTo>
                    <a:lnTo>
                      <a:pt x="419" y="341"/>
                    </a:lnTo>
                    <a:lnTo>
                      <a:pt x="426" y="356"/>
                    </a:lnTo>
                    <a:lnTo>
                      <a:pt x="432" y="371"/>
                    </a:lnTo>
                    <a:lnTo>
                      <a:pt x="440" y="391"/>
                    </a:lnTo>
                    <a:lnTo>
                      <a:pt x="448" y="410"/>
                    </a:lnTo>
                    <a:lnTo>
                      <a:pt x="455" y="430"/>
                    </a:lnTo>
                    <a:lnTo>
                      <a:pt x="463" y="448"/>
                    </a:lnTo>
                    <a:lnTo>
                      <a:pt x="471" y="468"/>
                    </a:lnTo>
                    <a:lnTo>
                      <a:pt x="479" y="487"/>
                    </a:lnTo>
                    <a:lnTo>
                      <a:pt x="487" y="506"/>
                    </a:lnTo>
                    <a:lnTo>
                      <a:pt x="495" y="525"/>
                    </a:lnTo>
                    <a:lnTo>
                      <a:pt x="507" y="538"/>
                    </a:lnTo>
                    <a:lnTo>
                      <a:pt x="517" y="551"/>
                    </a:lnTo>
                    <a:lnTo>
                      <a:pt x="530" y="562"/>
                    </a:lnTo>
                    <a:lnTo>
                      <a:pt x="543" y="574"/>
                    </a:lnTo>
                    <a:lnTo>
                      <a:pt x="556" y="584"/>
                    </a:lnTo>
                    <a:lnTo>
                      <a:pt x="570" y="593"/>
                    </a:lnTo>
                    <a:lnTo>
                      <a:pt x="586" y="600"/>
                    </a:lnTo>
                    <a:lnTo>
                      <a:pt x="602" y="605"/>
                    </a:lnTo>
                    <a:lnTo>
                      <a:pt x="617" y="607"/>
                    </a:lnTo>
                    <a:lnTo>
                      <a:pt x="632" y="607"/>
                    </a:lnTo>
                    <a:lnTo>
                      <a:pt x="646" y="607"/>
                    </a:lnTo>
                    <a:lnTo>
                      <a:pt x="660" y="607"/>
                    </a:lnTo>
                    <a:lnTo>
                      <a:pt x="674" y="605"/>
                    </a:lnTo>
                    <a:lnTo>
                      <a:pt x="688" y="604"/>
                    </a:lnTo>
                    <a:lnTo>
                      <a:pt x="701" y="601"/>
                    </a:lnTo>
                    <a:lnTo>
                      <a:pt x="715" y="599"/>
                    </a:lnTo>
                    <a:lnTo>
                      <a:pt x="713" y="601"/>
                    </a:lnTo>
                    <a:lnTo>
                      <a:pt x="705" y="607"/>
                    </a:lnTo>
                    <a:lnTo>
                      <a:pt x="692" y="614"/>
                    </a:lnTo>
                    <a:lnTo>
                      <a:pt x="673" y="621"/>
                    </a:lnTo>
                    <a:lnTo>
                      <a:pt x="647" y="627"/>
                    </a:lnTo>
                    <a:lnTo>
                      <a:pt x="616" y="629"/>
                    </a:lnTo>
                    <a:lnTo>
                      <a:pt x="578" y="625"/>
                    </a:lnTo>
                    <a:lnTo>
                      <a:pt x="532" y="616"/>
                    </a:lnTo>
                    <a:lnTo>
                      <a:pt x="544" y="643"/>
                    </a:lnTo>
                    <a:lnTo>
                      <a:pt x="555" y="670"/>
                    </a:lnTo>
                    <a:lnTo>
                      <a:pt x="567" y="697"/>
                    </a:lnTo>
                    <a:lnTo>
                      <a:pt x="578" y="723"/>
                    </a:lnTo>
                    <a:lnTo>
                      <a:pt x="590" y="750"/>
                    </a:lnTo>
                    <a:lnTo>
                      <a:pt x="601" y="778"/>
                    </a:lnTo>
                    <a:lnTo>
                      <a:pt x="613" y="804"/>
                    </a:lnTo>
                    <a:lnTo>
                      <a:pt x="624" y="832"/>
                    </a:lnTo>
                    <a:lnTo>
                      <a:pt x="814" y="984"/>
                    </a:lnTo>
                    <a:lnTo>
                      <a:pt x="789" y="979"/>
                    </a:lnTo>
                    <a:lnTo>
                      <a:pt x="766" y="971"/>
                    </a:lnTo>
                    <a:lnTo>
                      <a:pt x="743" y="960"/>
                    </a:lnTo>
                    <a:lnTo>
                      <a:pt x="722" y="946"/>
                    </a:lnTo>
                    <a:lnTo>
                      <a:pt x="701" y="931"/>
                    </a:lnTo>
                    <a:lnTo>
                      <a:pt x="682" y="913"/>
                    </a:lnTo>
                    <a:lnTo>
                      <a:pt x="662" y="897"/>
                    </a:lnTo>
                    <a:lnTo>
                      <a:pt x="643" y="880"/>
                    </a:lnTo>
                    <a:lnTo>
                      <a:pt x="659" y="935"/>
                    </a:lnTo>
                    <a:lnTo>
                      <a:pt x="668" y="988"/>
                    </a:lnTo>
                    <a:lnTo>
                      <a:pt x="672" y="1036"/>
                    </a:lnTo>
                    <a:lnTo>
                      <a:pt x="672" y="1078"/>
                    </a:lnTo>
                    <a:lnTo>
                      <a:pt x="669" y="1114"/>
                    </a:lnTo>
                    <a:lnTo>
                      <a:pt x="665" y="1140"/>
                    </a:lnTo>
                    <a:lnTo>
                      <a:pt x="661" y="1158"/>
                    </a:lnTo>
                    <a:lnTo>
                      <a:pt x="660" y="1163"/>
                    </a:lnTo>
                    <a:lnTo>
                      <a:pt x="660" y="1125"/>
                    </a:lnTo>
                    <a:lnTo>
                      <a:pt x="659" y="1087"/>
                    </a:lnTo>
                    <a:lnTo>
                      <a:pt x="657" y="1049"/>
                    </a:lnTo>
                    <a:lnTo>
                      <a:pt x="651" y="1012"/>
                    </a:lnTo>
                    <a:lnTo>
                      <a:pt x="644" y="976"/>
                    </a:lnTo>
                    <a:lnTo>
                      <a:pt x="635" y="939"/>
                    </a:lnTo>
                    <a:lnTo>
                      <a:pt x="622" y="903"/>
                    </a:lnTo>
                    <a:lnTo>
                      <a:pt x="606" y="869"/>
                    </a:lnTo>
                    <a:lnTo>
                      <a:pt x="598" y="854"/>
                    </a:lnTo>
                    <a:lnTo>
                      <a:pt x="591" y="839"/>
                    </a:lnTo>
                    <a:lnTo>
                      <a:pt x="583" y="822"/>
                    </a:lnTo>
                    <a:lnTo>
                      <a:pt x="576" y="807"/>
                    </a:lnTo>
                    <a:lnTo>
                      <a:pt x="569" y="791"/>
                    </a:lnTo>
                    <a:lnTo>
                      <a:pt x="562" y="776"/>
                    </a:lnTo>
                    <a:lnTo>
                      <a:pt x="555" y="760"/>
                    </a:lnTo>
                    <a:lnTo>
                      <a:pt x="548" y="745"/>
                    </a:lnTo>
                    <a:lnTo>
                      <a:pt x="545" y="767"/>
                    </a:lnTo>
                    <a:lnTo>
                      <a:pt x="538" y="795"/>
                    </a:lnTo>
                    <a:lnTo>
                      <a:pt x="525" y="828"/>
                    </a:lnTo>
                    <a:lnTo>
                      <a:pt x="509" y="863"/>
                    </a:lnTo>
                    <a:lnTo>
                      <a:pt x="490" y="897"/>
                    </a:lnTo>
                    <a:lnTo>
                      <a:pt x="465" y="930"/>
                    </a:lnTo>
                    <a:lnTo>
                      <a:pt x="438" y="957"/>
                    </a:lnTo>
                    <a:lnTo>
                      <a:pt x="408" y="978"/>
                    </a:lnTo>
                    <a:lnTo>
                      <a:pt x="409" y="977"/>
                    </a:lnTo>
                    <a:lnTo>
                      <a:pt x="414" y="972"/>
                    </a:lnTo>
                    <a:lnTo>
                      <a:pt x="419" y="965"/>
                    </a:lnTo>
                    <a:lnTo>
                      <a:pt x="426" y="955"/>
                    </a:lnTo>
                    <a:lnTo>
                      <a:pt x="435" y="945"/>
                    </a:lnTo>
                    <a:lnTo>
                      <a:pt x="445" y="931"/>
                    </a:lnTo>
                    <a:lnTo>
                      <a:pt x="455" y="917"/>
                    </a:lnTo>
                    <a:lnTo>
                      <a:pt x="464" y="902"/>
                    </a:lnTo>
                    <a:lnTo>
                      <a:pt x="475" y="882"/>
                    </a:lnTo>
                    <a:lnTo>
                      <a:pt x="486" y="857"/>
                    </a:lnTo>
                    <a:lnTo>
                      <a:pt x="499" y="827"/>
                    </a:lnTo>
                    <a:lnTo>
                      <a:pt x="510" y="797"/>
                    </a:lnTo>
                    <a:lnTo>
                      <a:pt x="522" y="769"/>
                    </a:lnTo>
                    <a:lnTo>
                      <a:pt x="531" y="746"/>
                    </a:lnTo>
                    <a:lnTo>
                      <a:pt x="537" y="730"/>
                    </a:lnTo>
                    <a:lnTo>
                      <a:pt x="539" y="725"/>
                    </a:lnTo>
                    <a:lnTo>
                      <a:pt x="528" y="697"/>
                    </a:lnTo>
                    <a:lnTo>
                      <a:pt x="511" y="658"/>
                    </a:lnTo>
                    <a:lnTo>
                      <a:pt x="493" y="612"/>
                    </a:lnTo>
                    <a:lnTo>
                      <a:pt x="473" y="561"/>
                    </a:lnTo>
                    <a:lnTo>
                      <a:pt x="454" y="511"/>
                    </a:lnTo>
                    <a:lnTo>
                      <a:pt x="437" y="467"/>
                    </a:lnTo>
                    <a:lnTo>
                      <a:pt x="422" y="431"/>
                    </a:lnTo>
                    <a:lnTo>
                      <a:pt x="412" y="407"/>
                    </a:lnTo>
                    <a:lnTo>
                      <a:pt x="404" y="388"/>
                    </a:lnTo>
                    <a:lnTo>
                      <a:pt x="396" y="370"/>
                    </a:lnTo>
                    <a:lnTo>
                      <a:pt x="388" y="353"/>
                    </a:lnTo>
                    <a:lnTo>
                      <a:pt x="379" y="334"/>
                    </a:lnTo>
                    <a:lnTo>
                      <a:pt x="370" y="317"/>
                    </a:lnTo>
                    <a:lnTo>
                      <a:pt x="359" y="300"/>
                    </a:lnTo>
                    <a:lnTo>
                      <a:pt x="349" y="282"/>
                    </a:lnTo>
                    <a:lnTo>
                      <a:pt x="337" y="266"/>
                    </a:lnTo>
                    <a:lnTo>
                      <a:pt x="327" y="253"/>
                    </a:lnTo>
                    <a:lnTo>
                      <a:pt x="314" y="240"/>
                    </a:lnTo>
                    <a:lnTo>
                      <a:pt x="299" y="225"/>
                    </a:lnTo>
                    <a:lnTo>
                      <a:pt x="283" y="210"/>
                    </a:lnTo>
                    <a:lnTo>
                      <a:pt x="265" y="194"/>
                    </a:lnTo>
                    <a:lnTo>
                      <a:pt x="245" y="177"/>
                    </a:lnTo>
                    <a:lnTo>
                      <a:pt x="223" y="161"/>
                    </a:lnTo>
                    <a:lnTo>
                      <a:pt x="202" y="145"/>
                    </a:lnTo>
                    <a:lnTo>
                      <a:pt x="179" y="129"/>
                    </a:lnTo>
                    <a:lnTo>
                      <a:pt x="154" y="114"/>
                    </a:lnTo>
                    <a:lnTo>
                      <a:pt x="129" y="100"/>
                    </a:lnTo>
                    <a:lnTo>
                      <a:pt x="104" y="88"/>
                    </a:lnTo>
                    <a:lnTo>
                      <a:pt x="78" y="77"/>
                    </a:lnTo>
                    <a:lnTo>
                      <a:pt x="52" y="68"/>
                    </a:lnTo>
                    <a:lnTo>
                      <a:pt x="26" y="60"/>
                    </a:lnTo>
                    <a:lnTo>
                      <a:pt x="0" y="55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30" y="1"/>
                    </a:lnTo>
                    <a:lnTo>
                      <a:pt x="43" y="2"/>
                    </a:lnTo>
                    <a:lnTo>
                      <a:pt x="56" y="4"/>
                    </a:lnTo>
                    <a:lnTo>
                      <a:pt x="70" y="6"/>
                    </a:lnTo>
                    <a:lnTo>
                      <a:pt x="85" y="9"/>
                    </a:lnTo>
                    <a:lnTo>
                      <a:pt x="99" y="13"/>
                    </a:lnTo>
                    <a:lnTo>
                      <a:pt x="113" y="17"/>
                    </a:lnTo>
                    <a:lnTo>
                      <a:pt x="126" y="23"/>
                    </a:lnTo>
                    <a:lnTo>
                      <a:pt x="138" y="29"/>
                    </a:lnTo>
                    <a:lnTo>
                      <a:pt x="151" y="36"/>
                    </a:lnTo>
                    <a:lnTo>
                      <a:pt x="164" y="43"/>
                    </a:lnTo>
                    <a:lnTo>
                      <a:pt x="176" y="50"/>
                    </a:lnTo>
                    <a:lnTo>
                      <a:pt x="189" y="57"/>
                    </a:lnTo>
                    <a:lnTo>
                      <a:pt x="200" y="65"/>
                    </a:lnTo>
                    <a:lnTo>
                      <a:pt x="212" y="74"/>
                    </a:lnTo>
                    <a:lnTo>
                      <a:pt x="223" y="82"/>
                    </a:lnTo>
                    <a:lnTo>
                      <a:pt x="235" y="91"/>
                    </a:lnTo>
                    <a:lnTo>
                      <a:pt x="246" y="100"/>
                    </a:lnTo>
                    <a:lnTo>
                      <a:pt x="258" y="109"/>
                    </a:lnTo>
                    <a:lnTo>
                      <a:pt x="268" y="120"/>
                    </a:lnTo>
                    <a:lnTo>
                      <a:pt x="279" y="130"/>
                    </a:lnTo>
                    <a:lnTo>
                      <a:pt x="289" y="141"/>
                    </a:lnTo>
                    <a:lnTo>
                      <a:pt x="297" y="149"/>
                    </a:lnTo>
                    <a:lnTo>
                      <a:pt x="305" y="158"/>
                    </a:lnTo>
                    <a:lnTo>
                      <a:pt x="313" y="166"/>
                    </a:lnTo>
                    <a:lnTo>
                      <a:pt x="323" y="174"/>
                    </a:lnTo>
                    <a:lnTo>
                      <a:pt x="331" y="183"/>
                    </a:lnTo>
                    <a:lnTo>
                      <a:pt x="339" y="191"/>
                    </a:lnTo>
                    <a:lnTo>
                      <a:pt x="348" y="199"/>
                    </a:lnTo>
                    <a:lnTo>
                      <a:pt x="356" y="207"/>
                    </a:lnTo>
                    <a:lnTo>
                      <a:pt x="362" y="199"/>
                    </a:lnTo>
                    <a:lnTo>
                      <a:pt x="367" y="190"/>
                    </a:lnTo>
                    <a:lnTo>
                      <a:pt x="373" y="180"/>
                    </a:lnTo>
                    <a:lnTo>
                      <a:pt x="379" y="168"/>
                    </a:lnTo>
                    <a:lnTo>
                      <a:pt x="385" y="157"/>
                    </a:lnTo>
                    <a:lnTo>
                      <a:pt x="390" y="145"/>
                    </a:lnTo>
                    <a:lnTo>
                      <a:pt x="397" y="135"/>
                    </a:lnTo>
                    <a:lnTo>
                      <a:pt x="404" y="126"/>
                    </a:lnTo>
                    <a:lnTo>
                      <a:pt x="420" y="113"/>
                    </a:lnTo>
                    <a:lnTo>
                      <a:pt x="440" y="105"/>
                    </a:lnTo>
                    <a:lnTo>
                      <a:pt x="463" y="101"/>
                    </a:lnTo>
                    <a:lnTo>
                      <a:pt x="488" y="101"/>
                    </a:lnTo>
                    <a:lnTo>
                      <a:pt x="513" y="105"/>
                    </a:lnTo>
                    <a:lnTo>
                      <a:pt x="534" y="112"/>
                    </a:lnTo>
                    <a:lnTo>
                      <a:pt x="554" y="121"/>
                    </a:lnTo>
                    <a:lnTo>
                      <a:pt x="569" y="134"/>
                    </a:lnTo>
                    <a:lnTo>
                      <a:pt x="592" y="168"/>
                    </a:lnTo>
                    <a:lnTo>
                      <a:pt x="605" y="204"/>
                    </a:lnTo>
                    <a:lnTo>
                      <a:pt x="610" y="242"/>
                    </a:lnTo>
                    <a:lnTo>
                      <a:pt x="613" y="281"/>
                    </a:lnTo>
                    <a:lnTo>
                      <a:pt x="612" y="320"/>
                    </a:lnTo>
                    <a:lnTo>
                      <a:pt x="610" y="361"/>
                    </a:lnTo>
                    <a:lnTo>
                      <a:pt x="612" y="401"/>
                    </a:lnTo>
                    <a:lnTo>
                      <a:pt x="617" y="440"/>
                    </a:lnTo>
                    <a:lnTo>
                      <a:pt x="630" y="433"/>
                    </a:lnTo>
                    <a:lnTo>
                      <a:pt x="644" y="426"/>
                    </a:lnTo>
                    <a:lnTo>
                      <a:pt x="657" y="420"/>
                    </a:lnTo>
                    <a:lnTo>
                      <a:pt x="670" y="415"/>
                    </a:lnTo>
                    <a:lnTo>
                      <a:pt x="684" y="410"/>
                    </a:lnTo>
                    <a:lnTo>
                      <a:pt x="699" y="407"/>
                    </a:lnTo>
                    <a:lnTo>
                      <a:pt x="713" y="403"/>
                    </a:lnTo>
                    <a:lnTo>
                      <a:pt x="728" y="401"/>
                    </a:lnTo>
                    <a:lnTo>
                      <a:pt x="742" y="400"/>
                    </a:lnTo>
                    <a:lnTo>
                      <a:pt x="757" y="399"/>
                    </a:lnTo>
                    <a:lnTo>
                      <a:pt x="771" y="400"/>
                    </a:lnTo>
                    <a:lnTo>
                      <a:pt x="786" y="402"/>
                    </a:lnTo>
                    <a:lnTo>
                      <a:pt x="799" y="404"/>
                    </a:lnTo>
                    <a:lnTo>
                      <a:pt x="814" y="409"/>
                    </a:lnTo>
                    <a:lnTo>
                      <a:pt x="828" y="416"/>
                    </a:lnTo>
                    <a:lnTo>
                      <a:pt x="842" y="423"/>
                    </a:lnTo>
                    <a:lnTo>
                      <a:pt x="858" y="433"/>
                    </a:lnTo>
                    <a:lnTo>
                      <a:pt x="874" y="444"/>
                    </a:lnTo>
                    <a:lnTo>
                      <a:pt x="889" y="456"/>
                    </a:lnTo>
                    <a:lnTo>
                      <a:pt x="902" y="470"/>
                    </a:lnTo>
                    <a:lnTo>
                      <a:pt x="912" y="485"/>
                    </a:lnTo>
                    <a:lnTo>
                      <a:pt x="919" y="501"/>
                    </a:lnTo>
                    <a:lnTo>
                      <a:pt x="923" y="518"/>
                    </a:lnTo>
                    <a:lnTo>
                      <a:pt x="921" y="537"/>
                    </a:lnTo>
                    <a:lnTo>
                      <a:pt x="917" y="563"/>
                    </a:lnTo>
                    <a:lnTo>
                      <a:pt x="909" y="590"/>
                    </a:lnTo>
                    <a:lnTo>
                      <a:pt x="898" y="615"/>
                    </a:lnTo>
                    <a:lnTo>
                      <a:pt x="887" y="639"/>
                    </a:lnTo>
                    <a:lnTo>
                      <a:pt x="872" y="662"/>
                    </a:lnTo>
                    <a:lnTo>
                      <a:pt x="856" y="683"/>
                    </a:lnTo>
                    <a:lnTo>
                      <a:pt x="839" y="704"/>
                    </a:lnTo>
                    <a:lnTo>
                      <a:pt x="819" y="722"/>
                    </a:lnTo>
                    <a:lnTo>
                      <a:pt x="835" y="729"/>
                    </a:lnTo>
                    <a:lnTo>
                      <a:pt x="852" y="736"/>
                    </a:lnTo>
                    <a:lnTo>
                      <a:pt x="870" y="743"/>
                    </a:lnTo>
                    <a:lnTo>
                      <a:pt x="887" y="751"/>
                    </a:lnTo>
                    <a:lnTo>
                      <a:pt x="904" y="760"/>
                    </a:lnTo>
                    <a:lnTo>
                      <a:pt x="921" y="768"/>
                    </a:lnTo>
                    <a:lnTo>
                      <a:pt x="938" y="779"/>
                    </a:lnTo>
                    <a:lnTo>
                      <a:pt x="954" y="788"/>
                    </a:lnTo>
                    <a:lnTo>
                      <a:pt x="986" y="811"/>
                    </a:lnTo>
                    <a:lnTo>
                      <a:pt x="1010" y="835"/>
                    </a:lnTo>
                    <a:lnTo>
                      <a:pt x="1027" y="860"/>
                    </a:lnTo>
                    <a:lnTo>
                      <a:pt x="1039" y="886"/>
                    </a:lnTo>
                    <a:lnTo>
                      <a:pt x="1044" y="911"/>
                    </a:lnTo>
                    <a:lnTo>
                      <a:pt x="1044" y="938"/>
                    </a:lnTo>
                    <a:lnTo>
                      <a:pt x="1040" y="964"/>
                    </a:lnTo>
                    <a:lnTo>
                      <a:pt x="1032" y="992"/>
                    </a:lnTo>
                    <a:lnTo>
                      <a:pt x="1025" y="1010"/>
                    </a:lnTo>
                    <a:lnTo>
                      <a:pt x="1017" y="1029"/>
                    </a:lnTo>
                    <a:lnTo>
                      <a:pt x="1008" y="1046"/>
                    </a:lnTo>
                    <a:lnTo>
                      <a:pt x="997" y="1063"/>
                    </a:lnTo>
                    <a:lnTo>
                      <a:pt x="985" y="1078"/>
                    </a:lnTo>
                    <a:lnTo>
                      <a:pt x="970" y="1091"/>
                    </a:lnTo>
                    <a:lnTo>
                      <a:pt x="953" y="1100"/>
                    </a:lnTo>
                    <a:lnTo>
                      <a:pt x="932" y="1106"/>
                    </a:lnTo>
                    <a:lnTo>
                      <a:pt x="920" y="1108"/>
                    </a:lnTo>
                    <a:lnTo>
                      <a:pt x="909" y="1109"/>
                    </a:lnTo>
                    <a:lnTo>
                      <a:pt x="896" y="1112"/>
                    </a:lnTo>
                    <a:lnTo>
                      <a:pt x="885" y="1113"/>
                    </a:lnTo>
                    <a:lnTo>
                      <a:pt x="873" y="1114"/>
                    </a:lnTo>
                    <a:lnTo>
                      <a:pt x="860" y="1115"/>
                    </a:lnTo>
                    <a:lnTo>
                      <a:pt x="849" y="1115"/>
                    </a:lnTo>
                    <a:lnTo>
                      <a:pt x="837" y="1115"/>
                    </a:lnTo>
                    <a:lnTo>
                      <a:pt x="843" y="1125"/>
                    </a:lnTo>
                    <a:lnTo>
                      <a:pt x="848" y="1136"/>
                    </a:lnTo>
                    <a:lnTo>
                      <a:pt x="852" y="1148"/>
                    </a:lnTo>
                    <a:lnTo>
                      <a:pt x="858" y="1160"/>
                    </a:lnTo>
                    <a:lnTo>
                      <a:pt x="862" y="1173"/>
                    </a:lnTo>
                    <a:lnTo>
                      <a:pt x="866" y="1185"/>
                    </a:lnTo>
                    <a:lnTo>
                      <a:pt x="870" y="1197"/>
                    </a:lnTo>
                    <a:lnTo>
                      <a:pt x="872" y="1208"/>
                    </a:lnTo>
                    <a:lnTo>
                      <a:pt x="840" y="1213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009800" y="1693800"/>
                <a:ext cx="436320" cy="808200"/>
              </a:xfrm>
              <a:custGeom>
                <a:avLst/>
                <a:gdLst/>
                <a:ahLst/>
                <a:rect l="l" t="t" r="r" b="b"/>
                <a:pathLst>
                  <a:path w="548" h="1019">
                    <a:moveTo>
                      <a:pt x="492" y="1019"/>
                    </a:moveTo>
                    <a:lnTo>
                      <a:pt x="496" y="1005"/>
                    </a:lnTo>
                    <a:lnTo>
                      <a:pt x="502" y="989"/>
                    </a:lnTo>
                    <a:lnTo>
                      <a:pt x="508" y="970"/>
                    </a:lnTo>
                    <a:lnTo>
                      <a:pt x="513" y="953"/>
                    </a:lnTo>
                    <a:lnTo>
                      <a:pt x="517" y="935"/>
                    </a:lnTo>
                    <a:lnTo>
                      <a:pt x="518" y="916"/>
                    </a:lnTo>
                    <a:lnTo>
                      <a:pt x="518" y="898"/>
                    </a:lnTo>
                    <a:lnTo>
                      <a:pt x="516" y="882"/>
                    </a:lnTo>
                    <a:lnTo>
                      <a:pt x="510" y="880"/>
                    </a:lnTo>
                    <a:lnTo>
                      <a:pt x="498" y="884"/>
                    </a:lnTo>
                    <a:lnTo>
                      <a:pt x="478" y="892"/>
                    </a:lnTo>
                    <a:lnTo>
                      <a:pt x="455" y="902"/>
                    </a:lnTo>
                    <a:lnTo>
                      <a:pt x="430" y="913"/>
                    </a:lnTo>
                    <a:lnTo>
                      <a:pt x="404" y="924"/>
                    </a:lnTo>
                    <a:lnTo>
                      <a:pt x="380" y="933"/>
                    </a:lnTo>
                    <a:lnTo>
                      <a:pt x="359" y="940"/>
                    </a:lnTo>
                    <a:lnTo>
                      <a:pt x="329" y="945"/>
                    </a:lnTo>
                    <a:lnTo>
                      <a:pt x="301" y="941"/>
                    </a:lnTo>
                    <a:lnTo>
                      <a:pt x="273" y="933"/>
                    </a:lnTo>
                    <a:lnTo>
                      <a:pt x="249" y="920"/>
                    </a:lnTo>
                    <a:lnTo>
                      <a:pt x="228" y="902"/>
                    </a:lnTo>
                    <a:lnTo>
                      <a:pt x="212" y="883"/>
                    </a:lnTo>
                    <a:lnTo>
                      <a:pt x="202" y="861"/>
                    </a:lnTo>
                    <a:lnTo>
                      <a:pt x="197" y="839"/>
                    </a:lnTo>
                    <a:lnTo>
                      <a:pt x="199" y="803"/>
                    </a:lnTo>
                    <a:lnTo>
                      <a:pt x="207" y="770"/>
                    </a:lnTo>
                    <a:lnTo>
                      <a:pt x="220" y="736"/>
                    </a:lnTo>
                    <a:lnTo>
                      <a:pt x="237" y="704"/>
                    </a:lnTo>
                    <a:lnTo>
                      <a:pt x="258" y="673"/>
                    </a:lnTo>
                    <a:lnTo>
                      <a:pt x="280" y="642"/>
                    </a:lnTo>
                    <a:lnTo>
                      <a:pt x="303" y="612"/>
                    </a:lnTo>
                    <a:lnTo>
                      <a:pt x="326" y="582"/>
                    </a:lnTo>
                    <a:lnTo>
                      <a:pt x="310" y="582"/>
                    </a:lnTo>
                    <a:lnTo>
                      <a:pt x="295" y="582"/>
                    </a:lnTo>
                    <a:lnTo>
                      <a:pt x="279" y="582"/>
                    </a:lnTo>
                    <a:lnTo>
                      <a:pt x="264" y="581"/>
                    </a:lnTo>
                    <a:lnTo>
                      <a:pt x="248" y="581"/>
                    </a:lnTo>
                    <a:lnTo>
                      <a:pt x="231" y="580"/>
                    </a:lnTo>
                    <a:lnTo>
                      <a:pt x="215" y="579"/>
                    </a:lnTo>
                    <a:lnTo>
                      <a:pt x="199" y="577"/>
                    </a:lnTo>
                    <a:lnTo>
                      <a:pt x="181" y="575"/>
                    </a:lnTo>
                    <a:lnTo>
                      <a:pt x="162" y="572"/>
                    </a:lnTo>
                    <a:lnTo>
                      <a:pt x="144" y="567"/>
                    </a:lnTo>
                    <a:lnTo>
                      <a:pt x="124" y="560"/>
                    </a:lnTo>
                    <a:lnTo>
                      <a:pt x="106" y="553"/>
                    </a:lnTo>
                    <a:lnTo>
                      <a:pt x="87" y="544"/>
                    </a:lnTo>
                    <a:lnTo>
                      <a:pt x="70" y="535"/>
                    </a:lnTo>
                    <a:lnTo>
                      <a:pt x="54" y="523"/>
                    </a:lnTo>
                    <a:lnTo>
                      <a:pt x="39" y="512"/>
                    </a:lnTo>
                    <a:lnTo>
                      <a:pt x="26" y="498"/>
                    </a:lnTo>
                    <a:lnTo>
                      <a:pt x="15" y="484"/>
                    </a:lnTo>
                    <a:lnTo>
                      <a:pt x="7" y="469"/>
                    </a:lnTo>
                    <a:lnTo>
                      <a:pt x="2" y="453"/>
                    </a:lnTo>
                    <a:lnTo>
                      <a:pt x="0" y="436"/>
                    </a:lnTo>
                    <a:lnTo>
                      <a:pt x="1" y="419"/>
                    </a:lnTo>
                    <a:lnTo>
                      <a:pt x="6" y="400"/>
                    </a:lnTo>
                    <a:lnTo>
                      <a:pt x="16" y="375"/>
                    </a:lnTo>
                    <a:lnTo>
                      <a:pt x="28" y="351"/>
                    </a:lnTo>
                    <a:lnTo>
                      <a:pt x="40" y="328"/>
                    </a:lnTo>
                    <a:lnTo>
                      <a:pt x="55" y="307"/>
                    </a:lnTo>
                    <a:lnTo>
                      <a:pt x="71" y="288"/>
                    </a:lnTo>
                    <a:lnTo>
                      <a:pt x="87" y="271"/>
                    </a:lnTo>
                    <a:lnTo>
                      <a:pt x="106" y="255"/>
                    </a:lnTo>
                    <a:lnTo>
                      <a:pt x="125" y="241"/>
                    </a:lnTo>
                    <a:lnTo>
                      <a:pt x="107" y="233"/>
                    </a:lnTo>
                    <a:lnTo>
                      <a:pt x="89" y="224"/>
                    </a:lnTo>
                    <a:lnTo>
                      <a:pt x="73" y="211"/>
                    </a:lnTo>
                    <a:lnTo>
                      <a:pt x="59" y="197"/>
                    </a:lnTo>
                    <a:lnTo>
                      <a:pt x="46" y="182"/>
                    </a:lnTo>
                    <a:lnTo>
                      <a:pt x="37" y="165"/>
                    </a:lnTo>
                    <a:lnTo>
                      <a:pt x="30" y="147"/>
                    </a:lnTo>
                    <a:lnTo>
                      <a:pt x="26" y="127"/>
                    </a:lnTo>
                    <a:lnTo>
                      <a:pt x="26" y="110"/>
                    </a:lnTo>
                    <a:lnTo>
                      <a:pt x="29" y="95"/>
                    </a:lnTo>
                    <a:lnTo>
                      <a:pt x="33" y="80"/>
                    </a:lnTo>
                    <a:lnTo>
                      <a:pt x="39" y="65"/>
                    </a:lnTo>
                    <a:lnTo>
                      <a:pt x="48" y="52"/>
                    </a:lnTo>
                    <a:lnTo>
                      <a:pt x="58" y="41"/>
                    </a:lnTo>
                    <a:lnTo>
                      <a:pt x="69" y="30"/>
                    </a:lnTo>
                    <a:lnTo>
                      <a:pt x="82" y="21"/>
                    </a:lnTo>
                    <a:lnTo>
                      <a:pt x="96" y="13"/>
                    </a:lnTo>
                    <a:lnTo>
                      <a:pt x="111" y="7"/>
                    </a:lnTo>
                    <a:lnTo>
                      <a:pt x="125" y="4"/>
                    </a:lnTo>
                    <a:lnTo>
                      <a:pt x="142" y="2"/>
                    </a:lnTo>
                    <a:lnTo>
                      <a:pt x="159" y="0"/>
                    </a:lnTo>
                    <a:lnTo>
                      <a:pt x="175" y="3"/>
                    </a:lnTo>
                    <a:lnTo>
                      <a:pt x="192" y="6"/>
                    </a:lnTo>
                    <a:lnTo>
                      <a:pt x="208" y="13"/>
                    </a:lnTo>
                    <a:lnTo>
                      <a:pt x="182" y="70"/>
                    </a:lnTo>
                    <a:lnTo>
                      <a:pt x="164" y="61"/>
                    </a:lnTo>
                    <a:lnTo>
                      <a:pt x="140" y="55"/>
                    </a:lnTo>
                    <a:lnTo>
                      <a:pt x="115" y="52"/>
                    </a:lnTo>
                    <a:lnTo>
                      <a:pt x="91" y="55"/>
                    </a:lnTo>
                    <a:lnTo>
                      <a:pt x="73" y="61"/>
                    </a:lnTo>
                    <a:lnTo>
                      <a:pt x="62" y="75"/>
                    </a:lnTo>
                    <a:lnTo>
                      <a:pt x="62" y="98"/>
                    </a:lnTo>
                    <a:lnTo>
                      <a:pt x="76" y="129"/>
                    </a:lnTo>
                    <a:lnTo>
                      <a:pt x="92" y="147"/>
                    </a:lnTo>
                    <a:lnTo>
                      <a:pt x="113" y="162"/>
                    </a:lnTo>
                    <a:lnTo>
                      <a:pt x="137" y="174"/>
                    </a:lnTo>
                    <a:lnTo>
                      <a:pt x="162" y="184"/>
                    </a:lnTo>
                    <a:lnTo>
                      <a:pt x="185" y="192"/>
                    </a:lnTo>
                    <a:lnTo>
                      <a:pt x="205" y="196"/>
                    </a:lnTo>
                    <a:lnTo>
                      <a:pt x="219" y="200"/>
                    </a:lnTo>
                    <a:lnTo>
                      <a:pt x="225" y="201"/>
                    </a:lnTo>
                    <a:lnTo>
                      <a:pt x="222" y="203"/>
                    </a:lnTo>
                    <a:lnTo>
                      <a:pt x="214" y="209"/>
                    </a:lnTo>
                    <a:lnTo>
                      <a:pt x="204" y="217"/>
                    </a:lnTo>
                    <a:lnTo>
                      <a:pt x="189" y="227"/>
                    </a:lnTo>
                    <a:lnTo>
                      <a:pt x="173" y="241"/>
                    </a:lnTo>
                    <a:lnTo>
                      <a:pt x="155" y="256"/>
                    </a:lnTo>
                    <a:lnTo>
                      <a:pt x="137" y="272"/>
                    </a:lnTo>
                    <a:lnTo>
                      <a:pt x="119" y="290"/>
                    </a:lnTo>
                    <a:lnTo>
                      <a:pt x="100" y="308"/>
                    </a:lnTo>
                    <a:lnTo>
                      <a:pt x="85" y="328"/>
                    </a:lnTo>
                    <a:lnTo>
                      <a:pt x="71" y="346"/>
                    </a:lnTo>
                    <a:lnTo>
                      <a:pt x="61" y="364"/>
                    </a:lnTo>
                    <a:lnTo>
                      <a:pt x="54" y="383"/>
                    </a:lnTo>
                    <a:lnTo>
                      <a:pt x="52" y="400"/>
                    </a:lnTo>
                    <a:lnTo>
                      <a:pt x="55" y="416"/>
                    </a:lnTo>
                    <a:lnTo>
                      <a:pt x="66" y="431"/>
                    </a:lnTo>
                    <a:lnTo>
                      <a:pt x="83" y="447"/>
                    </a:lnTo>
                    <a:lnTo>
                      <a:pt x="104" y="461"/>
                    </a:lnTo>
                    <a:lnTo>
                      <a:pt x="125" y="474"/>
                    </a:lnTo>
                    <a:lnTo>
                      <a:pt x="150" y="485"/>
                    </a:lnTo>
                    <a:lnTo>
                      <a:pt x="175" y="495"/>
                    </a:lnTo>
                    <a:lnTo>
                      <a:pt x="200" y="504"/>
                    </a:lnTo>
                    <a:lnTo>
                      <a:pt x="227" y="511"/>
                    </a:lnTo>
                    <a:lnTo>
                      <a:pt x="252" y="516"/>
                    </a:lnTo>
                    <a:lnTo>
                      <a:pt x="276" y="521"/>
                    </a:lnTo>
                    <a:lnTo>
                      <a:pt x="299" y="526"/>
                    </a:lnTo>
                    <a:lnTo>
                      <a:pt x="320" y="529"/>
                    </a:lnTo>
                    <a:lnTo>
                      <a:pt x="339" y="530"/>
                    </a:lnTo>
                    <a:lnTo>
                      <a:pt x="354" y="533"/>
                    </a:lnTo>
                    <a:lnTo>
                      <a:pt x="365" y="534"/>
                    </a:lnTo>
                    <a:lnTo>
                      <a:pt x="373" y="534"/>
                    </a:lnTo>
                    <a:lnTo>
                      <a:pt x="375" y="534"/>
                    </a:lnTo>
                    <a:lnTo>
                      <a:pt x="369" y="545"/>
                    </a:lnTo>
                    <a:lnTo>
                      <a:pt x="352" y="571"/>
                    </a:lnTo>
                    <a:lnTo>
                      <a:pt x="331" y="606"/>
                    </a:lnTo>
                    <a:lnTo>
                      <a:pt x="306" y="648"/>
                    </a:lnTo>
                    <a:lnTo>
                      <a:pt x="282" y="690"/>
                    </a:lnTo>
                    <a:lnTo>
                      <a:pt x="261" y="732"/>
                    </a:lnTo>
                    <a:lnTo>
                      <a:pt x="246" y="766"/>
                    </a:lnTo>
                    <a:lnTo>
                      <a:pt x="243" y="789"/>
                    </a:lnTo>
                    <a:lnTo>
                      <a:pt x="248" y="810"/>
                    </a:lnTo>
                    <a:lnTo>
                      <a:pt x="256" y="829"/>
                    </a:lnTo>
                    <a:lnTo>
                      <a:pt x="267" y="845"/>
                    </a:lnTo>
                    <a:lnTo>
                      <a:pt x="281" y="857"/>
                    </a:lnTo>
                    <a:lnTo>
                      <a:pt x="299" y="867"/>
                    </a:lnTo>
                    <a:lnTo>
                      <a:pt x="320" y="873"/>
                    </a:lnTo>
                    <a:lnTo>
                      <a:pt x="344" y="876"/>
                    </a:lnTo>
                    <a:lnTo>
                      <a:pt x="372" y="873"/>
                    </a:lnTo>
                    <a:lnTo>
                      <a:pt x="395" y="869"/>
                    </a:lnTo>
                    <a:lnTo>
                      <a:pt x="417" y="863"/>
                    </a:lnTo>
                    <a:lnTo>
                      <a:pt x="439" y="855"/>
                    </a:lnTo>
                    <a:lnTo>
                      <a:pt x="460" y="847"/>
                    </a:lnTo>
                    <a:lnTo>
                      <a:pt x="480" y="839"/>
                    </a:lnTo>
                    <a:lnTo>
                      <a:pt x="501" y="832"/>
                    </a:lnTo>
                    <a:lnTo>
                      <a:pt x="522" y="827"/>
                    </a:lnTo>
                    <a:lnTo>
                      <a:pt x="545" y="825"/>
                    </a:lnTo>
                    <a:lnTo>
                      <a:pt x="548" y="870"/>
                    </a:lnTo>
                    <a:lnTo>
                      <a:pt x="546" y="920"/>
                    </a:lnTo>
                    <a:lnTo>
                      <a:pt x="540" y="971"/>
                    </a:lnTo>
                    <a:lnTo>
                      <a:pt x="537" y="1017"/>
                    </a:lnTo>
                    <a:lnTo>
                      <a:pt x="492" y="1019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397160" y="2469960"/>
                <a:ext cx="311040" cy="201960"/>
              </a:xfrm>
              <a:custGeom>
                <a:avLst/>
                <a:gdLst/>
                <a:ahLst/>
                <a:rect l="l" t="t" r="r" b="b"/>
                <a:pathLst>
                  <a:path w="393" h="254">
                    <a:moveTo>
                      <a:pt x="5" y="41"/>
                    </a:moveTo>
                    <a:lnTo>
                      <a:pt x="1" y="57"/>
                    </a:lnTo>
                    <a:lnTo>
                      <a:pt x="0" y="74"/>
                    </a:lnTo>
                    <a:lnTo>
                      <a:pt x="0" y="92"/>
                    </a:lnTo>
                    <a:lnTo>
                      <a:pt x="1" y="112"/>
                    </a:lnTo>
                    <a:lnTo>
                      <a:pt x="6" y="133"/>
                    </a:lnTo>
                    <a:lnTo>
                      <a:pt x="13" y="153"/>
                    </a:lnTo>
                    <a:lnTo>
                      <a:pt x="22" y="174"/>
                    </a:lnTo>
                    <a:lnTo>
                      <a:pt x="36" y="195"/>
                    </a:lnTo>
                    <a:lnTo>
                      <a:pt x="53" y="210"/>
                    </a:lnTo>
                    <a:lnTo>
                      <a:pt x="72" y="221"/>
                    </a:lnTo>
                    <a:lnTo>
                      <a:pt x="90" y="231"/>
                    </a:lnTo>
                    <a:lnTo>
                      <a:pt x="108" y="238"/>
                    </a:lnTo>
                    <a:lnTo>
                      <a:pt x="128" y="243"/>
                    </a:lnTo>
                    <a:lnTo>
                      <a:pt x="149" y="247"/>
                    </a:lnTo>
                    <a:lnTo>
                      <a:pt x="169" y="250"/>
                    </a:lnTo>
                    <a:lnTo>
                      <a:pt x="191" y="253"/>
                    </a:lnTo>
                    <a:lnTo>
                      <a:pt x="210" y="254"/>
                    </a:lnTo>
                    <a:lnTo>
                      <a:pt x="229" y="253"/>
                    </a:lnTo>
                    <a:lnTo>
                      <a:pt x="247" y="250"/>
                    </a:lnTo>
                    <a:lnTo>
                      <a:pt x="264" y="248"/>
                    </a:lnTo>
                    <a:lnTo>
                      <a:pt x="280" y="243"/>
                    </a:lnTo>
                    <a:lnTo>
                      <a:pt x="296" y="239"/>
                    </a:lnTo>
                    <a:lnTo>
                      <a:pt x="309" y="233"/>
                    </a:lnTo>
                    <a:lnTo>
                      <a:pt x="322" y="227"/>
                    </a:lnTo>
                    <a:lnTo>
                      <a:pt x="338" y="216"/>
                    </a:lnTo>
                    <a:lnTo>
                      <a:pt x="350" y="202"/>
                    </a:lnTo>
                    <a:lnTo>
                      <a:pt x="362" y="185"/>
                    </a:lnTo>
                    <a:lnTo>
                      <a:pt x="371" y="166"/>
                    </a:lnTo>
                    <a:lnTo>
                      <a:pt x="378" y="147"/>
                    </a:lnTo>
                    <a:lnTo>
                      <a:pt x="383" y="126"/>
                    </a:lnTo>
                    <a:lnTo>
                      <a:pt x="387" y="105"/>
                    </a:lnTo>
                    <a:lnTo>
                      <a:pt x="389" y="84"/>
                    </a:lnTo>
                    <a:lnTo>
                      <a:pt x="391" y="66"/>
                    </a:lnTo>
                    <a:lnTo>
                      <a:pt x="393" y="43"/>
                    </a:lnTo>
                    <a:lnTo>
                      <a:pt x="393" y="20"/>
                    </a:lnTo>
                    <a:lnTo>
                      <a:pt x="393" y="0"/>
                    </a:lnTo>
                    <a:lnTo>
                      <a:pt x="361" y="5"/>
                    </a:lnTo>
                    <a:lnTo>
                      <a:pt x="363" y="36"/>
                    </a:lnTo>
                    <a:lnTo>
                      <a:pt x="364" y="71"/>
                    </a:lnTo>
                    <a:lnTo>
                      <a:pt x="362" y="106"/>
                    </a:lnTo>
                    <a:lnTo>
                      <a:pt x="356" y="139"/>
                    </a:lnTo>
                    <a:lnTo>
                      <a:pt x="347" y="153"/>
                    </a:lnTo>
                    <a:lnTo>
                      <a:pt x="336" y="165"/>
                    </a:lnTo>
                    <a:lnTo>
                      <a:pt x="323" y="175"/>
                    </a:lnTo>
                    <a:lnTo>
                      <a:pt x="309" y="183"/>
                    </a:lnTo>
                    <a:lnTo>
                      <a:pt x="292" y="189"/>
                    </a:lnTo>
                    <a:lnTo>
                      <a:pt x="274" y="193"/>
                    </a:lnTo>
                    <a:lnTo>
                      <a:pt x="256" y="195"/>
                    </a:lnTo>
                    <a:lnTo>
                      <a:pt x="237" y="195"/>
                    </a:lnTo>
                    <a:lnTo>
                      <a:pt x="218" y="194"/>
                    </a:lnTo>
                    <a:lnTo>
                      <a:pt x="198" y="190"/>
                    </a:lnTo>
                    <a:lnTo>
                      <a:pt x="179" y="186"/>
                    </a:lnTo>
                    <a:lnTo>
                      <a:pt x="159" y="180"/>
                    </a:lnTo>
                    <a:lnTo>
                      <a:pt x="141" y="173"/>
                    </a:lnTo>
                    <a:lnTo>
                      <a:pt x="122" y="165"/>
                    </a:lnTo>
                    <a:lnTo>
                      <a:pt x="106" y="156"/>
                    </a:lnTo>
                    <a:lnTo>
                      <a:pt x="91" y="147"/>
                    </a:lnTo>
                    <a:lnTo>
                      <a:pt x="81" y="134"/>
                    </a:lnTo>
                    <a:lnTo>
                      <a:pt x="72" y="121"/>
                    </a:lnTo>
                    <a:lnTo>
                      <a:pt x="65" y="107"/>
                    </a:lnTo>
                    <a:lnTo>
                      <a:pt x="60" y="92"/>
                    </a:lnTo>
                    <a:lnTo>
                      <a:pt x="55" y="79"/>
                    </a:lnTo>
                    <a:lnTo>
                      <a:pt x="53" y="65"/>
                    </a:lnTo>
                    <a:lnTo>
                      <a:pt x="51" y="51"/>
                    </a:lnTo>
                    <a:lnTo>
                      <a:pt x="50" y="39"/>
                    </a:lnTo>
                    <a:lnTo>
                      <a:pt x="5" y="41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4114800" y="533520"/>
              <a:ext cx="4494600" cy="4347000"/>
              <a:chOff x="4114800" y="533520"/>
              <a:chExt cx="4494600" cy="4347000"/>
            </a:xfrm>
          </p:grpSpPr>
          <p:sp>
            <p:nvSpPr>
              <p:cNvPr id="121" name=""/>
              <p:cNvSpPr/>
              <p:nvPr/>
            </p:nvSpPr>
            <p:spPr>
              <a:xfrm>
                <a:off x="6184800" y="812880"/>
                <a:ext cx="2424600" cy="2464920"/>
              </a:xfrm>
              <a:custGeom>
                <a:avLst/>
                <a:gdLst/>
                <a:ahLst/>
                <a:rect l="l" t="t" r="r" b="b"/>
                <a:pathLst>
                  <a:path w="1080" h="1092">
                    <a:moveTo>
                      <a:pt x="741" y="6"/>
                    </a:moveTo>
                    <a:lnTo>
                      <a:pt x="738" y="24"/>
                    </a:lnTo>
                    <a:lnTo>
                      <a:pt x="735" y="45"/>
                    </a:lnTo>
                    <a:lnTo>
                      <a:pt x="731" y="66"/>
                    </a:lnTo>
                    <a:lnTo>
                      <a:pt x="727" y="87"/>
                    </a:lnTo>
                    <a:lnTo>
                      <a:pt x="722" y="107"/>
                    </a:lnTo>
                    <a:lnTo>
                      <a:pt x="717" y="126"/>
                    </a:lnTo>
                    <a:lnTo>
                      <a:pt x="712" y="142"/>
                    </a:lnTo>
                    <a:lnTo>
                      <a:pt x="706" y="154"/>
                    </a:lnTo>
                    <a:lnTo>
                      <a:pt x="698" y="171"/>
                    </a:lnTo>
                    <a:lnTo>
                      <a:pt x="690" y="189"/>
                    </a:lnTo>
                    <a:lnTo>
                      <a:pt x="679" y="207"/>
                    </a:lnTo>
                    <a:lnTo>
                      <a:pt x="669" y="225"/>
                    </a:lnTo>
                    <a:lnTo>
                      <a:pt x="656" y="239"/>
                    </a:lnTo>
                    <a:lnTo>
                      <a:pt x="644" y="249"/>
                    </a:lnTo>
                    <a:lnTo>
                      <a:pt x="630" y="254"/>
                    </a:lnTo>
                    <a:lnTo>
                      <a:pt x="615" y="251"/>
                    </a:lnTo>
                    <a:lnTo>
                      <a:pt x="597" y="241"/>
                    </a:lnTo>
                    <a:lnTo>
                      <a:pt x="582" y="227"/>
                    </a:lnTo>
                    <a:lnTo>
                      <a:pt x="568" y="211"/>
                    </a:lnTo>
                    <a:lnTo>
                      <a:pt x="556" y="194"/>
                    </a:lnTo>
                    <a:lnTo>
                      <a:pt x="546" y="174"/>
                    </a:lnTo>
                    <a:lnTo>
                      <a:pt x="534" y="156"/>
                    </a:lnTo>
                    <a:lnTo>
                      <a:pt x="524" y="136"/>
                    </a:lnTo>
                    <a:lnTo>
                      <a:pt x="512" y="118"/>
                    </a:lnTo>
                    <a:lnTo>
                      <a:pt x="509" y="130"/>
                    </a:lnTo>
                    <a:lnTo>
                      <a:pt x="502" y="148"/>
                    </a:lnTo>
                    <a:lnTo>
                      <a:pt x="493" y="169"/>
                    </a:lnTo>
                    <a:lnTo>
                      <a:pt x="483" y="194"/>
                    </a:lnTo>
                    <a:lnTo>
                      <a:pt x="471" y="217"/>
                    </a:lnTo>
                    <a:lnTo>
                      <a:pt x="459" y="237"/>
                    </a:lnTo>
                    <a:lnTo>
                      <a:pt x="448" y="254"/>
                    </a:lnTo>
                    <a:lnTo>
                      <a:pt x="438" y="264"/>
                    </a:lnTo>
                    <a:lnTo>
                      <a:pt x="423" y="272"/>
                    </a:lnTo>
                    <a:lnTo>
                      <a:pt x="408" y="279"/>
                    </a:lnTo>
                    <a:lnTo>
                      <a:pt x="393" y="283"/>
                    </a:lnTo>
                    <a:lnTo>
                      <a:pt x="378" y="287"/>
                    </a:lnTo>
                    <a:lnTo>
                      <a:pt x="363" y="288"/>
                    </a:lnTo>
                    <a:lnTo>
                      <a:pt x="348" y="288"/>
                    </a:lnTo>
                    <a:lnTo>
                      <a:pt x="334" y="287"/>
                    </a:lnTo>
                    <a:lnTo>
                      <a:pt x="320" y="283"/>
                    </a:lnTo>
                    <a:lnTo>
                      <a:pt x="305" y="278"/>
                    </a:lnTo>
                    <a:lnTo>
                      <a:pt x="291" y="272"/>
                    </a:lnTo>
                    <a:lnTo>
                      <a:pt x="278" y="264"/>
                    </a:lnTo>
                    <a:lnTo>
                      <a:pt x="264" y="255"/>
                    </a:lnTo>
                    <a:lnTo>
                      <a:pt x="250" y="243"/>
                    </a:lnTo>
                    <a:lnTo>
                      <a:pt x="236" y="232"/>
                    </a:lnTo>
                    <a:lnTo>
                      <a:pt x="223" y="218"/>
                    </a:lnTo>
                    <a:lnTo>
                      <a:pt x="210" y="203"/>
                    </a:lnTo>
                    <a:lnTo>
                      <a:pt x="200" y="221"/>
                    </a:lnTo>
                    <a:lnTo>
                      <a:pt x="187" y="243"/>
                    </a:lnTo>
                    <a:lnTo>
                      <a:pt x="170" y="265"/>
                    </a:lnTo>
                    <a:lnTo>
                      <a:pt x="153" y="288"/>
                    </a:lnTo>
                    <a:lnTo>
                      <a:pt x="136" y="308"/>
                    </a:lnTo>
                    <a:lnTo>
                      <a:pt x="122" y="325"/>
                    </a:lnTo>
                    <a:lnTo>
                      <a:pt x="112" y="335"/>
                    </a:lnTo>
                    <a:lnTo>
                      <a:pt x="108" y="340"/>
                    </a:lnTo>
                    <a:lnTo>
                      <a:pt x="100" y="348"/>
                    </a:lnTo>
                    <a:lnTo>
                      <a:pt x="91" y="357"/>
                    </a:lnTo>
                    <a:lnTo>
                      <a:pt x="83" y="365"/>
                    </a:lnTo>
                    <a:lnTo>
                      <a:pt x="78" y="370"/>
                    </a:lnTo>
                    <a:lnTo>
                      <a:pt x="101" y="388"/>
                    </a:lnTo>
                    <a:lnTo>
                      <a:pt x="123" y="408"/>
                    </a:lnTo>
                    <a:lnTo>
                      <a:pt x="144" y="431"/>
                    </a:lnTo>
                    <a:lnTo>
                      <a:pt x="162" y="456"/>
                    </a:lnTo>
                    <a:lnTo>
                      <a:pt x="178" y="484"/>
                    </a:lnTo>
                    <a:lnTo>
                      <a:pt x="191" y="513"/>
                    </a:lnTo>
                    <a:lnTo>
                      <a:pt x="200" y="544"/>
                    </a:lnTo>
                    <a:lnTo>
                      <a:pt x="206" y="577"/>
                    </a:lnTo>
                    <a:lnTo>
                      <a:pt x="220" y="559"/>
                    </a:lnTo>
                    <a:lnTo>
                      <a:pt x="235" y="543"/>
                    </a:lnTo>
                    <a:lnTo>
                      <a:pt x="251" y="528"/>
                    </a:lnTo>
                    <a:lnTo>
                      <a:pt x="268" y="517"/>
                    </a:lnTo>
                    <a:lnTo>
                      <a:pt x="286" y="512"/>
                    </a:lnTo>
                    <a:lnTo>
                      <a:pt x="303" y="509"/>
                    </a:lnTo>
                    <a:lnTo>
                      <a:pt x="320" y="514"/>
                    </a:lnTo>
                    <a:lnTo>
                      <a:pt x="337" y="525"/>
                    </a:lnTo>
                    <a:lnTo>
                      <a:pt x="349" y="538"/>
                    </a:lnTo>
                    <a:lnTo>
                      <a:pt x="359" y="552"/>
                    </a:lnTo>
                    <a:lnTo>
                      <a:pt x="367" y="568"/>
                    </a:lnTo>
                    <a:lnTo>
                      <a:pt x="374" y="585"/>
                    </a:lnTo>
                    <a:lnTo>
                      <a:pt x="379" y="604"/>
                    </a:lnTo>
                    <a:lnTo>
                      <a:pt x="380" y="622"/>
                    </a:lnTo>
                    <a:lnTo>
                      <a:pt x="380" y="642"/>
                    </a:lnTo>
                    <a:lnTo>
                      <a:pt x="378" y="662"/>
                    </a:lnTo>
                    <a:lnTo>
                      <a:pt x="372" y="684"/>
                    </a:lnTo>
                    <a:lnTo>
                      <a:pt x="363" y="710"/>
                    </a:lnTo>
                    <a:lnTo>
                      <a:pt x="350" y="736"/>
                    </a:lnTo>
                    <a:lnTo>
                      <a:pt x="337" y="763"/>
                    </a:lnTo>
                    <a:lnTo>
                      <a:pt x="324" y="786"/>
                    </a:lnTo>
                    <a:lnTo>
                      <a:pt x="313" y="806"/>
                    </a:lnTo>
                    <a:lnTo>
                      <a:pt x="304" y="820"/>
                    </a:lnTo>
                    <a:lnTo>
                      <a:pt x="301" y="826"/>
                    </a:lnTo>
                    <a:lnTo>
                      <a:pt x="318" y="837"/>
                    </a:lnTo>
                    <a:lnTo>
                      <a:pt x="333" y="852"/>
                    </a:lnTo>
                    <a:lnTo>
                      <a:pt x="347" y="871"/>
                    </a:lnTo>
                    <a:lnTo>
                      <a:pt x="359" y="890"/>
                    </a:lnTo>
                    <a:lnTo>
                      <a:pt x="368" y="911"/>
                    </a:lnTo>
                    <a:lnTo>
                      <a:pt x="377" y="934"/>
                    </a:lnTo>
                    <a:lnTo>
                      <a:pt x="382" y="957"/>
                    </a:lnTo>
                    <a:lnTo>
                      <a:pt x="385" y="981"/>
                    </a:lnTo>
                    <a:lnTo>
                      <a:pt x="385" y="981"/>
                    </a:lnTo>
                    <a:lnTo>
                      <a:pt x="385" y="980"/>
                    </a:lnTo>
                    <a:lnTo>
                      <a:pt x="385" y="980"/>
                    </a:lnTo>
                    <a:lnTo>
                      <a:pt x="386" y="980"/>
                    </a:lnTo>
                    <a:lnTo>
                      <a:pt x="404" y="966"/>
                    </a:lnTo>
                    <a:lnTo>
                      <a:pt x="424" y="954"/>
                    </a:lnTo>
                    <a:lnTo>
                      <a:pt x="445" y="946"/>
                    </a:lnTo>
                    <a:lnTo>
                      <a:pt x="466" y="939"/>
                    </a:lnTo>
                    <a:lnTo>
                      <a:pt x="488" y="937"/>
                    </a:lnTo>
                    <a:lnTo>
                      <a:pt x="510" y="937"/>
                    </a:lnTo>
                    <a:lnTo>
                      <a:pt x="531" y="940"/>
                    </a:lnTo>
                    <a:lnTo>
                      <a:pt x="550" y="947"/>
                    </a:lnTo>
                    <a:lnTo>
                      <a:pt x="553" y="939"/>
                    </a:lnTo>
                    <a:lnTo>
                      <a:pt x="556" y="923"/>
                    </a:lnTo>
                    <a:lnTo>
                      <a:pt x="563" y="901"/>
                    </a:lnTo>
                    <a:lnTo>
                      <a:pt x="571" y="874"/>
                    </a:lnTo>
                    <a:lnTo>
                      <a:pt x="580" y="846"/>
                    </a:lnTo>
                    <a:lnTo>
                      <a:pt x="592" y="819"/>
                    </a:lnTo>
                    <a:lnTo>
                      <a:pt x="602" y="794"/>
                    </a:lnTo>
                    <a:lnTo>
                      <a:pt x="614" y="775"/>
                    </a:lnTo>
                    <a:lnTo>
                      <a:pt x="625" y="760"/>
                    </a:lnTo>
                    <a:lnTo>
                      <a:pt x="639" y="748"/>
                    </a:lnTo>
                    <a:lnTo>
                      <a:pt x="654" y="737"/>
                    </a:lnTo>
                    <a:lnTo>
                      <a:pt x="669" y="729"/>
                    </a:lnTo>
                    <a:lnTo>
                      <a:pt x="685" y="723"/>
                    </a:lnTo>
                    <a:lnTo>
                      <a:pt x="703" y="720"/>
                    </a:lnTo>
                    <a:lnTo>
                      <a:pt x="719" y="719"/>
                    </a:lnTo>
                    <a:lnTo>
                      <a:pt x="735" y="721"/>
                    </a:lnTo>
                    <a:lnTo>
                      <a:pt x="753" y="728"/>
                    </a:lnTo>
                    <a:lnTo>
                      <a:pt x="767" y="740"/>
                    </a:lnTo>
                    <a:lnTo>
                      <a:pt x="777" y="755"/>
                    </a:lnTo>
                    <a:lnTo>
                      <a:pt x="784" y="773"/>
                    </a:lnTo>
                    <a:lnTo>
                      <a:pt x="788" y="794"/>
                    </a:lnTo>
                    <a:lnTo>
                      <a:pt x="789" y="817"/>
                    </a:lnTo>
                    <a:lnTo>
                      <a:pt x="788" y="840"/>
                    </a:lnTo>
                    <a:lnTo>
                      <a:pt x="784" y="863"/>
                    </a:lnTo>
                    <a:lnTo>
                      <a:pt x="797" y="854"/>
                    </a:lnTo>
                    <a:lnTo>
                      <a:pt x="808" y="844"/>
                    </a:lnTo>
                    <a:lnTo>
                      <a:pt x="821" y="837"/>
                    </a:lnTo>
                    <a:lnTo>
                      <a:pt x="833" y="831"/>
                    </a:lnTo>
                    <a:lnTo>
                      <a:pt x="844" y="825"/>
                    </a:lnTo>
                    <a:lnTo>
                      <a:pt x="856" y="819"/>
                    </a:lnTo>
                    <a:lnTo>
                      <a:pt x="867" y="816"/>
                    </a:lnTo>
                    <a:lnTo>
                      <a:pt x="880" y="813"/>
                    </a:lnTo>
                    <a:lnTo>
                      <a:pt x="893" y="812"/>
                    </a:lnTo>
                    <a:lnTo>
                      <a:pt x="906" y="811"/>
                    </a:lnTo>
                    <a:lnTo>
                      <a:pt x="921" y="812"/>
                    </a:lnTo>
                    <a:lnTo>
                      <a:pt x="936" y="814"/>
                    </a:lnTo>
                    <a:lnTo>
                      <a:pt x="952" y="818"/>
                    </a:lnTo>
                    <a:lnTo>
                      <a:pt x="971" y="823"/>
                    </a:lnTo>
                    <a:lnTo>
                      <a:pt x="989" y="828"/>
                    </a:lnTo>
                    <a:lnTo>
                      <a:pt x="1010" y="835"/>
                    </a:lnTo>
                    <a:lnTo>
                      <a:pt x="1008" y="828"/>
                    </a:lnTo>
                    <a:lnTo>
                      <a:pt x="1004" y="814"/>
                    </a:lnTo>
                    <a:lnTo>
                      <a:pt x="1001" y="799"/>
                    </a:lnTo>
                    <a:lnTo>
                      <a:pt x="999" y="788"/>
                    </a:lnTo>
                    <a:lnTo>
                      <a:pt x="1000" y="783"/>
                    </a:lnTo>
                    <a:lnTo>
                      <a:pt x="1002" y="772"/>
                    </a:lnTo>
                    <a:lnTo>
                      <a:pt x="1007" y="756"/>
                    </a:lnTo>
                    <a:lnTo>
                      <a:pt x="1011" y="734"/>
                    </a:lnTo>
                    <a:lnTo>
                      <a:pt x="1017" y="712"/>
                    </a:lnTo>
                    <a:lnTo>
                      <a:pt x="1024" y="689"/>
                    </a:lnTo>
                    <a:lnTo>
                      <a:pt x="1032" y="667"/>
                    </a:lnTo>
                    <a:lnTo>
                      <a:pt x="1039" y="650"/>
                    </a:lnTo>
                    <a:lnTo>
                      <a:pt x="1025" y="643"/>
                    </a:lnTo>
                    <a:lnTo>
                      <a:pt x="1011" y="636"/>
                    </a:lnTo>
                    <a:lnTo>
                      <a:pt x="996" y="628"/>
                    </a:lnTo>
                    <a:lnTo>
                      <a:pt x="981" y="620"/>
                    </a:lnTo>
                    <a:lnTo>
                      <a:pt x="966" y="611"/>
                    </a:lnTo>
                    <a:lnTo>
                      <a:pt x="952" y="603"/>
                    </a:lnTo>
                    <a:lnTo>
                      <a:pt x="937" y="592"/>
                    </a:lnTo>
                    <a:lnTo>
                      <a:pt x="924" y="582"/>
                    </a:lnTo>
                    <a:lnTo>
                      <a:pt x="911" y="570"/>
                    </a:lnTo>
                    <a:lnTo>
                      <a:pt x="898" y="559"/>
                    </a:lnTo>
                    <a:lnTo>
                      <a:pt x="887" y="546"/>
                    </a:lnTo>
                    <a:lnTo>
                      <a:pt x="876" y="532"/>
                    </a:lnTo>
                    <a:lnTo>
                      <a:pt x="867" y="517"/>
                    </a:lnTo>
                    <a:lnTo>
                      <a:pt x="859" y="501"/>
                    </a:lnTo>
                    <a:lnTo>
                      <a:pt x="853" y="485"/>
                    </a:lnTo>
                    <a:lnTo>
                      <a:pt x="849" y="467"/>
                    </a:lnTo>
                    <a:lnTo>
                      <a:pt x="849" y="452"/>
                    </a:lnTo>
                    <a:lnTo>
                      <a:pt x="852" y="431"/>
                    </a:lnTo>
                    <a:lnTo>
                      <a:pt x="859" y="408"/>
                    </a:lnTo>
                    <a:lnTo>
                      <a:pt x="868" y="383"/>
                    </a:lnTo>
                    <a:lnTo>
                      <a:pt x="878" y="358"/>
                    </a:lnTo>
                    <a:lnTo>
                      <a:pt x="887" y="336"/>
                    </a:lnTo>
                    <a:lnTo>
                      <a:pt x="895" y="319"/>
                    </a:lnTo>
                    <a:lnTo>
                      <a:pt x="902" y="309"/>
                    </a:lnTo>
                    <a:lnTo>
                      <a:pt x="891" y="310"/>
                    </a:lnTo>
                    <a:lnTo>
                      <a:pt x="881" y="311"/>
                    </a:lnTo>
                    <a:lnTo>
                      <a:pt x="870" y="312"/>
                    </a:lnTo>
                    <a:lnTo>
                      <a:pt x="858" y="315"/>
                    </a:lnTo>
                    <a:lnTo>
                      <a:pt x="847" y="316"/>
                    </a:lnTo>
                    <a:lnTo>
                      <a:pt x="835" y="318"/>
                    </a:lnTo>
                    <a:lnTo>
                      <a:pt x="822" y="318"/>
                    </a:lnTo>
                    <a:lnTo>
                      <a:pt x="810" y="319"/>
                    </a:lnTo>
                    <a:lnTo>
                      <a:pt x="797" y="318"/>
                    </a:lnTo>
                    <a:lnTo>
                      <a:pt x="783" y="317"/>
                    </a:lnTo>
                    <a:lnTo>
                      <a:pt x="770" y="313"/>
                    </a:lnTo>
                    <a:lnTo>
                      <a:pt x="757" y="309"/>
                    </a:lnTo>
                    <a:lnTo>
                      <a:pt x="743" y="303"/>
                    </a:lnTo>
                    <a:lnTo>
                      <a:pt x="729" y="296"/>
                    </a:lnTo>
                    <a:lnTo>
                      <a:pt x="714" y="286"/>
                    </a:lnTo>
                    <a:lnTo>
                      <a:pt x="700" y="274"/>
                    </a:lnTo>
                    <a:lnTo>
                      <a:pt x="741" y="237"/>
                    </a:lnTo>
                    <a:lnTo>
                      <a:pt x="752" y="252"/>
                    </a:lnTo>
                    <a:lnTo>
                      <a:pt x="766" y="264"/>
                    </a:lnTo>
                    <a:lnTo>
                      <a:pt x="782" y="273"/>
                    </a:lnTo>
                    <a:lnTo>
                      <a:pt x="799" y="279"/>
                    </a:lnTo>
                    <a:lnTo>
                      <a:pt x="818" y="282"/>
                    </a:lnTo>
                    <a:lnTo>
                      <a:pt x="838" y="283"/>
                    </a:lnTo>
                    <a:lnTo>
                      <a:pt x="859" y="282"/>
                    </a:lnTo>
                    <a:lnTo>
                      <a:pt x="880" y="281"/>
                    </a:lnTo>
                    <a:lnTo>
                      <a:pt x="902" y="279"/>
                    </a:lnTo>
                    <a:lnTo>
                      <a:pt x="923" y="277"/>
                    </a:lnTo>
                    <a:lnTo>
                      <a:pt x="943" y="273"/>
                    </a:lnTo>
                    <a:lnTo>
                      <a:pt x="963" y="271"/>
                    </a:lnTo>
                    <a:lnTo>
                      <a:pt x="981" y="269"/>
                    </a:lnTo>
                    <a:lnTo>
                      <a:pt x="997" y="267"/>
                    </a:lnTo>
                    <a:lnTo>
                      <a:pt x="1012" y="269"/>
                    </a:lnTo>
                    <a:lnTo>
                      <a:pt x="1025" y="271"/>
                    </a:lnTo>
                    <a:lnTo>
                      <a:pt x="1008" y="281"/>
                    </a:lnTo>
                    <a:lnTo>
                      <a:pt x="988" y="293"/>
                    </a:lnTo>
                    <a:lnTo>
                      <a:pt x="966" y="307"/>
                    </a:lnTo>
                    <a:lnTo>
                      <a:pt x="946" y="324"/>
                    </a:lnTo>
                    <a:lnTo>
                      <a:pt x="926" y="343"/>
                    </a:lnTo>
                    <a:lnTo>
                      <a:pt x="909" y="366"/>
                    </a:lnTo>
                    <a:lnTo>
                      <a:pt x="896" y="393"/>
                    </a:lnTo>
                    <a:lnTo>
                      <a:pt x="887" y="423"/>
                    </a:lnTo>
                    <a:lnTo>
                      <a:pt x="887" y="455"/>
                    </a:lnTo>
                    <a:lnTo>
                      <a:pt x="890" y="483"/>
                    </a:lnTo>
                    <a:lnTo>
                      <a:pt x="898" y="505"/>
                    </a:lnTo>
                    <a:lnTo>
                      <a:pt x="910" y="520"/>
                    </a:lnTo>
                    <a:lnTo>
                      <a:pt x="929" y="535"/>
                    </a:lnTo>
                    <a:lnTo>
                      <a:pt x="949" y="548"/>
                    </a:lnTo>
                    <a:lnTo>
                      <a:pt x="970" y="561"/>
                    </a:lnTo>
                    <a:lnTo>
                      <a:pt x="992" y="573"/>
                    </a:lnTo>
                    <a:lnTo>
                      <a:pt x="1012" y="582"/>
                    </a:lnTo>
                    <a:lnTo>
                      <a:pt x="1035" y="591"/>
                    </a:lnTo>
                    <a:lnTo>
                      <a:pt x="1057" y="599"/>
                    </a:lnTo>
                    <a:lnTo>
                      <a:pt x="1080" y="606"/>
                    </a:lnTo>
                    <a:lnTo>
                      <a:pt x="1061" y="647"/>
                    </a:lnTo>
                    <a:lnTo>
                      <a:pt x="1047" y="690"/>
                    </a:lnTo>
                    <a:lnTo>
                      <a:pt x="1037" y="732"/>
                    </a:lnTo>
                    <a:lnTo>
                      <a:pt x="1032" y="772"/>
                    </a:lnTo>
                    <a:lnTo>
                      <a:pt x="1028" y="808"/>
                    </a:lnTo>
                    <a:lnTo>
                      <a:pt x="1027" y="839"/>
                    </a:lnTo>
                    <a:lnTo>
                      <a:pt x="1027" y="862"/>
                    </a:lnTo>
                    <a:lnTo>
                      <a:pt x="1027" y="876"/>
                    </a:lnTo>
                    <a:lnTo>
                      <a:pt x="1012" y="870"/>
                    </a:lnTo>
                    <a:lnTo>
                      <a:pt x="997" y="865"/>
                    </a:lnTo>
                    <a:lnTo>
                      <a:pt x="981" y="861"/>
                    </a:lnTo>
                    <a:lnTo>
                      <a:pt x="965" y="857"/>
                    </a:lnTo>
                    <a:lnTo>
                      <a:pt x="948" y="855"/>
                    </a:lnTo>
                    <a:lnTo>
                      <a:pt x="932" y="854"/>
                    </a:lnTo>
                    <a:lnTo>
                      <a:pt x="914" y="854"/>
                    </a:lnTo>
                    <a:lnTo>
                      <a:pt x="897" y="855"/>
                    </a:lnTo>
                    <a:lnTo>
                      <a:pt x="881" y="856"/>
                    </a:lnTo>
                    <a:lnTo>
                      <a:pt x="864" y="859"/>
                    </a:lnTo>
                    <a:lnTo>
                      <a:pt x="848" y="864"/>
                    </a:lnTo>
                    <a:lnTo>
                      <a:pt x="830" y="870"/>
                    </a:lnTo>
                    <a:lnTo>
                      <a:pt x="814" y="877"/>
                    </a:lnTo>
                    <a:lnTo>
                      <a:pt x="799" y="886"/>
                    </a:lnTo>
                    <a:lnTo>
                      <a:pt x="784" y="896"/>
                    </a:lnTo>
                    <a:lnTo>
                      <a:pt x="769" y="908"/>
                    </a:lnTo>
                    <a:lnTo>
                      <a:pt x="768" y="900"/>
                    </a:lnTo>
                    <a:lnTo>
                      <a:pt x="766" y="884"/>
                    </a:lnTo>
                    <a:lnTo>
                      <a:pt x="762" y="862"/>
                    </a:lnTo>
                    <a:lnTo>
                      <a:pt x="757" y="837"/>
                    </a:lnTo>
                    <a:lnTo>
                      <a:pt x="750" y="813"/>
                    </a:lnTo>
                    <a:lnTo>
                      <a:pt x="742" y="791"/>
                    </a:lnTo>
                    <a:lnTo>
                      <a:pt x="734" y="775"/>
                    </a:lnTo>
                    <a:lnTo>
                      <a:pt x="723" y="768"/>
                    </a:lnTo>
                    <a:lnTo>
                      <a:pt x="681" y="772"/>
                    </a:lnTo>
                    <a:lnTo>
                      <a:pt x="646" y="795"/>
                    </a:lnTo>
                    <a:lnTo>
                      <a:pt x="620" y="832"/>
                    </a:lnTo>
                    <a:lnTo>
                      <a:pt x="599" y="876"/>
                    </a:lnTo>
                    <a:lnTo>
                      <a:pt x="585" y="922"/>
                    </a:lnTo>
                    <a:lnTo>
                      <a:pt x="577" y="964"/>
                    </a:lnTo>
                    <a:lnTo>
                      <a:pt x="574" y="996"/>
                    </a:lnTo>
                    <a:lnTo>
                      <a:pt x="574" y="1013"/>
                    </a:lnTo>
                    <a:lnTo>
                      <a:pt x="555" y="993"/>
                    </a:lnTo>
                    <a:lnTo>
                      <a:pt x="536" y="980"/>
                    </a:lnTo>
                    <a:lnTo>
                      <a:pt x="515" y="973"/>
                    </a:lnTo>
                    <a:lnTo>
                      <a:pt x="495" y="972"/>
                    </a:lnTo>
                    <a:lnTo>
                      <a:pt x="476" y="976"/>
                    </a:lnTo>
                    <a:lnTo>
                      <a:pt x="456" y="983"/>
                    </a:lnTo>
                    <a:lnTo>
                      <a:pt x="436" y="993"/>
                    </a:lnTo>
                    <a:lnTo>
                      <a:pt x="419" y="1006"/>
                    </a:lnTo>
                    <a:lnTo>
                      <a:pt x="402" y="1019"/>
                    </a:lnTo>
                    <a:lnTo>
                      <a:pt x="387" y="1033"/>
                    </a:lnTo>
                    <a:lnTo>
                      <a:pt x="373" y="1048"/>
                    </a:lnTo>
                    <a:lnTo>
                      <a:pt x="362" y="1062"/>
                    </a:lnTo>
                    <a:lnTo>
                      <a:pt x="351" y="1074"/>
                    </a:lnTo>
                    <a:lnTo>
                      <a:pt x="344" y="1084"/>
                    </a:lnTo>
                    <a:lnTo>
                      <a:pt x="340" y="1090"/>
                    </a:lnTo>
                    <a:lnTo>
                      <a:pt x="339" y="1092"/>
                    </a:lnTo>
                    <a:lnTo>
                      <a:pt x="339" y="1025"/>
                    </a:lnTo>
                    <a:lnTo>
                      <a:pt x="332" y="972"/>
                    </a:lnTo>
                    <a:lnTo>
                      <a:pt x="319" y="932"/>
                    </a:lnTo>
                    <a:lnTo>
                      <a:pt x="304" y="901"/>
                    </a:lnTo>
                    <a:lnTo>
                      <a:pt x="287" y="879"/>
                    </a:lnTo>
                    <a:lnTo>
                      <a:pt x="268" y="863"/>
                    </a:lnTo>
                    <a:lnTo>
                      <a:pt x="250" y="851"/>
                    </a:lnTo>
                    <a:lnTo>
                      <a:pt x="235" y="842"/>
                    </a:lnTo>
                    <a:lnTo>
                      <a:pt x="246" y="833"/>
                    </a:lnTo>
                    <a:lnTo>
                      <a:pt x="267" y="812"/>
                    </a:lnTo>
                    <a:lnTo>
                      <a:pt x="291" y="780"/>
                    </a:lnTo>
                    <a:lnTo>
                      <a:pt x="314" y="742"/>
                    </a:lnTo>
                    <a:lnTo>
                      <a:pt x="333" y="699"/>
                    </a:lnTo>
                    <a:lnTo>
                      <a:pt x="341" y="656"/>
                    </a:lnTo>
                    <a:lnTo>
                      <a:pt x="334" y="613"/>
                    </a:lnTo>
                    <a:lnTo>
                      <a:pt x="307" y="574"/>
                    </a:lnTo>
                    <a:lnTo>
                      <a:pt x="296" y="569"/>
                    </a:lnTo>
                    <a:lnTo>
                      <a:pt x="280" y="571"/>
                    </a:lnTo>
                    <a:lnTo>
                      <a:pt x="260" y="578"/>
                    </a:lnTo>
                    <a:lnTo>
                      <a:pt x="239" y="588"/>
                    </a:lnTo>
                    <a:lnTo>
                      <a:pt x="219" y="598"/>
                    </a:lnTo>
                    <a:lnTo>
                      <a:pt x="201" y="608"/>
                    </a:lnTo>
                    <a:lnTo>
                      <a:pt x="189" y="615"/>
                    </a:lnTo>
                    <a:lnTo>
                      <a:pt x="183" y="620"/>
                    </a:lnTo>
                    <a:lnTo>
                      <a:pt x="177" y="581"/>
                    </a:lnTo>
                    <a:lnTo>
                      <a:pt x="162" y="544"/>
                    </a:lnTo>
                    <a:lnTo>
                      <a:pt x="143" y="509"/>
                    </a:lnTo>
                    <a:lnTo>
                      <a:pt x="117" y="478"/>
                    </a:lnTo>
                    <a:lnTo>
                      <a:pt x="89" y="450"/>
                    </a:lnTo>
                    <a:lnTo>
                      <a:pt x="59" y="426"/>
                    </a:lnTo>
                    <a:lnTo>
                      <a:pt x="29" y="404"/>
                    </a:lnTo>
                    <a:lnTo>
                      <a:pt x="0" y="386"/>
                    </a:lnTo>
                    <a:lnTo>
                      <a:pt x="9" y="381"/>
                    </a:lnTo>
                    <a:lnTo>
                      <a:pt x="19" y="373"/>
                    </a:lnTo>
                    <a:lnTo>
                      <a:pt x="31" y="365"/>
                    </a:lnTo>
                    <a:lnTo>
                      <a:pt x="45" y="354"/>
                    </a:lnTo>
                    <a:lnTo>
                      <a:pt x="60" y="341"/>
                    </a:lnTo>
                    <a:lnTo>
                      <a:pt x="76" y="327"/>
                    </a:lnTo>
                    <a:lnTo>
                      <a:pt x="92" y="311"/>
                    </a:lnTo>
                    <a:lnTo>
                      <a:pt x="108" y="294"/>
                    </a:lnTo>
                    <a:lnTo>
                      <a:pt x="124" y="275"/>
                    </a:lnTo>
                    <a:lnTo>
                      <a:pt x="140" y="257"/>
                    </a:lnTo>
                    <a:lnTo>
                      <a:pt x="157" y="236"/>
                    </a:lnTo>
                    <a:lnTo>
                      <a:pt x="170" y="216"/>
                    </a:lnTo>
                    <a:lnTo>
                      <a:pt x="183" y="194"/>
                    </a:lnTo>
                    <a:lnTo>
                      <a:pt x="195" y="172"/>
                    </a:lnTo>
                    <a:lnTo>
                      <a:pt x="205" y="150"/>
                    </a:lnTo>
                    <a:lnTo>
                      <a:pt x="212" y="127"/>
                    </a:lnTo>
                    <a:lnTo>
                      <a:pt x="229" y="153"/>
                    </a:lnTo>
                    <a:lnTo>
                      <a:pt x="245" y="176"/>
                    </a:lnTo>
                    <a:lnTo>
                      <a:pt x="263" y="195"/>
                    </a:lnTo>
                    <a:lnTo>
                      <a:pt x="280" y="211"/>
                    </a:lnTo>
                    <a:lnTo>
                      <a:pt x="298" y="224"/>
                    </a:lnTo>
                    <a:lnTo>
                      <a:pt x="318" y="233"/>
                    </a:lnTo>
                    <a:lnTo>
                      <a:pt x="340" y="241"/>
                    </a:lnTo>
                    <a:lnTo>
                      <a:pt x="362" y="247"/>
                    </a:lnTo>
                    <a:lnTo>
                      <a:pt x="371" y="248"/>
                    </a:lnTo>
                    <a:lnTo>
                      <a:pt x="380" y="247"/>
                    </a:lnTo>
                    <a:lnTo>
                      <a:pt x="389" y="244"/>
                    </a:lnTo>
                    <a:lnTo>
                      <a:pt x="400" y="240"/>
                    </a:lnTo>
                    <a:lnTo>
                      <a:pt x="410" y="234"/>
                    </a:lnTo>
                    <a:lnTo>
                      <a:pt x="421" y="226"/>
                    </a:lnTo>
                    <a:lnTo>
                      <a:pt x="432" y="216"/>
                    </a:lnTo>
                    <a:lnTo>
                      <a:pt x="443" y="204"/>
                    </a:lnTo>
                    <a:lnTo>
                      <a:pt x="456" y="159"/>
                    </a:lnTo>
                    <a:lnTo>
                      <a:pt x="458" y="107"/>
                    </a:lnTo>
                    <a:lnTo>
                      <a:pt x="454" y="55"/>
                    </a:lnTo>
                    <a:lnTo>
                      <a:pt x="447" y="11"/>
                    </a:lnTo>
                    <a:lnTo>
                      <a:pt x="477" y="24"/>
                    </a:lnTo>
                    <a:lnTo>
                      <a:pt x="502" y="42"/>
                    </a:lnTo>
                    <a:lnTo>
                      <a:pt x="524" y="61"/>
                    </a:lnTo>
                    <a:lnTo>
                      <a:pt x="542" y="83"/>
                    </a:lnTo>
                    <a:lnTo>
                      <a:pt x="559" y="106"/>
                    </a:lnTo>
                    <a:lnTo>
                      <a:pt x="572" y="129"/>
                    </a:lnTo>
                    <a:lnTo>
                      <a:pt x="585" y="152"/>
                    </a:lnTo>
                    <a:lnTo>
                      <a:pt x="595" y="173"/>
                    </a:lnTo>
                    <a:lnTo>
                      <a:pt x="602" y="188"/>
                    </a:lnTo>
                    <a:lnTo>
                      <a:pt x="610" y="202"/>
                    </a:lnTo>
                    <a:lnTo>
                      <a:pt x="617" y="212"/>
                    </a:lnTo>
                    <a:lnTo>
                      <a:pt x="623" y="220"/>
                    </a:lnTo>
                    <a:lnTo>
                      <a:pt x="630" y="226"/>
                    </a:lnTo>
                    <a:lnTo>
                      <a:pt x="638" y="228"/>
                    </a:lnTo>
                    <a:lnTo>
                      <a:pt x="646" y="226"/>
                    </a:lnTo>
                    <a:lnTo>
                      <a:pt x="654" y="220"/>
                    </a:lnTo>
                    <a:lnTo>
                      <a:pt x="656" y="216"/>
                    </a:lnTo>
                    <a:lnTo>
                      <a:pt x="661" y="204"/>
                    </a:lnTo>
                    <a:lnTo>
                      <a:pt x="668" y="188"/>
                    </a:lnTo>
                    <a:lnTo>
                      <a:pt x="677" y="166"/>
                    </a:lnTo>
                    <a:lnTo>
                      <a:pt x="685" y="143"/>
                    </a:lnTo>
                    <a:lnTo>
                      <a:pt x="693" y="119"/>
                    </a:lnTo>
                    <a:lnTo>
                      <a:pt x="700" y="95"/>
                    </a:lnTo>
                    <a:lnTo>
                      <a:pt x="704" y="74"/>
                    </a:lnTo>
                    <a:lnTo>
                      <a:pt x="704" y="57"/>
                    </a:lnTo>
                    <a:lnTo>
                      <a:pt x="704" y="36"/>
                    </a:lnTo>
                    <a:lnTo>
                      <a:pt x="704" y="16"/>
                    </a:lnTo>
                    <a:lnTo>
                      <a:pt x="703" y="0"/>
                    </a:lnTo>
                    <a:lnTo>
                      <a:pt x="741" y="6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691040" y="533520"/>
                <a:ext cx="371880" cy="333360"/>
              </a:xfrm>
              <a:custGeom>
                <a:avLst/>
                <a:gdLst/>
                <a:ahLst/>
                <a:rect l="l" t="t" r="r" b="b"/>
                <a:pathLst>
                  <a:path w="166" h="148">
                    <a:moveTo>
                      <a:pt x="70" y="129"/>
                    </a:moveTo>
                    <a:lnTo>
                      <a:pt x="68" y="113"/>
                    </a:lnTo>
                    <a:lnTo>
                      <a:pt x="66" y="94"/>
                    </a:lnTo>
                    <a:lnTo>
                      <a:pt x="64" y="77"/>
                    </a:lnTo>
                    <a:lnTo>
                      <a:pt x="60" y="66"/>
                    </a:lnTo>
                    <a:lnTo>
                      <a:pt x="63" y="63"/>
                    </a:lnTo>
                    <a:lnTo>
                      <a:pt x="68" y="56"/>
                    </a:lnTo>
                    <a:lnTo>
                      <a:pt x="78" y="48"/>
                    </a:lnTo>
                    <a:lnTo>
                      <a:pt x="88" y="40"/>
                    </a:lnTo>
                    <a:lnTo>
                      <a:pt x="101" y="34"/>
                    </a:lnTo>
                    <a:lnTo>
                      <a:pt x="112" y="31"/>
                    </a:lnTo>
                    <a:lnTo>
                      <a:pt x="124" y="33"/>
                    </a:lnTo>
                    <a:lnTo>
                      <a:pt x="134" y="41"/>
                    </a:lnTo>
                    <a:lnTo>
                      <a:pt x="134" y="52"/>
                    </a:lnTo>
                    <a:lnTo>
                      <a:pt x="132" y="75"/>
                    </a:lnTo>
                    <a:lnTo>
                      <a:pt x="126" y="106"/>
                    </a:lnTo>
                    <a:lnTo>
                      <a:pt x="119" y="140"/>
                    </a:lnTo>
                    <a:lnTo>
                      <a:pt x="154" y="148"/>
                    </a:lnTo>
                    <a:lnTo>
                      <a:pt x="157" y="127"/>
                    </a:lnTo>
                    <a:lnTo>
                      <a:pt x="161" y="100"/>
                    </a:lnTo>
                    <a:lnTo>
                      <a:pt x="163" y="72"/>
                    </a:lnTo>
                    <a:lnTo>
                      <a:pt x="165" y="48"/>
                    </a:lnTo>
                    <a:lnTo>
                      <a:pt x="166" y="36"/>
                    </a:lnTo>
                    <a:lnTo>
                      <a:pt x="163" y="24"/>
                    </a:lnTo>
                    <a:lnTo>
                      <a:pt x="158" y="15"/>
                    </a:lnTo>
                    <a:lnTo>
                      <a:pt x="150" y="8"/>
                    </a:lnTo>
                    <a:lnTo>
                      <a:pt x="146" y="6"/>
                    </a:lnTo>
                    <a:lnTo>
                      <a:pt x="140" y="3"/>
                    </a:lnTo>
                    <a:lnTo>
                      <a:pt x="134" y="1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14" y="1"/>
                    </a:lnTo>
                    <a:lnTo>
                      <a:pt x="106" y="1"/>
                    </a:lnTo>
                    <a:lnTo>
                      <a:pt x="99" y="3"/>
                    </a:lnTo>
                    <a:lnTo>
                      <a:pt x="76" y="11"/>
                    </a:lnTo>
                    <a:lnTo>
                      <a:pt x="57" y="18"/>
                    </a:lnTo>
                    <a:lnTo>
                      <a:pt x="40" y="26"/>
                    </a:lnTo>
                    <a:lnTo>
                      <a:pt x="26" y="33"/>
                    </a:lnTo>
                    <a:lnTo>
                      <a:pt x="14" y="40"/>
                    </a:lnTo>
                    <a:lnTo>
                      <a:pt x="6" y="45"/>
                    </a:lnTo>
                    <a:lnTo>
                      <a:pt x="2" y="48"/>
                    </a:lnTo>
                    <a:lnTo>
                      <a:pt x="0" y="49"/>
                    </a:lnTo>
                    <a:lnTo>
                      <a:pt x="4" y="56"/>
                    </a:lnTo>
                    <a:lnTo>
                      <a:pt x="12" y="74"/>
                    </a:lnTo>
                    <a:lnTo>
                      <a:pt x="22" y="98"/>
                    </a:lnTo>
                    <a:lnTo>
                      <a:pt x="32" y="123"/>
                    </a:lnTo>
                    <a:lnTo>
                      <a:pt x="70" y="129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744680" y="849600"/>
                <a:ext cx="291600" cy="528120"/>
              </a:xfrm>
              <a:custGeom>
                <a:avLst/>
                <a:gdLst/>
                <a:ahLst/>
                <a:rect l="l" t="t" r="r" b="b"/>
                <a:pathLst>
                  <a:path w="131" h="233">
                    <a:moveTo>
                      <a:pt x="131" y="8"/>
                    </a:moveTo>
                    <a:lnTo>
                      <a:pt x="113" y="58"/>
                    </a:lnTo>
                    <a:lnTo>
                      <a:pt x="93" y="103"/>
                    </a:lnTo>
                    <a:lnTo>
                      <a:pt x="71" y="141"/>
                    </a:lnTo>
                    <a:lnTo>
                      <a:pt x="50" y="173"/>
                    </a:lnTo>
                    <a:lnTo>
                      <a:pt x="30" y="199"/>
                    </a:lnTo>
                    <a:lnTo>
                      <a:pt x="15" y="218"/>
                    </a:lnTo>
                    <a:lnTo>
                      <a:pt x="4" y="230"/>
                    </a:lnTo>
                    <a:lnTo>
                      <a:pt x="0" y="233"/>
                    </a:lnTo>
                    <a:lnTo>
                      <a:pt x="18" y="202"/>
                    </a:lnTo>
                    <a:lnTo>
                      <a:pt x="33" y="170"/>
                    </a:lnTo>
                    <a:lnTo>
                      <a:pt x="48" y="139"/>
                    </a:lnTo>
                    <a:lnTo>
                      <a:pt x="60" y="108"/>
                    </a:lnTo>
                    <a:lnTo>
                      <a:pt x="71" y="78"/>
                    </a:lnTo>
                    <a:lnTo>
                      <a:pt x="81" y="49"/>
                    </a:lnTo>
                    <a:lnTo>
                      <a:pt x="89" y="23"/>
                    </a:lnTo>
                    <a:lnTo>
                      <a:pt x="96" y="0"/>
                    </a:lnTo>
                    <a:lnTo>
                      <a:pt x="131" y="8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77240" y="1468080"/>
                <a:ext cx="1093320" cy="1386000"/>
              </a:xfrm>
              <a:custGeom>
                <a:avLst/>
                <a:gdLst/>
                <a:ahLst/>
                <a:rect l="l" t="t" r="r" b="b"/>
                <a:pathLst>
                  <a:path w="488" h="615">
                    <a:moveTo>
                      <a:pt x="329" y="287"/>
                    </a:moveTo>
                    <a:lnTo>
                      <a:pt x="349" y="306"/>
                    </a:lnTo>
                    <a:lnTo>
                      <a:pt x="369" y="323"/>
                    </a:lnTo>
                    <a:lnTo>
                      <a:pt x="386" y="339"/>
                    </a:lnTo>
                    <a:lnTo>
                      <a:pt x="401" y="355"/>
                    </a:lnTo>
                    <a:lnTo>
                      <a:pt x="415" y="369"/>
                    </a:lnTo>
                    <a:lnTo>
                      <a:pt x="428" y="383"/>
                    </a:lnTo>
                    <a:lnTo>
                      <a:pt x="439" y="394"/>
                    </a:lnTo>
                    <a:lnTo>
                      <a:pt x="448" y="406"/>
                    </a:lnTo>
                    <a:lnTo>
                      <a:pt x="462" y="423"/>
                    </a:lnTo>
                    <a:lnTo>
                      <a:pt x="471" y="438"/>
                    </a:lnTo>
                    <a:lnTo>
                      <a:pt x="478" y="451"/>
                    </a:lnTo>
                    <a:lnTo>
                      <a:pt x="483" y="461"/>
                    </a:lnTo>
                    <a:lnTo>
                      <a:pt x="485" y="469"/>
                    </a:lnTo>
                    <a:lnTo>
                      <a:pt x="488" y="474"/>
                    </a:lnTo>
                    <a:lnTo>
                      <a:pt x="488" y="477"/>
                    </a:lnTo>
                    <a:lnTo>
                      <a:pt x="488" y="478"/>
                    </a:lnTo>
                    <a:lnTo>
                      <a:pt x="473" y="455"/>
                    </a:lnTo>
                    <a:lnTo>
                      <a:pt x="455" y="433"/>
                    </a:lnTo>
                    <a:lnTo>
                      <a:pt x="437" y="413"/>
                    </a:lnTo>
                    <a:lnTo>
                      <a:pt x="417" y="392"/>
                    </a:lnTo>
                    <a:lnTo>
                      <a:pt x="398" y="374"/>
                    </a:lnTo>
                    <a:lnTo>
                      <a:pt x="376" y="355"/>
                    </a:lnTo>
                    <a:lnTo>
                      <a:pt x="355" y="338"/>
                    </a:lnTo>
                    <a:lnTo>
                      <a:pt x="333" y="321"/>
                    </a:lnTo>
                    <a:lnTo>
                      <a:pt x="312" y="301"/>
                    </a:lnTo>
                    <a:lnTo>
                      <a:pt x="295" y="283"/>
                    </a:lnTo>
                    <a:lnTo>
                      <a:pt x="281" y="264"/>
                    </a:lnTo>
                    <a:lnTo>
                      <a:pt x="270" y="246"/>
                    </a:lnTo>
                    <a:lnTo>
                      <a:pt x="262" y="227"/>
                    </a:lnTo>
                    <a:lnTo>
                      <a:pt x="256" y="210"/>
                    </a:lnTo>
                    <a:lnTo>
                      <a:pt x="251" y="192"/>
                    </a:lnTo>
                    <a:lnTo>
                      <a:pt x="248" y="173"/>
                    </a:lnTo>
                    <a:lnTo>
                      <a:pt x="238" y="198"/>
                    </a:lnTo>
                    <a:lnTo>
                      <a:pt x="227" y="222"/>
                    </a:lnTo>
                    <a:lnTo>
                      <a:pt x="217" y="243"/>
                    </a:lnTo>
                    <a:lnTo>
                      <a:pt x="206" y="263"/>
                    </a:lnTo>
                    <a:lnTo>
                      <a:pt x="197" y="279"/>
                    </a:lnTo>
                    <a:lnTo>
                      <a:pt x="189" y="293"/>
                    </a:lnTo>
                    <a:lnTo>
                      <a:pt x="183" y="303"/>
                    </a:lnTo>
                    <a:lnTo>
                      <a:pt x="179" y="309"/>
                    </a:lnTo>
                    <a:lnTo>
                      <a:pt x="137" y="362"/>
                    </a:lnTo>
                    <a:lnTo>
                      <a:pt x="102" y="416"/>
                    </a:lnTo>
                    <a:lnTo>
                      <a:pt x="72" y="467"/>
                    </a:lnTo>
                    <a:lnTo>
                      <a:pt x="46" y="514"/>
                    </a:lnTo>
                    <a:lnTo>
                      <a:pt x="26" y="556"/>
                    </a:lnTo>
                    <a:lnTo>
                      <a:pt x="12" y="587"/>
                    </a:lnTo>
                    <a:lnTo>
                      <a:pt x="4" y="609"/>
                    </a:lnTo>
                    <a:lnTo>
                      <a:pt x="0" y="615"/>
                    </a:lnTo>
                    <a:lnTo>
                      <a:pt x="11" y="573"/>
                    </a:lnTo>
                    <a:lnTo>
                      <a:pt x="22" y="534"/>
                    </a:lnTo>
                    <a:lnTo>
                      <a:pt x="34" y="498"/>
                    </a:lnTo>
                    <a:lnTo>
                      <a:pt x="49" y="463"/>
                    </a:lnTo>
                    <a:lnTo>
                      <a:pt x="65" y="430"/>
                    </a:lnTo>
                    <a:lnTo>
                      <a:pt x="84" y="395"/>
                    </a:lnTo>
                    <a:lnTo>
                      <a:pt x="109" y="361"/>
                    </a:lnTo>
                    <a:lnTo>
                      <a:pt x="137" y="323"/>
                    </a:lnTo>
                    <a:lnTo>
                      <a:pt x="162" y="288"/>
                    </a:lnTo>
                    <a:lnTo>
                      <a:pt x="185" y="246"/>
                    </a:lnTo>
                    <a:lnTo>
                      <a:pt x="205" y="200"/>
                    </a:lnTo>
                    <a:lnTo>
                      <a:pt x="223" y="152"/>
                    </a:lnTo>
                    <a:lnTo>
                      <a:pt x="238" y="109"/>
                    </a:lnTo>
                    <a:lnTo>
                      <a:pt x="248" y="69"/>
                    </a:lnTo>
                    <a:lnTo>
                      <a:pt x="254" y="40"/>
                    </a:lnTo>
                    <a:lnTo>
                      <a:pt x="253" y="21"/>
                    </a:lnTo>
                    <a:lnTo>
                      <a:pt x="284" y="0"/>
                    </a:lnTo>
                    <a:lnTo>
                      <a:pt x="285" y="23"/>
                    </a:lnTo>
                    <a:lnTo>
                      <a:pt x="284" y="48"/>
                    </a:lnTo>
                    <a:lnTo>
                      <a:pt x="279" y="73"/>
                    </a:lnTo>
                    <a:lnTo>
                      <a:pt x="273" y="98"/>
                    </a:lnTo>
                    <a:lnTo>
                      <a:pt x="273" y="125"/>
                    </a:lnTo>
                    <a:lnTo>
                      <a:pt x="274" y="150"/>
                    </a:lnTo>
                    <a:lnTo>
                      <a:pt x="277" y="175"/>
                    </a:lnTo>
                    <a:lnTo>
                      <a:pt x="282" y="200"/>
                    </a:lnTo>
                    <a:lnTo>
                      <a:pt x="289" y="224"/>
                    </a:lnTo>
                    <a:lnTo>
                      <a:pt x="300" y="247"/>
                    </a:lnTo>
                    <a:lnTo>
                      <a:pt x="312" y="268"/>
                    </a:lnTo>
                    <a:lnTo>
                      <a:pt x="329" y="287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503040" y="1368720"/>
                <a:ext cx="1048680" cy="451080"/>
              </a:xfrm>
              <a:custGeom>
                <a:avLst/>
                <a:gdLst/>
                <a:ahLst/>
                <a:rect l="l" t="t" r="r" b="b"/>
                <a:pathLst>
                  <a:path w="468" h="199">
                    <a:moveTo>
                      <a:pt x="442" y="116"/>
                    </a:moveTo>
                    <a:lnTo>
                      <a:pt x="448" y="111"/>
                    </a:lnTo>
                    <a:lnTo>
                      <a:pt x="455" y="107"/>
                    </a:lnTo>
                    <a:lnTo>
                      <a:pt x="462" y="102"/>
                    </a:lnTo>
                    <a:lnTo>
                      <a:pt x="468" y="98"/>
                    </a:lnTo>
                    <a:lnTo>
                      <a:pt x="448" y="147"/>
                    </a:lnTo>
                    <a:lnTo>
                      <a:pt x="436" y="154"/>
                    </a:lnTo>
                    <a:lnTo>
                      <a:pt x="423" y="161"/>
                    </a:lnTo>
                    <a:lnTo>
                      <a:pt x="410" y="168"/>
                    </a:lnTo>
                    <a:lnTo>
                      <a:pt x="398" y="175"/>
                    </a:lnTo>
                    <a:lnTo>
                      <a:pt x="385" y="181"/>
                    </a:lnTo>
                    <a:lnTo>
                      <a:pt x="374" y="185"/>
                    </a:lnTo>
                    <a:lnTo>
                      <a:pt x="361" y="190"/>
                    </a:lnTo>
                    <a:lnTo>
                      <a:pt x="348" y="193"/>
                    </a:lnTo>
                    <a:lnTo>
                      <a:pt x="334" y="197"/>
                    </a:lnTo>
                    <a:lnTo>
                      <a:pt x="321" y="198"/>
                    </a:lnTo>
                    <a:lnTo>
                      <a:pt x="306" y="199"/>
                    </a:lnTo>
                    <a:lnTo>
                      <a:pt x="290" y="199"/>
                    </a:lnTo>
                    <a:lnTo>
                      <a:pt x="273" y="197"/>
                    </a:lnTo>
                    <a:lnTo>
                      <a:pt x="255" y="194"/>
                    </a:lnTo>
                    <a:lnTo>
                      <a:pt x="237" y="190"/>
                    </a:lnTo>
                    <a:lnTo>
                      <a:pt x="216" y="184"/>
                    </a:lnTo>
                    <a:lnTo>
                      <a:pt x="203" y="179"/>
                    </a:lnTo>
                    <a:lnTo>
                      <a:pt x="189" y="175"/>
                    </a:lnTo>
                    <a:lnTo>
                      <a:pt x="177" y="170"/>
                    </a:lnTo>
                    <a:lnTo>
                      <a:pt x="163" y="166"/>
                    </a:lnTo>
                    <a:lnTo>
                      <a:pt x="150" y="161"/>
                    </a:lnTo>
                    <a:lnTo>
                      <a:pt x="136" y="158"/>
                    </a:lnTo>
                    <a:lnTo>
                      <a:pt x="124" y="153"/>
                    </a:lnTo>
                    <a:lnTo>
                      <a:pt x="110" y="150"/>
                    </a:lnTo>
                    <a:lnTo>
                      <a:pt x="96" y="146"/>
                    </a:lnTo>
                    <a:lnTo>
                      <a:pt x="83" y="143"/>
                    </a:lnTo>
                    <a:lnTo>
                      <a:pt x="70" y="140"/>
                    </a:lnTo>
                    <a:lnTo>
                      <a:pt x="56" y="138"/>
                    </a:lnTo>
                    <a:lnTo>
                      <a:pt x="42" y="136"/>
                    </a:lnTo>
                    <a:lnTo>
                      <a:pt x="28" y="135"/>
                    </a:lnTo>
                    <a:lnTo>
                      <a:pt x="14" y="133"/>
                    </a:lnTo>
                    <a:lnTo>
                      <a:pt x="0" y="133"/>
                    </a:lnTo>
                    <a:lnTo>
                      <a:pt x="2" y="133"/>
                    </a:lnTo>
                    <a:lnTo>
                      <a:pt x="4" y="132"/>
                    </a:lnTo>
                    <a:lnTo>
                      <a:pt x="7" y="131"/>
                    </a:lnTo>
                    <a:lnTo>
                      <a:pt x="13" y="130"/>
                    </a:lnTo>
                    <a:lnTo>
                      <a:pt x="20" y="129"/>
                    </a:lnTo>
                    <a:lnTo>
                      <a:pt x="29" y="129"/>
                    </a:lnTo>
                    <a:lnTo>
                      <a:pt x="41" y="128"/>
                    </a:lnTo>
                    <a:lnTo>
                      <a:pt x="55" y="128"/>
                    </a:lnTo>
                    <a:lnTo>
                      <a:pt x="70" y="129"/>
                    </a:lnTo>
                    <a:lnTo>
                      <a:pt x="88" y="130"/>
                    </a:lnTo>
                    <a:lnTo>
                      <a:pt x="109" y="133"/>
                    </a:lnTo>
                    <a:lnTo>
                      <a:pt x="132" y="137"/>
                    </a:lnTo>
                    <a:lnTo>
                      <a:pt x="157" y="143"/>
                    </a:lnTo>
                    <a:lnTo>
                      <a:pt x="186" y="150"/>
                    </a:lnTo>
                    <a:lnTo>
                      <a:pt x="218" y="159"/>
                    </a:lnTo>
                    <a:lnTo>
                      <a:pt x="253" y="169"/>
                    </a:lnTo>
                    <a:lnTo>
                      <a:pt x="273" y="173"/>
                    </a:lnTo>
                    <a:lnTo>
                      <a:pt x="293" y="173"/>
                    </a:lnTo>
                    <a:lnTo>
                      <a:pt x="313" y="171"/>
                    </a:lnTo>
                    <a:lnTo>
                      <a:pt x="332" y="168"/>
                    </a:lnTo>
                    <a:lnTo>
                      <a:pt x="352" y="162"/>
                    </a:lnTo>
                    <a:lnTo>
                      <a:pt x="371" y="155"/>
                    </a:lnTo>
                    <a:lnTo>
                      <a:pt x="390" y="147"/>
                    </a:lnTo>
                    <a:lnTo>
                      <a:pt x="408" y="137"/>
                    </a:lnTo>
                    <a:lnTo>
                      <a:pt x="399" y="132"/>
                    </a:lnTo>
                    <a:lnTo>
                      <a:pt x="391" y="126"/>
                    </a:lnTo>
                    <a:lnTo>
                      <a:pt x="384" y="120"/>
                    </a:lnTo>
                    <a:lnTo>
                      <a:pt x="377" y="113"/>
                    </a:lnTo>
                    <a:lnTo>
                      <a:pt x="371" y="105"/>
                    </a:lnTo>
                    <a:lnTo>
                      <a:pt x="367" y="95"/>
                    </a:lnTo>
                    <a:lnTo>
                      <a:pt x="362" y="85"/>
                    </a:lnTo>
                    <a:lnTo>
                      <a:pt x="359" y="75"/>
                    </a:lnTo>
                    <a:lnTo>
                      <a:pt x="358" y="50"/>
                    </a:lnTo>
                    <a:lnTo>
                      <a:pt x="364" y="26"/>
                    </a:lnTo>
                    <a:lnTo>
                      <a:pt x="372" y="7"/>
                    </a:lnTo>
                    <a:lnTo>
                      <a:pt x="376" y="0"/>
                    </a:lnTo>
                    <a:lnTo>
                      <a:pt x="375" y="7"/>
                    </a:lnTo>
                    <a:lnTo>
                      <a:pt x="372" y="19"/>
                    </a:lnTo>
                    <a:lnTo>
                      <a:pt x="372" y="35"/>
                    </a:lnTo>
                    <a:lnTo>
                      <a:pt x="376" y="54"/>
                    </a:lnTo>
                    <a:lnTo>
                      <a:pt x="383" y="72"/>
                    </a:lnTo>
                    <a:lnTo>
                      <a:pt x="394" y="91"/>
                    </a:lnTo>
                    <a:lnTo>
                      <a:pt x="414" y="106"/>
                    </a:lnTo>
                    <a:lnTo>
                      <a:pt x="442" y="116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114800" y="1580400"/>
                <a:ext cx="313920" cy="370440"/>
              </a:xfrm>
              <a:custGeom>
                <a:avLst/>
                <a:gdLst/>
                <a:ahLst/>
                <a:rect l="l" t="t" r="r" b="b"/>
                <a:pathLst>
                  <a:path w="139" h="164">
                    <a:moveTo>
                      <a:pt x="129" y="55"/>
                    </a:moveTo>
                    <a:lnTo>
                      <a:pt x="107" y="58"/>
                    </a:lnTo>
                    <a:lnTo>
                      <a:pt x="86" y="65"/>
                    </a:lnTo>
                    <a:lnTo>
                      <a:pt x="68" y="75"/>
                    </a:lnTo>
                    <a:lnTo>
                      <a:pt x="51" y="89"/>
                    </a:lnTo>
                    <a:lnTo>
                      <a:pt x="36" y="105"/>
                    </a:lnTo>
                    <a:lnTo>
                      <a:pt x="22" y="123"/>
                    </a:lnTo>
                    <a:lnTo>
                      <a:pt x="10" y="143"/>
                    </a:lnTo>
                    <a:lnTo>
                      <a:pt x="0" y="164"/>
                    </a:lnTo>
                    <a:lnTo>
                      <a:pt x="7" y="93"/>
                    </a:lnTo>
                    <a:lnTo>
                      <a:pt x="22" y="68"/>
                    </a:lnTo>
                    <a:lnTo>
                      <a:pt x="38" y="48"/>
                    </a:lnTo>
                    <a:lnTo>
                      <a:pt x="53" y="33"/>
                    </a:lnTo>
                    <a:lnTo>
                      <a:pt x="68" y="21"/>
                    </a:lnTo>
                    <a:lnTo>
                      <a:pt x="84" y="13"/>
                    </a:lnTo>
                    <a:lnTo>
                      <a:pt x="101" y="7"/>
                    </a:lnTo>
                    <a:lnTo>
                      <a:pt x="120" y="2"/>
                    </a:lnTo>
                    <a:lnTo>
                      <a:pt x="139" y="0"/>
                    </a:lnTo>
                    <a:lnTo>
                      <a:pt x="129" y="55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06400" y="1580400"/>
                <a:ext cx="2334240" cy="2734920"/>
              </a:xfrm>
              <a:custGeom>
                <a:avLst/>
                <a:gdLst/>
                <a:ahLst/>
                <a:rect l="l" t="t" r="r" b="b"/>
                <a:pathLst>
                  <a:path w="1044" h="1213">
                    <a:moveTo>
                      <a:pt x="840" y="1213"/>
                    </a:moveTo>
                    <a:lnTo>
                      <a:pt x="833" y="1189"/>
                    </a:lnTo>
                    <a:lnTo>
                      <a:pt x="826" y="1165"/>
                    </a:lnTo>
                    <a:lnTo>
                      <a:pt x="819" y="1143"/>
                    </a:lnTo>
                    <a:lnTo>
                      <a:pt x="812" y="1123"/>
                    </a:lnTo>
                    <a:lnTo>
                      <a:pt x="806" y="1106"/>
                    </a:lnTo>
                    <a:lnTo>
                      <a:pt x="802" y="1093"/>
                    </a:lnTo>
                    <a:lnTo>
                      <a:pt x="798" y="1085"/>
                    </a:lnTo>
                    <a:lnTo>
                      <a:pt x="797" y="1082"/>
                    </a:lnTo>
                    <a:lnTo>
                      <a:pt x="813" y="1085"/>
                    </a:lnTo>
                    <a:lnTo>
                      <a:pt x="829" y="1087"/>
                    </a:lnTo>
                    <a:lnTo>
                      <a:pt x="845" y="1089"/>
                    </a:lnTo>
                    <a:lnTo>
                      <a:pt x="862" y="1090"/>
                    </a:lnTo>
                    <a:lnTo>
                      <a:pt x="878" y="1089"/>
                    </a:lnTo>
                    <a:lnTo>
                      <a:pt x="893" y="1087"/>
                    </a:lnTo>
                    <a:lnTo>
                      <a:pt x="908" y="1084"/>
                    </a:lnTo>
                    <a:lnTo>
                      <a:pt x="921" y="1080"/>
                    </a:lnTo>
                    <a:lnTo>
                      <a:pt x="935" y="1075"/>
                    </a:lnTo>
                    <a:lnTo>
                      <a:pt x="948" y="1069"/>
                    </a:lnTo>
                    <a:lnTo>
                      <a:pt x="958" y="1061"/>
                    </a:lnTo>
                    <a:lnTo>
                      <a:pt x="969" y="1052"/>
                    </a:lnTo>
                    <a:lnTo>
                      <a:pt x="977" y="1041"/>
                    </a:lnTo>
                    <a:lnTo>
                      <a:pt x="983" y="1029"/>
                    </a:lnTo>
                    <a:lnTo>
                      <a:pt x="988" y="1016"/>
                    </a:lnTo>
                    <a:lnTo>
                      <a:pt x="991" y="1001"/>
                    </a:lnTo>
                    <a:lnTo>
                      <a:pt x="995" y="976"/>
                    </a:lnTo>
                    <a:lnTo>
                      <a:pt x="996" y="953"/>
                    </a:lnTo>
                    <a:lnTo>
                      <a:pt x="994" y="932"/>
                    </a:lnTo>
                    <a:lnTo>
                      <a:pt x="988" y="911"/>
                    </a:lnTo>
                    <a:lnTo>
                      <a:pt x="979" y="892"/>
                    </a:lnTo>
                    <a:lnTo>
                      <a:pt x="965" y="872"/>
                    </a:lnTo>
                    <a:lnTo>
                      <a:pt x="947" y="854"/>
                    </a:lnTo>
                    <a:lnTo>
                      <a:pt x="923" y="833"/>
                    </a:lnTo>
                    <a:lnTo>
                      <a:pt x="903" y="818"/>
                    </a:lnTo>
                    <a:lnTo>
                      <a:pt x="880" y="801"/>
                    </a:lnTo>
                    <a:lnTo>
                      <a:pt x="856" y="783"/>
                    </a:lnTo>
                    <a:lnTo>
                      <a:pt x="830" y="765"/>
                    </a:lnTo>
                    <a:lnTo>
                      <a:pt x="809" y="749"/>
                    </a:lnTo>
                    <a:lnTo>
                      <a:pt x="790" y="735"/>
                    </a:lnTo>
                    <a:lnTo>
                      <a:pt x="779" y="726"/>
                    </a:lnTo>
                    <a:lnTo>
                      <a:pt x="775" y="722"/>
                    </a:lnTo>
                    <a:lnTo>
                      <a:pt x="790" y="712"/>
                    </a:lnTo>
                    <a:lnTo>
                      <a:pt x="806" y="700"/>
                    </a:lnTo>
                    <a:lnTo>
                      <a:pt x="821" y="688"/>
                    </a:lnTo>
                    <a:lnTo>
                      <a:pt x="836" y="674"/>
                    </a:lnTo>
                    <a:lnTo>
                      <a:pt x="850" y="657"/>
                    </a:lnTo>
                    <a:lnTo>
                      <a:pt x="862" y="638"/>
                    </a:lnTo>
                    <a:lnTo>
                      <a:pt x="871" y="617"/>
                    </a:lnTo>
                    <a:lnTo>
                      <a:pt x="878" y="594"/>
                    </a:lnTo>
                    <a:lnTo>
                      <a:pt x="879" y="569"/>
                    </a:lnTo>
                    <a:lnTo>
                      <a:pt x="874" y="547"/>
                    </a:lnTo>
                    <a:lnTo>
                      <a:pt x="866" y="526"/>
                    </a:lnTo>
                    <a:lnTo>
                      <a:pt x="854" y="508"/>
                    </a:lnTo>
                    <a:lnTo>
                      <a:pt x="837" y="492"/>
                    </a:lnTo>
                    <a:lnTo>
                      <a:pt x="819" y="479"/>
                    </a:lnTo>
                    <a:lnTo>
                      <a:pt x="798" y="469"/>
                    </a:lnTo>
                    <a:lnTo>
                      <a:pt x="776" y="461"/>
                    </a:lnTo>
                    <a:lnTo>
                      <a:pt x="764" y="458"/>
                    </a:lnTo>
                    <a:lnTo>
                      <a:pt x="752" y="456"/>
                    </a:lnTo>
                    <a:lnTo>
                      <a:pt x="739" y="455"/>
                    </a:lnTo>
                    <a:lnTo>
                      <a:pt x="728" y="455"/>
                    </a:lnTo>
                    <a:lnTo>
                      <a:pt x="715" y="455"/>
                    </a:lnTo>
                    <a:lnTo>
                      <a:pt x="704" y="456"/>
                    </a:lnTo>
                    <a:lnTo>
                      <a:pt x="692" y="457"/>
                    </a:lnTo>
                    <a:lnTo>
                      <a:pt x="681" y="460"/>
                    </a:lnTo>
                    <a:lnTo>
                      <a:pt x="668" y="463"/>
                    </a:lnTo>
                    <a:lnTo>
                      <a:pt x="657" y="467"/>
                    </a:lnTo>
                    <a:lnTo>
                      <a:pt x="646" y="470"/>
                    </a:lnTo>
                    <a:lnTo>
                      <a:pt x="635" y="475"/>
                    </a:lnTo>
                    <a:lnTo>
                      <a:pt x="623" y="479"/>
                    </a:lnTo>
                    <a:lnTo>
                      <a:pt x="613" y="484"/>
                    </a:lnTo>
                    <a:lnTo>
                      <a:pt x="601" y="488"/>
                    </a:lnTo>
                    <a:lnTo>
                      <a:pt x="591" y="494"/>
                    </a:lnTo>
                    <a:lnTo>
                      <a:pt x="585" y="452"/>
                    </a:lnTo>
                    <a:lnTo>
                      <a:pt x="584" y="402"/>
                    </a:lnTo>
                    <a:lnTo>
                      <a:pt x="584" y="349"/>
                    </a:lnTo>
                    <a:lnTo>
                      <a:pt x="583" y="298"/>
                    </a:lnTo>
                    <a:lnTo>
                      <a:pt x="577" y="251"/>
                    </a:lnTo>
                    <a:lnTo>
                      <a:pt x="563" y="212"/>
                    </a:lnTo>
                    <a:lnTo>
                      <a:pt x="540" y="184"/>
                    </a:lnTo>
                    <a:lnTo>
                      <a:pt x="503" y="173"/>
                    </a:lnTo>
                    <a:lnTo>
                      <a:pt x="471" y="173"/>
                    </a:lnTo>
                    <a:lnTo>
                      <a:pt x="445" y="177"/>
                    </a:lnTo>
                    <a:lnTo>
                      <a:pt x="424" y="187"/>
                    </a:lnTo>
                    <a:lnTo>
                      <a:pt x="408" y="198"/>
                    </a:lnTo>
                    <a:lnTo>
                      <a:pt x="396" y="211"/>
                    </a:lnTo>
                    <a:lnTo>
                      <a:pt x="387" y="226"/>
                    </a:lnTo>
                    <a:lnTo>
                      <a:pt x="379" y="241"/>
                    </a:lnTo>
                    <a:lnTo>
                      <a:pt x="373" y="256"/>
                    </a:lnTo>
                    <a:lnTo>
                      <a:pt x="381" y="270"/>
                    </a:lnTo>
                    <a:lnTo>
                      <a:pt x="389" y="283"/>
                    </a:lnTo>
                    <a:lnTo>
                      <a:pt x="397" y="297"/>
                    </a:lnTo>
                    <a:lnTo>
                      <a:pt x="405" y="311"/>
                    </a:lnTo>
                    <a:lnTo>
                      <a:pt x="412" y="326"/>
                    </a:lnTo>
                    <a:lnTo>
                      <a:pt x="419" y="341"/>
                    </a:lnTo>
                    <a:lnTo>
                      <a:pt x="426" y="356"/>
                    </a:lnTo>
                    <a:lnTo>
                      <a:pt x="432" y="371"/>
                    </a:lnTo>
                    <a:lnTo>
                      <a:pt x="440" y="391"/>
                    </a:lnTo>
                    <a:lnTo>
                      <a:pt x="448" y="410"/>
                    </a:lnTo>
                    <a:lnTo>
                      <a:pt x="455" y="430"/>
                    </a:lnTo>
                    <a:lnTo>
                      <a:pt x="463" y="448"/>
                    </a:lnTo>
                    <a:lnTo>
                      <a:pt x="471" y="468"/>
                    </a:lnTo>
                    <a:lnTo>
                      <a:pt x="479" y="487"/>
                    </a:lnTo>
                    <a:lnTo>
                      <a:pt x="487" y="506"/>
                    </a:lnTo>
                    <a:lnTo>
                      <a:pt x="495" y="525"/>
                    </a:lnTo>
                    <a:lnTo>
                      <a:pt x="507" y="538"/>
                    </a:lnTo>
                    <a:lnTo>
                      <a:pt x="517" y="551"/>
                    </a:lnTo>
                    <a:lnTo>
                      <a:pt x="530" y="562"/>
                    </a:lnTo>
                    <a:lnTo>
                      <a:pt x="543" y="574"/>
                    </a:lnTo>
                    <a:lnTo>
                      <a:pt x="556" y="584"/>
                    </a:lnTo>
                    <a:lnTo>
                      <a:pt x="570" y="593"/>
                    </a:lnTo>
                    <a:lnTo>
                      <a:pt x="586" y="600"/>
                    </a:lnTo>
                    <a:lnTo>
                      <a:pt x="602" y="605"/>
                    </a:lnTo>
                    <a:lnTo>
                      <a:pt x="617" y="607"/>
                    </a:lnTo>
                    <a:lnTo>
                      <a:pt x="632" y="607"/>
                    </a:lnTo>
                    <a:lnTo>
                      <a:pt x="646" y="607"/>
                    </a:lnTo>
                    <a:lnTo>
                      <a:pt x="660" y="607"/>
                    </a:lnTo>
                    <a:lnTo>
                      <a:pt x="674" y="605"/>
                    </a:lnTo>
                    <a:lnTo>
                      <a:pt x="688" y="604"/>
                    </a:lnTo>
                    <a:lnTo>
                      <a:pt x="701" y="601"/>
                    </a:lnTo>
                    <a:lnTo>
                      <a:pt x="715" y="599"/>
                    </a:lnTo>
                    <a:lnTo>
                      <a:pt x="713" y="601"/>
                    </a:lnTo>
                    <a:lnTo>
                      <a:pt x="705" y="607"/>
                    </a:lnTo>
                    <a:lnTo>
                      <a:pt x="692" y="614"/>
                    </a:lnTo>
                    <a:lnTo>
                      <a:pt x="673" y="621"/>
                    </a:lnTo>
                    <a:lnTo>
                      <a:pt x="647" y="627"/>
                    </a:lnTo>
                    <a:lnTo>
                      <a:pt x="616" y="629"/>
                    </a:lnTo>
                    <a:lnTo>
                      <a:pt x="578" y="625"/>
                    </a:lnTo>
                    <a:lnTo>
                      <a:pt x="532" y="616"/>
                    </a:lnTo>
                    <a:lnTo>
                      <a:pt x="544" y="643"/>
                    </a:lnTo>
                    <a:lnTo>
                      <a:pt x="555" y="670"/>
                    </a:lnTo>
                    <a:lnTo>
                      <a:pt x="567" y="697"/>
                    </a:lnTo>
                    <a:lnTo>
                      <a:pt x="578" y="723"/>
                    </a:lnTo>
                    <a:lnTo>
                      <a:pt x="590" y="750"/>
                    </a:lnTo>
                    <a:lnTo>
                      <a:pt x="601" y="778"/>
                    </a:lnTo>
                    <a:lnTo>
                      <a:pt x="613" y="804"/>
                    </a:lnTo>
                    <a:lnTo>
                      <a:pt x="624" y="832"/>
                    </a:lnTo>
                    <a:lnTo>
                      <a:pt x="814" y="984"/>
                    </a:lnTo>
                    <a:lnTo>
                      <a:pt x="789" y="979"/>
                    </a:lnTo>
                    <a:lnTo>
                      <a:pt x="766" y="971"/>
                    </a:lnTo>
                    <a:lnTo>
                      <a:pt x="743" y="960"/>
                    </a:lnTo>
                    <a:lnTo>
                      <a:pt x="722" y="946"/>
                    </a:lnTo>
                    <a:lnTo>
                      <a:pt x="701" y="931"/>
                    </a:lnTo>
                    <a:lnTo>
                      <a:pt x="682" y="913"/>
                    </a:lnTo>
                    <a:lnTo>
                      <a:pt x="662" y="897"/>
                    </a:lnTo>
                    <a:lnTo>
                      <a:pt x="643" y="880"/>
                    </a:lnTo>
                    <a:lnTo>
                      <a:pt x="659" y="935"/>
                    </a:lnTo>
                    <a:lnTo>
                      <a:pt x="668" y="988"/>
                    </a:lnTo>
                    <a:lnTo>
                      <a:pt x="672" y="1036"/>
                    </a:lnTo>
                    <a:lnTo>
                      <a:pt x="672" y="1078"/>
                    </a:lnTo>
                    <a:lnTo>
                      <a:pt x="669" y="1114"/>
                    </a:lnTo>
                    <a:lnTo>
                      <a:pt x="665" y="1140"/>
                    </a:lnTo>
                    <a:lnTo>
                      <a:pt x="661" y="1158"/>
                    </a:lnTo>
                    <a:lnTo>
                      <a:pt x="660" y="1163"/>
                    </a:lnTo>
                    <a:lnTo>
                      <a:pt x="660" y="1125"/>
                    </a:lnTo>
                    <a:lnTo>
                      <a:pt x="659" y="1087"/>
                    </a:lnTo>
                    <a:lnTo>
                      <a:pt x="657" y="1049"/>
                    </a:lnTo>
                    <a:lnTo>
                      <a:pt x="651" y="1012"/>
                    </a:lnTo>
                    <a:lnTo>
                      <a:pt x="644" y="976"/>
                    </a:lnTo>
                    <a:lnTo>
                      <a:pt x="635" y="939"/>
                    </a:lnTo>
                    <a:lnTo>
                      <a:pt x="622" y="903"/>
                    </a:lnTo>
                    <a:lnTo>
                      <a:pt x="606" y="869"/>
                    </a:lnTo>
                    <a:lnTo>
                      <a:pt x="598" y="854"/>
                    </a:lnTo>
                    <a:lnTo>
                      <a:pt x="591" y="839"/>
                    </a:lnTo>
                    <a:lnTo>
                      <a:pt x="583" y="822"/>
                    </a:lnTo>
                    <a:lnTo>
                      <a:pt x="576" y="807"/>
                    </a:lnTo>
                    <a:lnTo>
                      <a:pt x="569" y="791"/>
                    </a:lnTo>
                    <a:lnTo>
                      <a:pt x="562" y="776"/>
                    </a:lnTo>
                    <a:lnTo>
                      <a:pt x="555" y="760"/>
                    </a:lnTo>
                    <a:lnTo>
                      <a:pt x="548" y="745"/>
                    </a:lnTo>
                    <a:lnTo>
                      <a:pt x="545" y="767"/>
                    </a:lnTo>
                    <a:lnTo>
                      <a:pt x="538" y="795"/>
                    </a:lnTo>
                    <a:lnTo>
                      <a:pt x="525" y="828"/>
                    </a:lnTo>
                    <a:lnTo>
                      <a:pt x="509" y="863"/>
                    </a:lnTo>
                    <a:lnTo>
                      <a:pt x="490" y="897"/>
                    </a:lnTo>
                    <a:lnTo>
                      <a:pt x="465" y="930"/>
                    </a:lnTo>
                    <a:lnTo>
                      <a:pt x="438" y="957"/>
                    </a:lnTo>
                    <a:lnTo>
                      <a:pt x="408" y="978"/>
                    </a:lnTo>
                    <a:lnTo>
                      <a:pt x="409" y="977"/>
                    </a:lnTo>
                    <a:lnTo>
                      <a:pt x="414" y="972"/>
                    </a:lnTo>
                    <a:lnTo>
                      <a:pt x="419" y="965"/>
                    </a:lnTo>
                    <a:lnTo>
                      <a:pt x="426" y="955"/>
                    </a:lnTo>
                    <a:lnTo>
                      <a:pt x="435" y="945"/>
                    </a:lnTo>
                    <a:lnTo>
                      <a:pt x="445" y="931"/>
                    </a:lnTo>
                    <a:lnTo>
                      <a:pt x="455" y="917"/>
                    </a:lnTo>
                    <a:lnTo>
                      <a:pt x="464" y="902"/>
                    </a:lnTo>
                    <a:lnTo>
                      <a:pt x="475" y="882"/>
                    </a:lnTo>
                    <a:lnTo>
                      <a:pt x="486" y="857"/>
                    </a:lnTo>
                    <a:lnTo>
                      <a:pt x="499" y="827"/>
                    </a:lnTo>
                    <a:lnTo>
                      <a:pt x="510" y="797"/>
                    </a:lnTo>
                    <a:lnTo>
                      <a:pt x="522" y="769"/>
                    </a:lnTo>
                    <a:lnTo>
                      <a:pt x="531" y="746"/>
                    </a:lnTo>
                    <a:lnTo>
                      <a:pt x="537" y="730"/>
                    </a:lnTo>
                    <a:lnTo>
                      <a:pt x="539" y="725"/>
                    </a:lnTo>
                    <a:lnTo>
                      <a:pt x="528" y="697"/>
                    </a:lnTo>
                    <a:lnTo>
                      <a:pt x="511" y="658"/>
                    </a:lnTo>
                    <a:lnTo>
                      <a:pt x="493" y="612"/>
                    </a:lnTo>
                    <a:lnTo>
                      <a:pt x="473" y="561"/>
                    </a:lnTo>
                    <a:lnTo>
                      <a:pt x="454" y="511"/>
                    </a:lnTo>
                    <a:lnTo>
                      <a:pt x="437" y="467"/>
                    </a:lnTo>
                    <a:lnTo>
                      <a:pt x="422" y="431"/>
                    </a:lnTo>
                    <a:lnTo>
                      <a:pt x="412" y="407"/>
                    </a:lnTo>
                    <a:lnTo>
                      <a:pt x="404" y="388"/>
                    </a:lnTo>
                    <a:lnTo>
                      <a:pt x="396" y="370"/>
                    </a:lnTo>
                    <a:lnTo>
                      <a:pt x="388" y="353"/>
                    </a:lnTo>
                    <a:lnTo>
                      <a:pt x="379" y="334"/>
                    </a:lnTo>
                    <a:lnTo>
                      <a:pt x="370" y="317"/>
                    </a:lnTo>
                    <a:lnTo>
                      <a:pt x="359" y="300"/>
                    </a:lnTo>
                    <a:lnTo>
                      <a:pt x="349" y="282"/>
                    </a:lnTo>
                    <a:lnTo>
                      <a:pt x="337" y="266"/>
                    </a:lnTo>
                    <a:lnTo>
                      <a:pt x="327" y="253"/>
                    </a:lnTo>
                    <a:lnTo>
                      <a:pt x="314" y="240"/>
                    </a:lnTo>
                    <a:lnTo>
                      <a:pt x="299" y="225"/>
                    </a:lnTo>
                    <a:lnTo>
                      <a:pt x="283" y="210"/>
                    </a:lnTo>
                    <a:lnTo>
                      <a:pt x="265" y="194"/>
                    </a:lnTo>
                    <a:lnTo>
                      <a:pt x="245" y="177"/>
                    </a:lnTo>
                    <a:lnTo>
                      <a:pt x="223" y="161"/>
                    </a:lnTo>
                    <a:lnTo>
                      <a:pt x="202" y="145"/>
                    </a:lnTo>
                    <a:lnTo>
                      <a:pt x="179" y="129"/>
                    </a:lnTo>
                    <a:lnTo>
                      <a:pt x="154" y="114"/>
                    </a:lnTo>
                    <a:lnTo>
                      <a:pt x="129" y="100"/>
                    </a:lnTo>
                    <a:lnTo>
                      <a:pt x="104" y="88"/>
                    </a:lnTo>
                    <a:lnTo>
                      <a:pt x="78" y="77"/>
                    </a:lnTo>
                    <a:lnTo>
                      <a:pt x="52" y="68"/>
                    </a:lnTo>
                    <a:lnTo>
                      <a:pt x="26" y="60"/>
                    </a:lnTo>
                    <a:lnTo>
                      <a:pt x="0" y="55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30" y="1"/>
                    </a:lnTo>
                    <a:lnTo>
                      <a:pt x="43" y="2"/>
                    </a:lnTo>
                    <a:lnTo>
                      <a:pt x="56" y="4"/>
                    </a:lnTo>
                    <a:lnTo>
                      <a:pt x="70" y="6"/>
                    </a:lnTo>
                    <a:lnTo>
                      <a:pt x="85" y="9"/>
                    </a:lnTo>
                    <a:lnTo>
                      <a:pt x="99" y="13"/>
                    </a:lnTo>
                    <a:lnTo>
                      <a:pt x="113" y="17"/>
                    </a:lnTo>
                    <a:lnTo>
                      <a:pt x="126" y="23"/>
                    </a:lnTo>
                    <a:lnTo>
                      <a:pt x="138" y="29"/>
                    </a:lnTo>
                    <a:lnTo>
                      <a:pt x="151" y="36"/>
                    </a:lnTo>
                    <a:lnTo>
                      <a:pt x="164" y="43"/>
                    </a:lnTo>
                    <a:lnTo>
                      <a:pt x="176" y="50"/>
                    </a:lnTo>
                    <a:lnTo>
                      <a:pt x="189" y="57"/>
                    </a:lnTo>
                    <a:lnTo>
                      <a:pt x="200" y="65"/>
                    </a:lnTo>
                    <a:lnTo>
                      <a:pt x="212" y="74"/>
                    </a:lnTo>
                    <a:lnTo>
                      <a:pt x="223" y="82"/>
                    </a:lnTo>
                    <a:lnTo>
                      <a:pt x="235" y="91"/>
                    </a:lnTo>
                    <a:lnTo>
                      <a:pt x="246" y="100"/>
                    </a:lnTo>
                    <a:lnTo>
                      <a:pt x="258" y="109"/>
                    </a:lnTo>
                    <a:lnTo>
                      <a:pt x="268" y="120"/>
                    </a:lnTo>
                    <a:lnTo>
                      <a:pt x="279" y="130"/>
                    </a:lnTo>
                    <a:lnTo>
                      <a:pt x="289" y="141"/>
                    </a:lnTo>
                    <a:lnTo>
                      <a:pt x="297" y="149"/>
                    </a:lnTo>
                    <a:lnTo>
                      <a:pt x="305" y="158"/>
                    </a:lnTo>
                    <a:lnTo>
                      <a:pt x="313" y="166"/>
                    </a:lnTo>
                    <a:lnTo>
                      <a:pt x="323" y="174"/>
                    </a:lnTo>
                    <a:lnTo>
                      <a:pt x="331" y="183"/>
                    </a:lnTo>
                    <a:lnTo>
                      <a:pt x="339" y="191"/>
                    </a:lnTo>
                    <a:lnTo>
                      <a:pt x="348" y="199"/>
                    </a:lnTo>
                    <a:lnTo>
                      <a:pt x="356" y="207"/>
                    </a:lnTo>
                    <a:lnTo>
                      <a:pt x="362" y="199"/>
                    </a:lnTo>
                    <a:lnTo>
                      <a:pt x="367" y="190"/>
                    </a:lnTo>
                    <a:lnTo>
                      <a:pt x="373" y="180"/>
                    </a:lnTo>
                    <a:lnTo>
                      <a:pt x="379" y="168"/>
                    </a:lnTo>
                    <a:lnTo>
                      <a:pt x="385" y="157"/>
                    </a:lnTo>
                    <a:lnTo>
                      <a:pt x="390" y="145"/>
                    </a:lnTo>
                    <a:lnTo>
                      <a:pt x="397" y="135"/>
                    </a:lnTo>
                    <a:lnTo>
                      <a:pt x="404" y="126"/>
                    </a:lnTo>
                    <a:lnTo>
                      <a:pt x="420" y="113"/>
                    </a:lnTo>
                    <a:lnTo>
                      <a:pt x="440" y="105"/>
                    </a:lnTo>
                    <a:lnTo>
                      <a:pt x="463" y="101"/>
                    </a:lnTo>
                    <a:lnTo>
                      <a:pt x="488" y="101"/>
                    </a:lnTo>
                    <a:lnTo>
                      <a:pt x="513" y="105"/>
                    </a:lnTo>
                    <a:lnTo>
                      <a:pt x="534" y="112"/>
                    </a:lnTo>
                    <a:lnTo>
                      <a:pt x="554" y="121"/>
                    </a:lnTo>
                    <a:lnTo>
                      <a:pt x="569" y="134"/>
                    </a:lnTo>
                    <a:lnTo>
                      <a:pt x="592" y="168"/>
                    </a:lnTo>
                    <a:lnTo>
                      <a:pt x="605" y="204"/>
                    </a:lnTo>
                    <a:lnTo>
                      <a:pt x="610" y="242"/>
                    </a:lnTo>
                    <a:lnTo>
                      <a:pt x="613" y="281"/>
                    </a:lnTo>
                    <a:lnTo>
                      <a:pt x="612" y="320"/>
                    </a:lnTo>
                    <a:lnTo>
                      <a:pt x="610" y="361"/>
                    </a:lnTo>
                    <a:lnTo>
                      <a:pt x="612" y="401"/>
                    </a:lnTo>
                    <a:lnTo>
                      <a:pt x="617" y="440"/>
                    </a:lnTo>
                    <a:lnTo>
                      <a:pt x="630" y="433"/>
                    </a:lnTo>
                    <a:lnTo>
                      <a:pt x="644" y="426"/>
                    </a:lnTo>
                    <a:lnTo>
                      <a:pt x="657" y="420"/>
                    </a:lnTo>
                    <a:lnTo>
                      <a:pt x="670" y="415"/>
                    </a:lnTo>
                    <a:lnTo>
                      <a:pt x="684" y="410"/>
                    </a:lnTo>
                    <a:lnTo>
                      <a:pt x="699" y="407"/>
                    </a:lnTo>
                    <a:lnTo>
                      <a:pt x="713" y="403"/>
                    </a:lnTo>
                    <a:lnTo>
                      <a:pt x="728" y="401"/>
                    </a:lnTo>
                    <a:lnTo>
                      <a:pt x="742" y="400"/>
                    </a:lnTo>
                    <a:lnTo>
                      <a:pt x="757" y="399"/>
                    </a:lnTo>
                    <a:lnTo>
                      <a:pt x="771" y="400"/>
                    </a:lnTo>
                    <a:lnTo>
                      <a:pt x="786" y="402"/>
                    </a:lnTo>
                    <a:lnTo>
                      <a:pt x="799" y="404"/>
                    </a:lnTo>
                    <a:lnTo>
                      <a:pt x="814" y="409"/>
                    </a:lnTo>
                    <a:lnTo>
                      <a:pt x="828" y="416"/>
                    </a:lnTo>
                    <a:lnTo>
                      <a:pt x="842" y="423"/>
                    </a:lnTo>
                    <a:lnTo>
                      <a:pt x="858" y="433"/>
                    </a:lnTo>
                    <a:lnTo>
                      <a:pt x="874" y="444"/>
                    </a:lnTo>
                    <a:lnTo>
                      <a:pt x="889" y="456"/>
                    </a:lnTo>
                    <a:lnTo>
                      <a:pt x="902" y="470"/>
                    </a:lnTo>
                    <a:lnTo>
                      <a:pt x="912" y="485"/>
                    </a:lnTo>
                    <a:lnTo>
                      <a:pt x="919" y="501"/>
                    </a:lnTo>
                    <a:lnTo>
                      <a:pt x="923" y="518"/>
                    </a:lnTo>
                    <a:lnTo>
                      <a:pt x="921" y="537"/>
                    </a:lnTo>
                    <a:lnTo>
                      <a:pt x="917" y="563"/>
                    </a:lnTo>
                    <a:lnTo>
                      <a:pt x="909" y="590"/>
                    </a:lnTo>
                    <a:lnTo>
                      <a:pt x="898" y="615"/>
                    </a:lnTo>
                    <a:lnTo>
                      <a:pt x="887" y="639"/>
                    </a:lnTo>
                    <a:lnTo>
                      <a:pt x="872" y="662"/>
                    </a:lnTo>
                    <a:lnTo>
                      <a:pt x="856" y="683"/>
                    </a:lnTo>
                    <a:lnTo>
                      <a:pt x="839" y="704"/>
                    </a:lnTo>
                    <a:lnTo>
                      <a:pt x="819" y="722"/>
                    </a:lnTo>
                    <a:lnTo>
                      <a:pt x="835" y="729"/>
                    </a:lnTo>
                    <a:lnTo>
                      <a:pt x="852" y="736"/>
                    </a:lnTo>
                    <a:lnTo>
                      <a:pt x="870" y="743"/>
                    </a:lnTo>
                    <a:lnTo>
                      <a:pt x="887" y="751"/>
                    </a:lnTo>
                    <a:lnTo>
                      <a:pt x="904" y="760"/>
                    </a:lnTo>
                    <a:lnTo>
                      <a:pt x="921" y="768"/>
                    </a:lnTo>
                    <a:lnTo>
                      <a:pt x="938" y="779"/>
                    </a:lnTo>
                    <a:lnTo>
                      <a:pt x="954" y="788"/>
                    </a:lnTo>
                    <a:lnTo>
                      <a:pt x="986" y="811"/>
                    </a:lnTo>
                    <a:lnTo>
                      <a:pt x="1010" y="835"/>
                    </a:lnTo>
                    <a:lnTo>
                      <a:pt x="1027" y="860"/>
                    </a:lnTo>
                    <a:lnTo>
                      <a:pt x="1039" y="886"/>
                    </a:lnTo>
                    <a:lnTo>
                      <a:pt x="1044" y="911"/>
                    </a:lnTo>
                    <a:lnTo>
                      <a:pt x="1044" y="938"/>
                    </a:lnTo>
                    <a:lnTo>
                      <a:pt x="1040" y="964"/>
                    </a:lnTo>
                    <a:lnTo>
                      <a:pt x="1032" y="992"/>
                    </a:lnTo>
                    <a:lnTo>
                      <a:pt x="1025" y="1010"/>
                    </a:lnTo>
                    <a:lnTo>
                      <a:pt x="1017" y="1029"/>
                    </a:lnTo>
                    <a:lnTo>
                      <a:pt x="1008" y="1046"/>
                    </a:lnTo>
                    <a:lnTo>
                      <a:pt x="997" y="1063"/>
                    </a:lnTo>
                    <a:lnTo>
                      <a:pt x="985" y="1078"/>
                    </a:lnTo>
                    <a:lnTo>
                      <a:pt x="970" y="1091"/>
                    </a:lnTo>
                    <a:lnTo>
                      <a:pt x="953" y="1100"/>
                    </a:lnTo>
                    <a:lnTo>
                      <a:pt x="932" y="1106"/>
                    </a:lnTo>
                    <a:lnTo>
                      <a:pt x="920" y="1108"/>
                    </a:lnTo>
                    <a:lnTo>
                      <a:pt x="909" y="1109"/>
                    </a:lnTo>
                    <a:lnTo>
                      <a:pt x="896" y="1112"/>
                    </a:lnTo>
                    <a:lnTo>
                      <a:pt x="885" y="1113"/>
                    </a:lnTo>
                    <a:lnTo>
                      <a:pt x="873" y="1114"/>
                    </a:lnTo>
                    <a:lnTo>
                      <a:pt x="860" y="1115"/>
                    </a:lnTo>
                    <a:lnTo>
                      <a:pt x="849" y="1115"/>
                    </a:lnTo>
                    <a:lnTo>
                      <a:pt x="837" y="1115"/>
                    </a:lnTo>
                    <a:lnTo>
                      <a:pt x="843" y="1125"/>
                    </a:lnTo>
                    <a:lnTo>
                      <a:pt x="848" y="1136"/>
                    </a:lnTo>
                    <a:lnTo>
                      <a:pt x="852" y="1148"/>
                    </a:lnTo>
                    <a:lnTo>
                      <a:pt x="858" y="1160"/>
                    </a:lnTo>
                    <a:lnTo>
                      <a:pt x="862" y="1173"/>
                    </a:lnTo>
                    <a:lnTo>
                      <a:pt x="866" y="1185"/>
                    </a:lnTo>
                    <a:lnTo>
                      <a:pt x="870" y="1197"/>
                    </a:lnTo>
                    <a:lnTo>
                      <a:pt x="872" y="1208"/>
                    </a:lnTo>
                    <a:lnTo>
                      <a:pt x="840" y="1213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84080" y="2099520"/>
                <a:ext cx="1231560" cy="2297880"/>
              </a:xfrm>
              <a:custGeom>
                <a:avLst/>
                <a:gdLst/>
                <a:ahLst/>
                <a:rect l="l" t="t" r="r" b="b"/>
                <a:pathLst>
                  <a:path w="548" h="1019">
                    <a:moveTo>
                      <a:pt x="492" y="1019"/>
                    </a:moveTo>
                    <a:lnTo>
                      <a:pt x="496" y="1005"/>
                    </a:lnTo>
                    <a:lnTo>
                      <a:pt x="502" y="989"/>
                    </a:lnTo>
                    <a:lnTo>
                      <a:pt x="508" y="970"/>
                    </a:lnTo>
                    <a:lnTo>
                      <a:pt x="513" y="953"/>
                    </a:lnTo>
                    <a:lnTo>
                      <a:pt x="517" y="935"/>
                    </a:lnTo>
                    <a:lnTo>
                      <a:pt x="518" y="916"/>
                    </a:lnTo>
                    <a:lnTo>
                      <a:pt x="518" y="898"/>
                    </a:lnTo>
                    <a:lnTo>
                      <a:pt x="516" y="882"/>
                    </a:lnTo>
                    <a:lnTo>
                      <a:pt x="510" y="880"/>
                    </a:lnTo>
                    <a:lnTo>
                      <a:pt x="498" y="884"/>
                    </a:lnTo>
                    <a:lnTo>
                      <a:pt x="478" y="892"/>
                    </a:lnTo>
                    <a:lnTo>
                      <a:pt x="455" y="902"/>
                    </a:lnTo>
                    <a:lnTo>
                      <a:pt x="430" y="913"/>
                    </a:lnTo>
                    <a:lnTo>
                      <a:pt x="404" y="924"/>
                    </a:lnTo>
                    <a:lnTo>
                      <a:pt x="380" y="933"/>
                    </a:lnTo>
                    <a:lnTo>
                      <a:pt x="359" y="940"/>
                    </a:lnTo>
                    <a:lnTo>
                      <a:pt x="329" y="945"/>
                    </a:lnTo>
                    <a:lnTo>
                      <a:pt x="301" y="941"/>
                    </a:lnTo>
                    <a:lnTo>
                      <a:pt x="273" y="933"/>
                    </a:lnTo>
                    <a:lnTo>
                      <a:pt x="249" y="920"/>
                    </a:lnTo>
                    <a:lnTo>
                      <a:pt x="228" y="902"/>
                    </a:lnTo>
                    <a:lnTo>
                      <a:pt x="212" y="883"/>
                    </a:lnTo>
                    <a:lnTo>
                      <a:pt x="202" y="861"/>
                    </a:lnTo>
                    <a:lnTo>
                      <a:pt x="197" y="839"/>
                    </a:lnTo>
                    <a:lnTo>
                      <a:pt x="199" y="803"/>
                    </a:lnTo>
                    <a:lnTo>
                      <a:pt x="207" y="770"/>
                    </a:lnTo>
                    <a:lnTo>
                      <a:pt x="220" y="736"/>
                    </a:lnTo>
                    <a:lnTo>
                      <a:pt x="237" y="704"/>
                    </a:lnTo>
                    <a:lnTo>
                      <a:pt x="258" y="673"/>
                    </a:lnTo>
                    <a:lnTo>
                      <a:pt x="280" y="642"/>
                    </a:lnTo>
                    <a:lnTo>
                      <a:pt x="303" y="612"/>
                    </a:lnTo>
                    <a:lnTo>
                      <a:pt x="326" y="582"/>
                    </a:lnTo>
                    <a:lnTo>
                      <a:pt x="310" y="582"/>
                    </a:lnTo>
                    <a:lnTo>
                      <a:pt x="295" y="582"/>
                    </a:lnTo>
                    <a:lnTo>
                      <a:pt x="279" y="582"/>
                    </a:lnTo>
                    <a:lnTo>
                      <a:pt x="264" y="581"/>
                    </a:lnTo>
                    <a:lnTo>
                      <a:pt x="248" y="581"/>
                    </a:lnTo>
                    <a:lnTo>
                      <a:pt x="231" y="580"/>
                    </a:lnTo>
                    <a:lnTo>
                      <a:pt x="215" y="579"/>
                    </a:lnTo>
                    <a:lnTo>
                      <a:pt x="199" y="577"/>
                    </a:lnTo>
                    <a:lnTo>
                      <a:pt x="181" y="575"/>
                    </a:lnTo>
                    <a:lnTo>
                      <a:pt x="162" y="572"/>
                    </a:lnTo>
                    <a:lnTo>
                      <a:pt x="144" y="567"/>
                    </a:lnTo>
                    <a:lnTo>
                      <a:pt x="124" y="560"/>
                    </a:lnTo>
                    <a:lnTo>
                      <a:pt x="106" y="553"/>
                    </a:lnTo>
                    <a:lnTo>
                      <a:pt x="87" y="544"/>
                    </a:lnTo>
                    <a:lnTo>
                      <a:pt x="70" y="535"/>
                    </a:lnTo>
                    <a:lnTo>
                      <a:pt x="54" y="523"/>
                    </a:lnTo>
                    <a:lnTo>
                      <a:pt x="39" y="512"/>
                    </a:lnTo>
                    <a:lnTo>
                      <a:pt x="26" y="498"/>
                    </a:lnTo>
                    <a:lnTo>
                      <a:pt x="15" y="484"/>
                    </a:lnTo>
                    <a:lnTo>
                      <a:pt x="7" y="469"/>
                    </a:lnTo>
                    <a:lnTo>
                      <a:pt x="2" y="453"/>
                    </a:lnTo>
                    <a:lnTo>
                      <a:pt x="0" y="436"/>
                    </a:lnTo>
                    <a:lnTo>
                      <a:pt x="1" y="419"/>
                    </a:lnTo>
                    <a:lnTo>
                      <a:pt x="6" y="400"/>
                    </a:lnTo>
                    <a:lnTo>
                      <a:pt x="16" y="375"/>
                    </a:lnTo>
                    <a:lnTo>
                      <a:pt x="28" y="351"/>
                    </a:lnTo>
                    <a:lnTo>
                      <a:pt x="40" y="328"/>
                    </a:lnTo>
                    <a:lnTo>
                      <a:pt x="55" y="307"/>
                    </a:lnTo>
                    <a:lnTo>
                      <a:pt x="71" y="288"/>
                    </a:lnTo>
                    <a:lnTo>
                      <a:pt x="87" y="271"/>
                    </a:lnTo>
                    <a:lnTo>
                      <a:pt x="106" y="255"/>
                    </a:lnTo>
                    <a:lnTo>
                      <a:pt x="125" y="241"/>
                    </a:lnTo>
                    <a:lnTo>
                      <a:pt x="107" y="233"/>
                    </a:lnTo>
                    <a:lnTo>
                      <a:pt x="89" y="224"/>
                    </a:lnTo>
                    <a:lnTo>
                      <a:pt x="73" y="211"/>
                    </a:lnTo>
                    <a:lnTo>
                      <a:pt x="59" y="197"/>
                    </a:lnTo>
                    <a:lnTo>
                      <a:pt x="46" y="182"/>
                    </a:lnTo>
                    <a:lnTo>
                      <a:pt x="37" y="165"/>
                    </a:lnTo>
                    <a:lnTo>
                      <a:pt x="30" y="147"/>
                    </a:lnTo>
                    <a:lnTo>
                      <a:pt x="26" y="127"/>
                    </a:lnTo>
                    <a:lnTo>
                      <a:pt x="26" y="110"/>
                    </a:lnTo>
                    <a:lnTo>
                      <a:pt x="29" y="95"/>
                    </a:lnTo>
                    <a:lnTo>
                      <a:pt x="33" y="80"/>
                    </a:lnTo>
                    <a:lnTo>
                      <a:pt x="39" y="65"/>
                    </a:lnTo>
                    <a:lnTo>
                      <a:pt x="48" y="52"/>
                    </a:lnTo>
                    <a:lnTo>
                      <a:pt x="58" y="41"/>
                    </a:lnTo>
                    <a:lnTo>
                      <a:pt x="69" y="30"/>
                    </a:lnTo>
                    <a:lnTo>
                      <a:pt x="82" y="21"/>
                    </a:lnTo>
                    <a:lnTo>
                      <a:pt x="96" y="13"/>
                    </a:lnTo>
                    <a:lnTo>
                      <a:pt x="111" y="7"/>
                    </a:lnTo>
                    <a:lnTo>
                      <a:pt x="125" y="4"/>
                    </a:lnTo>
                    <a:lnTo>
                      <a:pt x="142" y="2"/>
                    </a:lnTo>
                    <a:lnTo>
                      <a:pt x="159" y="0"/>
                    </a:lnTo>
                    <a:lnTo>
                      <a:pt x="175" y="3"/>
                    </a:lnTo>
                    <a:lnTo>
                      <a:pt x="192" y="6"/>
                    </a:lnTo>
                    <a:lnTo>
                      <a:pt x="208" y="13"/>
                    </a:lnTo>
                    <a:lnTo>
                      <a:pt x="182" y="70"/>
                    </a:lnTo>
                    <a:lnTo>
                      <a:pt x="164" y="61"/>
                    </a:lnTo>
                    <a:lnTo>
                      <a:pt x="140" y="55"/>
                    </a:lnTo>
                    <a:lnTo>
                      <a:pt x="115" y="52"/>
                    </a:lnTo>
                    <a:lnTo>
                      <a:pt x="91" y="55"/>
                    </a:lnTo>
                    <a:lnTo>
                      <a:pt x="73" y="61"/>
                    </a:lnTo>
                    <a:lnTo>
                      <a:pt x="62" y="75"/>
                    </a:lnTo>
                    <a:lnTo>
                      <a:pt x="62" y="98"/>
                    </a:lnTo>
                    <a:lnTo>
                      <a:pt x="76" y="129"/>
                    </a:lnTo>
                    <a:lnTo>
                      <a:pt x="92" y="147"/>
                    </a:lnTo>
                    <a:lnTo>
                      <a:pt x="113" y="162"/>
                    </a:lnTo>
                    <a:lnTo>
                      <a:pt x="137" y="174"/>
                    </a:lnTo>
                    <a:lnTo>
                      <a:pt x="162" y="184"/>
                    </a:lnTo>
                    <a:lnTo>
                      <a:pt x="185" y="192"/>
                    </a:lnTo>
                    <a:lnTo>
                      <a:pt x="205" y="196"/>
                    </a:lnTo>
                    <a:lnTo>
                      <a:pt x="219" y="200"/>
                    </a:lnTo>
                    <a:lnTo>
                      <a:pt x="225" y="201"/>
                    </a:lnTo>
                    <a:lnTo>
                      <a:pt x="222" y="203"/>
                    </a:lnTo>
                    <a:lnTo>
                      <a:pt x="214" y="209"/>
                    </a:lnTo>
                    <a:lnTo>
                      <a:pt x="204" y="217"/>
                    </a:lnTo>
                    <a:lnTo>
                      <a:pt x="189" y="227"/>
                    </a:lnTo>
                    <a:lnTo>
                      <a:pt x="173" y="241"/>
                    </a:lnTo>
                    <a:lnTo>
                      <a:pt x="155" y="256"/>
                    </a:lnTo>
                    <a:lnTo>
                      <a:pt x="137" y="272"/>
                    </a:lnTo>
                    <a:lnTo>
                      <a:pt x="119" y="290"/>
                    </a:lnTo>
                    <a:lnTo>
                      <a:pt x="100" y="308"/>
                    </a:lnTo>
                    <a:lnTo>
                      <a:pt x="85" y="328"/>
                    </a:lnTo>
                    <a:lnTo>
                      <a:pt x="71" y="346"/>
                    </a:lnTo>
                    <a:lnTo>
                      <a:pt x="61" y="364"/>
                    </a:lnTo>
                    <a:lnTo>
                      <a:pt x="54" y="383"/>
                    </a:lnTo>
                    <a:lnTo>
                      <a:pt x="52" y="400"/>
                    </a:lnTo>
                    <a:lnTo>
                      <a:pt x="55" y="416"/>
                    </a:lnTo>
                    <a:lnTo>
                      <a:pt x="66" y="431"/>
                    </a:lnTo>
                    <a:lnTo>
                      <a:pt x="83" y="447"/>
                    </a:lnTo>
                    <a:lnTo>
                      <a:pt x="104" y="461"/>
                    </a:lnTo>
                    <a:lnTo>
                      <a:pt x="125" y="474"/>
                    </a:lnTo>
                    <a:lnTo>
                      <a:pt x="150" y="485"/>
                    </a:lnTo>
                    <a:lnTo>
                      <a:pt x="175" y="495"/>
                    </a:lnTo>
                    <a:lnTo>
                      <a:pt x="200" y="504"/>
                    </a:lnTo>
                    <a:lnTo>
                      <a:pt x="227" y="511"/>
                    </a:lnTo>
                    <a:lnTo>
                      <a:pt x="252" y="516"/>
                    </a:lnTo>
                    <a:lnTo>
                      <a:pt x="276" y="521"/>
                    </a:lnTo>
                    <a:lnTo>
                      <a:pt x="299" y="526"/>
                    </a:lnTo>
                    <a:lnTo>
                      <a:pt x="320" y="529"/>
                    </a:lnTo>
                    <a:lnTo>
                      <a:pt x="339" y="530"/>
                    </a:lnTo>
                    <a:lnTo>
                      <a:pt x="354" y="533"/>
                    </a:lnTo>
                    <a:lnTo>
                      <a:pt x="365" y="534"/>
                    </a:lnTo>
                    <a:lnTo>
                      <a:pt x="373" y="534"/>
                    </a:lnTo>
                    <a:lnTo>
                      <a:pt x="375" y="534"/>
                    </a:lnTo>
                    <a:lnTo>
                      <a:pt x="369" y="545"/>
                    </a:lnTo>
                    <a:lnTo>
                      <a:pt x="352" y="571"/>
                    </a:lnTo>
                    <a:lnTo>
                      <a:pt x="331" y="606"/>
                    </a:lnTo>
                    <a:lnTo>
                      <a:pt x="306" y="648"/>
                    </a:lnTo>
                    <a:lnTo>
                      <a:pt x="282" y="690"/>
                    </a:lnTo>
                    <a:lnTo>
                      <a:pt x="261" y="732"/>
                    </a:lnTo>
                    <a:lnTo>
                      <a:pt x="246" y="766"/>
                    </a:lnTo>
                    <a:lnTo>
                      <a:pt x="243" y="789"/>
                    </a:lnTo>
                    <a:lnTo>
                      <a:pt x="248" y="810"/>
                    </a:lnTo>
                    <a:lnTo>
                      <a:pt x="256" y="829"/>
                    </a:lnTo>
                    <a:lnTo>
                      <a:pt x="267" y="845"/>
                    </a:lnTo>
                    <a:lnTo>
                      <a:pt x="281" y="857"/>
                    </a:lnTo>
                    <a:lnTo>
                      <a:pt x="299" y="867"/>
                    </a:lnTo>
                    <a:lnTo>
                      <a:pt x="320" y="873"/>
                    </a:lnTo>
                    <a:lnTo>
                      <a:pt x="344" y="876"/>
                    </a:lnTo>
                    <a:lnTo>
                      <a:pt x="372" y="873"/>
                    </a:lnTo>
                    <a:lnTo>
                      <a:pt x="395" y="869"/>
                    </a:lnTo>
                    <a:lnTo>
                      <a:pt x="417" y="863"/>
                    </a:lnTo>
                    <a:lnTo>
                      <a:pt x="439" y="855"/>
                    </a:lnTo>
                    <a:lnTo>
                      <a:pt x="460" y="847"/>
                    </a:lnTo>
                    <a:lnTo>
                      <a:pt x="480" y="839"/>
                    </a:lnTo>
                    <a:lnTo>
                      <a:pt x="501" y="832"/>
                    </a:lnTo>
                    <a:lnTo>
                      <a:pt x="522" y="827"/>
                    </a:lnTo>
                    <a:lnTo>
                      <a:pt x="545" y="825"/>
                    </a:lnTo>
                    <a:lnTo>
                      <a:pt x="548" y="870"/>
                    </a:lnTo>
                    <a:lnTo>
                      <a:pt x="546" y="920"/>
                    </a:lnTo>
                    <a:lnTo>
                      <a:pt x="540" y="971"/>
                    </a:lnTo>
                    <a:lnTo>
                      <a:pt x="537" y="1017"/>
                    </a:lnTo>
                    <a:lnTo>
                      <a:pt x="492" y="1019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77400" y="4306320"/>
                <a:ext cx="878040" cy="574200"/>
              </a:xfrm>
              <a:custGeom>
                <a:avLst/>
                <a:gdLst/>
                <a:ahLst/>
                <a:rect l="l" t="t" r="r" b="b"/>
                <a:pathLst>
                  <a:path w="393" h="254">
                    <a:moveTo>
                      <a:pt x="5" y="41"/>
                    </a:moveTo>
                    <a:lnTo>
                      <a:pt x="1" y="57"/>
                    </a:lnTo>
                    <a:lnTo>
                      <a:pt x="0" y="74"/>
                    </a:lnTo>
                    <a:lnTo>
                      <a:pt x="0" y="92"/>
                    </a:lnTo>
                    <a:lnTo>
                      <a:pt x="1" y="112"/>
                    </a:lnTo>
                    <a:lnTo>
                      <a:pt x="6" y="133"/>
                    </a:lnTo>
                    <a:lnTo>
                      <a:pt x="13" y="153"/>
                    </a:lnTo>
                    <a:lnTo>
                      <a:pt x="22" y="174"/>
                    </a:lnTo>
                    <a:lnTo>
                      <a:pt x="36" y="195"/>
                    </a:lnTo>
                    <a:lnTo>
                      <a:pt x="53" y="210"/>
                    </a:lnTo>
                    <a:lnTo>
                      <a:pt x="72" y="221"/>
                    </a:lnTo>
                    <a:lnTo>
                      <a:pt x="90" y="231"/>
                    </a:lnTo>
                    <a:lnTo>
                      <a:pt x="108" y="238"/>
                    </a:lnTo>
                    <a:lnTo>
                      <a:pt x="128" y="243"/>
                    </a:lnTo>
                    <a:lnTo>
                      <a:pt x="149" y="247"/>
                    </a:lnTo>
                    <a:lnTo>
                      <a:pt x="169" y="250"/>
                    </a:lnTo>
                    <a:lnTo>
                      <a:pt x="191" y="253"/>
                    </a:lnTo>
                    <a:lnTo>
                      <a:pt x="210" y="254"/>
                    </a:lnTo>
                    <a:lnTo>
                      <a:pt x="229" y="253"/>
                    </a:lnTo>
                    <a:lnTo>
                      <a:pt x="247" y="250"/>
                    </a:lnTo>
                    <a:lnTo>
                      <a:pt x="264" y="248"/>
                    </a:lnTo>
                    <a:lnTo>
                      <a:pt x="280" y="243"/>
                    </a:lnTo>
                    <a:lnTo>
                      <a:pt x="296" y="239"/>
                    </a:lnTo>
                    <a:lnTo>
                      <a:pt x="309" y="233"/>
                    </a:lnTo>
                    <a:lnTo>
                      <a:pt x="322" y="227"/>
                    </a:lnTo>
                    <a:lnTo>
                      <a:pt x="338" y="216"/>
                    </a:lnTo>
                    <a:lnTo>
                      <a:pt x="350" y="202"/>
                    </a:lnTo>
                    <a:lnTo>
                      <a:pt x="362" y="185"/>
                    </a:lnTo>
                    <a:lnTo>
                      <a:pt x="371" y="166"/>
                    </a:lnTo>
                    <a:lnTo>
                      <a:pt x="378" y="147"/>
                    </a:lnTo>
                    <a:lnTo>
                      <a:pt x="383" y="126"/>
                    </a:lnTo>
                    <a:lnTo>
                      <a:pt x="387" y="105"/>
                    </a:lnTo>
                    <a:lnTo>
                      <a:pt x="389" y="84"/>
                    </a:lnTo>
                    <a:lnTo>
                      <a:pt x="391" y="66"/>
                    </a:lnTo>
                    <a:lnTo>
                      <a:pt x="393" y="43"/>
                    </a:lnTo>
                    <a:lnTo>
                      <a:pt x="393" y="20"/>
                    </a:lnTo>
                    <a:lnTo>
                      <a:pt x="393" y="0"/>
                    </a:lnTo>
                    <a:lnTo>
                      <a:pt x="361" y="5"/>
                    </a:lnTo>
                    <a:lnTo>
                      <a:pt x="363" y="36"/>
                    </a:lnTo>
                    <a:lnTo>
                      <a:pt x="364" y="71"/>
                    </a:lnTo>
                    <a:lnTo>
                      <a:pt x="362" y="106"/>
                    </a:lnTo>
                    <a:lnTo>
                      <a:pt x="356" y="139"/>
                    </a:lnTo>
                    <a:lnTo>
                      <a:pt x="347" y="153"/>
                    </a:lnTo>
                    <a:lnTo>
                      <a:pt x="336" y="165"/>
                    </a:lnTo>
                    <a:lnTo>
                      <a:pt x="323" y="175"/>
                    </a:lnTo>
                    <a:lnTo>
                      <a:pt x="309" y="183"/>
                    </a:lnTo>
                    <a:lnTo>
                      <a:pt x="292" y="189"/>
                    </a:lnTo>
                    <a:lnTo>
                      <a:pt x="274" y="193"/>
                    </a:lnTo>
                    <a:lnTo>
                      <a:pt x="256" y="195"/>
                    </a:lnTo>
                    <a:lnTo>
                      <a:pt x="237" y="195"/>
                    </a:lnTo>
                    <a:lnTo>
                      <a:pt x="218" y="194"/>
                    </a:lnTo>
                    <a:lnTo>
                      <a:pt x="198" y="190"/>
                    </a:lnTo>
                    <a:lnTo>
                      <a:pt x="179" y="186"/>
                    </a:lnTo>
                    <a:lnTo>
                      <a:pt x="159" y="180"/>
                    </a:lnTo>
                    <a:lnTo>
                      <a:pt x="141" y="173"/>
                    </a:lnTo>
                    <a:lnTo>
                      <a:pt x="122" y="165"/>
                    </a:lnTo>
                    <a:lnTo>
                      <a:pt x="106" y="156"/>
                    </a:lnTo>
                    <a:lnTo>
                      <a:pt x="91" y="147"/>
                    </a:lnTo>
                    <a:lnTo>
                      <a:pt x="81" y="134"/>
                    </a:lnTo>
                    <a:lnTo>
                      <a:pt x="72" y="121"/>
                    </a:lnTo>
                    <a:lnTo>
                      <a:pt x="65" y="107"/>
                    </a:lnTo>
                    <a:lnTo>
                      <a:pt x="60" y="92"/>
                    </a:lnTo>
                    <a:lnTo>
                      <a:pt x="55" y="79"/>
                    </a:lnTo>
                    <a:lnTo>
                      <a:pt x="53" y="65"/>
                    </a:lnTo>
                    <a:lnTo>
                      <a:pt x="51" y="51"/>
                    </a:lnTo>
                    <a:lnTo>
                      <a:pt x="50" y="39"/>
                    </a:lnTo>
                    <a:lnTo>
                      <a:pt x="5" y="41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380880" y="1143000"/>
            <a:ext cx="8305920" cy="4402080"/>
            <a:chOff x="380880" y="1143000"/>
            <a:chExt cx="8305920" cy="440208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380880" y="2743200"/>
              <a:ext cx="2438640" cy="223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3886200" y="1143000"/>
              <a:ext cx="4800600" cy="440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228600" y="2590920"/>
            <a:ext cx="6610320" cy="3848040"/>
            <a:chOff x="228600" y="2590920"/>
            <a:chExt cx="6610320" cy="3848040"/>
          </a:xfrm>
        </p:grpSpPr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5029200" y="4952880"/>
              <a:ext cx="1809720" cy="14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228600" y="2590920"/>
              <a:ext cx="4572000" cy="375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137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480" y="6094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обными являются любые два круга, два квад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362320"/>
            <a:ext cx="99072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1523880"/>
            <a:ext cx="1981440" cy="1981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3733920"/>
            <a:ext cx="2514600" cy="251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4724280"/>
            <a:ext cx="144792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151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2514600" y="2311560"/>
            <a:ext cx="6019920" cy="2869920"/>
            <a:chOff x="2514600" y="2311560"/>
            <a:chExt cx="6019920" cy="2869920"/>
          </a:xfrm>
        </p:grpSpPr>
        <p:sp>
          <p:nvSpPr>
            <p:cNvPr id="160" name=""/>
            <p:cNvSpPr/>
            <p:nvPr/>
          </p:nvSpPr>
          <p:spPr>
            <a:xfrm>
              <a:off x="7264440" y="4064040"/>
              <a:ext cx="1270080" cy="1117440"/>
            </a:xfrm>
            <a:custGeom>
              <a:avLst/>
              <a:gdLst/>
              <a:ahLst/>
              <a:rect l="l" t="t" r="r" b="b"/>
              <a:pathLst>
                <a:path w="800" h="704">
                  <a:moveTo>
                    <a:pt x="800" y="688"/>
                  </a:moveTo>
                  <a:lnTo>
                    <a:pt x="48" y="704"/>
                  </a:lnTo>
                  <a:lnTo>
                    <a:pt x="0" y="480"/>
                  </a:lnTo>
                  <a:lnTo>
                    <a:pt x="48" y="288"/>
                  </a:lnTo>
                  <a:lnTo>
                    <a:pt x="112" y="160"/>
                  </a:lnTo>
                  <a:lnTo>
                    <a:pt x="400" y="0"/>
                  </a:lnTo>
                  <a:lnTo>
                    <a:pt x="800" y="688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14600" y="2311560"/>
              <a:ext cx="1270080" cy="1117440"/>
            </a:xfrm>
            <a:custGeom>
              <a:avLst/>
              <a:gdLst/>
              <a:ahLst/>
              <a:rect l="l" t="t" r="r" b="b"/>
              <a:pathLst>
                <a:path w="800" h="704">
                  <a:moveTo>
                    <a:pt x="800" y="688"/>
                  </a:moveTo>
                  <a:lnTo>
                    <a:pt x="48" y="704"/>
                  </a:lnTo>
                  <a:lnTo>
                    <a:pt x="0" y="480"/>
                  </a:lnTo>
                  <a:lnTo>
                    <a:pt x="48" y="288"/>
                  </a:lnTo>
                  <a:lnTo>
                    <a:pt x="112" y="160"/>
                  </a:lnTo>
                  <a:lnTo>
                    <a:pt x="400" y="0"/>
                  </a:lnTo>
                  <a:lnTo>
                    <a:pt x="800" y="688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549440" y="1219320"/>
            <a:ext cx="5791320" cy="1890720"/>
            <a:chOff x="1549440" y="1219320"/>
            <a:chExt cx="5791320" cy="1890720"/>
          </a:xfrm>
        </p:grpSpPr>
        <p:sp>
          <p:nvSpPr>
            <p:cNvPr id="163" name=""/>
            <p:cNvSpPr/>
            <p:nvPr/>
          </p:nvSpPr>
          <p:spPr>
            <a:xfrm>
              <a:off x="5486400" y="1600200"/>
              <a:ext cx="1854360" cy="1509840"/>
            </a:xfrm>
            <a:custGeom>
              <a:avLst/>
              <a:gdLst/>
              <a:ahLst/>
              <a:rect l="l" t="t" r="r" b="b"/>
              <a:pathLst>
                <a:path w="1168" h="951">
                  <a:moveTo>
                    <a:pt x="656" y="0"/>
                  </a:moveTo>
                  <a:lnTo>
                    <a:pt x="0" y="656"/>
                  </a:lnTo>
                  <a:lnTo>
                    <a:pt x="134" y="785"/>
                  </a:lnTo>
                  <a:lnTo>
                    <a:pt x="297" y="897"/>
                  </a:lnTo>
                  <a:lnTo>
                    <a:pt x="430" y="951"/>
                  </a:lnTo>
                  <a:lnTo>
                    <a:pt x="1168" y="912"/>
                  </a:lnTo>
                  <a:lnTo>
                    <a:pt x="656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49440" y="1219320"/>
              <a:ext cx="1854000" cy="1509480"/>
            </a:xfrm>
            <a:custGeom>
              <a:avLst/>
              <a:gdLst/>
              <a:ahLst/>
              <a:rect l="l" t="t" r="r" b="b"/>
              <a:pathLst>
                <a:path w="1168" h="951">
                  <a:moveTo>
                    <a:pt x="640" y="0"/>
                  </a:moveTo>
                  <a:lnTo>
                    <a:pt x="0" y="656"/>
                  </a:lnTo>
                  <a:lnTo>
                    <a:pt x="134" y="785"/>
                  </a:lnTo>
                  <a:lnTo>
                    <a:pt x="297" y="897"/>
                  </a:lnTo>
                  <a:lnTo>
                    <a:pt x="430" y="951"/>
                  </a:lnTo>
                  <a:lnTo>
                    <a:pt x="1168" y="912"/>
                  </a:lnTo>
                  <a:lnTo>
                    <a:pt x="640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80880" y="2413080"/>
            <a:ext cx="3962520" cy="2768400"/>
            <a:chOff x="380880" y="2413080"/>
            <a:chExt cx="3962520" cy="2768400"/>
          </a:xfrm>
        </p:grpSpPr>
        <p:sp>
          <p:nvSpPr>
            <p:cNvPr id="166" name=""/>
            <p:cNvSpPr/>
            <p:nvPr/>
          </p:nvSpPr>
          <p:spPr>
            <a:xfrm>
              <a:off x="2971800" y="4165560"/>
              <a:ext cx="1371600" cy="101592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0880" y="2413080"/>
              <a:ext cx="1371600" cy="101592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96880" y="244440"/>
            <a:ext cx="8089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усть у двух треугольников АВС и 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углы соответственно рав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962520" y="568440"/>
                <a:ext cx="49528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С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09480" y="5654520"/>
            <a:ext cx="8153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 этом случае стороны АВ и 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ВС и 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СА и 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называются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сходстве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219320"/>
            <a:ext cx="3429000" cy="220968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1600200"/>
            <a:ext cx="5562720" cy="358128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4080" y="3352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5520" y="914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3440" y="3367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546760" y="487692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89000" y="114300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79120" y="49528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590920" y="1219320"/>
            <a:ext cx="5943600" cy="3962160"/>
            <a:chOff x="2590920" y="1219320"/>
            <a:chExt cx="5943600" cy="3962160"/>
          </a:xfrm>
        </p:grpSpPr>
        <p:sp>
          <p:nvSpPr>
            <p:cNvPr id="180" name=""/>
            <p:cNvSpPr/>
            <p:nvPr/>
          </p:nvSpPr>
          <p:spPr>
            <a:xfrm>
              <a:off x="2590920" y="1219320"/>
              <a:ext cx="1218960" cy="220968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53080" y="1600200"/>
              <a:ext cx="1981440" cy="3581280"/>
            </a:xfrm>
            <a:custGeom>
              <a:avLst/>
              <a:gdLst/>
              <a:ahLst/>
              <a:rect l="l" t="t" r="r" b="b"/>
              <a:pathLst>
                <a:path w="1248" h="2256">
                  <a:moveTo>
                    <a:pt x="0" y="0"/>
                  </a:moveTo>
                  <a:lnTo>
                    <a:pt x="1248" y="2256"/>
                  </a:lnTo>
                </a:path>
              </a:pathLst>
            </a:custGeom>
            <a:noFill/>
            <a:ln w="38160">
              <a:solidFill>
                <a:srgbClr val="33cc33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55680" y="3429000"/>
            <a:ext cx="8178840" cy="1754280"/>
            <a:chOff x="355680" y="3429000"/>
            <a:chExt cx="8178840" cy="1754280"/>
          </a:xfrm>
        </p:grpSpPr>
        <p:sp>
          <p:nvSpPr>
            <p:cNvPr id="183" name=""/>
            <p:cNvSpPr/>
            <p:nvPr/>
          </p:nvSpPr>
          <p:spPr>
            <a:xfrm>
              <a:off x="355680" y="3429000"/>
              <a:ext cx="3429000" cy="1440"/>
            </a:xfrm>
            <a:custGeom>
              <a:avLst/>
              <a:gdLst/>
              <a:ahLst/>
              <a:rect l="l" t="t" r="r" b="b"/>
              <a:pathLst>
                <a:path w="2160" h="1">
                  <a:moveTo>
                    <a:pt x="0" y="0"/>
                  </a:moveTo>
                  <a:lnTo>
                    <a:pt x="21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71800" y="5181480"/>
              <a:ext cx="5562720" cy="1800"/>
            </a:xfrm>
            <a:custGeom>
              <a:avLst/>
              <a:gdLst/>
              <a:ahLst/>
              <a:rect l="l" t="t" r="r" b="b"/>
              <a:pathLst>
                <a:path w="3504" h="1">
                  <a:moveTo>
                    <a:pt x="0" y="0"/>
                  </a:moveTo>
                  <a:lnTo>
                    <a:pt x="35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55680" y="1219320"/>
            <a:ext cx="6172200" cy="3962160"/>
            <a:chOff x="355680" y="1219320"/>
            <a:chExt cx="6172200" cy="3962160"/>
          </a:xfrm>
        </p:grpSpPr>
        <p:sp>
          <p:nvSpPr>
            <p:cNvPr id="186" name=""/>
            <p:cNvSpPr/>
            <p:nvPr/>
          </p:nvSpPr>
          <p:spPr>
            <a:xfrm>
              <a:off x="355680" y="1219320"/>
              <a:ext cx="2235240" cy="2209680"/>
            </a:xfrm>
            <a:custGeom>
              <a:avLst/>
              <a:gdLst/>
              <a:ahLst/>
              <a:rect l="l" t="t" r="r" b="b"/>
              <a:pathLst>
                <a:path w="1408" h="1392">
                  <a:moveTo>
                    <a:pt x="1408" y="0"/>
                  </a:moveTo>
                  <a:lnTo>
                    <a:pt x="0" y="13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71800" y="1574640"/>
              <a:ext cx="3556080" cy="3606840"/>
            </a:xfrm>
            <a:custGeom>
              <a:avLst/>
              <a:gdLst/>
              <a:ahLst/>
              <a:rect l="l" t="t" r="r" b="b"/>
              <a:pathLst>
                <a:path w="2240" h="2272">
                  <a:moveTo>
                    <a:pt x="2240" y="0"/>
                  </a:moveTo>
                  <a:lnTo>
                    <a:pt x="0" y="22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 rot="20528400">
            <a:off x="3580920" y="4190760"/>
            <a:ext cx="1440000" cy="906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 rot="20528400">
            <a:off x="762120" y="2666520"/>
            <a:ext cx="1135080" cy="714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 rot="6121800">
            <a:off x="5752800" y="2247480"/>
            <a:ext cx="1440000" cy="906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 rot="5805000">
            <a:off x="1923120" y="1658160"/>
            <a:ext cx="1135080" cy="714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 rot="12399000">
            <a:off x="6781680" y="4038120"/>
            <a:ext cx="1440000" cy="906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 rot="12568200">
            <a:off x="2437920" y="2590560"/>
            <a:ext cx="1135080" cy="71424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195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6667 -0.15555 E">
                                      <p:cBhvr>
                                        <p:cTn id="175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22222E-006 L 0.12969 -0.0743 E">
                                      <p:cBhvr>
                                        <p:cTn id="177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5.55112E-017 L -0.05781 0.26181 E">
                                      <p:cBhvr>
                                        <p:cTn id="207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 L -0.01407 0.12847 E">
                                      <p:cBhvr>
                                        <p:cTn id="209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11111E-006 L -0.22031 -0.12153 E">
                                      <p:cBhvr>
                                        <p:cTn id="240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111E-006 L -0.11198 -0.06319 E">
                                      <p:cBhvr>
                                        <p:cTn id="242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1549440" y="1600200"/>
            <a:ext cx="5791320" cy="2819520"/>
            <a:chOff x="1549440" y="1600200"/>
            <a:chExt cx="5791320" cy="2819520"/>
          </a:xfrm>
        </p:grpSpPr>
        <p:grpSp>
          <p:nvGrpSpPr>
            <p:cNvPr id="204" name=""/>
            <p:cNvGrpSpPr/>
            <p:nvPr/>
          </p:nvGrpSpPr>
          <p:grpSpPr>
            <a:xfrm>
              <a:off x="1549440" y="2529000"/>
              <a:ext cx="5791320" cy="1890720"/>
              <a:chOff x="1549440" y="2529000"/>
              <a:chExt cx="5791320" cy="1890720"/>
            </a:xfrm>
          </p:grpSpPr>
          <p:sp>
            <p:nvSpPr>
              <p:cNvPr id="205" name=""/>
              <p:cNvSpPr/>
              <p:nvPr/>
            </p:nvSpPr>
            <p:spPr>
              <a:xfrm>
                <a:off x="5486400" y="2909880"/>
                <a:ext cx="1854360" cy="1509840"/>
              </a:xfrm>
              <a:custGeom>
                <a:avLst/>
                <a:gdLst/>
                <a:ahLst/>
                <a:rect l="l" t="t" r="r" b="b"/>
                <a:pathLst>
                  <a:path w="1168" h="951">
                    <a:moveTo>
                      <a:pt x="656" y="0"/>
                    </a:moveTo>
                    <a:lnTo>
                      <a:pt x="0" y="656"/>
                    </a:lnTo>
                    <a:lnTo>
                      <a:pt x="134" y="785"/>
                    </a:lnTo>
                    <a:lnTo>
                      <a:pt x="297" y="897"/>
                    </a:lnTo>
                    <a:lnTo>
                      <a:pt x="430" y="951"/>
                    </a:lnTo>
                    <a:lnTo>
                      <a:pt x="1168" y="912"/>
                    </a:lnTo>
                    <a:lnTo>
                      <a:pt x="656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549440" y="2529000"/>
                <a:ext cx="1854000" cy="1509480"/>
              </a:xfrm>
              <a:custGeom>
                <a:avLst/>
                <a:gdLst/>
                <a:ahLst/>
                <a:rect l="l" t="t" r="r" b="b"/>
                <a:pathLst>
                  <a:path w="1168" h="951">
                    <a:moveTo>
                      <a:pt x="640" y="0"/>
                    </a:moveTo>
                    <a:lnTo>
                      <a:pt x="0" y="656"/>
                    </a:lnTo>
                    <a:lnTo>
                      <a:pt x="134" y="785"/>
                    </a:lnTo>
                    <a:lnTo>
                      <a:pt x="297" y="897"/>
                    </a:lnTo>
                    <a:lnTo>
                      <a:pt x="430" y="951"/>
                    </a:lnTo>
                    <a:lnTo>
                      <a:pt x="1168" y="912"/>
                    </a:lnTo>
                    <a:lnTo>
                      <a:pt x="64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1905120" y="1600200"/>
                  <a:ext cx="193500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∠</m:t>
                      </m:r>
                      <m:r>
                        <m:t xml:space="preserve">В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В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8" name=""/>
          <p:cNvGrpSpPr/>
          <p:nvPr/>
        </p:nvGrpSpPr>
        <p:grpSpPr>
          <a:xfrm>
            <a:off x="2514600" y="1600200"/>
            <a:ext cx="6019920" cy="4890960"/>
            <a:chOff x="2514600" y="1600200"/>
            <a:chExt cx="6019920" cy="4890960"/>
          </a:xfrm>
        </p:grpSpPr>
        <p:grpSp>
          <p:nvGrpSpPr>
            <p:cNvPr id="209" name=""/>
            <p:cNvGrpSpPr/>
            <p:nvPr/>
          </p:nvGrpSpPr>
          <p:grpSpPr>
            <a:xfrm>
              <a:off x="2514600" y="3621240"/>
              <a:ext cx="6019920" cy="2869920"/>
              <a:chOff x="2514600" y="3621240"/>
              <a:chExt cx="6019920" cy="2869920"/>
            </a:xfrm>
          </p:grpSpPr>
          <p:sp>
            <p:nvSpPr>
              <p:cNvPr id="210" name=""/>
              <p:cNvSpPr/>
              <p:nvPr/>
            </p:nvSpPr>
            <p:spPr>
              <a:xfrm>
                <a:off x="7264440" y="5373720"/>
                <a:ext cx="1270080" cy="1117440"/>
              </a:xfrm>
              <a:custGeom>
                <a:avLst/>
                <a:gdLst/>
                <a:ahLst/>
                <a:rect l="l" t="t" r="r" b="b"/>
                <a:pathLst>
                  <a:path w="800" h="704">
                    <a:moveTo>
                      <a:pt x="800" y="688"/>
                    </a:moveTo>
                    <a:lnTo>
                      <a:pt x="48" y="704"/>
                    </a:lnTo>
                    <a:lnTo>
                      <a:pt x="0" y="480"/>
                    </a:lnTo>
                    <a:lnTo>
                      <a:pt x="48" y="288"/>
                    </a:lnTo>
                    <a:lnTo>
                      <a:pt x="112" y="160"/>
                    </a:lnTo>
                    <a:lnTo>
                      <a:pt x="400" y="0"/>
                    </a:lnTo>
                    <a:lnTo>
                      <a:pt x="800" y="688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14600" y="3621240"/>
                <a:ext cx="1270080" cy="1117440"/>
              </a:xfrm>
              <a:custGeom>
                <a:avLst/>
                <a:gdLst/>
                <a:ahLst/>
                <a:rect l="l" t="t" r="r" b="b"/>
                <a:pathLst>
                  <a:path w="800" h="704">
                    <a:moveTo>
                      <a:pt x="800" y="688"/>
                    </a:moveTo>
                    <a:lnTo>
                      <a:pt x="48" y="704"/>
                    </a:lnTo>
                    <a:lnTo>
                      <a:pt x="0" y="480"/>
                    </a:lnTo>
                    <a:lnTo>
                      <a:pt x="48" y="288"/>
                    </a:lnTo>
                    <a:lnTo>
                      <a:pt x="112" y="160"/>
                    </a:lnTo>
                    <a:lnTo>
                      <a:pt x="400" y="0"/>
                    </a:lnTo>
                    <a:lnTo>
                      <a:pt x="800" y="688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3657600" y="1600200"/>
                  <a:ext cx="170028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∠</m:t>
                      </m:r>
                      <m:r>
                        <m:t xml:space="preserve">С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С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3" name=""/>
          <p:cNvGrpSpPr/>
          <p:nvPr/>
        </p:nvGrpSpPr>
        <p:grpSpPr>
          <a:xfrm>
            <a:off x="228600" y="1600200"/>
            <a:ext cx="4114800" cy="4890960"/>
            <a:chOff x="228600" y="1600200"/>
            <a:chExt cx="4114800" cy="4890960"/>
          </a:xfrm>
        </p:grpSpPr>
        <p:grpSp>
          <p:nvGrpSpPr>
            <p:cNvPr id="214" name=""/>
            <p:cNvGrpSpPr/>
            <p:nvPr/>
          </p:nvGrpSpPr>
          <p:grpSpPr>
            <a:xfrm>
              <a:off x="380880" y="3722760"/>
              <a:ext cx="3962520" cy="2768400"/>
              <a:chOff x="380880" y="3722760"/>
              <a:chExt cx="3962520" cy="2768400"/>
            </a:xfrm>
          </p:grpSpPr>
          <p:sp>
            <p:nvSpPr>
              <p:cNvPr id="215" name=""/>
              <p:cNvSpPr/>
              <p:nvPr/>
            </p:nvSpPr>
            <p:spPr>
              <a:xfrm>
                <a:off x="2971800" y="5475240"/>
                <a:ext cx="1371600" cy="101592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0880" y="3722760"/>
                <a:ext cx="1371600" cy="101592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228600" y="1600200"/>
                  <a:ext cx="163980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8" name=""/>
          <p:cNvSpPr/>
          <p:nvPr/>
        </p:nvSpPr>
        <p:spPr>
          <a:xfrm>
            <a:off x="380880" y="2529000"/>
            <a:ext cx="3429000" cy="220968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2909880"/>
            <a:ext cx="5562720" cy="358128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4080" y="4662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5520" y="2224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83440" y="4676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580240" y="63388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89000" y="24526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79120" y="626256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9680" y="0"/>
            <a:ext cx="89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Два треугольника называются подобными, если их углы соответственно равны и стороны одного треугольника соответственно пропорциональны сходственным сторонам друг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80880" y="1295280"/>
            <a:ext cx="6294600" cy="5181840"/>
            <a:chOff x="380880" y="1295280"/>
            <a:chExt cx="6294600" cy="5181840"/>
          </a:xfrm>
        </p:grpSpPr>
        <p:sp>
          <p:nvSpPr>
            <p:cNvPr id="228" name=""/>
            <p:cNvSpPr/>
            <p:nvPr/>
          </p:nvSpPr>
          <p:spPr>
            <a:xfrm>
              <a:off x="380880" y="2514600"/>
              <a:ext cx="2235240" cy="2209680"/>
            </a:xfrm>
            <a:custGeom>
              <a:avLst/>
              <a:gdLst/>
              <a:ahLst/>
              <a:rect l="l" t="t" r="r" b="b"/>
              <a:pathLst>
                <a:path w="1408" h="1392">
                  <a:moveTo>
                    <a:pt x="1408" y="0"/>
                  </a:moveTo>
                  <a:lnTo>
                    <a:pt x="0" y="13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97360" y="2870280"/>
              <a:ext cx="3555720" cy="3606840"/>
            </a:xfrm>
            <a:custGeom>
              <a:avLst/>
              <a:gdLst/>
              <a:ahLst/>
              <a:rect l="l" t="t" r="r" b="b"/>
              <a:pathLst>
                <a:path w="2240" h="2272">
                  <a:moveTo>
                    <a:pt x="2240" y="0"/>
                  </a:moveTo>
                  <a:lnTo>
                    <a:pt x="0" y="22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5773680" y="1295280"/>
                  <a:ext cx="901800" cy="113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1" name=""/>
          <p:cNvGrpSpPr/>
          <p:nvPr/>
        </p:nvGrpSpPr>
        <p:grpSpPr>
          <a:xfrm>
            <a:off x="2590920" y="1295280"/>
            <a:ext cx="5943600" cy="5181480"/>
            <a:chOff x="2590920" y="1295280"/>
            <a:chExt cx="5943600" cy="5181480"/>
          </a:xfrm>
        </p:grpSpPr>
        <p:grpSp>
          <p:nvGrpSpPr>
            <p:cNvPr id="232" name=""/>
            <p:cNvGrpSpPr/>
            <p:nvPr/>
          </p:nvGrpSpPr>
          <p:grpSpPr>
            <a:xfrm>
              <a:off x="2590920" y="2514600"/>
              <a:ext cx="5943600" cy="3962160"/>
              <a:chOff x="2590920" y="2514600"/>
              <a:chExt cx="5943600" cy="3962160"/>
            </a:xfrm>
          </p:grpSpPr>
          <p:sp>
            <p:nvSpPr>
              <p:cNvPr id="233" name=""/>
              <p:cNvSpPr/>
              <p:nvPr/>
            </p:nvSpPr>
            <p:spPr>
              <a:xfrm>
                <a:off x="2590920" y="2514600"/>
                <a:ext cx="1218960" cy="220968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553080" y="2895480"/>
                <a:ext cx="1981440" cy="3581280"/>
              </a:xfrm>
              <a:custGeom>
                <a:avLst/>
                <a:gdLst/>
                <a:ahLst/>
                <a:rect l="l" t="t" r="r" b="b"/>
                <a:pathLst>
                  <a:path w="1248" h="2256">
                    <a:moveTo>
                      <a:pt x="0" y="0"/>
                    </a:moveTo>
                    <a:lnTo>
                      <a:pt x="1248" y="2256"/>
                    </a:lnTo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6611760" y="1295280"/>
                  <a:ext cx="1236960" cy="113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6" name=""/>
          <p:cNvGrpSpPr/>
          <p:nvPr/>
        </p:nvGrpSpPr>
        <p:grpSpPr>
          <a:xfrm>
            <a:off x="355680" y="1295280"/>
            <a:ext cx="8636040" cy="5197680"/>
            <a:chOff x="355680" y="1295280"/>
            <a:chExt cx="8636040" cy="5197680"/>
          </a:xfrm>
        </p:grpSpPr>
        <p:grpSp>
          <p:nvGrpSpPr>
            <p:cNvPr id="237" name=""/>
            <p:cNvGrpSpPr/>
            <p:nvPr/>
          </p:nvGrpSpPr>
          <p:grpSpPr>
            <a:xfrm>
              <a:off x="355680" y="4738680"/>
              <a:ext cx="8178840" cy="1754280"/>
              <a:chOff x="355680" y="4738680"/>
              <a:chExt cx="8178840" cy="1754280"/>
            </a:xfrm>
          </p:grpSpPr>
          <p:sp>
            <p:nvSpPr>
              <p:cNvPr id="238" name=""/>
              <p:cNvSpPr/>
              <p:nvPr/>
            </p:nvSpPr>
            <p:spPr>
              <a:xfrm>
                <a:off x="355680" y="4738680"/>
                <a:ext cx="3429000" cy="1440"/>
              </a:xfrm>
              <a:custGeom>
                <a:avLst/>
                <a:gdLst/>
                <a:ahLst/>
                <a:rect l="l" t="t" r="r" b="b"/>
                <a:pathLst>
                  <a:path w="2160" h="1">
                    <a:moveTo>
                      <a:pt x="0" y="0"/>
                    </a:moveTo>
                    <a:lnTo>
                      <a:pt x="2160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71800" y="6491160"/>
                <a:ext cx="5562720" cy="1800"/>
              </a:xfrm>
              <a:custGeom>
                <a:avLst/>
                <a:gdLst/>
                <a:ahLst/>
                <a:rect l="l" t="t" r="r" b="b"/>
                <a:pathLst>
                  <a:path w="3504" h="1">
                    <a:moveTo>
                      <a:pt x="0" y="0"/>
                    </a:moveTo>
                    <a:lnTo>
                      <a:pt x="3504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7754760" y="1295280"/>
                  <a:ext cx="1236960" cy="113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971800" y="2909880"/>
            <a:ext cx="5562720" cy="358128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8120" y="2514600"/>
            <a:ext cx="3866040" cy="2973240"/>
            <a:chOff x="78120" y="2514600"/>
            <a:chExt cx="3866040" cy="2973240"/>
          </a:xfrm>
        </p:grpSpPr>
        <p:sp>
          <p:nvSpPr>
            <p:cNvPr id="243" name=""/>
            <p:cNvSpPr/>
            <p:nvPr/>
          </p:nvSpPr>
          <p:spPr>
            <a:xfrm>
              <a:off x="304920" y="2819520"/>
              <a:ext cx="3429000" cy="220968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120" y="49528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9560" y="25146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07480" y="4967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8546760" y="618660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89000" y="24526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79120" y="626256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89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Числ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k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, равное отношению сходственных сторон подобных треугольников, называется коэффициентом подоб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6320" y="1219320"/>
            <a:ext cx="3217320" cy="1136520"/>
            <a:chOff x="76320" y="1219320"/>
            <a:chExt cx="3217320" cy="113652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76320" y="1219320"/>
                  <a:ext cx="901440" cy="113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914040" y="1219320"/>
                  <a:ext cx="1236600" cy="113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2057040" y="1219320"/>
                  <a:ext cx="1236600" cy="113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5" name=""/>
          <p:cNvSpPr/>
          <p:nvPr/>
        </p:nvSpPr>
        <p:spPr>
          <a:xfrm>
            <a:off x="3278880" y="1295280"/>
            <a:ext cx="10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Arial"/>
              </a:rPr>
              <a:t>=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Arial"/>
              </a:rPr>
              <a:t>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410080" y="1676520"/>
            <a:ext cx="3342960" cy="579600"/>
            <a:chOff x="5410080" y="1676520"/>
            <a:chExt cx="3342960" cy="579600"/>
          </a:xfrm>
        </p:grpSpPr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5410080" y="167652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8" name=""/>
            <p:cNvSpPr/>
            <p:nvPr/>
          </p:nvSpPr>
          <p:spPr>
            <a:xfrm>
              <a:off x="5717160" y="167652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205800">
              <a:off x="6701760" y="1827000"/>
              <a:ext cx="460440" cy="230400"/>
            </a:xfrm>
            <a:custGeom>
              <a:avLst/>
              <a:gdLst/>
              <a:ahLst/>
              <a:rect l="l" t="t" r="r" b="b"/>
              <a:pathLst>
                <a:path w="540" h="205">
                  <a:moveTo>
                    <a:pt x="203" y="138"/>
                  </a:moveTo>
                  <a:cubicBezTo>
                    <a:pt x="196" y="145"/>
                    <a:pt x="182" y="171"/>
                    <a:pt x="160" y="181"/>
                  </a:cubicBezTo>
                  <a:cubicBezTo>
                    <a:pt x="139" y="191"/>
                    <a:pt x="98" y="205"/>
                    <a:pt x="73" y="199"/>
                  </a:cubicBezTo>
                  <a:cubicBezTo>
                    <a:pt x="48" y="194"/>
                    <a:pt x="21" y="170"/>
                    <a:pt x="11" y="148"/>
                  </a:cubicBezTo>
                  <a:cubicBezTo>
                    <a:pt x="0" y="126"/>
                    <a:pt x="1" y="86"/>
                    <a:pt x="11" y="66"/>
                  </a:cubicBezTo>
                  <a:cubicBezTo>
                    <a:pt x="20" y="45"/>
                    <a:pt x="43" y="31"/>
                    <a:pt x="68" y="26"/>
                  </a:cubicBezTo>
                  <a:cubicBezTo>
                    <a:pt x="93" y="22"/>
                    <a:pt x="124" y="24"/>
                    <a:pt x="160" y="39"/>
                  </a:cubicBezTo>
                  <a:cubicBezTo>
                    <a:pt x="197" y="53"/>
                    <a:pt x="249" y="88"/>
                    <a:pt x="285" y="110"/>
                  </a:cubicBezTo>
                  <a:cubicBezTo>
                    <a:pt x="322" y="133"/>
                    <a:pt x="345" y="162"/>
                    <a:pt x="378" y="172"/>
                  </a:cubicBezTo>
                  <a:cubicBezTo>
                    <a:pt x="411" y="182"/>
                    <a:pt x="459" y="177"/>
                    <a:pt x="485" y="167"/>
                  </a:cubicBezTo>
                  <a:cubicBezTo>
                    <a:pt x="511" y="158"/>
                    <a:pt x="530" y="136"/>
                    <a:pt x="535" y="113"/>
                  </a:cubicBezTo>
                  <a:cubicBezTo>
                    <a:pt x="540" y="90"/>
                    <a:pt x="534" y="49"/>
                    <a:pt x="517" y="31"/>
                  </a:cubicBezTo>
                  <a:cubicBezTo>
                    <a:pt x="500" y="13"/>
                    <a:pt x="461" y="0"/>
                    <a:pt x="433" y="3"/>
                  </a:cubicBezTo>
                  <a:cubicBezTo>
                    <a:pt x="405" y="6"/>
                    <a:pt x="366" y="40"/>
                    <a:pt x="348" y="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7162560" y="167652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1" name=""/>
            <p:cNvSpPr/>
            <p:nvPr/>
          </p:nvSpPr>
          <p:spPr>
            <a:xfrm>
              <a:off x="7500600" y="1676520"/>
              <a:ext cx="1252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105520" y="0"/>
            <a:ext cx="83808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581280" y="3123360"/>
            <a:ext cx="4724640" cy="3048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8120" y="2514600"/>
            <a:ext cx="3866040" cy="2973240"/>
            <a:chOff x="78120" y="2514600"/>
            <a:chExt cx="3866040" cy="2973240"/>
          </a:xfrm>
        </p:grpSpPr>
        <p:sp>
          <p:nvSpPr>
            <p:cNvPr id="265" name=""/>
            <p:cNvSpPr/>
            <p:nvPr/>
          </p:nvSpPr>
          <p:spPr>
            <a:xfrm>
              <a:off x="304920" y="2819520"/>
              <a:ext cx="3429000" cy="220968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8120" y="49528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59560" y="25146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07480" y="4967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125880" y="25909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74360" y="6095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30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а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143000" y="228600"/>
            <a:ext cx="3008880" cy="520560"/>
            <a:chOff x="1143000" y="228600"/>
            <a:chExt cx="3008880" cy="520560"/>
          </a:xfrm>
        </p:grpSpPr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1143000" y="22860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"/>
            <p:cNvSpPr/>
            <p:nvPr/>
          </p:nvSpPr>
          <p:spPr>
            <a:xfrm>
              <a:off x="1450080" y="228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205800">
              <a:off x="2434680" y="379080"/>
              <a:ext cx="460440" cy="230400"/>
            </a:xfrm>
            <a:custGeom>
              <a:avLst/>
              <a:gdLst/>
              <a:ahLst/>
              <a:rect l="l" t="t" r="r" b="b"/>
              <a:pathLst>
                <a:path w="540" h="205">
                  <a:moveTo>
                    <a:pt x="203" y="138"/>
                  </a:moveTo>
                  <a:cubicBezTo>
                    <a:pt x="196" y="145"/>
                    <a:pt x="182" y="171"/>
                    <a:pt x="160" y="181"/>
                  </a:cubicBezTo>
                  <a:cubicBezTo>
                    <a:pt x="139" y="191"/>
                    <a:pt x="98" y="205"/>
                    <a:pt x="73" y="199"/>
                  </a:cubicBezTo>
                  <a:cubicBezTo>
                    <a:pt x="48" y="194"/>
                    <a:pt x="21" y="170"/>
                    <a:pt x="11" y="148"/>
                  </a:cubicBezTo>
                  <a:cubicBezTo>
                    <a:pt x="0" y="126"/>
                    <a:pt x="1" y="86"/>
                    <a:pt x="11" y="66"/>
                  </a:cubicBezTo>
                  <a:cubicBezTo>
                    <a:pt x="20" y="45"/>
                    <a:pt x="43" y="31"/>
                    <a:pt x="68" y="26"/>
                  </a:cubicBezTo>
                  <a:cubicBezTo>
                    <a:pt x="93" y="22"/>
                    <a:pt x="124" y="24"/>
                    <a:pt x="160" y="39"/>
                  </a:cubicBezTo>
                  <a:cubicBezTo>
                    <a:pt x="197" y="53"/>
                    <a:pt x="249" y="88"/>
                    <a:pt x="285" y="110"/>
                  </a:cubicBezTo>
                  <a:cubicBezTo>
                    <a:pt x="322" y="133"/>
                    <a:pt x="345" y="162"/>
                    <a:pt x="378" y="172"/>
                  </a:cubicBezTo>
                  <a:cubicBezTo>
                    <a:pt x="411" y="182"/>
                    <a:pt x="459" y="177"/>
                    <a:pt x="485" y="167"/>
                  </a:cubicBezTo>
                  <a:cubicBezTo>
                    <a:pt x="511" y="158"/>
                    <a:pt x="530" y="136"/>
                    <a:pt x="535" y="113"/>
                  </a:cubicBezTo>
                  <a:cubicBezTo>
                    <a:pt x="540" y="90"/>
                    <a:pt x="534" y="49"/>
                    <a:pt x="517" y="31"/>
                  </a:cubicBezTo>
                  <a:cubicBezTo>
                    <a:pt x="500" y="13"/>
                    <a:pt x="461" y="0"/>
                    <a:pt x="433" y="3"/>
                  </a:cubicBezTo>
                  <a:cubicBezTo>
                    <a:pt x="405" y="6"/>
                    <a:pt x="366" y="40"/>
                    <a:pt x="348" y="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2895480" y="22860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3202920" y="228600"/>
              <a:ext cx="94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8381880" y="2666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22280" y="3124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142720" y="3048120"/>
            <a:ext cx="4732920" cy="2898000"/>
            <a:chOff x="2142720" y="3048120"/>
            <a:chExt cx="4732920" cy="2898000"/>
          </a:xfrm>
        </p:grpSpPr>
        <p:sp>
          <p:nvSpPr>
            <p:cNvPr id="281" name=""/>
            <p:cNvSpPr/>
            <p:nvPr/>
          </p:nvSpPr>
          <p:spPr>
            <a:xfrm>
              <a:off x="6257520" y="54864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Arial"/>
                </a:rPr>
                <a:t>8</a:t>
              </a:r>
              <a:r>
                <a:rPr b="1" lang="ru-RU" sz="2400" spc="-1" strike="noStrike">
                  <a:solidFill>
                    <a:srgbClr val="660066"/>
                  </a:solidFill>
                  <a:latin typeface="Arial"/>
                  <a:ea typeface="Arial"/>
                </a:rPr>
                <a:t>0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42720" y="304812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Arial"/>
                </a:rPr>
                <a:t>8</a:t>
              </a:r>
              <a:r>
                <a:rPr b="1" lang="ru-RU" sz="2400" spc="-1" strike="noStrike">
                  <a:solidFill>
                    <a:srgbClr val="660066"/>
                  </a:solidFill>
                  <a:latin typeface="Arial"/>
                  <a:ea typeface="Arial"/>
                </a:rPr>
                <a:t>0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3895200" y="31240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3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 baseline="30000">
                <a:solidFill>
                  <a:srgbClr val="ff00ff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04920" y="1600200"/>
                <a:ext cx="1725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28600" y="2286000"/>
                <a:ext cx="16905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04920" y="914400"/>
                <a:ext cx="1792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542520" y="46483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3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 baseline="30000">
                <a:solidFill>
                  <a:srgbClr val="660066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30120" y="46483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Arial"/>
                <a:ea typeface="Arial"/>
              </a:rPr>
              <a:t>69</a:t>
            </a:r>
            <a:r>
              <a:rPr b="1" lang="en-US" sz="2400" spc="-1" strike="noStrike" baseline="30000">
                <a:solidFill>
                  <a:srgbClr val="00cc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105520" y="0"/>
            <a:ext cx="3068640" cy="1036800"/>
            <a:chOff x="5105520" y="0"/>
            <a:chExt cx="3068640" cy="1036800"/>
          </a:xfrm>
        </p:grpSpPr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5943960" y="0"/>
                  <a:ext cx="1069920" cy="103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RV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5105520" y="0"/>
                  <a:ext cx="735120" cy="103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7071120" y="0"/>
                  <a:ext cx="1103040" cy="103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OV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3" name=""/>
          <p:cNvSpPr/>
          <p:nvPr/>
        </p:nvSpPr>
        <p:spPr>
          <a:xfrm>
            <a:off x="4191120" y="12193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 все углы треуг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04920" y="2844720"/>
            <a:ext cx="6298920" cy="3327480"/>
            <a:chOff x="304920" y="2844720"/>
            <a:chExt cx="6298920" cy="3327480"/>
          </a:xfrm>
        </p:grpSpPr>
        <p:sp>
          <p:nvSpPr>
            <p:cNvPr id="295" name=""/>
            <p:cNvSpPr/>
            <p:nvPr/>
          </p:nvSpPr>
          <p:spPr>
            <a:xfrm>
              <a:off x="304920" y="2844720"/>
              <a:ext cx="2209680" cy="2184480"/>
            </a:xfrm>
            <a:custGeom>
              <a:avLst/>
              <a:gdLst/>
              <a:ahLst/>
              <a:rect l="l" t="t" r="r" b="b"/>
              <a:pathLst>
                <a:path w="1392" h="1376">
                  <a:moveTo>
                    <a:pt x="1392" y="0"/>
                  </a:moveTo>
                  <a:lnTo>
                    <a:pt x="0" y="13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81280" y="3149640"/>
              <a:ext cx="3022560" cy="3022560"/>
            </a:xfrm>
            <a:custGeom>
              <a:avLst/>
              <a:gdLst/>
              <a:ahLst/>
              <a:rect l="l" t="t" r="r" b="b"/>
              <a:pathLst>
                <a:path w="1904" h="1904">
                  <a:moveTo>
                    <a:pt x="1904" y="190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 rot="950400">
            <a:off x="1218960" y="4190760"/>
            <a:ext cx="1143000" cy="2379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 rot="19690200">
            <a:off x="5029200" y="4419720"/>
            <a:ext cx="1143000" cy="23796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2514600" y="2832120"/>
            <a:ext cx="5791320" cy="3327480"/>
            <a:chOff x="2514600" y="2832120"/>
            <a:chExt cx="5791320" cy="3327480"/>
          </a:xfrm>
        </p:grpSpPr>
        <p:sp>
          <p:nvSpPr>
            <p:cNvPr id="300" name=""/>
            <p:cNvSpPr/>
            <p:nvPr/>
          </p:nvSpPr>
          <p:spPr>
            <a:xfrm>
              <a:off x="2514600" y="2832120"/>
              <a:ext cx="1193760" cy="2184480"/>
            </a:xfrm>
            <a:custGeom>
              <a:avLst/>
              <a:gdLst/>
              <a:ahLst/>
              <a:rect l="l" t="t" r="r" b="b"/>
              <a:pathLst>
                <a:path w="752" h="1376">
                  <a:moveTo>
                    <a:pt x="0" y="0"/>
                  </a:moveTo>
                  <a:lnTo>
                    <a:pt x="752" y="1376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03840" y="3111480"/>
              <a:ext cx="1702080" cy="3048120"/>
            </a:xfrm>
            <a:custGeom>
              <a:avLst/>
              <a:gdLst/>
              <a:ahLst/>
              <a:rect l="l" t="t" r="r" b="b"/>
              <a:pathLst>
                <a:path w="1072" h="1920">
                  <a:moveTo>
                    <a:pt x="1072" y="0"/>
                  </a:moveTo>
                  <a:lnTo>
                    <a:pt x="0" y="192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 rot="8952600">
            <a:off x="1904760" y="4038480"/>
            <a:ext cx="1143000" cy="2383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 rot="12408000">
            <a:off x="6324120" y="4342680"/>
            <a:ext cx="1143000" cy="23796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266760" y="3111480"/>
            <a:ext cx="8064360" cy="1905120"/>
            <a:chOff x="266760" y="3111480"/>
            <a:chExt cx="8064360" cy="1905120"/>
          </a:xfrm>
        </p:grpSpPr>
        <p:sp>
          <p:nvSpPr>
            <p:cNvPr id="305" name=""/>
            <p:cNvSpPr/>
            <p:nvPr/>
          </p:nvSpPr>
          <p:spPr>
            <a:xfrm>
              <a:off x="266760" y="5003640"/>
              <a:ext cx="3441600" cy="12960"/>
            </a:xfrm>
            <a:custGeom>
              <a:avLst/>
              <a:gdLst/>
              <a:ahLst/>
              <a:rect l="l" t="t" r="r" b="b"/>
              <a:pathLst>
                <a:path w="2168" h="8">
                  <a:moveTo>
                    <a:pt x="0" y="8"/>
                  </a:moveTo>
                  <a:lnTo>
                    <a:pt x="21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81280" y="3111480"/>
              <a:ext cx="4749840" cy="12600"/>
            </a:xfrm>
            <a:custGeom>
              <a:avLst/>
              <a:gdLst/>
              <a:ahLst/>
              <a:rect l="l" t="t" r="r" b="b"/>
              <a:pathLst>
                <a:path w="2992" h="8">
                  <a:moveTo>
                    <a:pt x="2992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 rot="16865400">
            <a:off x="1681200" y="4490640"/>
            <a:ext cx="1143000" cy="2379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6"/>
          <a:stretch/>
        </p:blipFill>
        <p:spPr>
          <a:xfrm flipH="1" rot="15669600">
            <a:off x="5643720" y="3651480"/>
            <a:ext cx="1143000" cy="2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9584 0.04931 E">
                                      <p:cBhvr>
                                        <p:cTn id="340" dur="1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1625 -0.11737 E">
                                      <p:cBhvr>
                                        <p:cTn id="342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12083 0.00556 E">
                                      <p:cBhvr>
                                        <p:cTn id="382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-0.14583 0.08264 E">
                                      <p:cBhvr>
                                        <p:cTn id="398" dur="1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2625 -0.13958 E">
                                      <p:cBhvr>
                                        <p:cTn id="400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083 0.00556 L 0.24583 -0.00555 E">
                                      <p:cBhvr>
                                        <p:cTn id="435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22222E-006 L 0.01198 -0.11666 E">
                                      <p:cBhvr>
                                        <p:cTn id="450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0.02031 0.20556 E">
                                      <p:cBhvr>
                                        <p:cTn id="452" dur="1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7:46:08Z</dcterms:created>
  <dc:creator>Ilya_Alekseevich</dc:creator>
  <dc:description/>
  <dc:language>en-US</dc:language>
  <cp:lastModifiedBy>Наталья</cp:lastModifiedBy>
  <dcterms:modified xsi:type="dcterms:W3CDTF">2012-01-16T07:27:58Z</dcterms:modified>
  <cp:revision>4</cp:revision>
  <dc:subject/>
  <dc:title>ГОУ СОШ №593</dc:title>
</cp:coreProperties>
</file>