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6.png" ContentType="image/png"/>
  <Override PartName="/ppt/media/image8.gif" ContentType="image/gif"/>
  <Override PartName="/ppt/media/image10.gif" ContentType="image/gif"/>
  <Override PartName="/ppt/media/image13.png" ContentType="image/png"/>
  <Override PartName="/ppt/media/image4.jpeg" ContentType="image/jpeg"/>
  <Override PartName="/ppt/media/image40.png" ContentType="image/png"/>
  <Override PartName="/ppt/media/image39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30.jpeg" ContentType="image/jpeg"/>
  <Override PartName="/ppt/media/image43.png" ContentType="image/png"/>
  <Override PartName="/ppt/media/image44.jpeg" ContentType="image/jpeg"/>
  <Override PartName="/ppt/media/image11.png" ContentType="image/png"/>
  <Override PartName="/ppt/media/image45.jpeg" ContentType="image/jpeg"/>
  <Override PartName="/ppt/media/image46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7F91-FA8B-49BC-93CD-735400C2D4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5C95-8D0D-4380-9EE3-1DCAD51D20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37A-EFC1-42E5-87CE-71DA3379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CA0-C108-4BCA-AEC3-4C23960E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E5C-E4B4-45F1-94D9-17DBB285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E6F-0742-441B-970A-20DD4F83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B973-1473-4D24-8270-4E976394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7F4F-C4C3-4233-A047-25A87E17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7B35-6F82-446D-8977-690CB17A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96DD-EEB8-454D-B5C6-83A248BC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4F26-4813-4479-BF4C-2A35121D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8367-ED5E-45BA-B5ED-1183F76F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C6E5-A653-44AE-9EB0-390B220C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2E3-238E-47CF-BE2E-6BED0E30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C8E5-4A1F-4FD3-8CEB-3CD3039C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1856-EE4C-44B6-BC59-1E3764E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07D0-057D-4A08-9DE4-D02D5990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3F36-CFA9-4088-AE22-81B11E77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5630-0922-42FF-8891-16A425DF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EA29-7713-4B1A-B7C6-5B007B19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43DEA-6E99-426D-9BED-C2545217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3C66-99DF-4A2A-A55A-C6A94E08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58EA-1407-40DE-8477-11263F8C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E761F-A710-4155-82EC-2B9DE328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22F-C400-4CAA-95F9-110E2BB1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BD4E-C158-4141-8C36-41C2FD73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2A9B3-BC53-43BB-BB8F-882D6D4D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043A-7E1F-437D-83E4-5274FD10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10752-A581-467A-916A-D551AA20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C10EC-A2EE-48B3-A233-43AAE125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4996-6B7D-4A75-885E-A1371637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9F376-DDF8-4D2E-AB43-DCE702BD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8D683-5F1E-4124-8A51-C5219D56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1413E-31CB-49CD-9135-7C7E9A4B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409DD-CF6E-4685-84EE-8067F887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BC4-554D-490F-8534-4470A9C8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895CF-4F36-4737-9068-159348A2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AB49-A33D-42C5-BB99-E68AFAF1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C7753-FC2F-40F8-A180-31902A0C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6649C-14E1-49C8-9B90-69C2C7D0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96355-87FA-4652-A03A-234AA561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58E8B-2570-4014-B0ED-ADD34C5F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79440-3B3A-45AD-B077-1AA61302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286C6-EAB0-46D4-BE10-EF2D13B0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D6986-1B1C-45D9-80D8-B105C543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F97-AA41-436B-97DA-3052FF8A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8FE-ED18-438C-B42E-974746CD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3C6-BE35-427E-AEEF-E0EDC355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425-7F2C-4826-AA00-26A5B45C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4F9-AEF1-498B-B724-FB5FB7FF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4FB5-B9AE-4D0B-B348-80F6663C94B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172B-D4F7-44B7-BBD9-FB46FC6CC08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B615-A8A9-44AA-A084-7CF615A32D8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F7FA-0DF9-488E-9B89-08FB749C887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http://img-fotki.yandex.ru/get/5704/160878850.337/0_81e3a_8e62181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5" name="Группа 6"/>
          <p:cNvGrpSpPr/>
          <p:nvPr/>
        </p:nvGrpSpPr>
        <p:grpSpPr>
          <a:xfrm>
            <a:off x="1714680" y="1928880"/>
            <a:ext cx="5929200" cy="3375000"/>
            <a:chOff x="1714680" y="1928880"/>
            <a:chExt cx="5929200" cy="3375000"/>
          </a:xfrm>
        </p:grpSpPr>
        <p:sp>
          <p:nvSpPr>
            <p:cNvPr id="206" name="Блок-схема: альтернативный процесс 4"/>
            <p:cNvSpPr/>
            <p:nvPr/>
          </p:nvSpPr>
          <p:spPr>
            <a:xfrm>
              <a:off x="2133360" y="1955160"/>
              <a:ext cx="5259600" cy="2971800"/>
            </a:xfrm>
            <a:prstGeom prst="flowChartAlternateProcess">
              <a:avLst/>
            </a:prstGeom>
            <a:solidFill>
              <a:srgbClr val="c8e3f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714680" y="1928880"/>
              <a:ext cx="5929200" cy="337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амостоятельная рабо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1 уровень</a:t>
            </a:r>
            <a:r>
              <a:rPr b="1" lang="ru-RU" sz="2600" spc="-1" strike="noStrike">
                <a:solidFill>
                  <a:srgbClr val="7030a0"/>
                </a:solidFill>
                <a:latin typeface="Constantia"/>
              </a:rPr>
              <a:t>: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те количество литров в порядке  убы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 уровень: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ши выраж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л+3л-4л=                    7л-5л+3л=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л-2л+6л=                    2л+7л-5л=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 уровен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шение задачи на смекалку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у банку входит 3л воды, а в другую – 1л. Как с их помощью отмерить 4л? Как отмерить 2л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6" descr="https://im0-tub-ru.yandex.net/i?id=74481668097faef3b5cee7091b0ed41e&amp;n=22"/>
          <p:cNvPicPr/>
          <p:nvPr/>
        </p:nvPicPr>
        <p:blipFill>
          <a:blip r:embed="rId1"/>
          <a:stretch/>
        </p:blipFill>
        <p:spPr>
          <a:xfrm>
            <a:off x="5357880" y="1357200"/>
            <a:ext cx="1071360" cy="1285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s://im2-tub-ru.yandex.net/i?id=af983d176013653ba7fcdfdafd219577&amp;n=33&amp;h=215&amp;w=191"/>
          <p:cNvPicPr/>
          <p:nvPr/>
        </p:nvPicPr>
        <p:blipFill>
          <a:blip r:embed="rId2"/>
          <a:stretch/>
        </p:blipFill>
        <p:spPr>
          <a:xfrm>
            <a:off x="2286000" y="1357200"/>
            <a:ext cx="1198440" cy="1347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s://im0-tub-ru.yandex.net/i?id=e364143f60e866e5e41a5fa88c1c222d-l&amp;n=13"/>
          <p:cNvPicPr/>
          <p:nvPr/>
        </p:nvPicPr>
        <p:blipFill>
          <a:blip r:embed="rId3"/>
          <a:stretch/>
        </p:blipFill>
        <p:spPr>
          <a:xfrm>
            <a:off x="6572160" y="13572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https://im3-tub-ru.yandex.net/i?id=5671453a24c4c00a13b5408dd524edb8&amp;n=33&amp;h=215&amp;w=215"/>
          <p:cNvPicPr/>
          <p:nvPr/>
        </p:nvPicPr>
        <p:blipFill>
          <a:blip r:embed="rId4"/>
          <a:stretch/>
        </p:blipFill>
        <p:spPr>
          <a:xfrm>
            <a:off x="7596360" y="121428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https://im2-tub-ru.yandex.net/i?id=1025bc1520385d3b4a8058c8e43818b0&amp;n=33&amp;h=215&amp;w=215"/>
          <p:cNvPicPr/>
          <p:nvPr/>
        </p:nvPicPr>
        <p:blipFill>
          <a:blip r:embed="rId5"/>
          <a:stretch/>
        </p:blipFill>
        <p:spPr>
          <a:xfrm>
            <a:off x="3643200" y="15001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1"/>
          <p:cNvSpPr/>
          <p:nvPr/>
        </p:nvSpPr>
        <p:spPr>
          <a:xfrm>
            <a:off x="5715000" y="2357280"/>
            <a:ext cx="7142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4357800" y="2286000"/>
            <a:ext cx="64296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857680" y="2214720"/>
            <a:ext cx="5713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7072200" y="2357280"/>
            <a:ext cx="571680" cy="5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8001000" y="2286000"/>
            <a:ext cx="7142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1571760" y="2214720"/>
            <a:ext cx="7142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Картинка 13 из 156715"/>
          <p:cNvPicPr/>
          <p:nvPr/>
        </p:nvPicPr>
        <p:blipFill>
          <a:blip r:embed="rId6"/>
          <a:stretch/>
        </p:blipFill>
        <p:spPr>
          <a:xfrm>
            <a:off x="357120" y="1469880"/>
            <a:ext cx="1285920" cy="1101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Картинка 13 из 156715"/>
          <p:cNvPicPr/>
          <p:nvPr/>
        </p:nvPicPr>
        <p:blipFill>
          <a:blip r:embed="rId7"/>
          <a:stretch/>
        </p:blipFill>
        <p:spPr>
          <a:xfrm>
            <a:off x="357120" y="1428840"/>
            <a:ext cx="128592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Блок-схема: альтернативный процесс 4"/>
          <p:cNvSpPr/>
          <p:nvPr/>
        </p:nvSpPr>
        <p:spPr>
          <a:xfrm>
            <a:off x="714240" y="214200"/>
            <a:ext cx="7715520" cy="1357560"/>
          </a:xfrm>
          <a:prstGeom prst="flowChartAlternateProcess">
            <a:avLst/>
          </a:prstGeom>
          <a:solidFill>
            <a:srgbClr val="c8e3fb"/>
          </a:solidFill>
          <a:ln w="442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Прямоугольник 8" descr=""/>
          <p:cNvPicPr/>
          <p:nvPr/>
        </p:nvPicPr>
        <p:blipFill>
          <a:blip r:embed="rId1"/>
          <a:stretch/>
        </p:blipFill>
        <p:spPr>
          <a:xfrm>
            <a:off x="1352520" y="225360"/>
            <a:ext cx="6438960" cy="1189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7"/>
          <p:cNvSpPr/>
          <p:nvPr/>
        </p:nvSpPr>
        <p:spPr>
          <a:xfrm>
            <a:off x="2214720" y="3214800"/>
            <a:ext cx="1785960" cy="128592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4000680" y="3214800"/>
            <a:ext cx="1714320" cy="128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642960" y="3214800"/>
            <a:ext cx="1571760" cy="128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715000" y="3214800"/>
            <a:ext cx="1571760" cy="128592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Прямоугольник 1" descr=""/>
          <p:cNvPicPr/>
          <p:nvPr/>
        </p:nvPicPr>
        <p:blipFill>
          <a:blip r:embed="rId1"/>
          <a:stretch/>
        </p:blipFill>
        <p:spPr>
          <a:xfrm>
            <a:off x="1689120" y="2792520"/>
            <a:ext cx="1339920" cy="110304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2" descr=""/>
          <p:cNvPicPr/>
          <p:nvPr/>
        </p:nvPicPr>
        <p:blipFill>
          <a:blip r:embed="rId2"/>
          <a:stretch/>
        </p:blipFill>
        <p:spPr>
          <a:xfrm>
            <a:off x="3602160" y="1042920"/>
            <a:ext cx="3017880" cy="110340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3" descr=""/>
          <p:cNvPicPr/>
          <p:nvPr/>
        </p:nvPicPr>
        <p:blipFill>
          <a:blip r:embed="rId3"/>
          <a:stretch/>
        </p:blipFill>
        <p:spPr>
          <a:xfrm>
            <a:off x="3614760" y="2828880"/>
            <a:ext cx="4992840" cy="110340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4" descr=""/>
          <p:cNvPicPr/>
          <p:nvPr/>
        </p:nvPicPr>
        <p:blipFill>
          <a:blip r:embed="rId4"/>
          <a:stretch/>
        </p:blipFill>
        <p:spPr>
          <a:xfrm>
            <a:off x="3743280" y="4400640"/>
            <a:ext cx="2968560" cy="1098360"/>
          </a:xfrm>
          <a:prstGeom prst="rect">
            <a:avLst/>
          </a:prstGeom>
          <a:ln w="0">
            <a:noFill/>
          </a:ln>
        </p:spPr>
      </p:pic>
      <p:cxnSp>
        <p:nvCxnSpPr>
          <p:cNvPr id="269" name="Прямая со стрелкой 6"/>
          <p:cNvCxnSpPr>
            <a:stCxn id="265" idx="3"/>
          </p:cNvCxnSpPr>
          <p:nvPr/>
        </p:nvCxnSpPr>
        <p:spPr>
          <a:xfrm flipV="1">
            <a:off x="2700000" y="1785600"/>
            <a:ext cx="1229400" cy="16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Прямая со стрелкой 7"/>
          <p:cNvCxnSpPr>
            <a:stCxn id="265" idx="3"/>
          </p:cNvCxnSpPr>
          <p:nvPr/>
        </p:nvCxnSpPr>
        <p:spPr>
          <a:xfrm>
            <a:off x="2700360" y="3429000"/>
            <a:ext cx="13010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Прямая со стрелкой 12"/>
          <p:cNvCxnSpPr>
            <a:stCxn id="265" idx="3"/>
          </p:cNvCxnSpPr>
          <p:nvPr/>
        </p:nvCxnSpPr>
        <p:spPr>
          <a:xfrm>
            <a:off x="2700360" y="3428640"/>
            <a:ext cx="1443600" cy="15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72" name="Picture 4" descr="MCj04298290000[1]"/>
          <p:cNvPicPr/>
          <p:nvPr/>
        </p:nvPicPr>
        <p:blipFill>
          <a:blip r:embed="rId5"/>
          <a:stretch/>
        </p:blipFill>
        <p:spPr>
          <a:xfrm>
            <a:off x="900000" y="1268280"/>
            <a:ext cx="1511280" cy="1373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42920" y="-94680"/>
            <a:ext cx="900108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642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6422"/>
                </a:solidFill>
                <a:latin typeface="Times New Roman"/>
                <a:ea typeface="Calibri"/>
              </a:rPr>
              <a:t>Узнайте у родителей или в библиотеке, чем раньше измеряли жид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2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Я вам предлагаю дома узнать - где, когда и что обозначала эта 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ЧАРКА      ШКАЛИК       ШТОФ    КОРЧАГА       КРУ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Блок-схема: альтернативный процесс 4"/>
          <p:cNvSpPr/>
          <p:nvPr/>
        </p:nvSpPr>
        <p:spPr>
          <a:xfrm>
            <a:off x="714240" y="214200"/>
            <a:ext cx="7715520" cy="1357560"/>
          </a:xfrm>
          <a:prstGeom prst="flowChartAlternateProcess">
            <a:avLst/>
          </a:prstGeom>
          <a:solidFill>
            <a:srgbClr val="c8e3fb"/>
          </a:solidFill>
          <a:ln w="442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Прямоугольник 8" descr=""/>
          <p:cNvPicPr/>
          <p:nvPr/>
        </p:nvPicPr>
        <p:blipFill>
          <a:blip r:embed="rId1"/>
          <a:stretch/>
        </p:blipFill>
        <p:spPr>
          <a:xfrm>
            <a:off x="993600" y="225360"/>
            <a:ext cx="7126560" cy="1189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www.coral-club-int.com/wp-content/uploads/2012/09/Voda80.png"/>
          <p:cNvPicPr/>
          <p:nvPr/>
        </p:nvPicPr>
        <p:blipFill>
          <a:blip r:embed="rId2"/>
          <a:stretch/>
        </p:blipFill>
        <p:spPr>
          <a:xfrm>
            <a:off x="214200" y="2000160"/>
            <a:ext cx="207828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http://abali.ru/wp-content/uploads/2013/07/straus-600x975.jpg"/>
          <p:cNvPicPr/>
          <p:nvPr/>
        </p:nvPicPr>
        <p:blipFill>
          <a:blip r:embed="rId3"/>
          <a:stretch/>
        </p:blipFill>
        <p:spPr>
          <a:xfrm>
            <a:off x="2357280" y="2000160"/>
            <a:ext cx="171468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9"/>
          <p:cNvSpPr/>
          <p:nvPr/>
        </p:nvSpPr>
        <p:spPr>
          <a:xfrm>
            <a:off x="500040" y="5500800"/>
            <a:ext cx="1428840" cy="1214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 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0"/>
          <p:cNvSpPr/>
          <p:nvPr/>
        </p:nvSpPr>
        <p:spPr>
          <a:xfrm>
            <a:off x="2571840" y="5500800"/>
            <a:ext cx="1428840" cy="1214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http://www.coollady.ru/puc/4/animals/30.jpg"/>
          <p:cNvPicPr/>
          <p:nvPr/>
        </p:nvPicPr>
        <p:blipFill>
          <a:blip r:embed="rId4"/>
          <a:stretch/>
        </p:blipFill>
        <p:spPr>
          <a:xfrm>
            <a:off x="4143240" y="200016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12"/>
          <p:cNvSpPr/>
          <p:nvPr/>
        </p:nvSpPr>
        <p:spPr>
          <a:xfrm>
            <a:off x="4357800" y="5500800"/>
            <a:ext cx="1928880" cy="1214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http://milton-canton-realestate.com/image_store/uploads/8/3/6/8/4/ar131639636048638.jpg"/>
          <p:cNvPicPr/>
          <p:nvPr/>
        </p:nvPicPr>
        <p:blipFill>
          <a:blip r:embed="rId5"/>
          <a:stretch/>
        </p:blipFill>
        <p:spPr>
          <a:xfrm>
            <a:off x="6786720" y="2000160"/>
            <a:ext cx="2143080" cy="342900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16"/>
          <p:cNvSpPr/>
          <p:nvPr/>
        </p:nvSpPr>
        <p:spPr>
          <a:xfrm>
            <a:off x="6858000" y="5500800"/>
            <a:ext cx="1928880" cy="1214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0 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arh11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2" descr="prir1043.gif"/>
          <p:cNvPicPr/>
          <p:nvPr/>
        </p:nvPicPr>
        <p:blipFill>
          <a:blip r:embed="rId2"/>
          <a:stretch/>
        </p:blipFill>
        <p:spPr>
          <a:xfrm>
            <a:off x="6357960" y="0"/>
            <a:ext cx="2786040" cy="19288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3" descr="tran2150.gif"/>
          <p:cNvPicPr/>
          <p:nvPr/>
        </p:nvPicPr>
        <p:blipFill>
          <a:blip r:embed="rId3"/>
          <a:stretch/>
        </p:blipFill>
        <p:spPr>
          <a:xfrm>
            <a:off x="0" y="3357720"/>
            <a:ext cx="7929720" cy="378612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5" descr=""/>
          <p:cNvPicPr/>
          <p:nvPr/>
        </p:nvPicPr>
        <p:blipFill>
          <a:blip r:embed="rId4"/>
          <a:stretch/>
        </p:blipFill>
        <p:spPr>
          <a:xfrm>
            <a:off x="1200240" y="2828880"/>
            <a:ext cx="66816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7785000" cy="2530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28400" y="2286000"/>
            <a:ext cx="8358120" cy="2000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nstantia"/>
              </a:rPr>
              <a:t>8     6    4     2     0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785880" y="135720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6041880" y="4143240"/>
            <a:ext cx="3102120" cy="2714760"/>
          </a:xfrm>
          <a:prstGeom prst="rect">
            <a:avLst/>
          </a:prstGeom>
          <a:ln w="0">
            <a:noFill/>
          </a:ln>
        </p:spPr>
      </p:pic>
      <p:sp>
        <p:nvSpPr>
          <p:cNvPr id="216" name="Заголовок 1"/>
          <p:cNvSpPr/>
          <p:nvPr/>
        </p:nvSpPr>
        <p:spPr>
          <a:xfrm>
            <a:off x="503280" y="301680"/>
            <a:ext cx="835488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Разбейте слова на групп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 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тиметр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имост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5" descr="images-ycdotf"/>
          <p:cNvPicPr/>
          <p:nvPr/>
        </p:nvPicPr>
        <p:blipFill>
          <a:blip r:embed="rId1"/>
          <a:stretch/>
        </p:blipFill>
        <p:spPr>
          <a:xfrm>
            <a:off x="611280" y="3141720"/>
            <a:ext cx="2050920" cy="1563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Картинка 1 из 552"/>
          <p:cNvPicPr/>
          <p:nvPr/>
        </p:nvPicPr>
        <p:blipFill>
          <a:blip r:embed="rId2"/>
          <a:stretch/>
        </p:blipFill>
        <p:spPr>
          <a:xfrm>
            <a:off x="6227640" y="3141720"/>
            <a:ext cx="20163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</a:rPr>
              <a:t>Провер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87280" y="1844280"/>
            <a:ext cx="3168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лина 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нтиметр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5364000" y="1268280"/>
            <a:ext cx="3168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м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илогра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images-ycdotf"/>
          <p:cNvPicPr/>
          <p:nvPr/>
        </p:nvPicPr>
        <p:blipFill>
          <a:blip r:embed="rId1"/>
          <a:stretch/>
        </p:blipFill>
        <p:spPr>
          <a:xfrm>
            <a:off x="1476360" y="4005360"/>
            <a:ext cx="2050920" cy="1563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Картинка 1 из 552"/>
          <p:cNvPicPr/>
          <p:nvPr/>
        </p:nvPicPr>
        <p:blipFill>
          <a:blip r:embed="rId2"/>
          <a:stretch/>
        </p:blipFill>
        <p:spPr>
          <a:xfrm>
            <a:off x="5508720" y="3933720"/>
            <a:ext cx="201600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2" descr="QEQ8RCAAX3P10CA3OZ9FLCA2XWIGFCAGVUJFNCAXXK7RNCABF8CQSCAIGSG5BCAOBNBS6CA9NHD35CAGSYMNYCAZFB2A7CAZO632QCAZW3VL6CAM38XXVCA7YNPK1CA8MLKF8CAU3MLTACAFSRFYW.jpg"/>
          <p:cNvPicPr/>
          <p:nvPr/>
        </p:nvPicPr>
        <p:blipFill>
          <a:blip r:embed="rId1"/>
          <a:stretch/>
        </p:blipFill>
        <p:spPr>
          <a:xfrm>
            <a:off x="212760" y="500040"/>
            <a:ext cx="2573280" cy="607212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3" descr=""/>
          <p:cNvPicPr/>
          <p:nvPr/>
        </p:nvPicPr>
        <p:blipFill>
          <a:blip r:embed="rId2"/>
          <a:stretch/>
        </p:blipFill>
        <p:spPr>
          <a:xfrm>
            <a:off x="2859120" y="182520"/>
            <a:ext cx="4780080" cy="110340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4" descr=""/>
          <p:cNvPicPr/>
          <p:nvPr/>
        </p:nvPicPr>
        <p:blipFill>
          <a:blip r:embed="rId3"/>
          <a:stretch/>
        </p:blipFill>
        <p:spPr>
          <a:xfrm>
            <a:off x="2322360" y="2041560"/>
            <a:ext cx="72788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414360" y="121428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знакомить с единицей измерения вмест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ормировать вычислительные навыки, умение решать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вивать логическое мышление, внимание, памя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вивать коммуникативные нав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спитывать аккуратность, бережливость, любозна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14360" y="345960"/>
            <a:ext cx="74660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27f4c"/>
                </a:solidFill>
                <a:latin typeface="Constantia"/>
              </a:rPr>
              <a:t>          </a:t>
            </a:r>
            <a:r>
              <a:rPr b="0" lang="ru-RU" sz="4000" spc="-1" strike="noStrike">
                <a:solidFill>
                  <a:srgbClr val="827f4c"/>
                </a:solidFill>
                <a:latin typeface="Constantia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Назовите ёмкости, в которых может находиться жидкость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7007400" y="1671480"/>
            <a:ext cx="2136600" cy="1675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539640" y="1481040"/>
            <a:ext cx="3394080" cy="2235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2627280" y="4627440"/>
            <a:ext cx="1228680" cy="1427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4"/>
          <a:stretch/>
        </p:blipFill>
        <p:spPr>
          <a:xfrm>
            <a:off x="5364000" y="1496880"/>
            <a:ext cx="1590840" cy="2635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"/>
          <p:cNvPicPr/>
          <p:nvPr/>
        </p:nvPicPr>
        <p:blipFill>
          <a:blip r:embed="rId5"/>
          <a:stretch/>
        </p:blipFill>
        <p:spPr>
          <a:xfrm>
            <a:off x="5867280" y="4149720"/>
            <a:ext cx="1703520" cy="1731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6"/>
          <a:stretch/>
        </p:blipFill>
        <p:spPr>
          <a:xfrm>
            <a:off x="3564000" y="2408400"/>
            <a:ext cx="1546200" cy="1981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7"/>
          <a:stretch/>
        </p:blipFill>
        <p:spPr>
          <a:xfrm>
            <a:off x="324000" y="4365720"/>
            <a:ext cx="1952640" cy="1952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"/>
          <p:cNvPicPr/>
          <p:nvPr/>
        </p:nvPicPr>
        <p:blipFill>
          <a:blip r:embed="rId8"/>
          <a:stretch/>
        </p:blipFill>
        <p:spPr>
          <a:xfrm>
            <a:off x="7520040" y="3718080"/>
            <a:ext cx="1547640" cy="3139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9"/>
          <a:stretch/>
        </p:blipFill>
        <p:spPr>
          <a:xfrm>
            <a:off x="4084560" y="4568760"/>
            <a:ext cx="17701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QEQ8RCAAX3P10CA3OZ9FLCA2XWIGFCAGVUJFNCAXXK7RNCABF8CQSCAIGSG5BCAOBNBS6CA9NHD35CAGSYMNYCAZFB2A7CAZO632QCAZW3VL6CAM38XXVCA7YNPK1CA8MLKF8CAU3MLTACAFSRFYW.jpg"/>
          <p:cNvPicPr/>
          <p:nvPr/>
        </p:nvPicPr>
        <p:blipFill>
          <a:blip r:embed="rId1"/>
          <a:stretch/>
        </p:blipFill>
        <p:spPr>
          <a:xfrm>
            <a:off x="212760" y="500040"/>
            <a:ext cx="2573280" cy="607212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3" descr=""/>
          <p:cNvPicPr/>
          <p:nvPr/>
        </p:nvPicPr>
        <p:blipFill>
          <a:blip r:embed="rId2"/>
          <a:stretch/>
        </p:blipFill>
        <p:spPr>
          <a:xfrm>
            <a:off x="2859120" y="353880"/>
            <a:ext cx="4780080" cy="176076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4" descr=""/>
          <p:cNvPicPr/>
          <p:nvPr/>
        </p:nvPicPr>
        <p:blipFill>
          <a:blip r:embed="rId3"/>
          <a:stretch/>
        </p:blipFill>
        <p:spPr>
          <a:xfrm>
            <a:off x="2603520" y="2041560"/>
            <a:ext cx="67165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5T15:42:26Z</dcterms:created>
  <dc:creator>admin</dc:creator>
  <dc:description/>
  <dc:language>en-US</dc:language>
  <cp:lastModifiedBy>admin</cp:lastModifiedBy>
  <dcterms:modified xsi:type="dcterms:W3CDTF">2017-12-25T18:04:49Z</dcterms:modified>
  <cp:revision>49</cp:revision>
  <dc:subject/>
  <dc:title>Слайд 1</dc:title>
</cp:coreProperties>
</file>