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chimes.wav" ContentType="audio/x-wav"/>
  <Override PartName="/ppt/media/image1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82B4-6784-45C2-AE90-69C1B1263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B932-5DDB-43A4-AD22-7CECA937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C8FF-9FB1-4158-8639-4BC706C51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8F83-ED08-4E3D-83FA-B4B63D3A1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D209-D935-4173-A25F-F027CEE15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6C503-5CE4-4937-8641-29A3134C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F9B65-661B-4304-BE32-9051F35E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05E9-06B0-4F8E-A0CE-9AD7746D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1D32-F242-4411-8658-FABC1668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1AB6-0352-4C73-A5C2-8669BD4A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9CE4-0AE4-4605-91F4-8B9B3E52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A478-4AA0-4F4C-95EE-D58ADE49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618D-BF9B-4FF8-ADC2-7BD264FD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655C-106C-4D81-9C71-B33AD6DB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1FB37-4843-4D1C-B4FB-1357A8E7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13A43-771B-4AA2-BA44-4C5A84F67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3CC7-0323-4671-B6E6-511F7B35C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FC5523-703C-4C93-9385-00AF8508A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5C5F19-F207-45BD-839A-EA913F8E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BDBAC1-68D3-4229-A043-454A997B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506DBF-174B-4DBE-91FC-2CC6D163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A8AC93-6C38-4108-AD77-C50528AE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519B-2CA2-4DAB-AAD9-8E37697A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A30684-A25E-4B7D-B440-A7E36543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C6CC08-E317-4979-BC32-6693BA77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672C96-1503-4485-BCEF-95366F55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AC8503-F98E-4605-93C2-D377BE37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67E4AC-1C25-456C-BDA1-9AC4C051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148F95-1CD7-40F7-8B19-11680B322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0B7C6F-1FA2-4960-ACB7-E3FB96C0B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4A683-8E76-484D-9462-DE77CF10E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C2DC5-5DE3-4440-971E-31000A59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58EC9-1326-473E-AEF6-DAA9F37D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AFFD-EC81-4029-9729-EFCF33E1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E1789-0835-41C7-9D3F-A28E8FF4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0A12E-9378-431C-8382-3D1B2382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B53CD-C1F6-48B8-9EE8-65A79F09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9538F-C4EE-4CFD-8ACD-034D72E0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57FFC-4D19-4D63-9200-0CDA2F53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E665E-A4C0-49A8-ADF5-BDD5F250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C0462-114B-4DFE-B503-54A430B8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A3089-6DD2-49BB-B445-652105D8E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AA376-7F1D-4635-82EA-C91A0C9BE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7C7CE2-5DD2-4BF3-ACDD-6E6788109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05B1-DFFE-4266-BF2C-93647BAC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DA9071-B598-4F33-9A95-5A93D116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191068-9B9D-462C-8199-A67363FB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BD74E2-391D-40A5-B526-1E3FF9DE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12B8AB-EE0D-4CD9-B175-45FDF31C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E61621-6996-4A72-A087-01BE9BF6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40265C-81D7-43A2-A0F0-95FCC429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71D152-47AA-4AC6-A3DE-B263719B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6FA567-7EF0-46B6-8045-6CAC6F1A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0668D9-93DB-4A18-A500-954A6F87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6E9268-926E-4A27-AC3E-3F164D59A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3EB6-9B7B-4670-A97C-E5A5EA62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8A0CBE-2379-42D8-AAD8-98192D3F6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B78DD6-34C1-4C85-BE9D-4D7EF5FD6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F4C635-B339-425F-8F2C-3A2729AB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86D524-0396-409F-8F3A-592643D9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1CC714-3C99-4A78-9053-1378170A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2B30C5-B33B-42CC-A629-A0DD5C97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2A76BA-84CE-4C93-ACC3-337D9F42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CA349D-3FE8-41BE-8C09-F648D37E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CBFCBE-63D3-4499-9738-D762F58B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3F27AD-F512-4E95-A6B2-1E4E1057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DEC7-C995-4E73-854A-1D7FD60F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DB5391-6551-4F61-AEE1-2E260CAE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293676-886A-4D65-B9D0-E36B8B0A5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46D7F9-85AA-4017-8656-1BD925389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FD481E-1EA0-4C10-89C6-9C24B3D8A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BC1AB7-A170-4E64-8047-87FFD477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143D28-3D83-4D05-ACED-3EB359D0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CD5F57-3426-490F-8501-B16820D4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A20CC5-670B-4F6B-9087-A292E95A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CDEC65-C6EF-4478-8D1B-C3E071C5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75BCBD-C4D9-42ED-ABF5-A3F3CF91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4D9F-6A24-45C6-9EF9-32A11517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F8F8BD-1E63-48EF-BF15-03889B71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BD6710-F945-411F-9E7C-07505680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2EB30D-23E8-4189-9795-E0158B77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9FA57C-7A2D-4331-AA40-290847A7A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B33218-2176-46EC-9C16-F968CD6EC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0646-F6EF-44F9-8A42-7F63BDBD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BDF6-BF67-4683-AA66-F659BC78D7B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5F2E-CA07-4531-BD30-1F016C0E1EA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C25B-9C7E-44E7-B1F3-839C3AB7A88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6719-6BE9-4C98-8AD6-3934ACE5CCE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728A-0D90-45CE-89A0-89778FE860A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C595-1939-4D6B-A25D-52CEC0DA8DA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01CE-09F3-4EB4-BA13-099EEE8FF4D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685800"/>
            <a:ext cx="8534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5f6d"/>
                </a:solidFill>
                <a:latin typeface="Century Schoolbook"/>
              </a:rPr>
              <a:t>      </a:t>
            </a:r>
            <a:r>
              <a:rPr b="1" lang="ru-RU" sz="4400" spc="-1" strike="noStrike">
                <a:solidFill>
                  <a:srgbClr val="575f6d"/>
                </a:solidFill>
                <a:latin typeface="Century Schoolbook"/>
              </a:rPr>
              <a:t>ТЕОРЕМА ПИФАГОРА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Презентация к уроку  геометрии учащихся 8А класса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ИСТОРИЯ ТЕОРЕМЫ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Изучение вавилонских клинописных таблиц и древних китайских рукописей показало, что это утверждение было известно задолго до Пифагора. Заслуга же Пифагора состояла в том, что он открыл доказательство этой теоремы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огласно одной из легенд, знаменитую теорему Пифагор добыл как выигрыш с неизвестным математиком. Тот отдал свиток с теоремой Пифагору и сказал, что человек, который владеет этим свитком, будет известным не одно тысячелетие…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Теорему называли «мостом ослов», так как слабые ученики, заучивающие теоремы наизусть, без понимания, и прозванные поэтому «ослами», были не в состоянии преодолеть теорему Пифагора, служившую для них вроде непреодолимого мост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ОВТОРЕНИЕ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599840"/>
            <a:ext cx="5029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1)Определите вид треугольника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2)Назовите катеты и гипотенузу данного треугольника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3)Как найти площадь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Δ АВС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4)Как найти площадь квадрата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Прямоугольный треугольник 3"/>
          <p:cNvSpPr/>
          <p:nvPr/>
        </p:nvSpPr>
        <p:spPr>
          <a:xfrm>
            <a:off x="5791320" y="1905120"/>
            <a:ext cx="2943000" cy="3462120"/>
          </a:xfrm>
          <a:prstGeom prst="rtTriangle">
            <a:avLst/>
          </a:prstGeom>
          <a:solidFill>
            <a:srgbClr val="ffff00"/>
          </a:solidFill>
          <a:ln w="38160">
            <a:solidFill>
              <a:srgbClr val="ffffff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5791320" y="54864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5791320" y="14479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8610480" y="54864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РАКТИЧЕСКАЯ РАБОТА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остройте прямоугольный треугольник, катеты которого выражаются целыми числами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Измерьте катеты и гипотенузу, результаты запишите в тетрадь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озведите все величины в квадрат и запишите: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b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ложите квадраты катетов  а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b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олучилось  ли, что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1" lang="ru-RU" sz="28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b</a:t>
            </a:r>
            <a:r>
              <a:rPr b="1" lang="ru-RU" sz="28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c</a:t>
            </a:r>
            <a:r>
              <a:rPr b="1" lang="ru-RU" sz="28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010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500" spc="-1" strike="noStrike">
                <a:solidFill>
                  <a:srgbClr val="d2611c"/>
                </a:solidFill>
                <a:latin typeface="Century Schoolbook"/>
              </a:rPr>
              <a:t>     </a:t>
            </a:r>
            <a:r>
              <a:rPr b="0" lang="ru-RU" sz="3600" spc="-1" strike="noStrike">
                <a:solidFill>
                  <a:srgbClr val="d2611c"/>
                </a:solidFill>
                <a:latin typeface="Century Schoolbook"/>
              </a:rPr>
              <a:t>ТЕОРЕМА ПИФАГОРА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67652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648320" y="190476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entury Schoolbook"/>
              </a:rPr>
              <a:t>В прямоугольном треугольнике квадрат гипотенузы равен сумме квадратов катетов. </a:t>
            </a:r>
            <a:endParaRPr b="0" lang="en-US" sz="3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d2611c"/>
                </a:solidFill>
                <a:latin typeface="Century Schoolbook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d2611c"/>
                </a:solidFill>
                <a:latin typeface="Century Schoolbook"/>
              </a:rPr>
              <a:t>            </a:t>
            </a:r>
            <a:r>
              <a:rPr b="1" lang="ru-RU" sz="2400" spc="-1" strike="noStrike">
                <a:solidFill>
                  <a:srgbClr val="d2611c"/>
                </a:solidFill>
                <a:latin typeface="Century Schoolbook"/>
              </a:rPr>
              <a:t>с</a:t>
            </a:r>
            <a:r>
              <a:rPr b="1" lang="en-US" sz="2400" spc="-1" strike="noStrike" baseline="30000">
                <a:solidFill>
                  <a:srgbClr val="d2611c"/>
                </a:solidFill>
                <a:latin typeface="Century Schoolbook"/>
              </a:rPr>
              <a:t>2</a:t>
            </a:r>
            <a:r>
              <a:rPr b="1" lang="en-US" sz="2400" spc="-1" strike="noStrike">
                <a:solidFill>
                  <a:srgbClr val="d2611c"/>
                </a:solidFill>
                <a:latin typeface="Century Schoolbook"/>
              </a:rPr>
              <a:t> = </a:t>
            </a:r>
            <a:r>
              <a:rPr b="1" lang="ru-RU" sz="2400" spc="-1" strike="noStrike">
                <a:solidFill>
                  <a:srgbClr val="d2611c"/>
                </a:solidFill>
                <a:latin typeface="Century Schoolbook"/>
              </a:rPr>
              <a:t>а</a:t>
            </a:r>
            <a:r>
              <a:rPr b="1" lang="en-US" sz="2400" spc="-1" strike="noStrike" baseline="30000">
                <a:solidFill>
                  <a:srgbClr val="d2611c"/>
                </a:solidFill>
                <a:latin typeface="Century Schoolbook"/>
              </a:rPr>
              <a:t>2</a:t>
            </a:r>
            <a:r>
              <a:rPr b="1" lang="en-US" sz="2400" spc="-1" strike="noStrike">
                <a:solidFill>
                  <a:srgbClr val="d2611c"/>
                </a:solidFill>
                <a:latin typeface="Century Schoolbook"/>
              </a:rPr>
              <a:t> + b</a:t>
            </a:r>
            <a:r>
              <a:rPr b="1" lang="en-US" sz="2400" spc="-1" strike="noStrike" baseline="30000">
                <a:solidFill>
                  <a:srgbClr val="d2611c"/>
                </a:solidFill>
                <a:latin typeface="Century School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1" name="Picture 5" descr="Рисунок9_resize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457200" y="2209680"/>
            <a:ext cx="420696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ДОКАЗАТЕЛЬСТВО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80880" y="1371600"/>
            <a:ext cx="82296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entury Schoolbook"/>
              </a:rPr>
              <a:t>1)Достроим прямоугольник до квадрата со стороной 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Century Schoolbook"/>
              </a:rPr>
              <a:t>a + b.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entury Schoolbook"/>
              </a:rPr>
              <a:t>2)Площадь квадрата равна ( а +</a:t>
            </a: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 b</a:t>
            </a:r>
            <a:r>
              <a:rPr b="0" lang="ru-RU" sz="2500" spc="-1" strike="noStrike">
                <a:solidFill>
                  <a:srgbClr val="000000"/>
                </a:solidFill>
                <a:latin typeface="Century Schoolbook"/>
              </a:rPr>
              <a:t>)²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entury Schoolbook"/>
              </a:rPr>
              <a:t>3)С другой стороны квадрат составлен из четырёх равных прямоугольных треугольников с площадью ½ а</a:t>
            </a: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b</a:t>
            </a:r>
            <a:r>
              <a:rPr b="0" lang="ru-RU" sz="2500" spc="-1" strike="noStrike">
                <a:solidFill>
                  <a:srgbClr val="000000"/>
                </a:solidFill>
                <a:latin typeface="Century Schoolbook"/>
              </a:rPr>
              <a:t> и квадрата, площади с²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entury Schoolbook"/>
              </a:rPr>
              <a:t>4) </a:t>
            </a: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S=</a:t>
            </a:r>
            <a:r>
              <a:rPr b="0" lang="ru-RU" sz="2500" spc="-1" strike="noStrike">
                <a:solidFill>
                  <a:srgbClr val="000000"/>
                </a:solidFill>
                <a:latin typeface="Century Schoolbook"/>
              </a:rPr>
              <a:t>4 *1/2</a:t>
            </a: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ab + </a:t>
            </a:r>
            <a:r>
              <a:rPr b="0" lang="ru-RU" sz="2500" spc="-1" strike="noStrike">
                <a:solidFill>
                  <a:srgbClr val="000000"/>
                </a:solidFill>
                <a:latin typeface="Century Schoolbook"/>
              </a:rPr>
              <a:t>с</a:t>
            </a:r>
            <a:r>
              <a:rPr b="0" lang="ru-RU" sz="2500" spc="-1" strike="noStrike" baseline="30000">
                <a:solidFill>
                  <a:srgbClr val="000000"/>
                </a:solidFill>
                <a:latin typeface="Century Schoolbook"/>
              </a:rPr>
              <a:t>2 </a:t>
            </a:r>
            <a:r>
              <a:rPr b="0" lang="ru-RU" sz="2500" spc="-1" strike="noStrike">
                <a:solidFill>
                  <a:srgbClr val="000000"/>
                </a:solidFill>
                <a:latin typeface="Century Schoolbook"/>
              </a:rPr>
              <a:t>= 2bc + с</a:t>
            </a:r>
            <a:r>
              <a:rPr b="0" lang="ru-RU" sz="25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5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500" spc="-1" strike="noStrike">
                <a:solidFill>
                  <a:srgbClr val="000000"/>
                </a:solidFill>
                <a:latin typeface="Century Schoolbook"/>
              </a:rPr>
              <a:t>(а+</a:t>
            </a: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b)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500" spc="-1" strike="noStrike">
                <a:solidFill>
                  <a:srgbClr val="000000"/>
                </a:solidFill>
                <a:latin typeface="Century Schoolbook"/>
              </a:rPr>
              <a:t> =2</a:t>
            </a: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ab</a:t>
            </a:r>
            <a:r>
              <a:rPr b="0" lang="ru-RU" sz="2500" spc="-1" strike="noStrike">
                <a:solidFill>
                  <a:srgbClr val="000000"/>
                </a:solidFill>
                <a:latin typeface="Century Schoolbook"/>
              </a:rPr>
              <a:t>+ с</a:t>
            </a:r>
            <a:r>
              <a:rPr b="0" lang="ru-RU" sz="25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5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entury Schoolbook"/>
              </a:rPr>
              <a:t>           </a:t>
            </a:r>
            <a:r>
              <a:rPr b="0" lang="ru-RU" sz="2500" spc="-1" strike="noStrike">
                <a:solidFill>
                  <a:srgbClr val="000000"/>
                </a:solidFill>
                <a:latin typeface="Century Schoolbook"/>
              </a:rPr>
              <a:t>с</a:t>
            </a:r>
            <a:r>
              <a:rPr b="0" lang="ru-RU" sz="2500" spc="-1" strike="noStrike" baseline="30000">
                <a:solidFill>
                  <a:srgbClr val="000000"/>
                </a:solidFill>
                <a:latin typeface="Century Schoolbook"/>
              </a:rPr>
              <a:t>2 </a:t>
            </a:r>
            <a:r>
              <a:rPr b="0" lang="ru-RU" sz="2500" spc="-1" strike="noStrike">
                <a:solidFill>
                  <a:srgbClr val="000000"/>
                </a:solidFill>
                <a:latin typeface="Century Schoolbook"/>
              </a:rPr>
              <a:t>= а</a:t>
            </a:r>
            <a:r>
              <a:rPr b="0" lang="ru-RU" sz="2500" spc="-1" strike="noStrike" baseline="30000">
                <a:solidFill>
                  <a:srgbClr val="000000"/>
                </a:solidFill>
                <a:latin typeface="Century Schoolbook"/>
              </a:rPr>
              <a:t>2 </a:t>
            </a:r>
            <a:r>
              <a:rPr b="0" lang="ru-RU" sz="2500" spc="-1" strike="noStrike">
                <a:solidFill>
                  <a:srgbClr val="000000"/>
                </a:solidFill>
                <a:latin typeface="Century Schoolbook"/>
              </a:rPr>
              <a:t>+ </a:t>
            </a: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b</a:t>
            </a:r>
            <a:r>
              <a:rPr b="0" lang="ru-RU" sz="25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5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4" name="Picture 7" descr=""/>
          <p:cNvPicPr/>
          <p:nvPr/>
        </p:nvPicPr>
        <p:blipFill>
          <a:blip r:embed="rId1"/>
          <a:srcRect l="0" t="0" r="0" b="8329"/>
          <a:stretch/>
        </p:blipFill>
        <p:spPr>
          <a:xfrm>
            <a:off x="4800600" y="3733920"/>
            <a:ext cx="29894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ифагоровы штаны во все стороны равн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7" name="Picture 7" descr=""/>
          <p:cNvPicPr/>
          <p:nvPr/>
        </p:nvPicPr>
        <p:blipFill>
          <a:blip r:embed="rId1"/>
          <a:srcRect l="848" t="18854" r="43606" b="0"/>
          <a:stretch/>
        </p:blipFill>
        <p:spPr>
          <a:xfrm>
            <a:off x="1828800" y="2438280"/>
            <a:ext cx="4680000" cy="4030920"/>
          </a:xfrm>
          <a:prstGeom prst="rect">
            <a:avLst/>
          </a:prstGeom>
          <a:ln w="57240">
            <a:solidFill>
              <a:srgbClr val="fbeba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ТЕОРЕМА, ОБРАТНАЯ К ТЕОРЕМЕ ПИФАГОРА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2282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зволяет проверить, является ли тот или иной треугольник прямоугольным. Этим пользовались землемеры и строители Древнего Египта: они размечали прямые углы с помощью веревки, разделенной узлами на 12 равных кусков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ямоугольный треугольник со сторонами 3, 4, 5 называется «египетским», а тройки (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a, b, c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 натуральных чисел, удовлетворяющие уравнению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c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= 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+ 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b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т. е. служащие длинами сторон прямоугольных треугольников, Пифагоровы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0" name="Picture 4" descr="res984426C9-A100-43B0-808A-A3FE8B46DBF2"/>
          <p:cNvPicPr/>
          <p:nvPr/>
        </p:nvPicPr>
        <p:blipFill>
          <a:blip r:embed="rId1"/>
          <a:stretch/>
        </p:blipFill>
        <p:spPr>
          <a:xfrm>
            <a:off x="3276720" y="4876920"/>
            <a:ext cx="1938240" cy="1600200"/>
          </a:xfrm>
          <a:prstGeom prst="rect">
            <a:avLst/>
          </a:prstGeom>
          <a:ln w="57240">
            <a:solidFill>
              <a:srgbClr val="fff39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НЕКОТОРЫЕ ПИФАГОРОВЫ ТРОЙКИ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(3,4,5), (6,8,10), (5,12,13)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(9,12,15), (8,15,17), (12,16,20), (15,20,25), (7,24,25), (10,24,26), (20,21,29), (18,24,30),(10,30,34), (21,28,35), (12,35,37), (15,36,39), (24,32,40), (9,40,41), (27,35,45), (14,48,50), (30,40,50)…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ЕЩЁ ОДНА ФОРМУЛИРОВКА ТЕОРЕМЫ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64832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лощадь квадрата, построенного на гипотенузе прямоугольного треугольника, равна сумме площадей квадратов, построенных на его катета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6" name="Picture 6" descr="Рисунок10_resize"/>
          <p:cNvPicPr/>
          <p:nvPr/>
        </p:nvPicPr>
        <p:blipFill>
          <a:blip r:embed="rId1">
            <a:lum contrast="24000"/>
          </a:blip>
          <a:srcRect l="2205" t="1800" r="1776" b="1842"/>
          <a:stretch/>
        </p:blipFill>
        <p:spPr>
          <a:xfrm>
            <a:off x="762120" y="1676520"/>
            <a:ext cx="3565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«Геометрия обладает двумя  великими сокровищами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ервое – это теорема Пифагора…»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Рисунок4"/>
          <p:cNvPicPr/>
          <p:nvPr/>
        </p:nvPicPr>
        <p:blipFill>
          <a:blip r:embed="rId1"/>
          <a:stretch/>
        </p:blipFill>
        <p:spPr>
          <a:xfrm>
            <a:off x="5583240" y="3602160"/>
            <a:ext cx="2408400" cy="2665440"/>
          </a:xfrm>
          <a:prstGeom prst="rect">
            <a:avLst/>
          </a:prstGeom>
          <a:ln w="0">
            <a:noFill/>
          </a:ln>
        </p:spPr>
      </p:pic>
      <p:pic>
        <p:nvPicPr>
          <p:cNvPr id="356" name="приложение1.mp3" descr=""/>
          <p:cNvPicPr/>
          <p:nvPr/>
        </p:nvPicPr>
        <p:blipFill>
          <a:blip r:embed="rId2"/>
          <a:stretch/>
        </p:blipFill>
        <p:spPr>
          <a:xfrm>
            <a:off x="8305920" y="5867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6189" fill="hold"/>
                                        <p:tgtEl>
                                          <p:spTgt spid="3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АЛГЕБРАИЧЕСКОЕ ДОКАЗАТЕЛЬСТВО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) Проведем высоту CD из вершины прямог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гла С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) По определению косинуса угла соsА=AD/AC=AC/AB, отсюда следует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AB*AD=A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) Аналогично соsВ=BD/BC=BC/AB, значит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AB*BD=B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4) Сложив полученные равенства почленно, получим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+B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*(AD + DB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A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=A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+B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.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AutoShape 4"/>
          <p:cNvSpPr/>
          <p:nvPr/>
        </p:nvSpPr>
        <p:spPr>
          <a:xfrm>
            <a:off x="5029200" y="4876920"/>
            <a:ext cx="3048120" cy="1752480"/>
          </a:xfrm>
          <a:prstGeom prst="rtTriangl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Text Box 8"/>
          <p:cNvSpPr/>
          <p:nvPr/>
        </p:nvSpPr>
        <p:spPr>
          <a:xfrm>
            <a:off x="4495680" y="6324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Text Box 9"/>
          <p:cNvSpPr/>
          <p:nvPr/>
        </p:nvSpPr>
        <p:spPr>
          <a:xfrm>
            <a:off x="4572000" y="4800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Text Box 10"/>
          <p:cNvSpPr/>
          <p:nvPr/>
        </p:nvSpPr>
        <p:spPr>
          <a:xfrm>
            <a:off x="7848720" y="6324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Text Box 11"/>
          <p:cNvSpPr/>
          <p:nvPr/>
        </p:nvSpPr>
        <p:spPr>
          <a:xfrm>
            <a:off x="5638680" y="49528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Line 12"/>
          <p:cNvSpPr/>
          <p:nvPr/>
        </p:nvSpPr>
        <p:spPr>
          <a:xfrm flipV="1">
            <a:off x="5029200" y="5257800"/>
            <a:ext cx="6858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ГЕОМЕТРИЧЕСКОЕ ДОКАЗАТЕЛЬСТВО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1) Построим отрезок 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равный отрезку 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AB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на продолжении катета 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AC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прямоугольного треугольника 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ABC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. Затем опустим перпендикуляр 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ED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к отрезку 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AD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равный отрезку 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AC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соединим точки 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и 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2) Площадь фигуры 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ABED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можно найти, если рассматривать её как сумму площадей трёх треугольников: 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SABED=2*AB*AC/2+BC2/2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3) Фигура 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ABED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является трапецией, значит, её площадь равна: 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SABED=</a:t>
            </a: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(DE+AB)*AD/2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4) Если приравнять левые части найденных выражений, то получим: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AB*AC+BC2/2=(DE+AB)(CD+AC)/2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AB*AC+BC2/2= (AC+AB)2/2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AB*AC+BC2/2= AC2/2+AB2/2+AB*AC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BC2=AB2+AC2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   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Это доказательство было опубликовано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 1882 году Гэрфилдом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7" name="Picture 4" descr="geometria"/>
          <p:cNvPicPr/>
          <p:nvPr/>
        </p:nvPicPr>
        <p:blipFill>
          <a:blip r:embed="rId1"/>
          <a:srcRect l="5848" t="8621" r="5848" b="8621"/>
          <a:stretch/>
        </p:blipFill>
        <p:spPr>
          <a:xfrm>
            <a:off x="6019920" y="4191120"/>
            <a:ext cx="2227320" cy="1415880"/>
          </a:xfrm>
          <a:prstGeom prst="rect">
            <a:avLst/>
          </a:prstGeom>
          <a:ln w="57240">
            <a:solidFill>
              <a:srgbClr val="fff39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ПРИМЕНЕНИЕ ТЕОРЕМЫ ПИФАГОРА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 настоящее время на рынке мобильной связи идет большая конкуренция среди операторов. Чем надежнее связь, чем больше зона покрытия, тем больше потребителей у оператора. При строительстве вышки (антенны) часто приходится решать задачу: какую наибольшую высоту должна иметь антенна, чтобы передачу можно было принимать в определенном радиусе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МОБИЛЬНАЯ СВЯЗ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68360" y="1828440"/>
            <a:ext cx="8229600" cy="38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кую наибольшую высоту должна иметь антенна мобильного оператора, чтобы передачу можно было принимать в радиусе R=200 км? (радиус Земли равен 6380 км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ешение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усть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AB= x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BC=R=200 км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OC= r =6380 к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OB=OA+AB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OB=r + x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пользуя теорему Пифагора, получим ответ: 2,3 к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2" name="Picture 4" descr="oblast32"/>
          <p:cNvPicPr/>
          <p:nvPr/>
        </p:nvPicPr>
        <p:blipFill>
          <a:blip r:embed="rId1"/>
          <a:stretch/>
        </p:blipFill>
        <p:spPr>
          <a:xfrm>
            <a:off x="5257800" y="3048120"/>
            <a:ext cx="1905120" cy="1724040"/>
          </a:xfrm>
          <a:prstGeom prst="rect">
            <a:avLst/>
          </a:prstGeom>
          <a:ln w="57240">
            <a:solidFill>
              <a:srgbClr val="fff39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РИМЕНЕНИЕ ТЕОРЕМЫ ПИФАГОР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еорему Пифагора широко применяют и в строительстве, при вычислении размеров крыши, построении окон, используется в большинстве архитектурных сооружений. В астрономии  используют для вычисления расстоян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5" name="Picture 5" descr="Pic6"/>
          <p:cNvPicPr/>
          <p:nvPr/>
        </p:nvPicPr>
        <p:blipFill>
          <a:blip r:embed="rId1"/>
          <a:stretch/>
        </p:blipFill>
        <p:spPr>
          <a:xfrm>
            <a:off x="1295280" y="4343400"/>
            <a:ext cx="3132360" cy="1766880"/>
          </a:xfrm>
          <a:prstGeom prst="rect">
            <a:avLst/>
          </a:prstGeom>
          <a:ln w="57240">
            <a:solidFill>
              <a:srgbClr val="fff39d"/>
            </a:solidFill>
            <a:miter/>
          </a:ln>
        </p:spPr>
      </p:pic>
      <p:pic>
        <p:nvPicPr>
          <p:cNvPr id="426" name="Picture 5" descr="use04"/>
          <p:cNvPicPr/>
          <p:nvPr/>
        </p:nvPicPr>
        <p:blipFill>
          <a:blip r:embed="rId2"/>
          <a:stretch/>
        </p:blipFill>
        <p:spPr>
          <a:xfrm>
            <a:off x="5562720" y="3581280"/>
            <a:ext cx="1218960" cy="2714760"/>
          </a:xfrm>
          <a:prstGeom prst="rect">
            <a:avLst/>
          </a:prstGeom>
          <a:ln w="57240">
            <a:solidFill>
              <a:srgbClr val="fff39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ИНТЕРЕСНОЕ О ПИФАГОРЕ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2282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ифагор – это на самом деле прозвище, а не им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Пифагор - "убеждающий речью")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влекался спортом, побеждал в кулачном бою на Олимпийских игра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думал специальную кружку, которая заставляла пить только в ограниченных количествах. Сегодня она продается на Родосе, Самосе и Крите как сувенир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ифагор считал, что нельзя употреблять пищу животного происхождения. Он верил, что в животных переселяются души люде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ВАЖНЫЕ ОТКРЫТИЯ, СВЯЗАННЫЕ С ИМЕНЕМ ПИФАГОРА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 географии и астрономии – представление о том, что Земля – шар и что существуют другие, похожие на неё миры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 музыке – зависимость между длиной струны арфы и звуком, который она издаёт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 геометрии – построение правильных многоугольников (один из них пятиконечная звезда – стал символом пифагорейцев)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909360" y="907920"/>
            <a:ext cx="823428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Если дан нам треугольник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 притом с прямым углом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о квадрат гипотенуз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ы всегда легко найдём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теты в квадрат возводим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умму степеней находим –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 таким простым путё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 результату мы придё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98748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Не знаю, чем кончу поэму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И как мне печаль избыть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Древнейшую теорему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Никак я не в силах забыть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тоит треугольник как ментор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И угол прямой в нём есть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И всем его элементам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овсюду слава и честь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Вебер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ИТОГОВЫЙ КОНТРОЛ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брать задачу и решить её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Задачи для проверк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Задачи из открытого банка заданий к экзамен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6" name="Рисунок 3" descr="Рисунок3.jpg"/>
          <p:cNvPicPr/>
          <p:nvPr/>
        </p:nvPicPr>
        <p:blipFill>
          <a:blip r:embed="rId1"/>
          <a:stretch/>
        </p:blipFill>
        <p:spPr>
          <a:xfrm>
            <a:off x="2438280" y="3505320"/>
            <a:ext cx="3891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НЕОБХОДИМО ВЫЯСНИТЬ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то такой Пифагор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чём заключается теорема Пифагор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оказать теорему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казать практическое применение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казать задачи, используемые в экзамене по данной тем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РЕФЛЕКСИЯ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 ваших карточках дорисуйте снеговика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39" name="Group 11"/>
          <p:cNvGrpSpPr/>
          <p:nvPr/>
        </p:nvGrpSpPr>
        <p:grpSpPr>
          <a:xfrm>
            <a:off x="1219320" y="3733920"/>
            <a:ext cx="5829120" cy="3543120"/>
            <a:chOff x="1219320" y="3733920"/>
            <a:chExt cx="5829120" cy="3543120"/>
          </a:xfrm>
        </p:grpSpPr>
        <p:sp>
          <p:nvSpPr>
            <p:cNvPr id="440" name="AutoShape 12"/>
            <p:cNvSpPr/>
            <p:nvPr/>
          </p:nvSpPr>
          <p:spPr>
            <a:xfrm>
              <a:off x="1219320" y="3733920"/>
              <a:ext cx="5829120" cy="35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Oval 13"/>
            <p:cNvSpPr/>
            <p:nvPr/>
          </p:nvSpPr>
          <p:spPr>
            <a:xfrm>
              <a:off x="1790640" y="4762440"/>
              <a:ext cx="913680" cy="1029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Oval 14"/>
            <p:cNvSpPr/>
            <p:nvPr/>
          </p:nvSpPr>
          <p:spPr>
            <a:xfrm>
              <a:off x="2133000" y="5105160"/>
              <a:ext cx="115560" cy="114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Oval 15"/>
            <p:cNvSpPr/>
            <p:nvPr/>
          </p:nvSpPr>
          <p:spPr>
            <a:xfrm>
              <a:off x="2362320" y="5105160"/>
              <a:ext cx="114120" cy="114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AutoShape 16"/>
            <p:cNvSpPr/>
            <p:nvPr/>
          </p:nvSpPr>
          <p:spPr>
            <a:xfrm>
              <a:off x="2248200" y="5333760"/>
              <a:ext cx="114120" cy="113760"/>
            </a:xfrm>
            <a:prstGeom prst="triangle">
              <a:avLst>
                <a:gd name="adj" fmla="val 50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45" name="Group 35"/>
          <p:cNvGrpSpPr/>
          <p:nvPr/>
        </p:nvGrpSpPr>
        <p:grpSpPr>
          <a:xfrm>
            <a:off x="1219320" y="2895480"/>
            <a:ext cx="5829120" cy="3543480"/>
            <a:chOff x="1219320" y="2895480"/>
            <a:chExt cx="5829120" cy="3543480"/>
          </a:xfrm>
        </p:grpSpPr>
        <p:sp>
          <p:nvSpPr>
            <p:cNvPr id="446" name="AutoShape 36"/>
            <p:cNvSpPr/>
            <p:nvPr/>
          </p:nvSpPr>
          <p:spPr>
            <a:xfrm>
              <a:off x="1219320" y="2895480"/>
              <a:ext cx="5829120" cy="354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Oval 37"/>
            <p:cNvSpPr/>
            <p:nvPr/>
          </p:nvSpPr>
          <p:spPr>
            <a:xfrm>
              <a:off x="1790640" y="3924000"/>
              <a:ext cx="913680" cy="1029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Oval 38"/>
            <p:cNvSpPr/>
            <p:nvPr/>
          </p:nvSpPr>
          <p:spPr>
            <a:xfrm>
              <a:off x="2133000" y="4266720"/>
              <a:ext cx="115560" cy="114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Oval 39"/>
            <p:cNvSpPr/>
            <p:nvPr/>
          </p:nvSpPr>
          <p:spPr>
            <a:xfrm>
              <a:off x="2362320" y="4266720"/>
              <a:ext cx="114120" cy="114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AutoShape 40"/>
            <p:cNvSpPr/>
            <p:nvPr/>
          </p:nvSpPr>
          <p:spPr>
            <a:xfrm>
              <a:off x="2248200" y="4495680"/>
              <a:ext cx="114120" cy="113760"/>
            </a:xfrm>
            <a:prstGeom prst="triangle">
              <a:avLst>
                <a:gd name="adj" fmla="val 50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51" name="Group 41"/>
          <p:cNvGrpSpPr/>
          <p:nvPr/>
        </p:nvGrpSpPr>
        <p:grpSpPr>
          <a:xfrm>
            <a:off x="1143000" y="2057400"/>
            <a:ext cx="5829480" cy="3543480"/>
            <a:chOff x="1143000" y="2057400"/>
            <a:chExt cx="5829480" cy="3543480"/>
          </a:xfrm>
        </p:grpSpPr>
        <p:sp>
          <p:nvSpPr>
            <p:cNvPr id="452" name="AutoShape 42"/>
            <p:cNvSpPr/>
            <p:nvPr/>
          </p:nvSpPr>
          <p:spPr>
            <a:xfrm>
              <a:off x="1143000" y="2057400"/>
              <a:ext cx="5829480" cy="354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Oval 43"/>
            <p:cNvSpPr/>
            <p:nvPr/>
          </p:nvSpPr>
          <p:spPr>
            <a:xfrm>
              <a:off x="1790640" y="3085920"/>
              <a:ext cx="913680" cy="1029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4" name="Oval 44"/>
            <p:cNvSpPr/>
            <p:nvPr/>
          </p:nvSpPr>
          <p:spPr>
            <a:xfrm>
              <a:off x="2133000" y="3428640"/>
              <a:ext cx="115560" cy="114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5" name="Oval 45"/>
            <p:cNvSpPr/>
            <p:nvPr/>
          </p:nvSpPr>
          <p:spPr>
            <a:xfrm>
              <a:off x="2362320" y="3428640"/>
              <a:ext cx="114120" cy="114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6" name="AutoShape 46"/>
            <p:cNvSpPr/>
            <p:nvPr/>
          </p:nvSpPr>
          <p:spPr>
            <a:xfrm>
              <a:off x="2247840" y="3657600"/>
              <a:ext cx="114120" cy="113760"/>
            </a:xfrm>
            <a:prstGeom prst="triangle">
              <a:avLst>
                <a:gd name="adj" fmla="val 50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7" name="Text Box 47"/>
          <p:cNvSpPr/>
          <p:nvPr/>
        </p:nvSpPr>
        <p:spPr>
          <a:xfrm>
            <a:off x="3352680" y="335268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48"/>
          <p:cNvSpPr/>
          <p:nvPr/>
        </p:nvSpPr>
        <p:spPr>
          <a:xfrm>
            <a:off x="3124080" y="3048120"/>
            <a:ext cx="56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Я пришёл на урок с таким настроени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49"/>
          <p:cNvSpPr/>
          <p:nvPr/>
        </p:nvSpPr>
        <p:spPr>
          <a:xfrm>
            <a:off x="3124080" y="4038480"/>
            <a:ext cx="563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Я присутствовал на уроке с таким настроени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50"/>
          <p:cNvSpPr/>
          <p:nvPr/>
        </p:nvSpPr>
        <p:spPr>
          <a:xfrm>
            <a:off x="3124080" y="5181480"/>
            <a:ext cx="56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Я ухожу с урока с таким настроени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ДОМАШНЕЕ ЗАДАНИЕ НА ВЫБОР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йти другой способ доказательства теоремы Пифагор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йти пифагоровы тройк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думать свою задачу на применение теоремы Пифагор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йти задачи из базы задач по геометрии с сайта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pi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«Не гоняйся за счастьем: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оно всегда находится в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тебе самом»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Пифагор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ЛИТЕРАТУРА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Л.С. Атанасян учебник «Геометрия 7-9» Москва «Просвещение» 2009 г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Е.М. Рабинович «Задачи и упражнения на готовых чертежах»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олошинов А.В. «Математика и искусство». - М.: «Просвещение» 2000. 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олошинов А.В. «Пифагор». - М.: «Просвещение» 2001. 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Литцман В. «Теорема Пифагора». - М.: «Государственное издательство физико-математической литературы» 2000. 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Глейзер И. «История математики в школе». 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Чистяков В.Д. «Старинные задачи по элементарной математике» </a:t>
            </a:r>
            <a:br>
              <a:rPr sz="2200"/>
            </a:br>
            <a:br>
              <a:rPr sz="22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РЕСУРСЫ ИНТЕРНЕ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http://encyklopedia.narod.ru/bios/nauka/pifagor/pifagor.htm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http://fevt.ru/load/prezentacii_powerpoint/teorema_pifagora_prezentacija/110-1-0-967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http://volna.org/geometrija/tieoriema_pifaghora.htm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http://prezentacii.com/matematike/9566-teorema-pifagora-i-ee-primenenie.htm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http://video.promail.kz/video/226022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http://moypifagor.narod.ru/media.htm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ЦЕЛИ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владение необходимыми знаниями и умениями по теме урока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оспитание серьёзного отношения к геометрии, понимание значимости предмета 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азвитие умения использовать разнообразные источники информации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оспитание познавательного интереса в изучении геометрии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азвитие логического мышлени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ЗАДАЧИ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ознакомиться с теоремой Пифагора, её доказательством, историей её создания, биографией Пифагора;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оказать применение теоремы в ходе решения задач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асширить круг задач, используемых на уроках геометрии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тработать умение делать выводы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формировать учебно-познавательные действия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азвивать умение работать в коллективе, парами и самостоятельно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ОРЯДОК РАБОТЫ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5238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цели, задачи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азделение на команды для соревнования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история Пифагора и его теоремы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формулировка теоремы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азные способы её доказательства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именение теоремы в задачах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ефлексия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домашнее задание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КОМАНДЫ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600200"/>
          <a:ext cx="8915400" cy="464832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  <a:gridCol w="2971800"/>
              </a:tblGrid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ря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ря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ря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Историки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Теоретики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Практики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7" name="Picture 2" descr="http://www.abc-people.com/idea/zolotsech/pythagoras.jpg"/>
          <p:cNvPicPr/>
          <p:nvPr/>
        </p:nvPicPr>
        <p:blipFill>
          <a:blip r:embed="rId1"/>
          <a:stretch/>
        </p:blipFill>
        <p:spPr>
          <a:xfrm>
            <a:off x="731880" y="3249720"/>
            <a:ext cx="1944720" cy="27972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4" descr="res984426C9-A100-43B0-808A-A3FE8B46DBF2"/>
          <p:cNvPicPr/>
          <p:nvPr/>
        </p:nvPicPr>
        <p:blipFill>
          <a:blip r:embed="rId2"/>
          <a:stretch/>
        </p:blipFill>
        <p:spPr>
          <a:xfrm>
            <a:off x="6477120" y="3657600"/>
            <a:ext cx="1981080" cy="2011320"/>
          </a:xfrm>
          <a:prstGeom prst="rect">
            <a:avLst/>
          </a:prstGeom>
          <a:ln w="76320">
            <a:solidFill>
              <a:srgbClr val="fff39d"/>
            </a:solidFill>
            <a:miter/>
          </a:ln>
        </p:spPr>
      </p:pic>
      <p:sp>
        <p:nvSpPr>
          <p:cNvPr id="369" name="AutoShape 4"/>
          <p:cNvSpPr/>
          <p:nvPr/>
        </p:nvSpPr>
        <p:spPr>
          <a:xfrm>
            <a:off x="4267080" y="3886200"/>
            <a:ext cx="473040" cy="838080"/>
          </a:xfrm>
          <a:prstGeom prst="rtTriangle">
            <a:avLst/>
          </a:prstGeom>
          <a:solidFill>
            <a:srgbClr val="e8b8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4267080" y="4724280"/>
            <a:ext cx="473040" cy="533520"/>
          </a:xfrm>
          <a:prstGeom prst="rect">
            <a:avLst/>
          </a:prstGeom>
          <a:solidFill>
            <a:srgbClr val="0000ff"/>
          </a:solidFill>
          <a:ln w="57240">
            <a:solidFill>
              <a:srgbClr val="fff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Rectangle 6"/>
          <p:cNvSpPr/>
          <p:nvPr/>
        </p:nvSpPr>
        <p:spPr>
          <a:xfrm rot="19809000">
            <a:off x="4444920" y="3687840"/>
            <a:ext cx="952560" cy="874800"/>
          </a:xfrm>
          <a:prstGeom prst="rect">
            <a:avLst/>
          </a:prstGeom>
          <a:solidFill>
            <a:srgbClr val="80c838"/>
          </a:solidFill>
          <a:ln w="57240">
            <a:solidFill>
              <a:srgbClr val="fff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3429000" y="3962520"/>
            <a:ext cx="858960" cy="761760"/>
          </a:xfrm>
          <a:prstGeom prst="rect">
            <a:avLst/>
          </a:prstGeom>
          <a:solidFill>
            <a:srgbClr val="ff00ff"/>
          </a:solidFill>
          <a:ln w="57240">
            <a:solidFill>
              <a:srgbClr val="fff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ИСТОРИЯ О ПИФАГОРЕ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ифагор родился в 580 г. до н.э. в Древней Греции на острове Самос, который находится в Эгейском море, поэтому его называют Пифагором Самосским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Его отец был резчиком по камню. Ещё в детстве Пифагор проявлял незаурядные способности, и когда подрос, воображению юноши стало тесно на маленьком острове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ифагор перебрался в г. Милеет и стал учеником Фалеса, которому в то время шёл восьмой десяток. Мудрый учёный посоветовал юноше отправиться в Египет. Когда Пифагор постиг науку египетских жрецов, то отправился домой, чтобы там создать свою школу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ифагорейцы, как их позднее стали называть, занимались математикой, философией, естественными науками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12-25T19:02:40Z</dcterms:modified>
  <cp:revision>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