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2D52-7787-4981-9C16-0EF6FC8616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85B9-40D6-4C7E-ADC2-1C5F32887C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6D2-2477-4229-AFB7-986DAEC0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94B-EBB8-4D65-95B6-360DD9AA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11B-FE67-4483-8687-F8028903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E2F-8F70-413C-8576-C731D100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CE9D-4146-4626-AB52-8F6C288C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C5E2-B744-4B17-9FC3-9D3ADA6F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42D-20EA-4690-A8E4-EEBF2069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2F84-28BD-45A2-B668-A172888F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98AA-5E18-4A98-B307-A9F2FBC8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DDFB-900A-432E-92CA-E2E22F8F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A186-27AC-4A22-8BE7-2117C9C9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B6A-0CE4-40D4-B18B-52EC6BEC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478B-5539-4945-B1AB-A0902698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D3A6-7B5A-4CBD-85A7-200FE4F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8AC4-D3C9-4302-A348-A6CFFA05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B258-BF9C-4821-A72A-9DC48B81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4A37-8B2D-4778-8406-4D7B3FCB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9D8D-B2FE-4BFA-8647-5D98FCAF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550A3-CD27-4D93-AB77-86194045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6DAB5-D31C-4813-945A-858A9591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A96C-C552-43F3-A56B-C3888776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5F8F1-AD87-4B4E-8F93-2CD70A36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467-DB77-45B0-9B9C-8F06EB91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D4C5-D4F4-4FDF-9E28-7B324F0B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860B-E918-44F1-9052-F5060226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BE2D-E861-4891-8781-9969A2F7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7CA8-111A-47F9-B661-443BE24F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32C26-E598-441B-BEB4-27ECD062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E651-535D-41B3-9920-B886FE86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148B-EC82-4037-8863-85F290F8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D09F-AA4E-4AF2-B626-5C592987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DC694-8430-4D33-B332-D0FB11EF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7798-BCE8-4347-9F6A-784A4A51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65D-1830-4F60-8D07-1B4F20B3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8AE7-5CCC-44ED-B973-D43C48B6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938F-D7EF-4362-A275-2ABAA0A2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514C7-6565-4F00-8CE4-A3B4DA5D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883E2-3FCD-4496-A232-1FCE1851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2C7B-018A-49A5-82E9-2D95C0A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F724-28FC-4665-9EDD-4F6A819B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40E29-409B-4E24-B8E9-539701DB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6183-BE1D-4982-9F7B-AF34A0FD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88AA0-EA71-40BB-B3F4-C1DD8B10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169DE-9CEF-4244-8234-83528440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C2D-0EF4-4C88-9B63-D2F7F998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9ED34-5FF1-49E6-B2F4-293BBAB1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CBE7-57F2-47FA-983E-7E029137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1C7D-679D-428A-8821-32573EC5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FE3D1-9FD2-4D07-92E1-0EE93A6D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94451-7B2D-452B-A075-2FE5CF68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8BE01-0448-40D3-8F0A-1B560A90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C50B5-9475-461B-8F71-DE3C7E9C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BE48F-17F2-462B-8114-5106355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DC16C-4129-44EA-90D1-3BD68CB1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22596-4CDE-44ED-9B12-2766338B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F2B-1207-487E-9B8B-02E8ABB1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7E045-A8EE-413E-BB5F-4239DAF4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BD1A9-E518-460A-911B-8A14ABD9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AA0A1-72B3-4596-B6EC-B12FB968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DFB0E-BE81-4A32-905F-0DE2CB9A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588F6-CED5-49F3-A78C-11E52AD9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66376-30CA-4C1A-A866-8999436D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61397-06AB-4F3A-AFA9-A17372C2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94F6A-D032-4F77-A849-57E4861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673E-47C4-4D6D-BA35-17420036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0DE64-1541-4472-8542-7E2EE514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F87-549B-4FA1-A116-207B6008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194C5-FA87-4613-8F93-93285F32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356DF-2F8D-49DC-A49E-7A3630F4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E46D9-D25A-44E5-94E1-6EE3E697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D937F-063D-42A1-9843-3AA60D8A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7F157-DA96-40A9-9F79-F4909583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2DA73-A193-4C93-9BBE-932F26CA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D2CAB-E2B6-4D0F-A041-6CD8FCB2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60C7D-8214-46C1-BFC1-15B02734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8F4C-7E2A-449A-BC94-94BC9D19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E2E81-187F-4D4D-8D05-87934649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8AD-CA0C-4ADD-BE26-0B62EE2F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DDC6F-8837-47AF-8063-2443F57A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0D878-3F6E-4460-B917-0FAB1488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4F890-6B8A-464D-B225-C876D5BC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FBBF7-4DBA-4F1E-889E-B9B8A3BC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4BBEC-DDB4-4B2C-9437-91EE646C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C60-CC17-4414-AD49-5853387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83D6-3EA0-414A-9290-8CFAA00562E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EFB1-1462-40D4-A29E-ED782D11337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156C-BC70-4A2B-9158-B353B2F0967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AD11-8F0B-4045-8BC6-DE915C69295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17B6-382C-48BD-8A1C-B503A12A6E6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63B8-1D48-4A13-A239-3E78B96645A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73B-23EC-44CE-91A1-56756823CB4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56880" y="642600"/>
            <a:ext cx="662940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тоды, приемы и формы работы с детьми с нарушениями зрения.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85560" y="4357800"/>
            <a:ext cx="7429320" cy="2071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19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519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ламова Е.В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519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519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519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г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519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9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642600"/>
            <a:ext cx="749952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любой передовой опыт работы не только учителей массовых школ, но и педагогов специальных общеобразовательных учреждений необходимо преломить сквозь призму всех вышеприведенных специфических требований, увязать с конкретными условиями работы школы, класса, индивидуальными возможностями учащихся с нарушением зрен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амыми распространенными нарушениями зрения являются: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857240"/>
            <a:ext cx="74995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45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функции остроты зрения: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пия (близорукость), гиперметропия дальнозоркость), астигматизм, амблиоп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функции цветоразличения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й функции поля зрения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бинокулярного характера зрения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глазодвигательных функций: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глазие, нистагм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28480" y="428760"/>
            <a:ext cx="74977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 работе с детьми, имеющими нарушение зрения, необходимо соблюдать ряд требований к организации обучения: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2642760"/>
            <a:ext cx="749952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45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ические требования к процессу обучения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способам общения и работы с детьми с нарушенным зрением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пецифики структурного построения урок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коррекционной направленности методов обучения на уроке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игиенические требования к процессу обучения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3880" indent="433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дня предусматривает правильное чередование труда и отдых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3880" indent="433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птимального режима зрительной нагрузк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3880" indent="433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освещение рабочего мест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3880" indent="433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благоприятной для зрительного  восприятия цветовой гаммы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3880" indent="433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и должны быть из хорошей бумаги и четкой разлиновкой, писать следует черными чернилами, рисовать яркими краскам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3880" indent="433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и коррекция нарушений осан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56840" y="285840"/>
            <a:ext cx="7497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ребования к способам общения и работы с детьми с нарушенным зрением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5680" indent="357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вая вопросы и делая замечания, называйте учеников по имен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5680" indent="357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айте ребенка, если в классе перестановк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5680" indent="357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айте ему вставать со своего места, чтобы лучше Вас понять или лучше видеть доску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5680" indent="357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 структуру написанного на доске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5680" indent="357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произносите вслух то, что пишете на доске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428760"/>
            <a:ext cx="74995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365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яйте особое внимание материалу для чтения. Учитывайте контрастность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365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ребенку с нарушенным зрением больше времени или сократите количество упраж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365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зьте требования к письму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365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йте различный материал и проверяйте, правильно ли его воспринимает ученик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365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емонстрации предмета комментируйте его свойств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365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уйте ребенка к активным движениям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пределение специфики структурного построения урока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452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пециальных пропедевтических периодов в этапном построении  занят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ование зрительной и тактильной работы учащихся со слуховым восприятием учебного материал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в структуру урока зрительной гимнасти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темпа учебной работы в зависимости от уровня сформированности коррекционных умений и навыков учащих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4977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пределение коррекционной направленности методов обучения на уроке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, практические и наглядные методы обучения, если в их арсенал включены специальные приемы и способы коррекции, приобретают коррекционную направленность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571320"/>
            <a:ext cx="749952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45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ункциональному значению приемы коррекции для урока следует рассмотреть в следующей совокупности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, обеспечивающие доступность учебной информации для детей с нарушениями зрения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риемы организации обучения по предмету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приемы переработки учебной информаци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87480" indent="452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использования тифлотехники и специальной эргономи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2-24T14:49:24Z</dcterms:modified>
  <cp:revision>20</cp:revision>
  <dc:subject/>
  <dc:title>Слайд 1</dc:title>
</cp:coreProperties>
</file>