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A9E-9944-4FB7-88BC-3EFC8220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732-83F7-476E-92E6-69757813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893-2D5A-4EB2-B0CB-7DE4328A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226-5CB0-4120-B0DC-B007692D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D75-23A5-4346-874C-FD3DDA17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527-76E1-4D0D-BC40-12B402C4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FA6-7336-4EDF-96A3-EA24B7FB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03A-9B38-4F99-9051-F2F1CDE1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5A3-AD2B-41D3-84E7-F9002475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E69-17AF-4101-8F48-B0B734AC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5DE-9252-415A-A817-1FC39C9A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C75-C460-494E-AF37-CA8CFC9D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E635-744A-45CD-853B-E468D20AE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81080" y="2349360"/>
            <a:ext cx="76676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стигаем тайны зимы с детьм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1700280"/>
            <a:ext cx="727236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У Мороза внучка есть,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И ей всегда на елке честь.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Она известна там и тут,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Скажите как её зовут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700280"/>
            <a:ext cx="727236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Запорошила дорожки,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Разукрасила окошки.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Радость детям подарила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И на санках прокати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700280"/>
            <a:ext cx="727236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Он пришел нежданно,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Удивил нас всех,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Для ребят желанный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Белый-белый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1773360"/>
            <a:ext cx="84596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Свяжет бабушка их внучке,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Чтоб зимой не мерзли ручки.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Сохранят тепло сестрички —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Шерстяные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700280"/>
            <a:ext cx="727236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Наши окна — как картинки.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Кто художник-невидимка?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На стекле букеты роз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Нам нарисова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700280"/>
            <a:ext cx="727236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С неба звездочки летят</a:t>
            </a:r>
            <a:br>
              <a:rPr sz="4000"/>
            </a:b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И на солнышке блестят.</a:t>
            </a:r>
            <a:br>
              <a:rPr sz="4000"/>
            </a:b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Точно в танце балеринки,</a:t>
            </a:r>
            <a:br>
              <a:rPr sz="4000"/>
            </a:b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Кружатся зимой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89308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3800" spc="-1" strike="noStrike">
                <a:solidFill>
                  <a:srgbClr val="0033cc"/>
                </a:solidFill>
                <a:latin typeface="Arial"/>
              </a:rPr>
              <a:t>Кто раскрасил щеки детям</a:t>
            </a:r>
            <a:br>
              <a:rPr sz="3800"/>
            </a:br>
            <a:r>
              <a:rPr b="1" i="1" lang="en-US" sz="3800" spc="-1" strike="noStrike">
                <a:solidFill>
                  <a:srgbClr val="0033cc"/>
                </a:solidFill>
                <a:latin typeface="Arial"/>
              </a:rPr>
              <a:t>В красный цвет зимой, не летом?</a:t>
            </a:r>
            <a:br>
              <a:rPr sz="3800"/>
            </a:br>
            <a:r>
              <a:rPr b="1" i="1" lang="en-US" sz="3800" spc="-1" strike="noStrike">
                <a:solidFill>
                  <a:srgbClr val="0033cc"/>
                </a:solidFill>
                <a:latin typeface="Arial"/>
              </a:rPr>
              <a:t>А кто щиплет их за нос?</a:t>
            </a:r>
            <a:br>
              <a:rPr sz="3800"/>
            </a:br>
            <a:r>
              <a:rPr b="1" i="1" lang="en-US" sz="3800" spc="-1" strike="noStrike">
                <a:solidFill>
                  <a:srgbClr val="0033cc"/>
                </a:solidFill>
                <a:latin typeface="Arial"/>
              </a:rPr>
              <a:t>Угадали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1356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Мы его слепили ловко.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Глазки есть и нос-морковка.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Чуть тепло — заплачет вмиг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И раст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-260280"/>
            <a:ext cx="82072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5694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cc"/>
                </a:solidFill>
                <a:latin typeface="Arial"/>
              </a:rPr>
              <a:t>На Новый год ей каждый рад, </a:t>
            </a:r>
            <a:br>
              <a:rPr sz="4200"/>
            </a:br>
            <a:r>
              <a:rPr b="1" i="1" lang="en-US" sz="4200" spc="-1" strike="noStrike">
                <a:solidFill>
                  <a:srgbClr val="0033cc"/>
                </a:solidFill>
                <a:latin typeface="Arial"/>
              </a:rPr>
              <a:t>Хотя колюч её наряд…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5T19:34:44Z</dcterms:created>
  <dc:creator>Andery</dc:creator>
  <dc:description/>
  <dc:language>en-US</dc:language>
  <cp:lastModifiedBy>Andery</cp:lastModifiedBy>
  <dcterms:modified xsi:type="dcterms:W3CDTF">2017-12-25T20:20:44Z</dcterms:modified>
  <cp:revision>14</cp:revision>
  <dc:subject/>
  <dc:title>Слайд 1</dc:title>
</cp:coreProperties>
</file>