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15.wmf" ContentType="image/x-wmf"/>
  <Override PartName="/ppt/media/image7.gif" ContentType="image/gif"/>
  <Override PartName="/ppt/media/image14.wmf" ContentType="image/x-wmf"/>
  <Override PartName="/ppt/media/image6.gif" ContentType="image/gi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8.gif" ContentType="image/gif"/>
  <Override PartName="/ppt/media/image9.gif" ContentType="image/gi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0B9-FA02-4F18-8B0C-01AF8977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A33-E2FF-44BE-80DD-80590E79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3B1-6993-406A-AC74-24166234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C0DA-D13F-441F-B5D1-C45AD1E5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831-B6AC-4473-85C9-0EDD6119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621-7468-422B-A803-F2F013ED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8138-7AAE-498E-8C8A-6848CA0A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960-F1C4-4E51-A16F-0C08C0B0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3E50-8704-490F-B879-AB328789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1DE-2722-4428-812E-18FF0D02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CCB-FA7D-4271-9DF6-2DDF0BBE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A22-FE06-44B6-8672-CB6551E9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0FD1-DCD3-41B1-BB2E-4BE40400E5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0090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2057040"/>
            <a:ext cx="6629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cc"/>
                </a:solidFill>
                <a:latin typeface="Arial"/>
              </a:rPr>
              <a:t>Трудности адаптации первоклассников</a:t>
            </a: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cc"/>
                </a:solidFill>
                <a:latin typeface="Arial"/>
              </a:rPr>
              <a:t>в школ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Штурмуйте каждую проблему с энтузиазмом…как если бы от этого зависела Ваша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Л.Кью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j0281970"/>
          <p:cNvPicPr/>
          <p:nvPr/>
        </p:nvPicPr>
        <p:blipFill>
          <a:blip r:embed="rId2"/>
          <a:stretch/>
        </p:blipFill>
        <p:spPr>
          <a:xfrm>
            <a:off x="3657600" y="228600"/>
            <a:ext cx="18018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40"/>
                            </p:stCondLst>
                            <p:childTnLst>
                              <p:par>
                                <p:cTn id="18" nodeType="afterEffect" fill="hold" presetClass="emph" presetID="3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64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64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48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8390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Comic Sans MS"/>
              </a:rPr>
              <a:t>Условия адапт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Comic Sans MS"/>
              </a:rPr>
              <a:t>Физиологические           Псих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Изменение режима дня                           -психологический климат в сем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Необходимость игры                              - самооценка ребё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Правильная посадка                               - самоценность ребёнка для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Организация правильного питания       - формирование интереса к шк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Развитие двигательной активности       - дружеское общение с однокласс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Воспитание самостоятельности и         - недопустимость физического воз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ответственности                                          - предоставление самосто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учёт темперамента ребё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организация контроля за учё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поощрение за успехи и дост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моральное стимул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развитие самоконтроля и самооце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j0355131"/>
          <p:cNvPicPr/>
          <p:nvPr/>
        </p:nvPicPr>
        <p:blipFill>
          <a:blip r:embed="rId1"/>
          <a:stretch/>
        </p:blipFill>
        <p:spPr>
          <a:xfrm>
            <a:off x="2209680" y="4572000"/>
            <a:ext cx="1233720" cy="1811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AN00790_"/>
          <p:cNvPicPr/>
          <p:nvPr/>
        </p:nvPicPr>
        <p:blipFill>
          <a:blip r:embed="rId2"/>
          <a:stretch/>
        </p:blipFill>
        <p:spPr>
          <a:xfrm>
            <a:off x="7462800" y="0"/>
            <a:ext cx="1535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24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74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74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ED00019_"/>
          <p:cNvPicPr/>
          <p:nvPr/>
        </p:nvPicPr>
        <p:blipFill>
          <a:blip r:embed="rId1"/>
          <a:stretch/>
        </p:blipFill>
        <p:spPr>
          <a:xfrm>
            <a:off x="0" y="0"/>
            <a:ext cx="2031840" cy="178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Взаимоотношения с ребёнком в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Шкала общения родителей с ребёнк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ложительные эмоции    отрицательные эмо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хвалили                                   -упрек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поощряли                                -подавл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одобряли                                 -униж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целовали                                 -обвин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обнимали                                -осужд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ласкали                                   -отверг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сопереживали                         -позор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улыбались                               -читали но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восхищались                           -лишали чего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делали подарки                      -ставили  в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AG00315_"/>
          <p:cNvPicPr/>
          <p:nvPr/>
        </p:nvPicPr>
        <p:blipFill>
          <a:blip r:embed="rId2"/>
          <a:stretch/>
        </p:blipFill>
        <p:spPr>
          <a:xfrm>
            <a:off x="2590920" y="2590920"/>
            <a:ext cx="1485720" cy="167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AG00316_"/>
          <p:cNvPicPr/>
          <p:nvPr/>
        </p:nvPicPr>
        <p:blipFill>
          <a:blip r:embed="rId3"/>
          <a:stretch/>
        </p:blipFill>
        <p:spPr>
          <a:xfrm>
            <a:off x="6781680" y="1752480"/>
            <a:ext cx="1519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2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84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56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36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8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84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60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36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28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128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36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348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Comic Sans MS"/>
              </a:rPr>
              <a:t>Правила, которые помогут ребёнку в обще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отнимай чужого, но и своё не отдав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дерись без пр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овут играть – иди, не зовут – спроси разрешения играть вместе, это не сты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грай честно, не подводи своих товари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дразни никого, не канючь, не выпрашивай нич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-за отметок не плачь, будь гордым. С учителем из-за отметок не спорь и не обижа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райся всё делать вовремя и думай о хороших результатах. Они обязательно у тебя бу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ябедничай и не наговаривай ни на 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райся быть аккура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аще говори: давай дружить, давай игр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j0336916"/>
          <p:cNvPicPr/>
          <p:nvPr/>
        </p:nvPicPr>
        <p:blipFill>
          <a:blip r:embed="rId1"/>
          <a:stretch/>
        </p:blipFill>
        <p:spPr>
          <a:xfrm flipH="1">
            <a:off x="8135640" y="0"/>
            <a:ext cx="88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6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92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72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36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84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6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248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52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692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788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944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Не 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Я тысячу раз говорил тебе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Сколько раз надо повторя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О чём ты только думаеш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Неужели тебе трудно запомнить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Ты становишь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Ты такой же как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Отстань, некогда м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Почему Лена(Настя, Вася и т.д.) такая, а ты - н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AG00317_"/>
          <p:cNvPicPr/>
          <p:nvPr/>
        </p:nvPicPr>
        <p:blipFill>
          <a:blip r:embed="rId1"/>
          <a:stretch/>
        </p:blipFill>
        <p:spPr>
          <a:xfrm>
            <a:off x="7599240" y="4876920"/>
            <a:ext cx="154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28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40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44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320"/>
                            </p:stCondLst>
                            <p:childTnLst>
                              <p:par>
                                <p:cTn id="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64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28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92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760"/>
                            </p:stCondLst>
                            <p:childTnLst>
                              <p:par>
                                <p:cTn id="3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9480"/>
                            </p:stCondLst>
                            <p:childTnLst>
                              <p:par>
                                <p:cTn id="3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Ты у меня умный, красивый(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Как хорошо, что  у меня ест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Ты у меня моло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Я тебя очень люб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Как хорошо ты это сделал, научи и меня эт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Спасибо тебе, я тебе очень благодар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Если бы не ты, я бы никогда с этим не справ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KIDS01"/>
          <p:cNvPicPr/>
          <p:nvPr/>
        </p:nvPicPr>
        <p:blipFill>
          <a:blip r:embed="rId1"/>
          <a:stretch/>
        </p:blipFill>
        <p:spPr>
          <a:xfrm>
            <a:off x="3809880" y="480060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440"/>
                            </p:stCondLst>
                            <p:childTnLst>
                              <p:par>
                                <p:cTn id="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520"/>
                            </p:stCondLst>
                            <p:childTnLst>
                              <p:par>
                                <p:cTn id="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200"/>
                            </p:stCondLst>
                            <p:childTnLst>
                              <p:par>
                                <p:cTn id="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92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6480"/>
                            </p:stCondLst>
                            <p:childTnLst>
                              <p:par>
                                <p:cTn id="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7880"/>
                            </p:stCondLst>
                            <p:childTnLst>
                              <p:par>
                                <p:cTn id="3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9480"/>
                            </p:stCondLst>
                            <p:childTnLst>
                              <p:par>
                                <p:cTn id="3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Несколько советов психолога</a:t>
            </a: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«Как помочь ребенку пройти период адаптации к школ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удите ребёнка спокойно. Проснувшись, он должен увидеть Вашу улыбку и услышать ваш гол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е торопитесь. Умение расчитать время –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Ваша задач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 Если вам это плохо удаётся, вины ребёнка в этом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 прощайтесь, предупреждая и направляя: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Смотри, не балуйся!», «Чтобы сегодн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е было отметок!»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Пожелайте удачи, найдите несколько ласковых 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Забудьте фразу: «Что ты сегодня получил?». Встречая ребёнка после школы, не обрушивайте на него тысячу вопросов, дайте немного расслабиться, вспомните, как Вы сами чувствуете себя после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Если Вы видите, что ребёнок огорчён, молчит – не допытывайтесь; пусть успокоится и тогда расскажет всё с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Выслушав замечания учителя, не торопитесь устраивать взбучку. Постарайтесь, чтобы Ваш разговор с учителем проходил без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осле школы не торопитесь садиться за уроки. Ребёнку необходимо 2 часа отдыха. Занятия вечерами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бесполез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AM45"/>
          <p:cNvPicPr/>
          <p:nvPr/>
        </p:nvPicPr>
        <p:blipFill>
          <a:blip r:embed="rId1"/>
          <a:stretch/>
        </p:blipFill>
        <p:spPr>
          <a:xfrm>
            <a:off x="0" y="0"/>
            <a:ext cx="21337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840"/>
                            </p:stCondLst>
                            <p:childTnLst>
                              <p:par>
                                <p:cTn id="4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84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800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160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68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3760"/>
                            </p:stCondLst>
                            <p:childTnLst>
                              <p:par>
                                <p:cTn id="4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7480"/>
                            </p:stCondLst>
                            <p:childTnLst>
                              <p:par>
                                <p:cTn id="4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204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FSBRICKS"/>
          <p:cNvPicPr/>
          <p:nvPr/>
        </p:nvPicPr>
        <p:blipFill>
          <a:blip r:embed="rId1"/>
          <a:stretch/>
        </p:blipFill>
        <p:spPr>
          <a:xfrm>
            <a:off x="6046920" y="4537080"/>
            <a:ext cx="3097080" cy="2320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Не заставляйте делать все упражнения сразу: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0 минут занятий – 10 минут переры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Во время приготовления уроков не сидит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«над душой»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Дайте ребёнку работать самому. Если нужна Ваша помощь – наберитесь терпения: спокойный тон, поддержка необход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В общении с ребёнком старайтесь избегать условий: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«Если ты сделаешь, то.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Найдите в течение дня хотя бы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лчаса,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когда будете принадлежать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олько ребёнк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Выбирайт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диную тактик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общения с ребёнком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сех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зрослых в семье. Все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разноглас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по поводу педтактики решайт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ез него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Будьте внимательны к жалобам ребёнка на головную боль, усталость, плохое самочувствие. Чаще всего это объективные показатели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ереутом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Учтите, что даж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«большие дети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очень любят сказку перед сном, песенку, ласковое поглаживание. Всё это успокоит ребёнка и поможет снять напряжение, накопившееся за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80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64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132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416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8400"/>
                            </p:stCondLst>
                            <p:childTnLst>
                              <p:par>
                                <p:cTn id="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3400"/>
                            </p:stCondLst>
                            <p:childTnLst>
                              <p:par>
                                <p:cTn id="4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DD00367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j0280386"/>
          <p:cNvPicPr/>
          <p:nvPr/>
        </p:nvPicPr>
        <p:blipFill>
          <a:blip r:embed="rId2"/>
          <a:stretch/>
        </p:blipFill>
        <p:spPr>
          <a:xfrm>
            <a:off x="609480" y="152280"/>
            <a:ext cx="2144880" cy="2606760"/>
          </a:xfrm>
          <a:prstGeom prst="rect">
            <a:avLst/>
          </a:prstGeom>
          <a:ln w="0">
            <a:noFill/>
          </a:ln>
        </p:spPr>
      </p:pic>
      <p:sp>
        <p:nvSpPr>
          <p:cNvPr id="66" name="WordArt 9"/>
          <p:cNvSpPr txBox="1"/>
          <p:nvPr/>
        </p:nvSpPr>
        <p:spPr>
          <a:xfrm>
            <a:off x="1109520" y="1219320"/>
            <a:ext cx="69249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 в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спитании дете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" name="Picture 7" descr="j0344463"/>
          <p:cNvPicPr/>
          <p:nvPr/>
        </p:nvPicPr>
        <p:blipFill>
          <a:blip r:embed="rId3"/>
          <a:stretch/>
        </p:blipFill>
        <p:spPr>
          <a:xfrm>
            <a:off x="6732720" y="3586320"/>
            <a:ext cx="24112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500"/>
                            </p:stCondLst>
                            <p:childTnLst>
                              <p:par>
                                <p:cTn id="5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кс</cp:lastModifiedBy>
  <dcterms:modified xsi:type="dcterms:W3CDTF">2016-09-08T15:32:1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