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E06E-B4B3-4A48-8386-28648208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BC2-0C7A-4EAB-B3AF-E73101DA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AA9-2717-43E1-B3BA-8D80DC72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1A4C-4FA2-4947-B5BA-FE2DB9ED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3D3A-2C6A-485A-8168-6220CA99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58F-36A1-4FA5-9DDE-6E3BE9FE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168E-89E4-4190-85CE-FEBFBF37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0ED7-8ED8-45B8-849C-17A298FC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12AA-C9FD-4204-B242-352ABE47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F87-D915-4289-BAF2-51982C52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4BB4-F4B3-4299-BE2D-601F33BB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3B1-3E36-430A-BDDD-3BB77033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816F-08E9-40A8-A778-1D77D2404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image" Target="../media/image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115920"/>
            <a:ext cx="8856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олшебный </a:t>
            </a:r>
            <a:endParaRPr b="1" i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ик-семицветик.</a:t>
            </a:r>
            <a:endParaRPr b="1" i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1280" y="3645000"/>
            <a:ext cx="8137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6600cc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Средства 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6600cc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6600cc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музыкальной 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6600cc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6600cc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выразительности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6600cc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38160" y="360360"/>
            <a:ext cx="4610160" cy="6237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ТЕМБ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ba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batC"/>
              </a:rPr>
              <a:t>Темб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краска зву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47120" y="6021360"/>
            <a:ext cx="596880" cy="836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050920" y="2205000"/>
            <a:ext cx="3443400" cy="3571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219640" y="2111400"/>
            <a:ext cx="3156120" cy="3693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659640" y="2060640"/>
            <a:ext cx="936720" cy="1008000"/>
          </a:xfrm>
          <a:custGeom>
            <a:avLst/>
            <a:gdLst/>
            <a:ahLst/>
            <a:rect l="l" t="t" r="r" b="b"/>
            <a:pathLst>
              <a:path w="485" h="525">
                <a:moveTo>
                  <a:pt x="22" y="525"/>
                </a:moveTo>
                <a:cubicBezTo>
                  <a:pt x="26" y="466"/>
                  <a:pt x="26" y="406"/>
                  <a:pt x="46" y="350"/>
                </a:cubicBezTo>
                <a:cubicBezTo>
                  <a:pt x="53" y="304"/>
                  <a:pt x="62" y="254"/>
                  <a:pt x="104" y="228"/>
                </a:cubicBezTo>
                <a:cubicBezTo>
                  <a:pt x="108" y="222"/>
                  <a:pt x="110" y="215"/>
                  <a:pt x="115" y="210"/>
                </a:cubicBezTo>
                <a:cubicBezTo>
                  <a:pt x="120" y="205"/>
                  <a:pt x="129" y="204"/>
                  <a:pt x="133" y="199"/>
                </a:cubicBezTo>
                <a:cubicBezTo>
                  <a:pt x="158" y="169"/>
                  <a:pt x="113" y="188"/>
                  <a:pt x="162" y="175"/>
                </a:cubicBezTo>
                <a:cubicBezTo>
                  <a:pt x="168" y="171"/>
                  <a:pt x="175" y="169"/>
                  <a:pt x="179" y="164"/>
                </a:cubicBezTo>
                <a:cubicBezTo>
                  <a:pt x="183" y="159"/>
                  <a:pt x="180" y="150"/>
                  <a:pt x="185" y="146"/>
                </a:cubicBezTo>
                <a:cubicBezTo>
                  <a:pt x="198" y="133"/>
                  <a:pt x="220" y="135"/>
                  <a:pt x="238" y="129"/>
                </a:cubicBezTo>
                <a:cubicBezTo>
                  <a:pt x="271" y="118"/>
                  <a:pt x="300" y="97"/>
                  <a:pt x="331" y="82"/>
                </a:cubicBezTo>
                <a:cubicBezTo>
                  <a:pt x="346" y="75"/>
                  <a:pt x="362" y="70"/>
                  <a:pt x="377" y="65"/>
                </a:cubicBezTo>
                <a:cubicBezTo>
                  <a:pt x="396" y="58"/>
                  <a:pt x="435" y="47"/>
                  <a:pt x="435" y="47"/>
                </a:cubicBezTo>
                <a:cubicBezTo>
                  <a:pt x="448" y="39"/>
                  <a:pt x="466" y="40"/>
                  <a:pt x="476" y="30"/>
                </a:cubicBezTo>
                <a:cubicBezTo>
                  <a:pt x="482" y="24"/>
                  <a:pt x="485" y="0"/>
                  <a:pt x="482" y="7"/>
                </a:cubicBezTo>
                <a:cubicBezTo>
                  <a:pt x="477" y="20"/>
                  <a:pt x="474" y="34"/>
                  <a:pt x="470" y="47"/>
                </a:cubicBezTo>
                <a:cubicBezTo>
                  <a:pt x="465" y="100"/>
                  <a:pt x="464" y="199"/>
                  <a:pt x="424" y="239"/>
                </a:cubicBezTo>
                <a:cubicBezTo>
                  <a:pt x="412" y="274"/>
                  <a:pt x="427" y="242"/>
                  <a:pt x="400" y="269"/>
                </a:cubicBezTo>
                <a:cubicBezTo>
                  <a:pt x="381" y="288"/>
                  <a:pt x="383" y="311"/>
                  <a:pt x="360" y="327"/>
                </a:cubicBezTo>
                <a:cubicBezTo>
                  <a:pt x="336" y="361"/>
                  <a:pt x="280" y="386"/>
                  <a:pt x="238" y="397"/>
                </a:cubicBezTo>
                <a:cubicBezTo>
                  <a:pt x="232" y="401"/>
                  <a:pt x="225" y="403"/>
                  <a:pt x="220" y="408"/>
                </a:cubicBezTo>
                <a:cubicBezTo>
                  <a:pt x="214" y="414"/>
                  <a:pt x="215" y="426"/>
                  <a:pt x="208" y="431"/>
                </a:cubicBezTo>
                <a:cubicBezTo>
                  <a:pt x="190" y="444"/>
                  <a:pt x="164" y="441"/>
                  <a:pt x="144" y="449"/>
                </a:cubicBezTo>
                <a:cubicBezTo>
                  <a:pt x="128" y="456"/>
                  <a:pt x="114" y="466"/>
                  <a:pt x="98" y="472"/>
                </a:cubicBezTo>
                <a:cubicBezTo>
                  <a:pt x="71" y="482"/>
                  <a:pt x="39" y="487"/>
                  <a:pt x="11" y="495"/>
                </a:cubicBezTo>
                <a:cubicBezTo>
                  <a:pt x="3" y="520"/>
                  <a:pt x="0" y="509"/>
                  <a:pt x="22" y="525"/>
                </a:cubicBezTo>
                <a:close/>
              </a:path>
            </a:pathLst>
          </a:custGeom>
          <a:solidFill>
            <a:srgbClr val="00800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70520" y="2179800"/>
            <a:ext cx="766800" cy="812520"/>
          </a:xfrm>
          <a:custGeom>
            <a:avLst/>
            <a:gdLst/>
            <a:ahLst/>
            <a:rect l="l" t="t" r="r" b="b"/>
            <a:pathLst>
              <a:path w="483" h="512">
                <a:moveTo>
                  <a:pt x="0" y="512"/>
                </a:moveTo>
                <a:cubicBezTo>
                  <a:pt x="9" y="475"/>
                  <a:pt x="20" y="445"/>
                  <a:pt x="40" y="413"/>
                </a:cubicBezTo>
                <a:cubicBezTo>
                  <a:pt x="50" y="367"/>
                  <a:pt x="61" y="321"/>
                  <a:pt x="93" y="285"/>
                </a:cubicBezTo>
                <a:cubicBezTo>
                  <a:pt x="108" y="268"/>
                  <a:pt x="145" y="244"/>
                  <a:pt x="145" y="244"/>
                </a:cubicBezTo>
                <a:cubicBezTo>
                  <a:pt x="156" y="191"/>
                  <a:pt x="202" y="171"/>
                  <a:pt x="250" y="163"/>
                </a:cubicBezTo>
                <a:cubicBezTo>
                  <a:pt x="281" y="141"/>
                  <a:pt x="322" y="136"/>
                  <a:pt x="355" y="116"/>
                </a:cubicBezTo>
                <a:cubicBezTo>
                  <a:pt x="388" y="96"/>
                  <a:pt x="395" y="85"/>
                  <a:pt x="419" y="58"/>
                </a:cubicBezTo>
                <a:cubicBezTo>
                  <a:pt x="444" y="30"/>
                  <a:pt x="460" y="23"/>
                  <a:pt x="483" y="0"/>
                </a:cubicBez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0080" y="2706840"/>
            <a:ext cx="428760" cy="74520"/>
          </a:xfrm>
          <a:custGeom>
            <a:avLst/>
            <a:gdLst/>
            <a:ahLst/>
            <a:rect l="l" t="t" r="r" b="b"/>
            <a:pathLst>
              <a:path w="270" h="47">
                <a:moveTo>
                  <a:pt x="17" y="47"/>
                </a:moveTo>
                <a:cubicBezTo>
                  <a:pt x="12" y="41"/>
                  <a:pt x="0" y="37"/>
                  <a:pt x="2" y="29"/>
                </a:cubicBezTo>
                <a:cubicBezTo>
                  <a:pt x="4" y="21"/>
                  <a:pt x="17" y="20"/>
                  <a:pt x="25" y="17"/>
                </a:cubicBezTo>
                <a:cubicBezTo>
                  <a:pt x="47" y="7"/>
                  <a:pt x="72" y="6"/>
                  <a:pt x="95" y="0"/>
                </a:cubicBezTo>
                <a:cubicBezTo>
                  <a:pt x="243" y="7"/>
                  <a:pt x="184" y="6"/>
                  <a:pt x="270" y="6"/>
                </a:cubicBez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99400" y="2544840"/>
            <a:ext cx="517320" cy="87120"/>
          </a:xfrm>
          <a:custGeom>
            <a:avLst/>
            <a:gdLst/>
            <a:ahLst/>
            <a:rect l="l" t="t" r="r" b="b"/>
            <a:pathLst>
              <a:path w="326" h="55">
                <a:moveTo>
                  <a:pt x="0" y="55"/>
                </a:moveTo>
                <a:cubicBezTo>
                  <a:pt x="64" y="47"/>
                  <a:pt x="119" y="29"/>
                  <a:pt x="181" y="20"/>
                </a:cubicBezTo>
                <a:cubicBezTo>
                  <a:pt x="238" y="0"/>
                  <a:pt x="192" y="14"/>
                  <a:pt x="326" y="14"/>
                </a:cubicBez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93080" y="2411280"/>
            <a:ext cx="369720" cy="63720"/>
          </a:xfrm>
          <a:custGeom>
            <a:avLst/>
            <a:gdLst/>
            <a:ahLst/>
            <a:rect l="l" t="t" r="r" b="b"/>
            <a:pathLst>
              <a:path w="233" h="40">
                <a:moveTo>
                  <a:pt x="0" y="40"/>
                </a:moveTo>
                <a:cubicBezTo>
                  <a:pt x="15" y="4"/>
                  <a:pt x="17" y="7"/>
                  <a:pt x="53" y="0"/>
                </a:cubicBezTo>
                <a:cubicBezTo>
                  <a:pt x="171" y="7"/>
                  <a:pt x="111" y="5"/>
                  <a:pt x="233" y="5"/>
                </a:cubicBez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88160" y="2854440"/>
            <a:ext cx="287280" cy="36360"/>
          </a:xfrm>
          <a:custGeom>
            <a:avLst/>
            <a:gdLst/>
            <a:ahLst/>
            <a:rect l="l" t="t" r="r" b="b"/>
            <a:pathLst>
              <a:path w="181" h="23">
                <a:moveTo>
                  <a:pt x="0" y="23"/>
                </a:moveTo>
                <a:cubicBezTo>
                  <a:pt x="84" y="2"/>
                  <a:pt x="74" y="0"/>
                  <a:pt x="181" y="0"/>
                </a:cubicBez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190800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41964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-171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Дмитрий Борисович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04 г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Кабалевский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87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84720" y="1700280"/>
            <a:ext cx="2718000" cy="3024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484280"/>
            <a:ext cx="694836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оссийский композитор, педаго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 народный артист СССР, профессо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осковской консерватории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11600"/>
            <a:ext cx="914400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 70-е гг. 20 века разработал новую  систему музыкального  воспитания в  общеобразовательной  шк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20" y="3240"/>
            <a:ext cx="1365120" cy="2057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219400" y="1628640"/>
            <a:ext cx="3000240" cy="4561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«КЛОУНЫ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4920" y="3068640"/>
            <a:ext cx="2214720" cy="3753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643280" y="115920"/>
            <a:ext cx="4500720" cy="671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ff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55640" y="1136520"/>
            <a:ext cx="7453440" cy="5748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807800" y="374004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ИНТОН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55240" y="4565520"/>
            <a:ext cx="35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АККОМПАН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63000" y="521496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Л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97760" y="5214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ТЕМБ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15640" y="4133880"/>
            <a:ext cx="23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ДИНА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2824560" y="406224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МЕЛО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2880" y="211788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ТЕМ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94800" y="254952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46040" y="2838600"/>
            <a:ext cx="17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РЕГИС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1484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batC"/>
              </a:rPr>
              <a:t>Цветок нас жд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batC"/>
              </a:rPr>
              <a:t>Нам музыка всего дор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3be1"/>
                </a:solidFill>
                <a:latin typeface="ArbatC"/>
              </a:rPr>
              <a:t>Фантаз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3be1"/>
                </a:solidFill>
                <a:latin typeface="ArbatC"/>
              </a:rPr>
              <a:t>          </a:t>
            </a:r>
            <a:r>
              <a:rPr b="1" lang="en-US" sz="3200" spc="-1" strike="noStrike">
                <a:solidFill>
                  <a:srgbClr val="5b3be1"/>
                </a:solidFill>
                <a:latin typeface="ArbatC"/>
              </a:rPr>
              <a:t>сказоч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3be1"/>
                </a:solidFill>
                <a:latin typeface="ArbatC"/>
              </a:rPr>
              <a:t>                   </a:t>
            </a:r>
            <a:r>
              <a:rPr b="1" lang="en-US" sz="3200" spc="-1" strike="noStrike">
                <a:solidFill>
                  <a:srgbClr val="5b3be1"/>
                </a:solidFill>
                <a:latin typeface="ArbatC"/>
              </a:rPr>
              <a:t>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batC"/>
              </a:rPr>
              <a:t>Не заблуди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batC"/>
              </a:rPr>
              <a:t>      </a:t>
            </a:r>
            <a:r>
              <a:rPr b="1" lang="en-US" sz="3200" spc="-1" strike="noStrike">
                <a:solidFill>
                  <a:srgbClr val="660066"/>
                </a:solidFill>
                <a:latin typeface="ArbatC"/>
              </a:rPr>
              <a:t>нам помож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1" descr="http://www.muz-urok.ru/muz_pamyat/673_7.jpg"/>
          <p:cNvPicPr/>
          <p:nvPr/>
        </p:nvPicPr>
        <p:blipFill>
          <a:blip r:embed="rId1"/>
          <a:stretch/>
        </p:blipFill>
        <p:spPr>
          <a:xfrm>
            <a:off x="-122400" y="-747720"/>
            <a:ext cx="9109080" cy="8690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651640" y="306864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ло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152800"/>
            <a:ext cx="18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рит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4149720"/>
            <a:ext cx="20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темб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360" y="501336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1125360"/>
            <a:ext cx="18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тем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8858000">
            <a:off x="4828680" y="1443600"/>
            <a:ext cx="263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нам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08720" y="486900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140200">
            <a:off x="5147640" y="486864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гис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132000" y="2852640"/>
            <a:ext cx="2664000" cy="165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657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нтонаци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492360" y="3502080"/>
            <a:ext cx="2016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НТОНАЦИ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5446" t="1444" r="4835" b="25490"/>
          <a:stretch/>
        </p:blipFill>
        <p:spPr>
          <a:xfrm>
            <a:off x="2916360" y="1411200"/>
            <a:ext cx="6264000" cy="388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74490" r="0" b="1514"/>
          <a:stretch/>
        </p:blipFill>
        <p:spPr>
          <a:xfrm>
            <a:off x="2448000" y="5372280"/>
            <a:ext cx="6696000" cy="1225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МЕЛОД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181440" y="1052640"/>
            <a:ext cx="403236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batC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batC"/>
              </a:rPr>
              <a:t>Мелод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дноголосный выразительный напев, который может передавать различные образы, чувства, настро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93040" y="0"/>
            <a:ext cx="75096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АККОМПАНЕМЕН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ba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batC"/>
              </a:rPr>
              <a:t>Аккомпанемен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4800" spc="-1" strike="noStrike">
                <a:solidFill>
                  <a:srgbClr val="000000"/>
                </a:solidFill>
                <a:latin typeface="AmerType Md BT"/>
              </a:rPr>
              <a:t>музыкальное сопровождение мелод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47120" y="6021360"/>
            <a:ext cx="596880" cy="836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195640" y="2583000"/>
            <a:ext cx="4608360" cy="43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ЛАД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ba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batC"/>
              </a:rPr>
              <a:t>Ла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строение музы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жор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н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47120" y="6021360"/>
            <a:ext cx="596880" cy="836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16000" y="2152800"/>
            <a:ext cx="3382920" cy="3508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716360" y="2098800"/>
            <a:ext cx="3908520" cy="34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ДИНАМ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410840"/>
            <a:ext cx="8964720" cy="29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ba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batC"/>
              </a:rPr>
              <a:t>Динами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сила звука, переход от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тихого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iano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к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громкому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orte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наоборот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47120" y="6048360"/>
            <a:ext cx="596880" cy="836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V="1">
            <a:off x="611280" y="3860280"/>
            <a:ext cx="748980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4941720"/>
            <a:ext cx="748980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0920" y="3962520"/>
            <a:ext cx="6985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pp</a:t>
            </a:r>
            <a:r>
              <a:rPr b="1" lang="en-US" sz="5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p </a:t>
            </a:r>
            <a:r>
              <a:rPr b="1" lang="en-US" sz="5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mp   </a:t>
            </a:r>
            <a:r>
              <a:rPr b="1" lang="en-US" sz="7000" spc="-1" strike="noStrike">
                <a:solidFill>
                  <a:srgbClr val="000000"/>
                </a:solidFill>
                <a:latin typeface="Monotype Corsiva"/>
              </a:rPr>
              <a:t>mf   </a:t>
            </a:r>
            <a:r>
              <a:rPr b="1" lang="en-US" sz="8000" spc="-1" strike="noStrike">
                <a:solidFill>
                  <a:srgbClr val="ff0000"/>
                </a:solidFill>
                <a:latin typeface="Monotype Corsiva"/>
              </a:rPr>
              <a:t>f</a:t>
            </a: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1" lang="en-US" sz="5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en-US" sz="9000" spc="-1" strike="noStrike">
                <a:solidFill>
                  <a:srgbClr val="000000"/>
                </a:solidFill>
                <a:latin typeface="Monotype Corsiva"/>
              </a:rPr>
              <a:t>ff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32120" y="4578480"/>
            <a:ext cx="82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p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РИТ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252720" y="765000"/>
            <a:ext cx="9396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ba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batC"/>
              </a:rPr>
              <a:t>Музыкальный рит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это чередование разных длительностей звук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115920"/>
            <a:ext cx="596880" cy="836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786200" y="2781360"/>
            <a:ext cx="424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latin typeface="Calibri"/>
              </a:rPr>
              <a:t>РОВНЫЙ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ff"/>
              </a:solidFill>
              <a:latin typeface="Calibri"/>
              <a:ea typeface="Calibri"/>
            </a:endParaRPr>
          </a:p>
        </p:txBody>
      </p:sp>
      <p:pic>
        <p:nvPicPr>
          <p:cNvPr id="80" name="Picture 3" descr="D:\Для учебы\РАБОТА\К откр.уроку\eighth-note-hi.png"/>
          <p:cNvPicPr/>
          <p:nvPr/>
        </p:nvPicPr>
        <p:blipFill>
          <a:blip r:embed="rId3"/>
          <a:stretch/>
        </p:blipFill>
        <p:spPr>
          <a:xfrm>
            <a:off x="5607000" y="3608280"/>
            <a:ext cx="3213000" cy="298944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2" descr=""/>
          <p:cNvPicPr/>
          <p:nvPr/>
        </p:nvPicPr>
        <p:blipFill>
          <a:blip r:embed="rId4"/>
          <a:stretch/>
        </p:blipFill>
        <p:spPr>
          <a:xfrm rot="20248800">
            <a:off x="-36000" y="2349000"/>
            <a:ext cx="4464000" cy="1712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D:\Для учебы\РАБОТА\К откр.уроку\eighth-note-hi.png"/>
          <p:cNvPicPr/>
          <p:nvPr/>
        </p:nvPicPr>
        <p:blipFill>
          <a:blip r:embed="rId5"/>
          <a:stretch/>
        </p:blipFill>
        <p:spPr>
          <a:xfrm>
            <a:off x="571680" y="3608280"/>
            <a:ext cx="3213000" cy="2989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835280" y="5948280"/>
            <a:ext cx="21564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3640" y="429264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876400" y="2852640"/>
            <a:ext cx="2990880" cy="2400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ТЕМ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ba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batC"/>
              </a:rPr>
              <a:t>Тем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корость зву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547120" y="0"/>
            <a:ext cx="596880" cy="836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00360" y="5445000"/>
            <a:ext cx="31669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мер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724360" y="3740040"/>
            <a:ext cx="3419640" cy="223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0" y="1700280"/>
            <a:ext cx="2987640" cy="2241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115560" y="4022640"/>
            <a:ext cx="31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Медл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28200" y="5967360"/>
            <a:ext cx="256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Быстр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РЕГИСТ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292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о высота звучания голоса или инструмент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batC"/>
              </a:rPr>
              <a:t>Регистр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соки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ни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изки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e_pingping_sultan_kosen0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1480" y="906480"/>
            <a:ext cx="3927600" cy="590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08:55:51Z</dcterms:created>
  <dc:creator>Татьяна</dc:creator>
  <dc:description/>
  <dc:language>en-US</dc:language>
  <cp:lastModifiedBy>Татьяна</cp:lastModifiedBy>
  <dcterms:modified xsi:type="dcterms:W3CDTF">2017-12-25T08:45:10Z</dcterms:modified>
  <cp:revision>116</cp:revision>
  <dc:subject/>
  <dc:title>Слайд 1</dc:title>
</cp:coreProperties>
</file>