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0FC-BC21-4D00-925D-FDA236FD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462-ED42-40B2-B222-5B5907E5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366-C03A-425D-8A65-27D37D35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E9E-1225-4085-9AF0-B36FA4F6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97CA-1A4F-4BE5-BF81-873F8980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FE88-866C-47A0-BBC0-4995088F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1E2E-E8DF-41AD-8F7C-71E92461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016-CCFF-455B-ADA4-6B3CD81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95AC-F089-4775-9CDB-718552A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EA7-439F-4E93-8BFD-59DE7058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3ED-FE31-439E-8332-D06C1E6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789-5AA2-4C20-80F6-AEE4FE0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4194-FD4B-4162-B970-F2F5B581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E55D-91EE-44D6-BF4D-FF73377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BFA9-94F0-492E-88F5-E5A54794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D3B-A513-477E-8ECA-7B7607CC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C835-3C36-47B6-8232-62F16C7D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F984-F4EC-4435-8FEF-65BA06F9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ED5C-F300-4C5B-B5A9-F8115869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D16D-F51E-4A0F-8838-85946F09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A14D-3B66-4F48-AA55-E407C1DB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01F5-14B8-47BE-A8A7-A061C2F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CAA-08A5-4911-ADE3-EF4440BA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0AB4-F75F-4629-960A-8FE5E3F2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12C6-C772-47B8-A3DF-E1976DB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D415-9CB4-4205-8457-EA54B89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F948-423D-4712-AE9A-658634B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D14F-1AB6-4012-AD86-F26A0AE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15C2-FAE9-4F12-84F0-E9542523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08A4-5F39-4588-A3BA-980F6B22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831B-5F4F-4D72-BBF9-CBC934FB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E3B5-E880-4752-927F-E1F4588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0B06-5E1C-4AE9-8B91-3621512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796-1415-4CA5-B688-7E2C32A5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32AB-FA50-4CAB-BAE8-9324197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81E3-3300-4575-B426-DFD3FD1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13C0-28E6-460A-AE8D-8762FE64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CCF4-BF05-4782-981E-A4A688A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CF19-B69B-43FC-AA3F-EECBA929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5837-7580-4697-8286-EA1F628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0652-3CFD-408D-90F5-C4BAE2B7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9156-073A-426D-B4C6-8088C747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F021-5FDC-4D99-8925-514213B8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E913-3AA7-4F42-A47A-F6081844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C61-EE1D-4A82-BFF9-14DB401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F6CB-A667-4E8B-8366-50A2D5E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88D4-FC90-4748-86AD-956A9D68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EE24-E6FB-4B18-BB1F-C37328C6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63CF-D1CC-4BCE-A878-8198F595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883C-BC49-435C-843A-BEA11514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57BD-B3A1-4286-816E-4DF8DC5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B41D-E54A-467B-A325-8968558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CE54-8E21-4320-ACDB-2274CB3F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D660-461B-4318-9041-D9FFAAF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F080-8F5C-4B1C-96D3-9160A94B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49E-D19B-4F0D-B842-2A4B428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32F3-B6EE-4053-9884-CD54BABD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C17-79FE-4938-8AC7-06FF757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FA0-2194-4CFF-AE37-ACA6977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B07-6944-4F79-B300-2C0AF0A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E236-4534-48AF-8700-61EAAD8D0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B2FB-F6A4-4BC9-844F-D64821FA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E44E-6FE6-48F1-BC42-EBB1A2EC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5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5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5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122B-EB48-4AB6-88F9-FCEFA7AD0E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4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6802-CA6A-4125-81C2-1C324D7B9F5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258920" y="30686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Любовь к Родине начинается с любви к матери. А человек начинается с его отношения к матери. И всё лучшее, что в человеке, достаётся ему от мат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.Я.Яковл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Накорми ребёнк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013280" cy="30096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959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Мама из разведки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1451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2843280" y="1197000"/>
            <a:ext cx="35049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праздну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2268360" y="3500280"/>
            <a:ext cx="4610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разных странах мир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рм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388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матери отмечают 7 апреля. Согласно библейским писаниям, в этот день ангелы-хранители сообщают Божьей матери, что у нее через 9 месяцев родится ребенок. Отсюда этот день и есть Благовест. По православному календарю - это день Благовещения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24360" y="4005360"/>
            <a:ext cx="4895640" cy="25318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164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ликобр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764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нь Матер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Великобритан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охож на 8 Марта в России. Его корни уходят в викторианские времена, когда дети в довольно раннем возрасте работали вдали от дома, а деньги, заработанные ими, пересылались в семейный бюджет. Тогда один день в году детям разрешалось провести дома вместе с родителями. В Англии впервые провозгласил материнский день король Генрих III (1216 – 1239) в 3 воскресенье марта. Начиная с 1600 года, в Англии появилась традиция празднования Материнского воскресенья. В этот день, который приходился на четвертое воскресенье Поста, чествовали матере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5876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6734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ита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475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ита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то день памяти о матерях, когда воздается должное их труду и бескорыстной жертве ради блага своих детей. В День матери китайцы поздравляют своих матерей, преподносят им цветы и подар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814920" cy="223200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411280" y="3860640"/>
            <a:ext cx="3888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инлянд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492360" y="1267920"/>
            <a:ext cx="54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матери празднуют с 1918 года, а официально с 1927 года. Женщины получают подарки от своих детей, им преподносят цветы и открытки, сделанные своими руками, говорят слова благодарности. Заслуженным матерям, прежде всего матерям-героиням, президент вручает орден Белой розы. В этот день вывешивают флаги, дети готовят подарки для мам, а папы стараются в этот день на кухне, каждый в меру своих способностей и возможностей. Поздравляют также и бабушек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166920" cy="25113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166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6920" y="4221000"/>
            <a:ext cx="763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Япон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вою любовь к матери дети и взрослые выражают в стихах, которые сочиняют специально к этому дню. Вот одно из них: «Мама, ты вязала мне варежки. Вязала без устали долгими холодными вечерами. Прилетит ко мне весточка из родных краев, А в ней - запах домашнего очаг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27385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356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Ласковые руки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13:50:34Z</dcterms:created>
  <dc:creator>Windows_Seven</dc:creator>
  <dc:description/>
  <dc:language>en-US</dc:language>
  <cp:lastModifiedBy>Windows_Seven</cp:lastModifiedBy>
  <dcterms:modified xsi:type="dcterms:W3CDTF">2017-12-25T13:38:11Z</dcterms:modified>
  <cp:revision>3</cp:revision>
  <dc:subject/>
  <dc:title>Слайд 1</dc:title>
</cp:coreProperties>
</file>