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3F7-2B36-46ED-97A3-D8013D81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8D4-B5B0-4A7C-A06D-B2D3C398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934-3E69-47A9-805C-2B53E6DE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389-AC8D-4356-A44E-2045EB52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651-77F8-4D13-84D8-E5141F63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D1B-22CC-4193-B4C6-EF79CBBF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497-FC25-4C40-BF4F-BEDA3F6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C5B-1310-4B95-854B-62B36D72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DFF-3045-4CC6-AD15-DEBC947F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B37-6D0D-4CA0-8D31-9C845CD4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266-64F3-4A14-B334-87304395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FDA-39E8-48F4-8045-5E20F67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82CC-CFC7-4509-B4FD-3458382E7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26317lvschooll7.edusite.ru/p6aa1.html" TargetMode="External"/><Relationship Id="rId2" Type="http://schemas.openxmlformats.org/officeDocument/2006/relationships/hyperlink" Target="http://www.26317lvschooll7.edusite.ru/p6aa1.html" TargetMode="External"/><Relationship Id="rId3" Type="http://schemas.openxmlformats.org/officeDocument/2006/relationships/hyperlink" Target="http://kpoxa.ucoz.com/forum/43-776-1" TargetMode="External"/><Relationship Id="rId4" Type="http://schemas.openxmlformats.org/officeDocument/2006/relationships/hyperlink" Target="http://www.lenagold.ru/fon/clipart/g/grib2.html" TargetMode="External"/><Relationship Id="rId5" Type="http://schemas.openxmlformats.org/officeDocument/2006/relationships/hyperlink" Target="http://www.lenagold.ru/fon/clipart/k/kar3.html" TargetMode="External"/><Relationship Id="rId6" Type="http://schemas.openxmlformats.org/officeDocument/2006/relationships/hyperlink" Target="http://www.lenagold.ru/fon/clipart/k/kar3.html" TargetMode="External"/><Relationship Id="rId7" Type="http://schemas.openxmlformats.org/officeDocument/2006/relationships/hyperlink" Target="http://derzski.ru/?p=206" TargetMode="External"/><Relationship Id="rId8" Type="http://schemas.openxmlformats.org/officeDocument/2006/relationships/hyperlink" Target="http://derzski.ru/?p=206" TargetMode="External"/><Relationship Id="rId9" Type="http://schemas.openxmlformats.org/officeDocument/2006/relationships/hyperlink" Target="http://derzski.ru/?p=206" TargetMode="External"/><Relationship Id="rId10" Type="http://schemas.openxmlformats.org/officeDocument/2006/relationships/hyperlink" Target="http://gorodmam.ru/user/blog/post/432405/page/0" TargetMode="External"/><Relationship Id="rId11" Type="http://schemas.openxmlformats.org/officeDocument/2006/relationships/hyperlink" Target="http://apple4.blog.tut.by/2010/05/03/kotyataanimaciya/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Занимательная математика для детей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устный счёт + учимся писать циф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19280" y="4221000"/>
            <a:ext cx="3467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хлова Ирина Борис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«Гимназия №1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Новоалтайска Алтайского кра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8894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рисую кошкин дом: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окошка, дверь с крыльц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верху ещё окно, чтобы не было темно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считай окошки в домике у к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08000" y="1700280"/>
            <a:ext cx="2449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63528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2400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43280" y="2349360"/>
            <a:ext cx="50472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flipH="1" rot="13393200">
            <a:off x="2194560" y="836640"/>
            <a:ext cx="1887480" cy="183780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843280" y="3141720"/>
            <a:ext cx="504720" cy="9144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95640" cy="277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опия Копия Image3"/>
          <p:cNvPicPr/>
          <p:nvPr/>
        </p:nvPicPr>
        <p:blipFill>
          <a:blip r:embed="rId2"/>
          <a:stretch/>
        </p:blipFill>
        <p:spPr>
          <a:xfrm>
            <a:off x="539640" y="4121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125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1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3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цыплёнка стоят, на скорлупку глядя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яичка  в гнезде у наседки лежа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 поскорей: сколько будет цыплят у наседки мо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0000" y="3789360"/>
            <a:ext cx="3178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емь гусей пустились в пу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решили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их под обла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те, дети,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и"/>
          <p:cNvPicPr/>
          <p:nvPr/>
        </p:nvPicPr>
        <p:blipFill>
          <a:blip r:embed="rId4"/>
          <a:stretch/>
        </p:blipFill>
        <p:spPr>
          <a:xfrm>
            <a:off x="1763640" y="3500280"/>
            <a:ext cx="3092400" cy="30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332000" y="1700280"/>
            <a:ext cx="33573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2916360" y="1700280"/>
            <a:ext cx="30456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"/>
          <p:cNvSpPr/>
          <p:nvPr/>
        </p:nvSpPr>
        <p:spPr>
          <a:xfrm rot="6838800">
            <a:off x="3537000" y="1007280"/>
            <a:ext cx="988920" cy="1368360"/>
          </a:xfrm>
          <a:custGeom>
            <a:avLst/>
            <a:gdLst/>
            <a:ahLst/>
            <a:rect l="l" t="t" r="r" b="b"/>
            <a:pathLst>
              <a:path fill="none" w="21600" h="31221">
                <a:moveTo>
                  <a:pt x="6365" y="0"/>
                </a:moveTo>
                <a:cubicBezTo>
                  <a:pt x="15422" y="2793"/>
                  <a:pt x="21600" y="11163"/>
                  <a:pt x="21600" y="20641"/>
                </a:cubicBezTo>
                <a:cubicBezTo>
                  <a:pt x="21600" y="24346"/>
                  <a:pt x="20646" y="27990"/>
                  <a:pt x="18831" y="31220"/>
                </a:cubicBezTo>
              </a:path>
              <a:path stroke="0" w="21600" h="31221">
                <a:moveTo>
                  <a:pt x="6365" y="0"/>
                </a:moveTo>
                <a:cubicBezTo>
                  <a:pt x="15422" y="2793"/>
                  <a:pt x="21600" y="11163"/>
                  <a:pt x="21600" y="20641"/>
                </a:cubicBezTo>
                <a:cubicBezTo>
                  <a:pt x="21600" y="24346"/>
                  <a:pt x="20646" y="27990"/>
                  <a:pt x="18831" y="31220"/>
                </a:cubicBezTo>
                <a:lnTo>
                  <a:pt x="0" y="20641"/>
                </a:lnTo>
                <a:lnTo>
                  <a:pt x="6365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5"/>
          <p:cNvSpPr/>
          <p:nvPr/>
        </p:nvSpPr>
        <p:spPr>
          <a:xfrm rot="615600">
            <a:off x="2339640" y="3068640"/>
            <a:ext cx="2338200" cy="3340080"/>
          </a:xfrm>
          <a:custGeom>
            <a:avLst/>
            <a:gdLst/>
            <a:ahLst/>
            <a:rect l="l" t="t" r="r" b="b"/>
            <a:pathLst>
              <a:path fill="none" w="39056" h="43200">
                <a:moveTo>
                  <a:pt x="5272" y="3764"/>
                </a:moveTo>
                <a:cubicBezTo>
                  <a:pt x="8862" y="1311"/>
                  <a:pt x="13108" y="-1"/>
                  <a:pt x="17456" y="0"/>
                </a:cubicBezTo>
                <a:cubicBezTo>
                  <a:pt x="29385" y="0"/>
                  <a:pt x="39056" y="9670"/>
                  <a:pt x="39056" y="21600"/>
                </a:cubicBezTo>
                <a:cubicBezTo>
                  <a:pt x="39056" y="33529"/>
                  <a:pt x="29385" y="43200"/>
                  <a:pt x="17456" y="43200"/>
                </a:cubicBezTo>
                <a:cubicBezTo>
                  <a:pt x="10552" y="43200"/>
                  <a:pt x="4065" y="39900"/>
                  <a:pt x="-1" y="34321"/>
                </a:cubicBezTo>
              </a:path>
              <a:path stroke="0" w="39056" h="43200">
                <a:moveTo>
                  <a:pt x="5272" y="3764"/>
                </a:moveTo>
                <a:cubicBezTo>
                  <a:pt x="8862" y="1311"/>
                  <a:pt x="13108" y="-1"/>
                  <a:pt x="17456" y="0"/>
                </a:cubicBezTo>
                <a:cubicBezTo>
                  <a:pt x="29385" y="0"/>
                  <a:pt x="39056" y="9670"/>
                  <a:pt x="39056" y="21600"/>
                </a:cubicBezTo>
                <a:cubicBezTo>
                  <a:pt x="39056" y="33529"/>
                  <a:pt x="29385" y="43200"/>
                  <a:pt x="17456" y="43200"/>
                </a:cubicBezTo>
                <a:cubicBezTo>
                  <a:pt x="10552" y="43200"/>
                  <a:pt x="4065" y="39900"/>
                  <a:pt x="-1" y="34321"/>
                </a:cubicBezTo>
                <a:lnTo>
                  <a:pt x="17456" y="21600"/>
                </a:lnTo>
                <a:lnTo>
                  <a:pt x="5272" y="3764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132000" y="162864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 rot="7451400">
            <a:off x="2282760" y="389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8120" y="115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932360" y="162864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– фокусник – пят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 за ней следите зор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увыркнётся – раз и два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бернётся цифрой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5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5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6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6360" y="11556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нашёл в дупле у белки пять лесных орешков мелких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т ещё один лежит, мхом заботливо укры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у и белка! Вот хозяйка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се орешки посчит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4076280"/>
            <a:ext cx="3538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ружно муравьи живут и без дела не    снуют. Два несут травинку, 2 несут былинку, два несут иголки.                      Сколько муравьев под ел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976560" cy="31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rcRect l="0" t="0" r="42" b="0"/>
          <a:stretch/>
        </p:blipFill>
        <p:spPr>
          <a:xfrm>
            <a:off x="5076720" y="3645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692360" y="1143000"/>
            <a:ext cx="371772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3"/>
          <p:cNvSpPr/>
          <p:nvPr/>
        </p:nvSpPr>
        <p:spPr>
          <a:xfrm flipV="1" rot="16801200">
            <a:off x="1865520" y="3004920"/>
            <a:ext cx="3051000" cy="25228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6572" y="-22917"/>
                </a:moveTo>
                <a:cubicBezTo>
                  <a:pt x="24943" y="-22531"/>
                  <a:pt x="2327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1151"/>
                  <a:pt x="-28610" y="-25967"/>
                  <a:pt x="27773" y="-23237"/>
                </a:cubicBezTo>
              </a:path>
              <a:path stroke="0" w="43200" h="43200">
                <a:moveTo>
                  <a:pt x="26572" y="-22917"/>
                </a:moveTo>
                <a:cubicBezTo>
                  <a:pt x="24943" y="-22531"/>
                  <a:pt x="2327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1151"/>
                  <a:pt x="-28610" y="-25967"/>
                  <a:pt x="27773" y="-23237"/>
                </a:cubicBezTo>
                <a:lnTo>
                  <a:pt x="21600" y="21600"/>
                </a:lnTo>
                <a:lnTo>
                  <a:pt x="26572" y="-22917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4"/>
          <p:cNvSpPr/>
          <p:nvPr/>
        </p:nvSpPr>
        <p:spPr>
          <a:xfrm flipH="1" rot="1275000">
            <a:off x="2677320" y="1068480"/>
            <a:ext cx="2403720" cy="3174840"/>
          </a:xfrm>
          <a:custGeom>
            <a:avLst/>
            <a:gdLst/>
            <a:ahLst/>
            <a:rect l="l" t="t" r="r" b="b"/>
            <a:pathLst>
              <a:path fill="none" w="35921" h="28780">
                <a:moveTo>
                  <a:pt x="-1" y="5429"/>
                </a:moveTo>
                <a:cubicBezTo>
                  <a:pt x="3950" y="1931"/>
                  <a:pt x="9044" y="-1"/>
                  <a:pt x="14321" y="0"/>
                </a:cubicBezTo>
                <a:cubicBezTo>
                  <a:pt x="26250" y="0"/>
                  <a:pt x="35921" y="9670"/>
                  <a:pt x="35921" y="21600"/>
                </a:cubicBezTo>
                <a:cubicBezTo>
                  <a:pt x="35921" y="24045"/>
                  <a:pt x="35505" y="26473"/>
                  <a:pt x="34692" y="28779"/>
                </a:cubicBezTo>
              </a:path>
              <a:path stroke="0" w="35921" h="28780">
                <a:moveTo>
                  <a:pt x="-1" y="5429"/>
                </a:moveTo>
                <a:cubicBezTo>
                  <a:pt x="3950" y="1931"/>
                  <a:pt x="9044" y="-1"/>
                  <a:pt x="14321" y="0"/>
                </a:cubicBezTo>
                <a:cubicBezTo>
                  <a:pt x="26250" y="0"/>
                  <a:pt x="35921" y="9670"/>
                  <a:pt x="35921" y="21600"/>
                </a:cubicBezTo>
                <a:cubicBezTo>
                  <a:pt x="35921" y="24045"/>
                  <a:pt x="35505" y="26473"/>
                  <a:pt x="34692" y="28779"/>
                </a:cubicBezTo>
                <a:lnTo>
                  <a:pt x="14321" y="21600"/>
                </a:lnTo>
                <a:lnTo>
                  <a:pt x="-1" y="5429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724360" y="119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7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 небе радуга-дуга замыкает берег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асцветая всё ясней, чудо-краски светят в ней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сть ответит тот, кто знает или сможет сосчитать, сколько красок в ней играет, озаряя моря глад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35280" y="1143000"/>
            <a:ext cx="35748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819520" y="1143000"/>
            <a:ext cx="2666880" cy="304920"/>
          </a:xfrm>
          <a:custGeom>
            <a:avLst/>
            <a:gdLst/>
            <a:ahLst/>
            <a:rect l="l" t="t" r="r" b="b"/>
            <a:pathLst>
              <a:path w="1728" h="264">
                <a:moveTo>
                  <a:pt x="0" y="264"/>
                </a:moveTo>
                <a:cubicBezTo>
                  <a:pt x="40" y="212"/>
                  <a:pt x="80" y="160"/>
                  <a:pt x="144" y="120"/>
                </a:cubicBezTo>
                <a:cubicBezTo>
                  <a:pt x="208" y="80"/>
                  <a:pt x="304" y="32"/>
                  <a:pt x="384" y="24"/>
                </a:cubicBezTo>
                <a:cubicBezTo>
                  <a:pt x="464" y="16"/>
                  <a:pt x="536" y="40"/>
                  <a:pt x="624" y="72"/>
                </a:cubicBezTo>
                <a:cubicBezTo>
                  <a:pt x="712" y="104"/>
                  <a:pt x="832" y="184"/>
                  <a:pt x="912" y="216"/>
                </a:cubicBezTo>
                <a:cubicBezTo>
                  <a:pt x="992" y="248"/>
                  <a:pt x="1040" y="264"/>
                  <a:pt x="1104" y="264"/>
                </a:cubicBezTo>
                <a:cubicBezTo>
                  <a:pt x="1168" y="264"/>
                  <a:pt x="1200" y="256"/>
                  <a:pt x="1296" y="216"/>
                </a:cubicBezTo>
                <a:cubicBezTo>
                  <a:pt x="1392" y="176"/>
                  <a:pt x="1632" y="48"/>
                  <a:pt x="1680" y="24"/>
                </a:cubicBezTo>
                <a:cubicBezTo>
                  <a:pt x="1728" y="0"/>
                  <a:pt x="1592" y="64"/>
                  <a:pt x="1584" y="72"/>
                </a:cubicBezTo>
                <a:cubicBezTo>
                  <a:pt x="1576" y="80"/>
                  <a:pt x="1624" y="72"/>
                  <a:pt x="1632" y="7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580000" y="1125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семёрка – коч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184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18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одним большим столом сели рядом с гномом гн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Белоснежка с ними вместе стол накрыла честь по чест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неё во всём порядок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колько ложек над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4248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340000" y="1066680"/>
            <a:ext cx="30700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3"/>
          <p:cNvSpPr/>
          <p:nvPr/>
        </p:nvSpPr>
        <p:spPr>
          <a:xfrm flipH="1" flipV="1" rot="1133400">
            <a:off x="3757680" y="1068120"/>
            <a:ext cx="1600200" cy="21351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5163" y="296"/>
                </a:moveTo>
                <a:cubicBezTo>
                  <a:pt x="35573" y="2037"/>
                  <a:pt x="43200" y="11046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80" y="-1"/>
                  <a:pt x="22160" y="5"/>
                  <a:pt x="22440" y="16"/>
                </a:cubicBezTo>
              </a:path>
              <a:path stroke="0" w="43200" h="43200">
                <a:moveTo>
                  <a:pt x="25163" y="296"/>
                </a:moveTo>
                <a:cubicBezTo>
                  <a:pt x="35573" y="2037"/>
                  <a:pt x="43200" y="11046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80" y="-1"/>
                  <a:pt x="22160" y="5"/>
                  <a:pt x="22440" y="16"/>
                </a:cubicBezTo>
                <a:lnTo>
                  <a:pt x="21600" y="21600"/>
                </a:lnTo>
                <a:lnTo>
                  <a:pt x="25163" y="296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5"/>
          <p:cNvSpPr/>
          <p:nvPr/>
        </p:nvSpPr>
        <p:spPr>
          <a:xfrm flipH="1" rot="1208400">
            <a:off x="2774160" y="3099960"/>
            <a:ext cx="2133720" cy="2664000"/>
          </a:xfrm>
          <a:custGeom>
            <a:avLst/>
            <a:gdLst/>
            <a:ahLst/>
            <a:rect l="l" t="t" r="r" b="b"/>
            <a:pathLst>
              <a:path fill="none" w="43200" h="43093">
                <a:moveTo>
                  <a:pt x="25395" y="229"/>
                </a:moveTo>
                <a:cubicBezTo>
                  <a:pt x="35698" y="2068"/>
                  <a:pt x="43200" y="11027"/>
                  <a:pt x="43200" y="21493"/>
                </a:cubicBezTo>
                <a:cubicBezTo>
                  <a:pt x="43200" y="33422"/>
                  <a:pt x="33529" y="43093"/>
                  <a:pt x="21600" y="43093"/>
                </a:cubicBezTo>
                <a:cubicBezTo>
                  <a:pt x="9670" y="43093"/>
                  <a:pt x="0" y="33422"/>
                  <a:pt x="0" y="21493"/>
                </a:cubicBezTo>
                <a:cubicBezTo>
                  <a:pt x="-1" y="10395"/>
                  <a:pt x="8409" y="1103"/>
                  <a:pt x="19452" y="0"/>
                </a:cubicBezTo>
              </a:path>
              <a:path stroke="0" w="43200" h="43093">
                <a:moveTo>
                  <a:pt x="25395" y="229"/>
                </a:moveTo>
                <a:cubicBezTo>
                  <a:pt x="35698" y="2068"/>
                  <a:pt x="43200" y="11027"/>
                  <a:pt x="43200" y="21493"/>
                </a:cubicBezTo>
                <a:cubicBezTo>
                  <a:pt x="43200" y="33422"/>
                  <a:pt x="33529" y="43093"/>
                  <a:pt x="21600" y="43093"/>
                </a:cubicBezTo>
                <a:cubicBezTo>
                  <a:pt x="9670" y="43093"/>
                  <a:pt x="0" y="33422"/>
                  <a:pt x="0" y="21493"/>
                </a:cubicBezTo>
                <a:cubicBezTo>
                  <a:pt x="-1" y="10395"/>
                  <a:pt x="8409" y="1103"/>
                  <a:pt x="19452" y="0"/>
                </a:cubicBezTo>
                <a:lnTo>
                  <a:pt x="21600" y="21493"/>
                </a:lnTo>
                <a:lnTo>
                  <a:pt x="25395" y="229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3498840" y="26028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724360" y="1052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восьмёрки два кольца без начала и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93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 дороге мальчик и девочка  шли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Оба по два рубля наш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ними ещё трое иду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они денег найд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843360"/>
            <a:ext cx="4114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езло опять Егор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реки сидит не з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карасика в ведё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И четыре песк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о смотрите – у ведё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явился хитрый к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рыб домой Ег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уху нам принесё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331956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309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то подарил нам сосновый бор?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емь маслят и один мухомор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всего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19280" y="350028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дят рыбаки, стерегут попл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Корней поймал трёх оку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Евсей – четырёх кара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А рыбак Михаил двух сомов изло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колько рыб рыбаки поймали из р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3601800" cy="253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618920" cy="15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763640" y="3048120"/>
            <a:ext cx="325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28800" y="1143000"/>
            <a:ext cx="3581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3"/>
          <p:cNvSpPr/>
          <p:nvPr/>
        </p:nvSpPr>
        <p:spPr>
          <a:xfrm flipV="1" rot="6330600">
            <a:off x="2797560" y="1665360"/>
            <a:ext cx="3010320" cy="20559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6572" y="-22917"/>
                </a:moveTo>
                <a:cubicBezTo>
                  <a:pt x="24943" y="-22531"/>
                  <a:pt x="2327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1151"/>
                  <a:pt x="-28610" y="-25967"/>
                  <a:pt x="27773" y="-23237"/>
                </a:cubicBezTo>
              </a:path>
              <a:path stroke="0" w="43200" h="43200">
                <a:moveTo>
                  <a:pt x="26572" y="-22917"/>
                </a:moveTo>
                <a:cubicBezTo>
                  <a:pt x="24943" y="-22531"/>
                  <a:pt x="2327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1151"/>
                  <a:pt x="-28610" y="-25967"/>
                  <a:pt x="27773" y="-23237"/>
                </a:cubicBezTo>
                <a:lnTo>
                  <a:pt x="21600" y="21600"/>
                </a:lnTo>
                <a:lnTo>
                  <a:pt x="26572" y="-22917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5"/>
          <p:cNvSpPr/>
          <p:nvPr/>
        </p:nvSpPr>
        <p:spPr>
          <a:xfrm rot="6861000">
            <a:off x="2546280" y="4464000"/>
            <a:ext cx="1460520" cy="1371600"/>
          </a:xfrm>
          <a:custGeom>
            <a:avLst/>
            <a:gdLst/>
            <a:ahLst/>
            <a:rect l="l" t="t" r="r" b="b"/>
            <a:pathLst>
              <a:path fill="none" w="21600" h="37075">
                <a:moveTo>
                  <a:pt x="3948" y="-1"/>
                </a:moveTo>
                <a:cubicBezTo>
                  <a:pt x="14179" y="1902"/>
                  <a:pt x="21600" y="10829"/>
                  <a:pt x="21600" y="21236"/>
                </a:cubicBezTo>
                <a:cubicBezTo>
                  <a:pt x="21600" y="27247"/>
                  <a:pt x="19094" y="32987"/>
                  <a:pt x="14686" y="37074"/>
                </a:cubicBezTo>
              </a:path>
              <a:path stroke="0" w="21600" h="37075">
                <a:moveTo>
                  <a:pt x="3948" y="-1"/>
                </a:moveTo>
                <a:cubicBezTo>
                  <a:pt x="14179" y="1902"/>
                  <a:pt x="21600" y="10829"/>
                  <a:pt x="21600" y="21236"/>
                </a:cubicBezTo>
                <a:cubicBezTo>
                  <a:pt x="21600" y="27247"/>
                  <a:pt x="19094" y="32987"/>
                  <a:pt x="14686" y="37074"/>
                </a:cubicBezTo>
                <a:lnTo>
                  <a:pt x="0" y="21236"/>
                </a:lnTo>
                <a:lnTo>
                  <a:pt x="3948" y="-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138480" y="28116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580000" y="1052640"/>
            <a:ext cx="32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ка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е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Перевёрнутая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22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Александровой З.В., учителя  физики и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20080" y="4046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26317lvschooll7.edusite.ru/p6aa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12160" y="129528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poxa.ucoz.com/forum/43-776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 с ябл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26920" y="1700280"/>
            <a:ext cx="70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fon/clipart/g/grib2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22240" y="1484280"/>
            <a:ext cx="49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enagold.ru/fon/clipart/k/kar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8000" y="19162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rzsk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?p=20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13240" y="2157480"/>
            <a:ext cx="49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orodmam.ru/user/blog/post/432405/page/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ету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06400" y="2421000"/>
            <a:ext cx="51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pple4.blog.tut.by/2010/05/03/kotyataanimaciya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37000"/>
            <a:ext cx="79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3%20%D1%86%D1%8B%D0%BF%D0%BB%D1%91%D0%BD%D0%BA%D0%B0&amp;img_url=s56.radikal.ru%2Fi154%2F0904%2F0b%2F797649ce0634.jpg&amp;spsite=fake-004-7856796.ru&amp;p=29 - цып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826920" y="35002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azumniki.ru/showthread.php?p=15375 - гу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10720" y="37670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hildrensbook.narod.ru/photoalbum.html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0720" y="3933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vadra.su/2010/02/04/saga-o-muravy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03160" y="4221000"/>
            <a:ext cx="54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.free-lance.ru/projects/upload/f_4af066f812fb2.jpg -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826920" y="448776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evochkiclab.my1.ru/ - Белоснежка и семь гн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6920" y="477504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reenmama.ua/nid/270092/ -мас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6920" y="50133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c-mir.com/topic1924604_350.html - мухо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808200" y="5229360"/>
            <a:ext cx="55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sunhome.ru/UsersGallery/Cards/183/3114313.jpg - рыб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826920" y="5516640"/>
            <a:ext cx="792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№ 3,5,7,9,11,13,15,17,19,21 частично мной использованы из презентации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Шевцовой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йта -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viki.rdf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826920" y="692280"/>
            <a:ext cx="59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lgaishkolatrhree.okis.ru/roditilyam.html - мальчик и дев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900000" y="5950080"/>
            <a:ext cx="726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.tut.by/search_result.php?query=%E6%E8%E2%EE%F2%ED%FB%E9&amp;page=1 – кот на рыба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826920" y="6381720"/>
            <a:ext cx="832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orum.fotowedding.ru/viewtopic.php?p=170659&amp;sid=101dbf2b6e66589a60f9f4a9ce010a1f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805680" y="110340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materinstvo.ru/index.php?showtopic=83152&amp;st=300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057400" y="1143000"/>
            <a:ext cx="33526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7451400">
            <a:off x="4083120" y="82080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651640" y="1125360"/>
            <a:ext cx="29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вроде буквы 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ноль иль нич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71484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29 C 0.04514 -0.00556 0.04097 -0.02614 0.03316 -0.05205 C 0.02535 -0.07796 0.01389 -0.1159 0.00069 -0.13278 C -0.0125 -0.14967 -0.02622 -0.15406 -0.04566 -0.15337 C -0.0651 -0.15268 -0.0934 -0.14897 -0.11615 -0.12908 C -0.13889 -0.10919 -0.16146 -0.08559 -0.18229 -0.03331 C -0.20313 0.01896 -0.23177 0.1189 -0.24149 0.18436 C -0.25122 0.24982 -0.24601 0.30788 -0.2401 0.35877 C -0.2342 0.40967 -0.22083 0.46241 -0.20625 0.49017 C -0.19167 0.51769 -0.17222 0.52671 -0.15278 0.52556 C -0.13333 0.52463 -0.11424 0.51214 -0.08941 0.48276 C -0.06458 0.45339 -0.02431 0.39394 -0.00347 0.34952 C 0.01736 0.30511 0.02778 0.25468 0.03594 0.21628 C 0.0441 0.17788 0.04444 0.15059 0.04583 0.11866 C 0.04722 0.08674 0.04931 0.05135 0.04722 0.0229 Z">
                                      <p:cBhvr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2483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домика утром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зайца сидели и дружно весёлую песенку пе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дин убежал, а второй вслед гляди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у домика зайцев си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45268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52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1143000"/>
            <a:ext cx="38862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5796000" y="1125360"/>
            <a:ext cx="30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один , иль еди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чень тонкая, как сп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2612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5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5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76360" y="458136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Гри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М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же карандашей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оих малыш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381400" cy="2600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3889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ри яблока из сада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Ёжик притащ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амое румяное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елке подар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 радостью подарок получила белка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осчитайте яблоки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У ежа в тарел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09840" cy="37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2209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403280" y="1197000"/>
            <a:ext cx="4033800" cy="486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3"/>
          <p:cNvSpPr/>
          <p:nvPr/>
        </p:nvSpPr>
        <p:spPr>
          <a:xfrm rot="901200">
            <a:off x="3203280" y="1267920"/>
            <a:ext cx="2324160" cy="1433520"/>
          </a:xfrm>
          <a:custGeom>
            <a:avLst/>
            <a:gdLst/>
            <a:ahLst/>
            <a:rect l="l" t="t" r="r" b="b"/>
            <a:pathLst>
              <a:path fill="none" w="43055" h="27179">
                <a:moveTo>
                  <a:pt x="-1" y="19103"/>
                </a:moveTo>
                <a:cubicBezTo>
                  <a:pt x="1266" y="8213"/>
                  <a:pt x="10491" y="-1"/>
                  <a:pt x="21455" y="0"/>
                </a:cubicBezTo>
                <a:cubicBezTo>
                  <a:pt x="33384" y="0"/>
                  <a:pt x="43055" y="9670"/>
                  <a:pt x="43055" y="21600"/>
                </a:cubicBezTo>
                <a:cubicBezTo>
                  <a:pt x="43055" y="23483"/>
                  <a:pt x="42808" y="25359"/>
                  <a:pt x="42322" y="27179"/>
                </a:cubicBezTo>
              </a:path>
              <a:path stroke="0" w="43055" h="27179">
                <a:moveTo>
                  <a:pt x="-1" y="19103"/>
                </a:moveTo>
                <a:cubicBezTo>
                  <a:pt x="1266" y="8213"/>
                  <a:pt x="10491" y="-1"/>
                  <a:pt x="21455" y="0"/>
                </a:cubicBezTo>
                <a:cubicBezTo>
                  <a:pt x="33384" y="0"/>
                  <a:pt x="43055" y="9670"/>
                  <a:pt x="43055" y="21600"/>
                </a:cubicBezTo>
                <a:cubicBezTo>
                  <a:pt x="43055" y="23483"/>
                  <a:pt x="42808" y="25359"/>
                  <a:pt x="42322" y="27179"/>
                </a:cubicBezTo>
                <a:lnTo>
                  <a:pt x="21455" y="21600"/>
                </a:lnTo>
                <a:lnTo>
                  <a:pt x="-1" y="1910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743200" y="5562720"/>
            <a:ext cx="2666880" cy="46980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240"/>
                </a:moveTo>
                <a:cubicBezTo>
                  <a:pt x="256" y="144"/>
                  <a:pt x="512" y="48"/>
                  <a:pt x="720" y="48"/>
                </a:cubicBezTo>
                <a:cubicBezTo>
                  <a:pt x="928" y="48"/>
                  <a:pt x="1088" y="248"/>
                  <a:pt x="1248" y="240"/>
                </a:cubicBezTo>
                <a:cubicBezTo>
                  <a:pt x="1408" y="232"/>
                  <a:pt x="1608" y="40"/>
                  <a:pt x="16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Oval 10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835280" y="333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867280" y="1125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ва похожа на гус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 длинной ше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Шеей то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81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3500280"/>
            <a:ext cx="360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летень взлетел пет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стречал ещё там дв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стало петух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кого ответ го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355640" y="333000"/>
            <a:ext cx="41864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олянку у дубка ёж увидел два грибк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А подальше, у осин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н нашёл ещё один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то ответить нам готов, Сколько ёж нашёл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664000" cy="24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3"/>
          <p:cNvSpPr/>
          <p:nvPr/>
        </p:nvSpPr>
        <p:spPr>
          <a:xfrm flipH="1" rot="876600">
            <a:off x="3202560" y="1773000"/>
            <a:ext cx="2055600" cy="2092320"/>
          </a:xfrm>
          <a:custGeom>
            <a:avLst/>
            <a:gdLst/>
            <a:ahLst/>
            <a:rect l="l" t="t" r="r" b="b"/>
            <a:pathLst>
              <a:path fill="none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</a:path>
              <a:path stroke="0" w="42175" h="43116">
                <a:moveTo>
                  <a:pt x="19695" y="43115"/>
                </a:moveTo>
                <a:cubicBezTo>
                  <a:pt x="8547" y="42128"/>
                  <a:pt x="0" y="3279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996" y="-1"/>
                  <a:pt x="39314" y="6074"/>
                  <a:pt x="42174" y="15025"/>
                </a:cubicBezTo>
                <a:lnTo>
                  <a:pt x="21600" y="21600"/>
                </a:lnTo>
                <a:lnTo>
                  <a:pt x="19695" y="43115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"/>
          <p:cNvSpPr/>
          <p:nvPr/>
        </p:nvSpPr>
        <p:spPr>
          <a:xfrm>
            <a:off x="2843280" y="3860640"/>
            <a:ext cx="2438280" cy="2590920"/>
          </a:xfrm>
          <a:custGeom>
            <a:avLst/>
            <a:gdLst/>
            <a:ahLst/>
            <a:rect l="l" t="t" r="r" b="b"/>
            <a:pathLst>
              <a:path fill="none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</a:path>
              <a:path stroke="0" w="41211" h="43200">
                <a:moveTo>
                  <a:pt x="19612" y="0"/>
                </a:moveTo>
                <a:cubicBezTo>
                  <a:pt x="31541" y="1"/>
                  <a:pt x="41211" y="9671"/>
                  <a:pt x="41211" y="21600"/>
                </a:cubicBezTo>
                <a:cubicBezTo>
                  <a:pt x="41211" y="33529"/>
                  <a:pt x="31540" y="43200"/>
                  <a:pt x="19611" y="43200"/>
                </a:cubicBezTo>
                <a:cubicBezTo>
                  <a:pt x="11186" y="43200"/>
                  <a:pt x="3530" y="38301"/>
                  <a:pt x="-1" y="30653"/>
                </a:cubicBezTo>
                <a:lnTo>
                  <a:pt x="19611" y="21600"/>
                </a:lnTo>
                <a:lnTo>
                  <a:pt x="19612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4000" y="2602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0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55:37Z</dcterms:created>
  <dc:creator>User</dc:creator>
  <dc:description/>
  <dc:language>en-US</dc:language>
  <cp:lastModifiedBy>usr</cp:lastModifiedBy>
  <dcterms:modified xsi:type="dcterms:W3CDTF">2017-11-20T17:21:44Z</dcterms:modified>
  <cp:revision>9</cp:revision>
  <dc:subject/>
  <dc:title>Занимательная математика для детей (устный счёт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70000000000010243100207f6000400038000</vt:lpwstr>
  </property>
</Properties>
</file>