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AF506-09F5-4641-8FF8-388308C7B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1D635-A6C0-4359-89A4-3C4A23FFA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5399E-F1AC-4614-A0E4-1A693E746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94953-24D9-49E7-A460-14B505922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E5758-A457-4981-BE6C-24CECE7E7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4258B-52D1-4E39-BA00-3A7324C4D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67437-0438-4429-8C63-DAF50CFB0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91B68-951E-4978-B2FA-9595F4D22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400B5-D824-4FA3-B5BA-02234A070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408E3-2405-4E35-9A5B-1EEED2004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AA1ED-8C53-4406-A547-83F4CA631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610E9-8CF8-451E-A01D-716F829F1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86350-DD1C-4F88-86EF-6B9F787F0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AF975-5A81-4910-8D7E-E1C781397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45E22-6888-4C1A-B30B-6752A26C0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9B8C6-45E7-4DFC-B524-D99B9D8DE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D3504-4B43-4AD6-B33A-B7A5A42DF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7004903-AD51-4F83-879B-353FE1C94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B125448-42B9-4B9E-BA02-1CF2F0C85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4F2F258-C648-4D08-BC63-929649943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AC1BBDF-9EFA-4D98-84F2-84898901A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46A044-87DF-4523-8122-9260B84E9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7924B-3D78-4505-ABBC-0FC50D921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9149B7B-C2DF-4AEA-9309-F5320936E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32D1F1-9C47-4662-9505-9C9B1B9FA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3331D62-042E-454F-BE7F-3268025CF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1B61A8-27C8-4298-B439-FB1B81E5F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7BBA1D8-9616-473D-B2E0-97A1B5F92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312E144-72EE-4D45-ACC9-033F52342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232CAF-099F-4628-B717-212B7073D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E6167E-3813-426E-8FC1-84B690229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F4F293-8752-4C01-80CE-E9CCEED74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1032BC-1619-49F8-B67A-5DFE61345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65D23-D046-4CC8-98DC-98A7DCC45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5ADAEF-5E64-4289-ABA5-FC4F99D87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FC3049-C7AB-44FE-9422-C3AA0ECBE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A9D167-E4DF-4DB0-B1FC-425C1E3F3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26EC8C-33D4-4AA8-9933-B949A8B18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91A59D-4EEE-41B3-B6D8-25A2A766F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88D43D-9682-471F-A7A0-743F21D92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AED0D2-9109-4DA9-A04B-15F08F504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CFAFF3-795D-4A3D-9C47-45762E30D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A14542-7EF6-46D7-90B6-1CD398740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F32D7-641D-4428-8FB6-3172EF9B4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9B197-BF27-47D4-8C85-3C3D0FF80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F4CA1-3054-4CE0-A8FA-56FC2D9C7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4583A-1011-4C4D-B87F-C71B36803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A0824-F2BB-42C0-9520-87516FD6D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B2FED-9C13-462F-8FA7-6111CBBD22BC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Прямоугольник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Прямоугольник 23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Прямоугольник 24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Прямоугольник 25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" name="Скругленный прямоугольник 26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Скругленный прямоугольник 40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Прямоугольник 41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" name="Прямоугольник 42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" name="Прямоугольник 43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Прямоугольник 44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76B6B-B3F0-4E89-B332-3A4D33C0E2DF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2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6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7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B14C7-10B4-4D02-96FA-BA3A699BA8C3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2C8FD-DE4A-4A5B-92A3-19D8B432234D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4015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rebuchet MS"/>
              </a:rPr>
              <a:t>Энергия</a:t>
            </a: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457200" y="3900600"/>
            <a:ext cx="4952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33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24456"/>
                </a:solidFill>
                <a:latin typeface="Georgia"/>
              </a:rPr>
              <a:t>10 класс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24456"/>
                </a:solidFill>
                <a:latin typeface="Georgia"/>
              </a:rPr>
              <a:t>Учитель Кечкина Н.И.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24456"/>
                </a:solidFill>
                <a:latin typeface="Georgia"/>
              </a:rPr>
              <a:t>МБОУ «Средняя школа № 12»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24456"/>
                </a:solidFill>
                <a:latin typeface="Georgia"/>
              </a:rPr>
              <a:t>г. Дзержинск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10" descr="http://www.heuristic.su/uploads/image/converter/1213/1.gif"/>
          <p:cNvPicPr/>
          <p:nvPr/>
        </p:nvPicPr>
        <p:blipFill>
          <a:blip r:embed="rId1"/>
          <a:stretch/>
        </p:blipFill>
        <p:spPr>
          <a:xfrm>
            <a:off x="5072040" y="1428840"/>
            <a:ext cx="1000080" cy="150012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8" descr=""/>
          <p:cNvPicPr/>
          <p:nvPr/>
        </p:nvPicPr>
        <p:blipFill>
          <a:blip r:embed="rId2"/>
          <a:stretch/>
        </p:blipFill>
        <p:spPr>
          <a:xfrm>
            <a:off x="1785960" y="2357280"/>
            <a:ext cx="2255760" cy="1081080"/>
          </a:xfrm>
          <a:prstGeom prst="rect">
            <a:avLst/>
          </a:prstGeom>
          <a:ln w="0">
            <a:noFill/>
          </a:ln>
        </p:spPr>
      </p:pic>
      <p:sp>
        <p:nvSpPr>
          <p:cNvPr id="218" name="TextBox 3"/>
          <p:cNvSpPr/>
          <p:nvPr/>
        </p:nvSpPr>
        <p:spPr>
          <a:xfrm>
            <a:off x="56880" y="428760"/>
            <a:ext cx="3958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Энергия характеризует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способность тела (или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системы тел) совершать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работу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Стрелка вниз 5"/>
          <p:cNvSpPr/>
          <p:nvPr/>
        </p:nvSpPr>
        <p:spPr>
          <a:xfrm>
            <a:off x="1643040" y="1643040"/>
            <a:ext cx="214200" cy="285840"/>
          </a:xfrm>
          <a:prstGeom prst="downArrow">
            <a:avLst>
              <a:gd name="adj1" fmla="val 50000"/>
              <a:gd name="adj2" fmla="val 50042"/>
            </a:avLst>
          </a:prstGeom>
          <a:solidFill>
            <a:srgbClr val="53548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Стрелка вправо 7"/>
          <p:cNvSpPr/>
          <p:nvPr/>
        </p:nvSpPr>
        <p:spPr>
          <a:xfrm>
            <a:off x="3929040" y="1000080"/>
            <a:ext cx="1079640" cy="250920"/>
          </a:xfrm>
          <a:prstGeom prst="rightArrow">
            <a:avLst>
              <a:gd name="adj1" fmla="val 50000"/>
              <a:gd name="adj2" fmla="val 49979"/>
            </a:avLst>
          </a:prstGeom>
          <a:solidFill>
            <a:srgbClr val="53548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TextBox 8"/>
          <p:cNvSpPr/>
          <p:nvPr/>
        </p:nvSpPr>
        <p:spPr>
          <a:xfrm>
            <a:off x="228960" y="2000160"/>
            <a:ext cx="3699720" cy="4597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Кинетическая энергия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2" name="TextBox 9"/>
          <p:cNvSpPr/>
          <p:nvPr/>
        </p:nvSpPr>
        <p:spPr>
          <a:xfrm>
            <a:off x="4937400" y="928800"/>
            <a:ext cx="3952800" cy="4597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Потенциальная энергия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Object 3"/>
              <p:cNvSpPr txBox="1"/>
              <p:nvPr/>
            </p:nvSpPr>
            <p:spPr>
              <a:xfrm>
                <a:off x="285840" y="2500200"/>
                <a:ext cx="1347840" cy="85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25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6" name="Object 5"/>
              <p:cNvSpPr txBox="1"/>
              <p:nvPr/>
            </p:nvSpPr>
            <p:spPr>
              <a:xfrm>
                <a:off x="6500880" y="1643040"/>
                <a:ext cx="173664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п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gh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7" name="TextBox 15"/>
          <p:cNvSpPr/>
          <p:nvPr/>
        </p:nvSpPr>
        <p:spPr>
          <a:xfrm>
            <a:off x="357120" y="3429000"/>
            <a:ext cx="3905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Энергия, которую имеет тело,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движущееся со скоростью 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v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28" name="Picture 12" descr="http://konspekta.net/megalektsiiru/baza2/1479252758811.files/image120.jpg"/>
          <p:cNvPicPr/>
          <p:nvPr/>
        </p:nvPicPr>
        <p:blipFill>
          <a:blip r:embed="rId3"/>
          <a:stretch/>
        </p:blipFill>
        <p:spPr>
          <a:xfrm>
            <a:off x="7643880" y="2214720"/>
            <a:ext cx="1166760" cy="1825560"/>
          </a:xfrm>
          <a:prstGeom prst="rect">
            <a:avLst/>
          </a:prstGeom>
          <a:ln w="0">
            <a:noFill/>
          </a:ln>
        </p:spPr>
      </p:pic>
      <p:sp>
        <p:nvSpPr>
          <p:cNvPr id="229" name="TextBox 19"/>
          <p:cNvSpPr/>
          <p:nvPr/>
        </p:nvSpPr>
        <p:spPr>
          <a:xfrm>
            <a:off x="142920" y="5083200"/>
            <a:ext cx="43578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Изменение кинетической энергии тела за некоторый промежуток времени равно работе, совершенной за то же время силой, действующей на тело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0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1" name="Object 13"/>
              <p:cNvSpPr txBox="1"/>
              <p:nvPr/>
            </p:nvSpPr>
            <p:spPr>
              <a:xfrm>
                <a:off x="285840" y="4357800"/>
                <a:ext cx="378612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ΔE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32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3" name="Object 15"/>
              <p:cNvSpPr txBox="1"/>
              <p:nvPr/>
            </p:nvSpPr>
            <p:spPr>
              <a:xfrm>
                <a:off x="5357880" y="3000240"/>
                <a:ext cx="2039760" cy="100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п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k</m:t>
                        </m:r>
                        <m:r>
                          <m:t xml:space="preserve">⋅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Δl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4" name="TextBox 24"/>
          <p:cNvSpPr/>
          <p:nvPr/>
        </p:nvSpPr>
        <p:spPr>
          <a:xfrm>
            <a:off x="5143680" y="4071960"/>
            <a:ext cx="3904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Энергия определяется расположением тел системы 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5" name="Object 17"/>
              <p:cNvSpPr txBox="1"/>
              <p:nvPr/>
            </p:nvSpPr>
            <p:spPr>
              <a:xfrm>
                <a:off x="5060880" y="4857840"/>
                <a:ext cx="395280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п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п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ΔE</m:t>
                        </m:r>
                      </m:e>
                      <m:sub>
                        <m:r>
                          <m:t xml:space="preserve">п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36" name="TextBox 26"/>
          <p:cNvSpPr/>
          <p:nvPr/>
        </p:nvSpPr>
        <p:spPr>
          <a:xfrm>
            <a:off x="5000760" y="5357880"/>
            <a:ext cx="4071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Изменение потенциальной энергии тела равно работе консервативной силы, взятой с обратным знаком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1420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Закон сохранения энергии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9" name="Object 1"/>
              <p:cNvSpPr txBox="1"/>
              <p:nvPr/>
            </p:nvSpPr>
            <p:spPr>
              <a:xfrm>
                <a:off x="2000160" y="1214280"/>
                <a:ext cx="480852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п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ns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0" name="TextBox 5"/>
          <p:cNvSpPr/>
          <p:nvPr/>
        </p:nvSpPr>
        <p:spPr>
          <a:xfrm>
            <a:off x="357120" y="2000160"/>
            <a:ext cx="8429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В изолированной системе, в которой действуют консервативные силы, механическая энергия сохраняется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41" name="Picture 4" descr="http://www.uchebnaya-tehnika.ru/wp-content/uploads/2013/04/fm1-111.jpg"/>
          <p:cNvPicPr/>
          <p:nvPr/>
        </p:nvPicPr>
        <p:blipFill>
          <a:blip r:embed="rId1"/>
          <a:srcRect l="28108" t="15598" r="41727" b="3324"/>
          <a:stretch/>
        </p:blipFill>
        <p:spPr>
          <a:xfrm>
            <a:off x="3286080" y="3286080"/>
            <a:ext cx="2857680" cy="33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57120" y="28548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Решение задач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3" name="Прямоугольник 3"/>
          <p:cNvSpPr/>
          <p:nvPr/>
        </p:nvSpPr>
        <p:spPr>
          <a:xfrm>
            <a:off x="357120" y="1357200"/>
            <a:ext cx="82155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Мяч брошен вертикально вверх со скоростью 16 м/с. На какой высоте его кинетическая энергия будет равна потенциальной?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457200" indent="-457200"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При подготовки игрушечного пистолета к выстрелу пружину жесткостью 800Н/м сжали на 5 см. Какую скорость приобретет пуля массой 20 г при выстреле в горизонтальном направлении?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457200" indent="-457200"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Пуля массой m=10 г, летевшая со скоростью 600 м/с попала в баллистический маятник массой m=6 кг и застряла в нем. На какую высоту h, откачнувшись после удара, поднялся маятник?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00040" y="35712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Домашнее задание 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§ 45, 46, 49, 50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Упр. 9 (5)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1-24T10:33:05Z</dcterms:created>
  <dc:creator>Наталия</dc:creator>
  <dc:description/>
  <dc:language>en-US</dc:language>
  <cp:lastModifiedBy>Наталия</cp:lastModifiedBy>
  <dcterms:modified xsi:type="dcterms:W3CDTF">2016-11-24T11:42:25Z</dcterms:modified>
  <cp:revision>25</cp:revision>
  <dc:subject/>
  <dc:title>Энергия</dc:title>
</cp:coreProperties>
</file>