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D98-D08F-4F48-B3AF-964C0E8E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2DA-A776-4CF4-995D-48B9EF2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A91-EC9A-4A57-8C67-33B0625A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E2D-6F8A-487B-803F-B3FC1A63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E45-613F-43A0-9D53-56A8690A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B86-7EE2-47FE-AD5D-8920087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93F-D35C-4605-980D-2CDC5AC8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36C-5837-456D-9F3F-49B441B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0F0-3589-4508-94D1-3A4AA9C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7C8-D85A-46FC-8D29-CE604DB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0EA-5E17-4329-96C4-71F696D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E95-4EFC-4FEC-95FE-9A62D2B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8872-0B07-4004-B990-0C2B2BF5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дактирование текстов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ПРАВЛЕНИЕ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189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нятие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:\Компьютерная графика\Материалы для\Иконки для ПК\1 (504).png"/>
          <p:cNvPicPr/>
          <p:nvPr/>
        </p:nvPicPr>
        <p:blipFill>
          <a:blip r:embed="rId2"/>
          <a:stretch/>
        </p:blipFill>
        <p:spPr>
          <a:xfrm>
            <a:off x="357120" y="21420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ВЕРНЫЙ СИМ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840" y="121392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пример 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И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1857240"/>
          <a:ext cx="8572320" cy="4878360"/>
        </p:xfrm>
        <a:graphic>
          <a:graphicData uri="http://schemas.openxmlformats.org/drawingml/2006/table">
            <a:tbl>
              <a:tblPr/>
              <a:tblGrid>
                <a:gridCol w="5929200"/>
                <a:gridCol w="2643120"/>
              </a:tblGrid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кра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Поставим курсор перед неверным символ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/итр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жмем клавишу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/етр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Поставим курсор после неверного симв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/тр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жмем клавишу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/етр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выделив неверное курсором, на тёмном фоне пишем правильный симво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715080" y="5857920"/>
            <a:ext cx="1643040" cy="4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дактирование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правьте ошибки в словах, используйте разные способ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42960" y="3500280"/>
            <a:ext cx="764856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8351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хранение доку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63295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кнопку в верхнем левом угл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6500880" y="1357200"/>
            <a:ext cx="1143000" cy="10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5"/>
          <p:cNvSpPr/>
          <p:nvPr/>
        </p:nvSpPr>
        <p:spPr>
          <a:xfrm>
            <a:off x="500040" y="27147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хранить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4857840" y="2571840"/>
            <a:ext cx="3409920" cy="371304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9"/>
          <p:cNvCxnSpPr/>
          <p:nvPr/>
        </p:nvCxnSpPr>
        <p:spPr>
          <a:xfrm>
            <a:off x="3856680" y="3214800"/>
            <a:ext cx="1143720" cy="22867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pic>
        <p:nvPicPr>
          <p:cNvPr id="103" name="Picture 4" descr="G:\Компьютерная графика\Материалы для\Иконки для ПК\1 (504).png"/>
          <p:cNvPicPr/>
          <p:nvPr/>
        </p:nvPicPr>
        <p:blipFill>
          <a:blip r:embed="rId4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хранение доку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5743800" cy="447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TextBox 5"/>
          <p:cNvSpPr/>
          <p:nvPr/>
        </p:nvSpPr>
        <p:spPr>
          <a:xfrm>
            <a:off x="357120" y="1357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ить место: КУДА СОХРА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85840" y="221472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Дать имя докумен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85840" y="364320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Формат файла прове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558972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ХРАНИТЬ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мещение по тек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G:\Компьютерная графика\Материалы для\Иконки для ПК\1 (504).png"/>
          <p:cNvPicPr/>
          <p:nvPr/>
        </p:nvPicPr>
        <p:blipFill>
          <a:blip r:embed="rId2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79280" y="1266840"/>
          <a:ext cx="8856720" cy="5141880"/>
        </p:xfrm>
        <a:graphic>
          <a:graphicData uri="http://schemas.openxmlformats.org/drawingml/2006/table">
            <a:tbl>
              <a:tblPr/>
              <a:tblGrid>
                <a:gridCol w="2232000"/>
                <a:gridCol w="6624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+ Shif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лючение на русский/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лючение на строчные/прописные 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ть прописными бук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 (          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одного символа слева от курс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одного символа справа от курс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на одно слово вл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на одно слово в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в конец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в начало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в конец документ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 курсора в начало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 к новому абза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курсора в заданной 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>
            <a:off x="1619280" y="292428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«Горячие» кно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Keyboard"/>
          <p:cNvPicPr/>
          <p:nvPr/>
        </p:nvPicPr>
        <p:blipFill>
          <a:blip r:embed="rId2"/>
          <a:stretch/>
        </p:blipFill>
        <p:spPr>
          <a:xfrm>
            <a:off x="900000" y="1557360"/>
            <a:ext cx="7497720" cy="2521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95280" y="4365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trl +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111640" y="4653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делить вс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1187280" y="364464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 flipV="1">
            <a:off x="1763280" y="2924280"/>
            <a:ext cx="1079640" cy="15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«Горячие» кно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Keyboard"/>
          <p:cNvPicPr/>
          <p:nvPr/>
        </p:nvPicPr>
        <p:blipFill>
          <a:blip r:embed="rId2"/>
          <a:stretch/>
        </p:blipFill>
        <p:spPr>
          <a:xfrm>
            <a:off x="900000" y="1557360"/>
            <a:ext cx="7497720" cy="252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95280" y="4365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trl +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148360" y="4653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пир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1187280" y="364464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 flipV="1">
            <a:off x="2484000" y="3357720"/>
            <a:ext cx="35892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«Горячие» кно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Keyboard"/>
          <p:cNvPicPr/>
          <p:nvPr/>
        </p:nvPicPr>
        <p:blipFill>
          <a:blip r:embed="rId2"/>
          <a:stretch/>
        </p:blipFill>
        <p:spPr>
          <a:xfrm>
            <a:off x="900000" y="1557360"/>
            <a:ext cx="7497720" cy="2521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95280" y="4365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trl +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64000" y="4653000"/>
            <a:ext cx="32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рез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V="1">
            <a:off x="1187280" y="364464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2195280" y="3284280"/>
            <a:ext cx="64764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«Горячие» кно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Keyboard"/>
          <p:cNvPicPr/>
          <p:nvPr/>
        </p:nvPicPr>
        <p:blipFill>
          <a:blip r:embed="rId2"/>
          <a:stretch/>
        </p:blipFill>
        <p:spPr>
          <a:xfrm>
            <a:off x="900000" y="1557360"/>
            <a:ext cx="7497720" cy="2521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95280" y="4365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trl + V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292720" y="4653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т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V="1">
            <a:off x="1187280" y="364464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V="1">
            <a:off x="2843280" y="335772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а ввода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 вводится в ту позицию, где мигает курс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тель мыши служит для установки текстового курсора в нужную позицию и в процессе набора текста не участву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жимать клавиш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до только в конце абза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до производить центрирование, установку абзацного отступа и сдвиг текста с помощью ввода пробе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ввода текста следует почаще сохранять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до нумеровать страницы вруч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чки и запятой следует ставить пробе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:\Компьютерная графика\Материалы для\Иконки для ПК\1 (504).png"/>
          <p:cNvPicPr/>
          <p:nvPr/>
        </p:nvPicPr>
        <p:blipFill>
          <a:blip r:embed="rId2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85840" y="1370880"/>
            <a:ext cx="82868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ерите  разные виды текстов и рисунок, используя знаковые и цифровые клавиш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ля, ау! Где ты? Я – ту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2 – 10) * (2 + 3) / 5= ? (решите и напишите 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арь Салтан гостей саж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вой  стол и вопрош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й, вы гости – госп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го ль ездили? Куда?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3314520" cy="26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4" descr="G:\Компьютерная графика\Материалы для\Иконки для ПК\1 (504).png"/>
          <p:cNvPicPr/>
          <p:nvPr/>
        </p:nvPicPr>
        <p:blipFill>
          <a:blip r:embed="rId3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ЛИШНИЙ СИМ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пример : ЧЕЛОВ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8760" y="2357280"/>
          <a:ext cx="8215200" cy="4143600"/>
        </p:xfrm>
        <a:graphic>
          <a:graphicData uri="http://schemas.openxmlformats.org/drawingml/2006/table">
            <a:tbl>
              <a:tblPr/>
              <a:tblGrid>
                <a:gridCol w="5126040"/>
                <a:gridCol w="3089160"/>
              </a:tblGrid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кра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Поставим курсор перед неверным символ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/в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жмем клавишу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Поставим курсор после неверного симв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в/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жмем клавишу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4" descr="G:\Компьютерная графика\Материалы для\Иконки для ПК\1 (504).png"/>
          <p:cNvPicPr/>
          <p:nvPr/>
        </p:nvPicPr>
        <p:blipFill>
          <a:blip r:embed="rId2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ПУЩЕННЫЙ СИМ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пример 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ВЕТ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28760" y="2286000"/>
          <a:ext cx="8143920" cy="4143240"/>
        </p:xfrm>
        <a:graphic>
          <a:graphicData uri="http://schemas.openxmlformats.org/drawingml/2006/table">
            <a:tbl>
              <a:tblPr/>
              <a:tblGrid>
                <a:gridCol w="5429160"/>
                <a:gridCol w="2714760"/>
              </a:tblGrid>
              <a:tr h="88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кра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Поставим курсор на место пропущенного симв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жмем клавишу  с пропущенным символом – с буквой «о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4" descr="G:\Компьютерная графика\Материалы для\Иконки для ПК\1 (504).png"/>
          <p:cNvPicPr/>
          <p:nvPr/>
        </p:nvPicPr>
        <p:blipFill>
          <a:blip r:embed="rId2"/>
          <a:stretch/>
        </p:blipFill>
        <p:spPr>
          <a:xfrm>
            <a:off x="8001000" y="214200"/>
            <a:ext cx="8841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49:01Z</dcterms:created>
  <dc:creator>Admin</dc:creator>
  <dc:description/>
  <dc:language>en-US</dc:language>
  <cp:lastModifiedBy>Admin</cp:lastModifiedBy>
  <dcterms:modified xsi:type="dcterms:W3CDTF">2010-02-08T09:14:08Z</dcterms:modified>
  <cp:revision>16</cp:revision>
  <dc:subject/>
  <dc:title>Слайд 1</dc:title>
</cp:coreProperties>
</file>