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DEC-BFB9-47B6-BCE4-322BF4A7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3EA-3FCA-412F-BC98-062AA652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8B3-8143-4F8D-BBE6-1E08B5DD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119-2852-4B2C-A5E5-CCE0E61D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14A-D1EA-4E85-A77A-9FD9DF30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F5E-8B21-4FA3-8DA4-0DF3DAA0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696-EEC4-4C38-86E3-C22E6051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007-0C7B-4951-BDB5-10A658D6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C18-2496-438A-B51B-84FFB291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CD9-539E-4A25-B9EC-B0A505D3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A68-8467-4195-8448-42E869F1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222-871B-49BC-85E0-518F635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8EBF-8C97-4448-B621-012FFFD95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05360"/>
            <a:ext cx="7772400" cy="21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дактирование текстов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7280" y="189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няти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 (345)"/>
          <p:cNvPicPr/>
          <p:nvPr/>
        </p:nvPicPr>
        <p:blipFill>
          <a:blip r:embed="rId1"/>
          <a:stretch/>
        </p:blipFill>
        <p:spPr>
          <a:xfrm>
            <a:off x="2771640" y="333360"/>
            <a:ext cx="36115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4544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1645"/>
                </a:solidFill>
                <a:latin typeface="Arial"/>
              </a:rPr>
              <a:t>Художественный ф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1 (345)"/>
          <p:cNvPicPr/>
          <p:nvPr/>
        </p:nvPicPr>
        <p:blipFill>
          <a:blip r:embed="rId1"/>
          <a:stretch/>
        </p:blipFill>
        <p:spPr>
          <a:xfrm>
            <a:off x="7524720" y="1159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85840" y="1500120"/>
            <a:ext cx="4573440" cy="514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5072040" y="1785960"/>
            <a:ext cx="3828960" cy="162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4929120" y="4500720"/>
            <a:ext cx="4048200" cy="107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1645"/>
                </a:solidFill>
                <a:latin typeface="Arial"/>
              </a:rPr>
              <a:t>АБЗАЦ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юбое количество текста и графики, оканчивается маркеро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возврат каретки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1 (345)"/>
          <p:cNvPicPr/>
          <p:nvPr/>
        </p:nvPicPr>
        <p:blipFill>
          <a:blip r:embed="rId1"/>
          <a:stretch/>
        </p:blipFill>
        <p:spPr>
          <a:xfrm>
            <a:off x="7524720" y="1159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5000760" y="4429080"/>
            <a:ext cx="819000" cy="107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82956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1645"/>
                </a:solidFill>
                <a:latin typeface="Arial"/>
              </a:rPr>
              <a:t>Форматирование абзаца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120" y="192888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арамет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внивание стр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строка (отступ, выступ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вал (до, после, межстрочны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(маркерованный, нумерованны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иентация (альбомная, книжна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риф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нтит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 (345)"/>
          <p:cNvPicPr/>
          <p:nvPr/>
        </p:nvPicPr>
        <p:blipFill>
          <a:blip r:embed="rId1"/>
          <a:stretch/>
        </p:blipFill>
        <p:spPr>
          <a:xfrm>
            <a:off x="7524720" y="115920"/>
            <a:ext cx="1409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82956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1645"/>
                </a:solidFill>
                <a:latin typeface="Arial"/>
              </a:rPr>
              <a:t>Выравнивание стр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 (345)"/>
          <p:cNvPicPr/>
          <p:nvPr/>
        </p:nvPicPr>
        <p:blipFill>
          <a:blip r:embed="rId1"/>
          <a:stretch/>
        </p:blipFill>
        <p:spPr>
          <a:xfrm>
            <a:off x="7524720" y="1159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0200" y="4786200"/>
            <a:ext cx="3500640" cy="106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196920" y="4551480"/>
            <a:ext cx="8744040" cy="129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33858E-006 L -0.075 -0.37997 E">
                                      <p:cBhvr>
                                        <p:cTn id="1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82956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1645"/>
                </a:solidFill>
                <a:latin typeface="Arial"/>
              </a:rPr>
              <a:t>Первая ст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1 (345)"/>
          <p:cNvPicPr/>
          <p:nvPr/>
        </p:nvPicPr>
        <p:blipFill>
          <a:blip r:embed="rId1"/>
          <a:stretch/>
        </p:blipFill>
        <p:spPr>
          <a:xfrm>
            <a:off x="7524720" y="1159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5214960" y="1785960"/>
            <a:ext cx="352260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568440" y="4214880"/>
            <a:ext cx="822780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2" descr=""/>
          <p:cNvPicPr/>
          <p:nvPr/>
        </p:nvPicPr>
        <p:blipFill>
          <a:blip r:embed="rId4"/>
          <a:stretch/>
        </p:blipFill>
        <p:spPr>
          <a:xfrm>
            <a:off x="285840" y="1500120"/>
            <a:ext cx="4190760" cy="491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82956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1645"/>
                </a:solidFill>
                <a:latin typeface="Arial"/>
              </a:rPr>
              <a:t>По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1 (345)"/>
          <p:cNvPicPr/>
          <p:nvPr/>
        </p:nvPicPr>
        <p:blipFill>
          <a:blip r:embed="rId1"/>
          <a:stretch/>
        </p:blipFill>
        <p:spPr>
          <a:xfrm>
            <a:off x="7524720" y="1159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214200" y="1428840"/>
            <a:ext cx="4857840" cy="520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82956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1645"/>
                </a:solidFill>
                <a:latin typeface="Arial"/>
              </a:rPr>
              <a:t>Спис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 (345)"/>
          <p:cNvPicPr/>
          <p:nvPr/>
        </p:nvPicPr>
        <p:blipFill>
          <a:blip r:embed="rId1"/>
          <a:stretch/>
        </p:blipFill>
        <p:spPr>
          <a:xfrm>
            <a:off x="7524720" y="1159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357280" y="1928880"/>
            <a:ext cx="632160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2357280" y="3857760"/>
            <a:ext cx="6286680" cy="121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Заголовок 1"/>
          <p:cNvSpPr/>
          <p:nvPr/>
        </p:nvSpPr>
        <p:spPr>
          <a:xfrm>
            <a:off x="285840" y="1214280"/>
            <a:ext cx="45003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маркерова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285840" y="3143160"/>
            <a:ext cx="42148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нумерова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4786200" y="5214960"/>
            <a:ext cx="3795840" cy="13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Заголовок 1"/>
          <p:cNvSpPr/>
          <p:nvPr/>
        </p:nvSpPr>
        <p:spPr>
          <a:xfrm>
            <a:off x="214200" y="5500800"/>
            <a:ext cx="4857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многоуровне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82956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1645"/>
                </a:solidFill>
                <a:latin typeface="Arial"/>
              </a:rPr>
              <a:t>Спис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1 (345)"/>
          <p:cNvPicPr/>
          <p:nvPr/>
        </p:nvPicPr>
        <p:blipFill>
          <a:blip r:embed="rId1"/>
          <a:stretch/>
        </p:blipFill>
        <p:spPr>
          <a:xfrm>
            <a:off x="7524720" y="1159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85840" y="2143080"/>
            <a:ext cx="840420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57120" y="4714920"/>
            <a:ext cx="835812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82956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1645"/>
                </a:solidFill>
                <a:latin typeface="Arial"/>
              </a:rPr>
              <a:t>Колонтит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1 (345)"/>
          <p:cNvPicPr/>
          <p:nvPr/>
        </p:nvPicPr>
        <p:blipFill>
          <a:blip r:embed="rId2"/>
          <a:stretch/>
        </p:blipFill>
        <p:spPr>
          <a:xfrm>
            <a:off x="7524720" y="1159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"/>
          <p:cNvPicPr/>
          <p:nvPr/>
        </p:nvPicPr>
        <p:blipFill>
          <a:blip r:embed="rId3"/>
          <a:stretch/>
        </p:blipFill>
        <p:spPr>
          <a:xfrm>
            <a:off x="277920" y="2268360"/>
            <a:ext cx="8516880" cy="15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5:49:01Z</dcterms:created>
  <dc:creator>Admin</dc:creator>
  <dc:description/>
  <dc:language>en-US</dc:language>
  <cp:lastModifiedBy>Татьяна Валерьевна</cp:lastModifiedBy>
  <dcterms:modified xsi:type="dcterms:W3CDTF">2017-12-26T07:48:17Z</dcterms:modified>
  <cp:revision>21</cp:revision>
  <dc:subject/>
  <dc:title>Слайд 1</dc:title>
</cp:coreProperties>
</file>